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B0F-DC80-4240-AD04-32F349F9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09C-D2D5-4338-A46E-47AC7F73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4E0-1777-4B0C-B29B-20CA3717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737-D556-4268-9FFE-E4F3E681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13F-2EBE-4505-A01B-192AD368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830-0A07-486B-865A-635E6DE5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4D8-2CBB-49DC-BE6E-E1907037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1CA-0C7C-4080-9ECC-91DE9958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E9A-BFAE-4732-981C-3A380B69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F10-D327-41C5-AD97-7CD55E8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042-8299-454B-877C-D694B4F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1F0-9F28-4AE8-A136-2787878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D9D-5EB8-4B1B-98DC-EE87E0D7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Конфликты – неизбежность ил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205000"/>
            <a:ext cx="44560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«Я не ищу конфликтов, но я и не боюсь конфликтов, я смело иду на их решение» Г.Н. Сы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3843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епременным условием для разрешения конфликта являе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Умение понять оппонента, посмотреть на ситуацию его глаз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Желание объективно разобраться в причинах конфликта и его те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Готовность сдерживать свои негативные чув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Готовность обоих найти выход из трудной ситуации. Необходимо делать акцент не на «Кто виноват?», а на «Что 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Не забывайте, что выйти из конфликтной ситуации часто помогаем чувство юм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Как высказать свою точку зрения, не обижая партнёра? Можно использовать в конфликтной ситуации схему «Я- высказы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ытие - «Когда…» (описание нежелательной ситу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реакция – «Я чувствую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читаемый исход – «Мне хотелось бы, чтобы … «мы спокойно во всём разобрались.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а обоснования – «Я хотел бы…, потому что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- высказывание»позволяет другому слушать вас и спокойно реагировать, предполагает ответственность говорящего за поведение в конфли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ы - высказывание» («Ты каждый раз перебиваешь», «Ты никогда не здороваешься») нацелено на объвинение другого человека. Научиться не конфликтовать с окружающими, не раздражаться совсем не просто – этого не добиться простыми тренировками и упражнениями. Самый верный способ – навести порядок в самом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Способы решения конфли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42920" y="2349000"/>
            <a:ext cx="592596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Все мы разные: у каждого свои взгляды, привычки, мечты. А это значит, что наши интересы и интересы окружающих людей могут не совпадать. Иногда это становится причиной, приводящей к возникновению конфликтов (барьеров в обще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592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Извиниться, если действительно неп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Учиться  спокойно выслушивать претензии партнё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сегда держать уверенную ровную позицию, не переходить на кри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пробовать переключить разговор на другую тему (сказать что-то доброе, неожиданное, весёл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Варианты поведения в конфлик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опер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Избе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отру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испосо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Компроми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550960" cy="259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888000" cy="266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92720" y="4605480"/>
            <a:ext cx="28065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перни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 упорно отстаиваешь свою точку зрения, ни в чём не уступаешь сопернику. Такая тактика оправдана, когда решается действительно что-то важное и значительное, и любая уступка серьёзно затрагивает твоё достоинство и достоинство твоих близких. Постоянная приверженность такой тактике обеспечит вам репутацию скандалиста и неприят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бег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делаешь вид, что никаких разногласий не существует, всё замечательно. Такая тактика требует большой выдержки. Но постоянно использовать её не стоит. Во-первых это большая нагрузка для психоэмоционального состояния: попытка загнать эмоции внутрь может отразиться на здоровье. Во- вторых, конфликтная ситуация сохраняется на неопределённый с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рассматриваешь своего соперника, как помощника в решении возникшей проблемы, пытаешься встать на точку зрения другого, понять, как и почему он не согласен с тобой, извлечь максимальную пользу из его возражений. Если вы вместе придёте к единому мнению, то конфликт будет исчерпан. Сотрудничать можно не только с друзьями, но даже с теми, кого сложно считать доброжел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способ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вариант поведения предполагает, что одна из конфликтующих сторон отказывается от собственных интересов и приносит их в жертву другому человеку. В ряде случаев этот вариант поведения наиболее прави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ромисс предполагает, что обе стороны идут на уступки для того, чтобы преодолеть спорную ситуацию. Компромисс требует от обеих сторон чёткого соблюдения обязательств. Ведь нарушение договорённости – само по себе новый повод для конфликта, договориться в этом случае будет сложнее, потому что потеряно довер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4:10:45Z</dcterms:created>
  <dc:creator>Admin</dc:creator>
  <dc:description/>
  <dc:language>en-US</dc:language>
  <cp:lastModifiedBy>Admin</cp:lastModifiedBy>
  <dcterms:modified xsi:type="dcterms:W3CDTF">2009-10-25T15:49:00Z</dcterms:modified>
  <cp:revision>5</cp:revision>
  <dc:subject/>
  <dc:title>Конфликты – неизбежность или …</dc:title>
</cp:coreProperties>
</file>