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BE1-2F77-493B-B3B9-78C19690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F0BF-6C2B-4ECA-A541-9C748C65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C364-9B66-4E58-817D-A259D6B2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51EA-0CD4-41BC-B76C-FC29134B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596F-A541-471F-9971-099760BF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5E5-7F68-4D90-9766-D6A1F0F9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BBA-3468-4F76-AB38-22F78888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4F35-C945-42FB-B7B8-B394F274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406-13D1-47AE-BD12-6CE08ECC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6E1-1E2C-441B-AD7E-9AB112DC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2CD7-B97E-491E-BC9A-9B0BB878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FA7-DEA6-4879-9AD4-BBBA21B8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CE1F-E52E-4709-B393-3F862C75C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Конфликты – неизбежность или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4360" y="2205000"/>
            <a:ext cx="44560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«Я не ищу конфликтов, но я и не боюсь конфликтов, я смело иду на их решение» Г.Н. Сы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3843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Непременным условием для разрешения конфликта являетс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Умение понять оппонента, посмотреть на ситуацию его глаз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Желание объективно разобраться в причинах конфликта и его теч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Готовность сдерживать свои негативные чув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Готовность обоих найти выход из трудной ситуации. Необходимо делать акцент не на «Кто виноват?», а на «Что делать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Не забывайте, что выйти из конфликтной ситуации часто помогаем чувство юм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604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Как высказать свою точку зрения, не обижая партнёра? Можно использовать в конфликтной ситуации схему «Я- высказыв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37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бытие - «Когда…» (описание нежелательной ситу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ша реакция – «Я чувствую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читаемый исход – «Мне хотелось бы, чтобы … «мы спокойно во всём разобрались.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а обоснования – «Я хотел бы…, потому что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Я- высказывание»позволяет другому слушать вас и спокойно реагировать, предполагает ответственность говорящего за поведение в конфлик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Ты - высказывание» («Ты каждый раз перебиваешь», «Ты никогда не здороваешься») нацелено на объвинение другого человека. Научиться не конфликтовать с окружающими, не раздражаться совсем не просто – этого не добиться простыми тренировками и упражнениями. Самый верный способ – навести порядок в самом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Способы решения конфли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42920" y="2349000"/>
            <a:ext cx="5925960" cy="35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Все мы разные: у каждого свои взгляды, привычки, мечты. А это значит, что наши интересы и интересы окружающих людей могут не совпадать. Иногда это становится причиной, приводящей к возникновению конфликтов (барьеров в общен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2592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Извиниться, если действительно неп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Учиться  спокойно выслушивать претензии партнё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Всегда держать уверенную ровную позицию, не переходить на крит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опробовать переключить разговор на другую тему (сказать что-то доброе, неожиданное, весёл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Варианты поведения в конфлик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Сопер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Избег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Сотруд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Приспособ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Компроми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2550960" cy="259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3888000" cy="2668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292720" y="4605480"/>
            <a:ext cx="280656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пернич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ы упорно отстаиваешь свою точку зрения, ни в чём не уступаешь сопернику. Такая тактика оправдана, когда решается действительно что-то важное и значительное, и любая уступка серьёзно затрагивает твоё достоинство и достоинство твоих близких. Постоянная приверженность такой тактике обеспечит вам репутацию скандалиста и неприятного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бег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делаешь вид, что никаких разногласий не существует, всё замечательно. Такая тактика требует большой выдержки. Но постоянно использовать её не стоит. Во-первых это большая нагрузка для психоэмоционального состояния: попытка загнать эмоции внутрь может отразиться на здоровье. Во- вторых, конфликтная ситуация сохраняется на неопределённый с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труднич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ы рассматриваешь своего соперника, как помощника в решении возникшей проблемы, пытаешься встать на точку зрения другого, понять, как и почему он не согласен с тобой, извлечь максимальную пользу из его возражений. Если вы вместе придёте к единому мнению, то конфликт будет исчерпан. Сотрудничать можно не только с друзьями, но даже с теми, кого сложно считать доброжела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способ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вариант поведения предполагает, что одна из конфликтующих сторон отказывается от собственных интересов и приносит их в жертву другому человеку. В ряде случаев этот вариант поведения наиболее прави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мпроми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ромисс предполагает, что обе стороны идут на уступки для того, чтобы преодолеть спорную ситуацию. Компромисс требует от обеих сторон чёткого соблюдения обязательств. Ведь нарушение договорённости – само по себе новый повод для конфликта, договориться в этом случае будет сложнее, потому что потеряно довер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4:10:45Z</dcterms:created>
  <dc:creator>Admin</dc:creator>
  <dc:description/>
  <dc:language>en-US</dc:language>
  <cp:lastModifiedBy>Admin</cp:lastModifiedBy>
  <dcterms:modified xsi:type="dcterms:W3CDTF">2009-10-25T15:49:00Z</dcterms:modified>
  <cp:revision>5</cp:revision>
  <dc:subject/>
  <dc:title>Конфликты – неизбежность или …</dc:title>
</cp:coreProperties>
</file>