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0AFC-CB5B-467E-94F3-C7EC41A7FD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4DE8-224D-4496-9EDE-08220CAD89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3E70-BDBF-4370-A0EB-59873DB10B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B86-1D8F-46F7-8E04-CD09AD35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9E35-3FBA-4B05-B950-028CD6E8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A1E-7B40-4768-B508-D3F7B327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2E1D-3EB7-4512-912E-0C66298B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D8F4-FBD3-4CB8-8839-94E6933D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8A10-C355-4B74-9F11-32748B04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5380-B0B7-403F-B1D8-060C6217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50F9-EA55-4F30-AC6B-1C125906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7F2C-553F-49B0-A87F-ED64C29F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0E9C-D1DD-40CC-8EED-C2FDB75A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C40E-583D-40BE-870F-BD0AF2C6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925-1AC9-44C7-8EF4-6FE2E479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9FE7-D02B-4FFF-86D7-672EE163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F1C1-37DA-435D-BF48-3A5149AB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29BE-DA90-4B1D-A645-A0B212B3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4386-6379-49C8-906F-CAC81202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D344-7BBB-4833-BAE0-486F2F1C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E3662-EEBC-476D-9CA6-9C45B930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DE548-AE88-4179-BD6C-566B1C6F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702D1-8141-402C-AE32-6DE23979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064C1-3107-4289-A448-64BC46A5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398CE-748B-4E3A-AC97-23982449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8B6-0F6B-47EB-A8DD-7BC44BB7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2485A-88F3-426A-88D5-9DBDEABE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9224D-5EB0-4721-853E-E1B140A4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A3B23-1B4D-4C78-8D61-D8D66D22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C6095-9497-401B-93F3-62B6E2C5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9CF1F-A0E5-4A53-B4C0-C7EA368E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9B0BB-1E69-4186-8983-13ED1BF9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E4EF2-44B5-4C0D-AC27-480485E1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D3C68-6D37-405C-BE9F-00F06105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D9F48-DE4F-4CED-8EFA-4082FF90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88A7E-D647-4605-B76A-688529D2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D0D3-E94D-4829-811D-FBD60C91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43784-1689-4B36-8DC3-73CE1FC2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C256F-0295-4426-83FC-ADB48347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6FA6C-5264-42BB-B83E-BCB1A1B8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7E6B8-46E1-41E1-901F-889CB48C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E38B4-1956-4A09-B543-ED9A0793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06877-6E3E-4C14-840E-183B2A43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9556D-8536-46FF-82EC-6A19CB72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2D792-ECB2-433E-9D59-5D5BAA65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2D6B9-35D8-466D-8848-C38FD8A4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867786-49C4-4215-9E8E-291E0312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471-B1C0-4E12-8D16-F6263938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D9595-A3EF-4DB2-9F0A-14224042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624D5-ED57-4E58-A748-D58C01D5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2E3BB-6BE6-4FE1-B897-03308F0E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12D973-BA15-4ABD-ABE3-8DEE3EC3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6741C1-A2A2-45EB-8CEF-165B0AA0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17B554-4232-4FB9-973F-BEB7DBCF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867546-A9CF-47C3-B99A-CDC93A46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532821-D3D3-4DC6-B9EE-234F5149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22230-3E03-4FAF-B453-97024893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9770D-1B05-444D-B7FA-C91BE263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F52-6117-4060-9A41-D2D7D2BD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400393-CAE5-4D5D-B198-EBF03A73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0811CA-6A8F-4464-A333-F9A4D84D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7CA6BD-6A77-43D7-956C-EB3FA7FF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7F4D9C-161B-4B24-9BEC-DE42B178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E0D7E9-0A90-4B77-8E0F-36E25FF3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FA784-F0E6-46F4-8387-A1F9B9FD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42004E-514B-4568-BB96-32951D0A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BD4555-C545-4F6F-9A15-65836A3F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49BE45-5616-4DCD-A5AE-74FAFF1F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22861-DA8F-414E-8720-1030C875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5696-ACD7-4190-9226-9A080F64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AD576-AA9C-418B-82DD-485C7627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958644-3E64-4E54-9CDF-1978874E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4DAA8-FFC7-4C6A-98C4-EB42454EF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A00B2B-7FCF-42C8-BF4A-4A5729F1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AF66EF-E1C5-4774-8D2B-4D8B7376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DE89B3-28AF-4C7C-818E-52B0791E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3D51B9-B47E-451A-9BD9-36848A0E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AF0051-B365-4B1F-B119-2DB9BDBE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3BB4BF-CA96-4C2D-A3EB-72FABC08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6054CB-9D74-49F8-B400-F2BE9117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B4D-BD7D-431E-93EC-3DEFAD79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4853F2-2D93-47E1-98D4-F35BF967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AAA743-4387-4CA6-A60D-DAA4FC0B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44383A-8727-4014-9CCA-886049A0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80943C-BD79-4D0D-898E-A2D7DF20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BA1132-68D6-4B87-B515-F92907E5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2F4-1A4C-48E7-A003-EEC31115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98C0-C9FF-4FA0-943E-B9EB588863D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B73C-55DD-4A98-8EB3-D1CCCDD2944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E487-D66F-4ED1-8F24-B69F528A1C9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F034-F5C1-4AF6-8CEC-2FEC1F809EA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6257-692E-49E0-BADF-EC3C1F069D4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9F61-765F-4EC0-B7B5-3E60C3D479D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99C3-1973-4FEF-9324-4586CCEF0BB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75f6d"/>
                </a:solidFill>
                <a:latin typeface="Arial"/>
              </a:rPr>
              <a:t>Средства представления и записи алгоритмов.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Блок – схемы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575f6d"/>
                </a:solidFill>
                <a:latin typeface="Arial"/>
              </a:rPr>
              <a:t>Виды алгоритмических структур.</a:t>
            </a:r>
            <a:br>
              <a:rPr sz="2600"/>
            </a:br>
            <a:r>
              <a:rPr b="0" lang="ru-RU" sz="2600" spc="-1" strike="noStrike">
                <a:solidFill>
                  <a:srgbClr val="575f6d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Линейный алгоритм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6252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№ </a:t>
            </a: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2</a:t>
            </a:r>
            <a:br>
              <a:rPr sz="2000"/>
            </a:br>
            <a:r>
              <a:rPr b="1" lang="ru-RU" sz="2000" spc="-1" strike="noStrike">
                <a:solidFill>
                  <a:srgbClr val="3668c4"/>
                </a:solidFill>
                <a:latin typeface="Century Schoolbook"/>
              </a:rPr>
              <a:t> ИСПОЛЬЗУЯ БЛОК-СХЕМУ АЛГОРИТМА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ЫЧИСЛИТЕ ЗНАЧЕНИЕ ФУНКЦИИ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Y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ПРИ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X=0; -1; 3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485" name="Group 48"/>
          <p:cNvGrpSpPr/>
          <p:nvPr/>
        </p:nvGrpSpPr>
        <p:grpSpPr>
          <a:xfrm>
            <a:off x="4270320" y="228600"/>
            <a:ext cx="4111560" cy="5943600"/>
            <a:chOff x="4270320" y="228600"/>
            <a:chExt cx="4111560" cy="5943600"/>
          </a:xfrm>
        </p:grpSpPr>
        <p:sp>
          <p:nvSpPr>
            <p:cNvPr id="486" name="Rectangle 5"/>
            <p:cNvSpPr/>
            <p:nvPr/>
          </p:nvSpPr>
          <p:spPr>
            <a:xfrm>
              <a:off x="4270320" y="228600"/>
              <a:ext cx="4111560" cy="59436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Group 44"/>
            <p:cNvGrpSpPr/>
            <p:nvPr/>
          </p:nvGrpSpPr>
          <p:grpSpPr>
            <a:xfrm>
              <a:off x="4721400" y="397080"/>
              <a:ext cx="3336840" cy="5670000"/>
              <a:chOff x="4721400" y="397080"/>
              <a:chExt cx="3336840" cy="5670000"/>
            </a:xfrm>
          </p:grpSpPr>
          <p:sp>
            <p:nvSpPr>
              <p:cNvPr id="488" name="Line 36"/>
              <p:cNvSpPr/>
              <p:nvPr/>
            </p:nvSpPr>
            <p:spPr>
              <a:xfrm flipH="1">
                <a:off x="6427440" y="2532600"/>
                <a:ext cx="1440" cy="12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38"/>
              <p:cNvSpPr/>
              <p:nvPr/>
            </p:nvSpPr>
            <p:spPr>
              <a:xfrm flipH="1">
                <a:off x="6417360" y="3151080"/>
                <a:ext cx="1440" cy="154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39"/>
              <p:cNvSpPr/>
              <p:nvPr/>
            </p:nvSpPr>
            <p:spPr>
              <a:xfrm flipH="1">
                <a:off x="6417360" y="3786840"/>
                <a:ext cx="1440" cy="12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40"/>
              <p:cNvSpPr/>
              <p:nvPr/>
            </p:nvSpPr>
            <p:spPr>
              <a:xfrm flipH="1">
                <a:off x="6425640" y="4395600"/>
                <a:ext cx="1080" cy="12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" name="Group 43"/>
              <p:cNvGrpSpPr/>
              <p:nvPr/>
            </p:nvGrpSpPr>
            <p:grpSpPr>
              <a:xfrm>
                <a:off x="4721400" y="397080"/>
                <a:ext cx="3336840" cy="5670000"/>
                <a:chOff x="4721400" y="397080"/>
                <a:chExt cx="3336840" cy="5670000"/>
              </a:xfrm>
            </p:grpSpPr>
            <p:grpSp>
              <p:nvGrpSpPr>
                <p:cNvPr id="493" name="Group 6"/>
                <p:cNvGrpSpPr/>
                <p:nvPr/>
              </p:nvGrpSpPr>
              <p:grpSpPr>
                <a:xfrm>
                  <a:off x="4810320" y="397080"/>
                  <a:ext cx="3247920" cy="398880"/>
                  <a:chOff x="4810320" y="397080"/>
                  <a:chExt cx="3247920" cy="398880"/>
                </a:xfrm>
              </p:grpSpPr>
              <p:sp>
                <p:nvSpPr>
                  <p:cNvPr id="494" name="AutoShape 7"/>
                  <p:cNvSpPr/>
                  <p:nvPr/>
                </p:nvSpPr>
                <p:spPr>
                  <a:xfrm>
                    <a:off x="4810320" y="397080"/>
                    <a:ext cx="3247920" cy="318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Text Box 8"/>
                  <p:cNvSpPr/>
                  <p:nvPr/>
                </p:nvSpPr>
                <p:spPr>
                  <a:xfrm>
                    <a:off x="5170680" y="397080"/>
                    <a:ext cx="24069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Arial"/>
                      </a:rPr>
                      <a:t>начало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9"/>
                <p:cNvGrpSpPr/>
                <p:nvPr/>
              </p:nvGrpSpPr>
              <p:grpSpPr>
                <a:xfrm>
                  <a:off x="4807800" y="859680"/>
                  <a:ext cx="3228840" cy="415080"/>
                  <a:chOff x="4807800" y="859680"/>
                  <a:chExt cx="3228840" cy="415080"/>
                </a:xfrm>
              </p:grpSpPr>
              <p:sp>
                <p:nvSpPr>
                  <p:cNvPr id="497" name="AutoShape 10"/>
                  <p:cNvSpPr/>
                  <p:nvPr/>
                </p:nvSpPr>
                <p:spPr>
                  <a:xfrm>
                    <a:off x="4807800" y="859680"/>
                    <a:ext cx="3228840" cy="415080"/>
                  </a:xfrm>
                  <a:prstGeom prst="flowChartInputOutpu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Text Box 11"/>
                  <p:cNvSpPr/>
                  <p:nvPr/>
                </p:nvSpPr>
                <p:spPr>
                  <a:xfrm>
                    <a:off x="5180040" y="874800"/>
                    <a:ext cx="22651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Arial"/>
                      </a:rPr>
                      <a:t>ввод: 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X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Group 12"/>
                <p:cNvGrpSpPr/>
                <p:nvPr/>
              </p:nvGrpSpPr>
              <p:grpSpPr>
                <a:xfrm>
                  <a:off x="4721400" y="5135040"/>
                  <a:ext cx="3200040" cy="420480"/>
                  <a:chOff x="4721400" y="5135040"/>
                  <a:chExt cx="3200040" cy="420480"/>
                </a:xfrm>
              </p:grpSpPr>
              <p:sp>
                <p:nvSpPr>
                  <p:cNvPr id="500" name="AutoShape 13"/>
                  <p:cNvSpPr/>
                  <p:nvPr/>
                </p:nvSpPr>
                <p:spPr>
                  <a:xfrm>
                    <a:off x="4721400" y="5135040"/>
                    <a:ext cx="3200040" cy="397800"/>
                  </a:xfrm>
                  <a:prstGeom prst="flowChartInputOutpu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Text Box 14"/>
                  <p:cNvSpPr/>
                  <p:nvPr/>
                </p:nvSpPr>
                <p:spPr>
                  <a:xfrm>
                    <a:off x="5197320" y="5156640"/>
                    <a:ext cx="24886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Arial"/>
                      </a:rPr>
                      <a:t>вывод: 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Group 15"/>
                <p:cNvGrpSpPr/>
                <p:nvPr/>
              </p:nvGrpSpPr>
              <p:grpSpPr>
                <a:xfrm>
                  <a:off x="4746960" y="5668200"/>
                  <a:ext cx="3249000" cy="398880"/>
                  <a:chOff x="4746960" y="5668200"/>
                  <a:chExt cx="3249000" cy="398880"/>
                </a:xfrm>
              </p:grpSpPr>
              <p:sp>
                <p:nvSpPr>
                  <p:cNvPr id="503" name="AutoShape 16"/>
                  <p:cNvSpPr/>
                  <p:nvPr/>
                </p:nvSpPr>
                <p:spPr>
                  <a:xfrm>
                    <a:off x="4746960" y="5668200"/>
                    <a:ext cx="3249000" cy="318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Text Box 17"/>
                  <p:cNvSpPr/>
                  <p:nvPr/>
                </p:nvSpPr>
                <p:spPr>
                  <a:xfrm>
                    <a:off x="5469120" y="5668200"/>
                    <a:ext cx="18043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Arial"/>
                      </a:rPr>
                      <a:t>конец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Rectangle 18"/>
                <p:cNvSpPr/>
                <p:nvPr/>
              </p:nvSpPr>
              <p:spPr>
                <a:xfrm>
                  <a:off x="4774320" y="1420560"/>
                  <a:ext cx="3252600" cy="5061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       </a:t>
                  </a: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Z = X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Line 19"/>
                <p:cNvSpPr/>
                <p:nvPr/>
              </p:nvSpPr>
              <p:spPr>
                <a:xfrm flipH="1">
                  <a:off x="6417360" y="721440"/>
                  <a:ext cx="1440" cy="12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AutoShape 21"/>
                <p:cNvSpPr/>
                <p:nvPr/>
              </p:nvSpPr>
              <p:spPr>
                <a:xfrm>
                  <a:off x="4771440" y="3307320"/>
                  <a:ext cx="3252600" cy="47376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Y = Y * X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AutoShape 23"/>
                <p:cNvSpPr/>
                <p:nvPr/>
              </p:nvSpPr>
              <p:spPr>
                <a:xfrm>
                  <a:off x="4751640" y="2051640"/>
                  <a:ext cx="3252240" cy="49068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Z = Z - 8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AutoShape 25"/>
                <p:cNvSpPr/>
                <p:nvPr/>
              </p:nvSpPr>
              <p:spPr>
                <a:xfrm>
                  <a:off x="4763160" y="3910680"/>
                  <a:ext cx="3252600" cy="47376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Y = Y * 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AutoShape 33"/>
                <p:cNvSpPr/>
                <p:nvPr/>
              </p:nvSpPr>
              <p:spPr>
                <a:xfrm>
                  <a:off x="4754160" y="4519440"/>
                  <a:ext cx="3252600" cy="47376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Y = Z / Y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4"/>
                <p:cNvSpPr/>
                <p:nvPr/>
              </p:nvSpPr>
              <p:spPr>
                <a:xfrm flipH="1">
                  <a:off x="6417360" y="1278720"/>
                  <a:ext cx="144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Line 35"/>
                <p:cNvSpPr/>
                <p:nvPr/>
              </p:nvSpPr>
              <p:spPr>
                <a:xfrm flipH="1">
                  <a:off x="6435720" y="1932120"/>
                  <a:ext cx="108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AutoShape 37"/>
                <p:cNvSpPr/>
                <p:nvPr/>
              </p:nvSpPr>
              <p:spPr>
                <a:xfrm>
                  <a:off x="4749840" y="2663280"/>
                  <a:ext cx="3252600" cy="472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Y = X + 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Line 41"/>
                <p:cNvSpPr/>
                <p:nvPr/>
              </p:nvSpPr>
              <p:spPr>
                <a:xfrm flipH="1">
                  <a:off x="6407280" y="5006160"/>
                  <a:ext cx="144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42"/>
                <p:cNvSpPr/>
                <p:nvPr/>
              </p:nvSpPr>
              <p:spPr>
                <a:xfrm flipH="1">
                  <a:off x="6388200" y="5537520"/>
                  <a:ext cx="108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№ </a:t>
            </a: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3</a:t>
            </a:r>
            <a:br>
              <a:rPr sz="2000"/>
            </a:br>
            <a:r>
              <a:rPr b="1" lang="ru-RU" sz="2000" spc="-1" strike="noStrike">
                <a:solidFill>
                  <a:srgbClr val="3668c4"/>
                </a:solidFill>
                <a:latin typeface="Century Schoolbook"/>
              </a:rPr>
              <a:t>СОСТАВЬТЕ БЛОК-СХЕМУ АЛГОРИТМА РЕШЕНИЯ ПОСТАВЛЕННОЙ ЗАДАЧ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ДАНЫ КООРДИНАТЫ ВЕРШИН ТРЕУГОЛЬНИКА АВС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АЙТИ ЕГО ПЛОЩАДЬ. 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18" name="Group 112"/>
          <p:cNvGrpSpPr/>
          <p:nvPr/>
        </p:nvGrpSpPr>
        <p:grpSpPr>
          <a:xfrm>
            <a:off x="4248000" y="287280"/>
            <a:ext cx="4603320" cy="6308640"/>
            <a:chOff x="4248000" y="287280"/>
            <a:chExt cx="4603320" cy="6308640"/>
          </a:xfrm>
        </p:grpSpPr>
        <p:grpSp>
          <p:nvGrpSpPr>
            <p:cNvPr id="519" name="Group 88"/>
            <p:cNvGrpSpPr/>
            <p:nvPr/>
          </p:nvGrpSpPr>
          <p:grpSpPr>
            <a:xfrm>
              <a:off x="4248000" y="287280"/>
              <a:ext cx="4603320" cy="6308640"/>
              <a:chOff x="4248000" y="287280"/>
              <a:chExt cx="4603320" cy="6308640"/>
            </a:xfrm>
          </p:grpSpPr>
          <p:sp>
            <p:nvSpPr>
              <p:cNvPr id="520" name="Rectangle 86"/>
              <p:cNvSpPr/>
              <p:nvPr/>
            </p:nvSpPr>
            <p:spPr>
              <a:xfrm>
                <a:off x="4248000" y="287280"/>
                <a:ext cx="4603320" cy="630864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1" name="Group 85"/>
              <p:cNvGrpSpPr/>
              <p:nvPr/>
            </p:nvGrpSpPr>
            <p:grpSpPr>
              <a:xfrm>
                <a:off x="4725360" y="387000"/>
                <a:ext cx="3427920" cy="6120720"/>
                <a:chOff x="4725360" y="387000"/>
                <a:chExt cx="3427920" cy="6120720"/>
              </a:xfrm>
            </p:grpSpPr>
            <p:pic>
              <p:nvPicPr>
                <p:cNvPr id="522" name="AutoShape 9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791240" y="1819440"/>
                  <a:ext cx="3349440" cy="52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AutoShape 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3720" y="387000"/>
                  <a:ext cx="3308760" cy="44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AutoShape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20760" y="976680"/>
                  <a:ext cx="3332520" cy="64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AutoShape 1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725360" y="5402520"/>
                  <a:ext cx="3421800" cy="45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AutoShape 1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833720" y="6052320"/>
                  <a:ext cx="3308760" cy="4554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27" name="Group 34"/>
                <p:cNvGrpSpPr/>
                <p:nvPr/>
              </p:nvGrpSpPr>
              <p:grpSpPr>
                <a:xfrm>
                  <a:off x="4846320" y="2548440"/>
                  <a:ext cx="3281040" cy="501120"/>
                  <a:chOff x="4846320" y="2548440"/>
                  <a:chExt cx="3281040" cy="501120"/>
                </a:xfrm>
              </p:grpSpPr>
              <p:pic>
                <p:nvPicPr>
                  <p:cNvPr id="528" name="AutoShape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46320" y="2548440"/>
                    <a:ext cx="3281040" cy="50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mc:AlternateContent>
                <mc:Choice xmlns:a14="http://schemas.microsoft.com/office/drawing/2010/main" Requires="a14">
                  <p:sp>
                    <p:nvSpPr>
                      <p:cNvPr id="529" name="Object 2"/>
                      <p:cNvSpPr txBox="1"/>
                      <p:nvPr/>
                    </p:nvSpPr>
                    <p:spPr>
                      <a:xfrm>
                        <a:off x="5373000" y="2597760"/>
                        <a:ext cx="2683440" cy="3718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grpSp>
              <p:nvGrpSpPr>
                <p:cNvPr id="530" name="Group 43"/>
                <p:cNvGrpSpPr/>
                <p:nvPr/>
              </p:nvGrpSpPr>
              <p:grpSpPr>
                <a:xfrm>
                  <a:off x="4846320" y="3264480"/>
                  <a:ext cx="3281040" cy="501120"/>
                  <a:chOff x="4846320" y="3264480"/>
                  <a:chExt cx="3281040" cy="501120"/>
                </a:xfrm>
              </p:grpSpPr>
              <p:pic>
                <p:nvPicPr>
                  <p:cNvPr id="531" name="AutoShape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46320" y="3264480"/>
                    <a:ext cx="3281040" cy="50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mc:AlternateContent>
                <mc:Choice xmlns:a14="http://schemas.microsoft.com/office/drawing/2010/main" Requires="a14">
                  <p:sp>
                    <p:nvSpPr>
                      <p:cNvPr id="532" name="Object 3"/>
                      <p:cNvSpPr txBox="1"/>
                      <p:nvPr/>
                    </p:nvSpPr>
                    <p:spPr>
                      <a:xfrm>
                        <a:off x="5373000" y="3311280"/>
                        <a:ext cx="2566800" cy="3765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grpSp>
              <p:nvGrpSpPr>
                <p:cNvPr id="533" name="Group 59"/>
                <p:cNvGrpSpPr/>
                <p:nvPr/>
              </p:nvGrpSpPr>
              <p:grpSpPr>
                <a:xfrm>
                  <a:off x="4750920" y="3982320"/>
                  <a:ext cx="3376440" cy="506160"/>
                  <a:chOff x="4750920" y="3982320"/>
                  <a:chExt cx="3376440" cy="506160"/>
                </a:xfrm>
              </p:grpSpPr>
              <p:pic>
                <p:nvPicPr>
                  <p:cNvPr id="534" name="AutoShape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50920" y="3982320"/>
                    <a:ext cx="337644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mc:AlternateContent>
                <mc:Choice xmlns:a14="http://schemas.microsoft.com/office/drawing/2010/main" Requires="a14">
                  <p:sp>
                    <p:nvSpPr>
                      <p:cNvPr id="535" name="Object 4"/>
                      <p:cNvSpPr txBox="1"/>
                      <p:nvPr/>
                    </p:nvSpPr>
                    <p:spPr>
                      <a:xfrm>
                        <a:off x="6197400" y="3994200"/>
                        <a:ext cx="1164600" cy="4845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grpSp>
              <p:nvGrpSpPr>
                <p:cNvPr id="536" name="Group 63"/>
                <p:cNvGrpSpPr/>
                <p:nvPr/>
              </p:nvGrpSpPr>
              <p:grpSpPr>
                <a:xfrm>
                  <a:off x="4750920" y="4700160"/>
                  <a:ext cx="3376440" cy="501120"/>
                  <a:chOff x="4750920" y="4700160"/>
                  <a:chExt cx="3376440" cy="501120"/>
                </a:xfrm>
              </p:grpSpPr>
              <p:pic>
                <p:nvPicPr>
                  <p:cNvPr id="537" name="AutoShape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50920" y="4700160"/>
                    <a:ext cx="3376440" cy="50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mc:AlternateContent>
                <mc:Choice xmlns:a14="http://schemas.microsoft.com/office/drawing/2010/main" Requires="a14">
                  <p:sp>
                    <p:nvSpPr>
                      <p:cNvPr id="538" name="Object 5"/>
                      <p:cNvSpPr txBox="1"/>
                      <p:nvPr/>
                    </p:nvSpPr>
                    <p:spPr>
                      <a:xfrm>
                        <a:off x="5278320" y="4782240"/>
                        <a:ext cx="2817720" cy="3358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pic>
              <p:nvPicPr>
                <p:cNvPr id="539" name="Line 7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650200" y="1607400"/>
                  <a:ext cx="1677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Line 7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650200" y="818640"/>
                  <a:ext cx="1677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Line 7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650200" y="3046320"/>
                  <a:ext cx="167760" cy="303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Line 7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650200" y="3763080"/>
                  <a:ext cx="167760" cy="303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Line 8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650200" y="4479120"/>
                  <a:ext cx="167760" cy="303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Line 8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650200" y="5195520"/>
                  <a:ext cx="167760" cy="303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Line 8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650200" y="5838840"/>
                  <a:ext cx="167760" cy="30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Line 8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5650200" y="2329920"/>
                  <a:ext cx="167760" cy="303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547" name="Group 90" descr=""/>
            <p:cNvPicPr/>
            <p:nvPr/>
          </p:nvPicPr>
          <p:blipFill>
            <a:blip r:embed="rId18"/>
            <a:stretch/>
          </p:blipFill>
          <p:spPr>
            <a:xfrm>
              <a:off x="5346720" y="1847520"/>
              <a:ext cx="2718720" cy="420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04920" y="685800"/>
            <a:ext cx="3962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№ </a:t>
            </a: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68c4"/>
                </a:solidFill>
                <a:latin typeface="Century Schoolbook"/>
              </a:rPr>
              <a:t>Составьте блок-схему алгоритма решения поставленной задач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ычислить путь, пройденный лодкой, если ее скорость в стоячей воде </a:t>
            </a:r>
            <a:r>
              <a:rPr b="1" i="1" lang="en-US" sz="2200" spc="-1" strike="noStrike">
                <a:solidFill>
                  <a:srgbClr val="c00000"/>
                </a:solidFill>
                <a:latin typeface="Century Schoolbook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км/ч, скорость течения реки </a:t>
            </a:r>
            <a:r>
              <a:rPr b="1" i="1" lang="en-US" sz="2200" spc="-1" strike="noStrike">
                <a:solidFill>
                  <a:srgbClr val="c00000"/>
                </a:solidFill>
                <a:latin typeface="Century Schoolbook"/>
              </a:rPr>
              <a:t>v</a:t>
            </a:r>
            <a:r>
              <a:rPr b="1" i="1" lang="ru-RU" sz="2200" spc="-1" strike="noStrike" baseline="-25000">
                <a:solidFill>
                  <a:srgbClr val="c00000"/>
                </a:solidFill>
                <a:latin typeface="Century Schoolbook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 км/ч, время движения по озеру </a:t>
            </a:r>
            <a:r>
              <a:rPr b="1" i="1" lang="en-US" sz="2200" spc="-1" strike="noStrike">
                <a:solidFill>
                  <a:srgbClr val="c00000"/>
                </a:solidFill>
                <a:latin typeface="Century Schoolbook"/>
              </a:rPr>
              <a:t>t</a:t>
            </a:r>
            <a:r>
              <a:rPr b="1" i="1" lang="en-US" sz="2200" spc="-1" strike="noStrike" baseline="-25000">
                <a:solidFill>
                  <a:srgbClr val="c00000"/>
                </a:solidFill>
                <a:latin typeface="Century Schoolbook"/>
              </a:rPr>
              <a:t>1</a:t>
            </a:r>
            <a:r>
              <a:rPr b="1" i="1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ч, а против течения реки – </a:t>
            </a:r>
            <a:r>
              <a:rPr b="1" i="1" lang="en-US" sz="22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ч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49" name="Group 32"/>
          <p:cNvGrpSpPr/>
          <p:nvPr/>
        </p:nvGrpSpPr>
        <p:grpSpPr>
          <a:xfrm>
            <a:off x="4270320" y="457200"/>
            <a:ext cx="3959280" cy="5714640"/>
            <a:chOff x="4270320" y="457200"/>
            <a:chExt cx="3959280" cy="5714640"/>
          </a:xfrm>
        </p:grpSpPr>
        <p:sp>
          <p:nvSpPr>
            <p:cNvPr id="550" name="Rectangle 6"/>
            <p:cNvSpPr/>
            <p:nvPr/>
          </p:nvSpPr>
          <p:spPr>
            <a:xfrm>
              <a:off x="4270320" y="457200"/>
              <a:ext cx="3959280" cy="5714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Group 8"/>
            <p:cNvGrpSpPr/>
            <p:nvPr/>
          </p:nvGrpSpPr>
          <p:grpSpPr>
            <a:xfrm>
              <a:off x="4707360" y="649440"/>
              <a:ext cx="3127320" cy="398880"/>
              <a:chOff x="4707360" y="649440"/>
              <a:chExt cx="3127320" cy="398880"/>
            </a:xfrm>
          </p:grpSpPr>
          <p:sp>
            <p:nvSpPr>
              <p:cNvPr id="552" name="AutoShape 9"/>
              <p:cNvSpPr/>
              <p:nvPr/>
            </p:nvSpPr>
            <p:spPr>
              <a:xfrm>
                <a:off x="4707360" y="649440"/>
                <a:ext cx="3127320" cy="369000"/>
              </a:xfrm>
              <a:prstGeom prst="flowChartTermina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10"/>
              <p:cNvSpPr/>
              <p:nvPr/>
            </p:nvSpPr>
            <p:spPr>
              <a:xfrm>
                <a:off x="5054400" y="649440"/>
                <a:ext cx="231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начал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11"/>
            <p:cNvGrpSpPr/>
            <p:nvPr/>
          </p:nvGrpSpPr>
          <p:grpSpPr>
            <a:xfrm>
              <a:off x="4704480" y="1300320"/>
              <a:ext cx="3109320" cy="479880"/>
              <a:chOff x="4704480" y="1300320"/>
              <a:chExt cx="3109320" cy="479880"/>
            </a:xfrm>
          </p:grpSpPr>
          <p:sp>
            <p:nvSpPr>
              <p:cNvPr id="555" name="AutoShape 12"/>
              <p:cNvSpPr/>
              <p:nvPr/>
            </p:nvSpPr>
            <p:spPr>
              <a:xfrm>
                <a:off x="4704480" y="1300320"/>
                <a:ext cx="3109320" cy="479880"/>
              </a:xfrm>
              <a:prstGeom prst="flowChartInputOutpu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13"/>
              <p:cNvSpPr/>
              <p:nvPr/>
            </p:nvSpPr>
            <p:spPr>
              <a:xfrm>
                <a:off x="5063040" y="1316880"/>
                <a:ext cx="2181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вод: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, v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, t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, t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14"/>
            <p:cNvGrpSpPr/>
            <p:nvPr/>
          </p:nvGrpSpPr>
          <p:grpSpPr>
            <a:xfrm>
              <a:off x="4740480" y="4725000"/>
              <a:ext cx="3081600" cy="460080"/>
              <a:chOff x="4740480" y="4725000"/>
              <a:chExt cx="3081600" cy="460080"/>
            </a:xfrm>
          </p:grpSpPr>
          <p:sp>
            <p:nvSpPr>
              <p:cNvPr id="558" name="AutoShape 15"/>
              <p:cNvSpPr/>
              <p:nvPr/>
            </p:nvSpPr>
            <p:spPr>
              <a:xfrm>
                <a:off x="4740480" y="4725000"/>
                <a:ext cx="3081600" cy="460080"/>
              </a:xfrm>
              <a:prstGeom prst="flowChartInputOutpu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16"/>
              <p:cNvSpPr/>
              <p:nvPr/>
            </p:nvSpPr>
            <p:spPr>
              <a:xfrm>
                <a:off x="5198760" y="4750200"/>
                <a:ext cx="239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ывод: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17"/>
            <p:cNvGrpSpPr/>
            <p:nvPr/>
          </p:nvGrpSpPr>
          <p:grpSpPr>
            <a:xfrm>
              <a:off x="4689360" y="5499720"/>
              <a:ext cx="3128760" cy="398880"/>
              <a:chOff x="4689360" y="5499720"/>
              <a:chExt cx="3128760" cy="398880"/>
            </a:xfrm>
          </p:grpSpPr>
          <p:sp>
            <p:nvSpPr>
              <p:cNvPr id="561" name="AutoShape 18"/>
              <p:cNvSpPr/>
              <p:nvPr/>
            </p:nvSpPr>
            <p:spPr>
              <a:xfrm>
                <a:off x="4689360" y="5499720"/>
                <a:ext cx="3128760" cy="369000"/>
              </a:xfrm>
              <a:prstGeom prst="flowChartTermina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19"/>
              <p:cNvSpPr/>
              <p:nvPr/>
            </p:nvSpPr>
            <p:spPr>
              <a:xfrm>
                <a:off x="5384880" y="5499720"/>
                <a:ext cx="173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коне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Rectangle 20"/>
            <p:cNvSpPr/>
            <p:nvPr/>
          </p:nvSpPr>
          <p:spPr>
            <a:xfrm>
              <a:off x="4690440" y="2093040"/>
              <a:ext cx="3132000" cy="586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v * 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21"/>
            <p:cNvSpPr/>
            <p:nvPr/>
          </p:nvSpPr>
          <p:spPr>
            <a:xfrm>
              <a:off x="4693320" y="3001320"/>
              <a:ext cx="3132000" cy="56772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(v – 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 * 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22"/>
            <p:cNvSpPr/>
            <p:nvPr/>
          </p:nvSpPr>
          <p:spPr>
            <a:xfrm>
              <a:off x="6256080" y="1036440"/>
              <a:ext cx="0" cy="26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3"/>
            <p:cNvSpPr/>
            <p:nvPr/>
          </p:nvSpPr>
          <p:spPr>
            <a:xfrm>
              <a:off x="6256080" y="179352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4"/>
            <p:cNvSpPr/>
            <p:nvPr/>
          </p:nvSpPr>
          <p:spPr>
            <a:xfrm>
              <a:off x="6260040" y="356940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5"/>
            <p:cNvSpPr/>
            <p:nvPr/>
          </p:nvSpPr>
          <p:spPr>
            <a:xfrm>
              <a:off x="6262920" y="268236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26"/>
            <p:cNvSpPr/>
            <p:nvPr/>
          </p:nvSpPr>
          <p:spPr>
            <a:xfrm>
              <a:off x="6246360" y="519732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27"/>
            <p:cNvSpPr/>
            <p:nvPr/>
          </p:nvSpPr>
          <p:spPr>
            <a:xfrm>
              <a:off x="4682520" y="3857400"/>
              <a:ext cx="3131640" cy="54684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 = 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28"/>
            <p:cNvSpPr/>
            <p:nvPr/>
          </p:nvSpPr>
          <p:spPr>
            <a:xfrm>
              <a:off x="6253200" y="441900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57200" y="11430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№ </a:t>
            </a: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entury Schoolbook"/>
              </a:rPr>
              <a:t>По данной блок-схеме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ычисления значения некоторой функции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осстановите условие задачи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напишите формулу вычисления значения функци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73" name="Group 4"/>
          <p:cNvGrpSpPr/>
          <p:nvPr/>
        </p:nvGrpSpPr>
        <p:grpSpPr>
          <a:xfrm>
            <a:off x="4270320" y="304920"/>
            <a:ext cx="3657600" cy="5867280"/>
            <a:chOff x="4270320" y="304920"/>
            <a:chExt cx="3657600" cy="5867280"/>
          </a:xfrm>
        </p:grpSpPr>
        <p:sp>
          <p:nvSpPr>
            <p:cNvPr id="574" name="Rectangle 5"/>
            <p:cNvSpPr/>
            <p:nvPr/>
          </p:nvSpPr>
          <p:spPr>
            <a:xfrm>
              <a:off x="4270320" y="304920"/>
              <a:ext cx="3657600" cy="58672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Group 6"/>
            <p:cNvGrpSpPr/>
            <p:nvPr/>
          </p:nvGrpSpPr>
          <p:grpSpPr>
            <a:xfrm>
              <a:off x="4673880" y="613080"/>
              <a:ext cx="2889360" cy="398880"/>
              <a:chOff x="4673880" y="613080"/>
              <a:chExt cx="2889360" cy="398880"/>
            </a:xfrm>
          </p:grpSpPr>
          <p:sp>
            <p:nvSpPr>
              <p:cNvPr id="576" name="AutoShape 7"/>
              <p:cNvSpPr/>
              <p:nvPr/>
            </p:nvSpPr>
            <p:spPr>
              <a:xfrm>
                <a:off x="4673880" y="613080"/>
                <a:ext cx="2889360" cy="314640"/>
              </a:xfrm>
              <a:prstGeom prst="flowChartTermina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Text Box 8"/>
              <p:cNvSpPr/>
              <p:nvPr/>
            </p:nvSpPr>
            <p:spPr>
              <a:xfrm>
                <a:off x="4994280" y="613080"/>
                <a:ext cx="214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начал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9"/>
            <p:cNvGrpSpPr/>
            <p:nvPr/>
          </p:nvGrpSpPr>
          <p:grpSpPr>
            <a:xfrm>
              <a:off x="4671720" y="1118160"/>
              <a:ext cx="2872800" cy="414000"/>
              <a:chOff x="4671720" y="1118160"/>
              <a:chExt cx="2872800" cy="414000"/>
            </a:xfrm>
          </p:grpSpPr>
          <p:sp>
            <p:nvSpPr>
              <p:cNvPr id="579" name="AutoShape 10"/>
              <p:cNvSpPr/>
              <p:nvPr/>
            </p:nvSpPr>
            <p:spPr>
              <a:xfrm>
                <a:off x="4671720" y="1118160"/>
                <a:ext cx="2872800" cy="408960"/>
              </a:xfrm>
              <a:prstGeom prst="flowChartInputOutpu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Text Box 11"/>
              <p:cNvSpPr/>
              <p:nvPr/>
            </p:nvSpPr>
            <p:spPr>
              <a:xfrm>
                <a:off x="5002920" y="1133280"/>
                <a:ext cx="201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вод: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12"/>
            <p:cNvGrpSpPr/>
            <p:nvPr/>
          </p:nvGrpSpPr>
          <p:grpSpPr>
            <a:xfrm>
              <a:off x="4594680" y="5037840"/>
              <a:ext cx="2846880" cy="420480"/>
              <a:chOff x="4594680" y="5037840"/>
              <a:chExt cx="2846880" cy="420480"/>
            </a:xfrm>
          </p:grpSpPr>
          <p:sp>
            <p:nvSpPr>
              <p:cNvPr id="582" name="AutoShape 13"/>
              <p:cNvSpPr/>
              <p:nvPr/>
            </p:nvSpPr>
            <p:spPr>
              <a:xfrm>
                <a:off x="4594680" y="5037840"/>
                <a:ext cx="2846880" cy="392760"/>
              </a:xfrm>
              <a:prstGeom prst="flowChartInputOutpu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Text Box 14"/>
              <p:cNvSpPr/>
              <p:nvPr/>
            </p:nvSpPr>
            <p:spPr>
              <a:xfrm>
                <a:off x="5018040" y="5059440"/>
                <a:ext cx="221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ывод: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15"/>
            <p:cNvGrpSpPr/>
            <p:nvPr/>
          </p:nvGrpSpPr>
          <p:grpSpPr>
            <a:xfrm>
              <a:off x="4617720" y="5600160"/>
              <a:ext cx="2890440" cy="398880"/>
              <a:chOff x="4617720" y="5600160"/>
              <a:chExt cx="2890440" cy="398880"/>
            </a:xfrm>
          </p:grpSpPr>
          <p:sp>
            <p:nvSpPr>
              <p:cNvPr id="585" name="AutoShape 16"/>
              <p:cNvSpPr/>
              <p:nvPr/>
            </p:nvSpPr>
            <p:spPr>
              <a:xfrm>
                <a:off x="4617720" y="5600160"/>
                <a:ext cx="2890440" cy="314640"/>
              </a:xfrm>
              <a:prstGeom prst="flowChartTermina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Text Box 17"/>
              <p:cNvSpPr/>
              <p:nvPr/>
            </p:nvSpPr>
            <p:spPr>
              <a:xfrm>
                <a:off x="5259960" y="5600160"/>
                <a:ext cx="160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коне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Rectangle 18"/>
            <p:cNvSpPr/>
            <p:nvPr/>
          </p:nvSpPr>
          <p:spPr>
            <a:xfrm>
              <a:off x="4641840" y="1698120"/>
              <a:ext cx="2893320" cy="499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= 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9"/>
            <p:cNvSpPr/>
            <p:nvPr/>
          </p:nvSpPr>
          <p:spPr>
            <a:xfrm flipH="1">
              <a:off x="6103440" y="933480"/>
              <a:ext cx="14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20"/>
            <p:cNvSpPr/>
            <p:nvPr/>
          </p:nvSpPr>
          <p:spPr>
            <a:xfrm>
              <a:off x="4650840" y="3057120"/>
              <a:ext cx="2893320" cy="46620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 = A +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utoShape 21"/>
            <p:cNvSpPr/>
            <p:nvPr/>
          </p:nvSpPr>
          <p:spPr>
            <a:xfrm>
              <a:off x="4639320" y="3727440"/>
              <a:ext cx="2893320" cy="46764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 = B +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AutoShape 22"/>
            <p:cNvSpPr/>
            <p:nvPr/>
          </p:nvSpPr>
          <p:spPr>
            <a:xfrm>
              <a:off x="4631760" y="4390920"/>
              <a:ext cx="2893320" cy="46764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 = C /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23"/>
            <p:cNvSpPr/>
            <p:nvPr/>
          </p:nvSpPr>
          <p:spPr>
            <a:xfrm flipH="1">
              <a:off x="6095520" y="1535760"/>
              <a:ext cx="10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24"/>
            <p:cNvSpPr/>
            <p:nvPr/>
          </p:nvSpPr>
          <p:spPr>
            <a:xfrm flipH="1">
              <a:off x="6087960" y="2206440"/>
              <a:ext cx="14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25"/>
            <p:cNvSpPr/>
            <p:nvPr/>
          </p:nvSpPr>
          <p:spPr>
            <a:xfrm flipH="1">
              <a:off x="6087960" y="2868480"/>
              <a:ext cx="144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6"/>
            <p:cNvSpPr/>
            <p:nvPr/>
          </p:nvSpPr>
          <p:spPr>
            <a:xfrm flipH="1">
              <a:off x="6087960" y="3530520"/>
              <a:ext cx="144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7"/>
            <p:cNvSpPr/>
            <p:nvPr/>
          </p:nvSpPr>
          <p:spPr>
            <a:xfrm flipH="1">
              <a:off x="6087960" y="4200840"/>
              <a:ext cx="144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8"/>
            <p:cNvSpPr/>
            <p:nvPr/>
          </p:nvSpPr>
          <p:spPr>
            <a:xfrm flipH="1">
              <a:off x="6095520" y="4856040"/>
              <a:ext cx="10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9"/>
            <p:cNvSpPr/>
            <p:nvPr/>
          </p:nvSpPr>
          <p:spPr>
            <a:xfrm flipH="1">
              <a:off x="6087960" y="5423760"/>
              <a:ext cx="144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30"/>
            <p:cNvSpPr/>
            <p:nvPr/>
          </p:nvSpPr>
          <p:spPr>
            <a:xfrm>
              <a:off x="4625280" y="2378520"/>
              <a:ext cx="2893320" cy="499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 = A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0" name="Рисунок 29" descr="знак.png"/>
          <p:cNvPicPr/>
          <p:nvPr/>
        </p:nvPicPr>
        <p:blipFill>
          <a:blip r:embed="rId1"/>
          <a:stretch/>
        </p:blipFill>
        <p:spPr>
          <a:xfrm>
            <a:off x="5667480" y="4952880"/>
            <a:ext cx="3476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5f6d"/>
                </a:solidFill>
                <a:latin typeface="Century Schoolbook"/>
              </a:rPr>
              <a:t>ДОМАШНЕЕ ЗАДАНИЕ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Содержимое 4" descr=""/>
          <p:cNvPicPr/>
          <p:nvPr/>
        </p:nvPicPr>
        <p:blipFill>
          <a:blip r:embed="rId1"/>
          <a:stretch/>
        </p:blipFill>
        <p:spPr>
          <a:xfrm>
            <a:off x="244440" y="146160"/>
            <a:ext cx="7747200" cy="646272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7772400" y="990720"/>
            <a:ext cx="914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0" spc="-1" strike="noStrike">
                <a:solidFill>
                  <a:srgbClr val="c00000"/>
                </a:solidFill>
                <a:latin typeface="Century Schoolbook"/>
              </a:rPr>
              <a:t>!</a:t>
            </a:r>
            <a:endParaRPr b="0" lang="en-US" sz="27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5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Century Schoolbook"/>
              </a:rPr>
              <a:t>СОСТАВЬТЕ  БЛОК-СХЕМЫ АЛГОРИТМА РЕШЕНИЯ ПОСТАВЛЕННЫХ ЗАДАЧ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№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 квадратной комнате шириной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 высотой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есть окно и дверь с размерами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а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M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а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N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соответственно. Вычислите площадь стен для оклеивания их обоям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№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Дана величина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,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выражающая объем информации в байтах. Перевести А в более крупные единицы измерения информаци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57200" y="228600"/>
            <a:ext cx="3657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№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entury Schoolbook"/>
              </a:rPr>
              <a:t>По данной блок-схеме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ычисления значения некоторой функции, восстановите условие задачи; напишите формулу вычисления значения функци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09" name="Group 68"/>
          <p:cNvGrpSpPr/>
          <p:nvPr/>
        </p:nvGrpSpPr>
        <p:grpSpPr>
          <a:xfrm>
            <a:off x="4270320" y="228600"/>
            <a:ext cx="3657600" cy="5943600"/>
            <a:chOff x="4270320" y="228600"/>
            <a:chExt cx="3657600" cy="5943600"/>
          </a:xfrm>
        </p:grpSpPr>
        <p:sp>
          <p:nvSpPr>
            <p:cNvPr id="610" name="Rectangle 39"/>
            <p:cNvSpPr/>
            <p:nvPr/>
          </p:nvSpPr>
          <p:spPr>
            <a:xfrm>
              <a:off x="4270320" y="228600"/>
              <a:ext cx="3657600" cy="59436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Group 40"/>
            <p:cNvGrpSpPr/>
            <p:nvPr/>
          </p:nvGrpSpPr>
          <p:grpSpPr>
            <a:xfrm>
              <a:off x="4673880" y="540720"/>
              <a:ext cx="2889360" cy="398880"/>
              <a:chOff x="4673880" y="540720"/>
              <a:chExt cx="2889360" cy="398880"/>
            </a:xfrm>
          </p:grpSpPr>
          <p:sp>
            <p:nvSpPr>
              <p:cNvPr id="612" name="AutoShape 41"/>
              <p:cNvSpPr/>
              <p:nvPr/>
            </p:nvSpPr>
            <p:spPr>
              <a:xfrm>
                <a:off x="4673880" y="540720"/>
                <a:ext cx="2889360" cy="318960"/>
              </a:xfrm>
              <a:prstGeom prst="flowChartTermina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Text Box 42"/>
              <p:cNvSpPr/>
              <p:nvPr/>
            </p:nvSpPr>
            <p:spPr>
              <a:xfrm>
                <a:off x="4994280" y="540720"/>
                <a:ext cx="214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начал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43"/>
            <p:cNvGrpSpPr/>
            <p:nvPr/>
          </p:nvGrpSpPr>
          <p:grpSpPr>
            <a:xfrm>
              <a:off x="4671720" y="1053720"/>
              <a:ext cx="2872800" cy="415440"/>
              <a:chOff x="4671720" y="1053720"/>
              <a:chExt cx="2872800" cy="415440"/>
            </a:xfrm>
          </p:grpSpPr>
          <p:sp>
            <p:nvSpPr>
              <p:cNvPr id="615" name="AutoShape 44"/>
              <p:cNvSpPr/>
              <p:nvPr/>
            </p:nvSpPr>
            <p:spPr>
              <a:xfrm>
                <a:off x="4671720" y="1053720"/>
                <a:ext cx="2872800" cy="415440"/>
              </a:xfrm>
              <a:prstGeom prst="flowChartInputOutpu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Text Box 45"/>
              <p:cNvSpPr/>
              <p:nvPr/>
            </p:nvSpPr>
            <p:spPr>
              <a:xfrm>
                <a:off x="5002920" y="1068840"/>
                <a:ext cx="201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вод: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46"/>
            <p:cNvGrpSpPr/>
            <p:nvPr/>
          </p:nvGrpSpPr>
          <p:grpSpPr>
            <a:xfrm>
              <a:off x="4594680" y="5025960"/>
              <a:ext cx="2846880" cy="420480"/>
              <a:chOff x="4594680" y="5025960"/>
              <a:chExt cx="2846880" cy="420480"/>
            </a:xfrm>
          </p:grpSpPr>
          <p:sp>
            <p:nvSpPr>
              <p:cNvPr id="618" name="AutoShape 47"/>
              <p:cNvSpPr/>
              <p:nvPr/>
            </p:nvSpPr>
            <p:spPr>
              <a:xfrm>
                <a:off x="4594680" y="5025960"/>
                <a:ext cx="2846880" cy="397800"/>
              </a:xfrm>
              <a:prstGeom prst="flowChartInputOutpu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 Box 48"/>
              <p:cNvSpPr/>
              <p:nvPr/>
            </p:nvSpPr>
            <p:spPr>
              <a:xfrm>
                <a:off x="5018040" y="5047560"/>
                <a:ext cx="221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ывод: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49"/>
            <p:cNvGrpSpPr/>
            <p:nvPr/>
          </p:nvGrpSpPr>
          <p:grpSpPr>
            <a:xfrm>
              <a:off x="4617720" y="5592600"/>
              <a:ext cx="2890440" cy="398880"/>
              <a:chOff x="4617720" y="5592600"/>
              <a:chExt cx="2890440" cy="398880"/>
            </a:xfrm>
          </p:grpSpPr>
          <p:sp>
            <p:nvSpPr>
              <p:cNvPr id="621" name="AutoShape 50"/>
              <p:cNvSpPr/>
              <p:nvPr/>
            </p:nvSpPr>
            <p:spPr>
              <a:xfrm>
                <a:off x="4617720" y="5592600"/>
                <a:ext cx="2890440" cy="318960"/>
              </a:xfrm>
              <a:prstGeom prst="flowChartTermina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51"/>
              <p:cNvSpPr/>
              <p:nvPr/>
            </p:nvSpPr>
            <p:spPr>
              <a:xfrm>
                <a:off x="5259960" y="5592600"/>
                <a:ext cx="160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коне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3" name="Rectangle 52"/>
            <p:cNvSpPr/>
            <p:nvPr/>
          </p:nvSpPr>
          <p:spPr>
            <a:xfrm>
              <a:off x="4641840" y="1640160"/>
              <a:ext cx="2893320" cy="506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 = A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53"/>
            <p:cNvSpPr/>
            <p:nvPr/>
          </p:nvSpPr>
          <p:spPr>
            <a:xfrm flipH="1">
              <a:off x="6103440" y="865080"/>
              <a:ext cx="1440" cy="18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54"/>
            <p:cNvSpPr/>
            <p:nvPr/>
          </p:nvSpPr>
          <p:spPr>
            <a:xfrm>
              <a:off x="4650840" y="3016440"/>
              <a:ext cx="2893320" cy="47232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 = C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utoShape 55"/>
            <p:cNvSpPr/>
            <p:nvPr/>
          </p:nvSpPr>
          <p:spPr>
            <a:xfrm>
              <a:off x="4639320" y="3695760"/>
              <a:ext cx="2893320" cy="47376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 = D /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59"/>
            <p:cNvSpPr/>
            <p:nvPr/>
          </p:nvSpPr>
          <p:spPr>
            <a:xfrm>
              <a:off x="4631760" y="4367880"/>
              <a:ext cx="2893320" cy="47376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 = E +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60"/>
            <p:cNvSpPr/>
            <p:nvPr/>
          </p:nvSpPr>
          <p:spPr>
            <a:xfrm flipH="1">
              <a:off x="6095520" y="1475640"/>
              <a:ext cx="1080" cy="18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61"/>
            <p:cNvSpPr/>
            <p:nvPr/>
          </p:nvSpPr>
          <p:spPr>
            <a:xfrm flipH="1">
              <a:off x="6087960" y="2154600"/>
              <a:ext cx="1440" cy="18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62"/>
            <p:cNvSpPr/>
            <p:nvPr/>
          </p:nvSpPr>
          <p:spPr>
            <a:xfrm flipH="1">
              <a:off x="6087960" y="2825640"/>
              <a:ext cx="144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63"/>
            <p:cNvSpPr/>
            <p:nvPr/>
          </p:nvSpPr>
          <p:spPr>
            <a:xfrm flipH="1">
              <a:off x="6087960" y="3496320"/>
              <a:ext cx="144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64"/>
            <p:cNvSpPr/>
            <p:nvPr/>
          </p:nvSpPr>
          <p:spPr>
            <a:xfrm flipH="1">
              <a:off x="6087960" y="4175280"/>
              <a:ext cx="144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65"/>
            <p:cNvSpPr/>
            <p:nvPr/>
          </p:nvSpPr>
          <p:spPr>
            <a:xfrm flipH="1">
              <a:off x="6095520" y="4838760"/>
              <a:ext cx="1080" cy="18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66"/>
            <p:cNvSpPr/>
            <p:nvPr/>
          </p:nvSpPr>
          <p:spPr>
            <a:xfrm flipH="1">
              <a:off x="6087960" y="5414040"/>
              <a:ext cx="144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67"/>
            <p:cNvSpPr/>
            <p:nvPr/>
          </p:nvSpPr>
          <p:spPr>
            <a:xfrm>
              <a:off x="4625280" y="2329200"/>
              <a:ext cx="2893320" cy="50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 = B +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entury Schoolbook"/>
              </a:rPr>
              <a:t>ИТОГИ УРОКА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456840" y="609480"/>
            <a:ext cx="7467480" cy="58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Сегодня я узнал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Было интересно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Было трудно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Я выполнял задания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Я понял, что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Теперь я могу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Я научился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Урок дал мне для жизни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AA56-127C-45EB-A0BC-49D937D98640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5f6d"/>
                </a:solidFill>
                <a:latin typeface="Century Schoolbook"/>
              </a:rPr>
              <a:t>БЛОК – СХЕМЫ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5640" y="5028840"/>
            <a:ext cx="6172200" cy="13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Средства представления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и записи алгоритмов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Блок-схема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графическое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представление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алгоритма в виде последовательности связанных между собой функциональных блоков (</a:t>
            </a:r>
            <a:r>
              <a:rPr b="1" i="1" lang="ru-RU" sz="2800" spc="-1" strike="noStrike">
                <a:solidFill>
                  <a:srgbClr val="00b050"/>
                </a:solidFill>
                <a:latin typeface="Century Schoolbook"/>
              </a:rPr>
              <a:t>стандартных графических элементов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), каждый из которых соответствует выполнению одного или нескольких действий.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Содержимое 4" descr=""/>
          <p:cNvPicPr/>
          <p:nvPr/>
        </p:nvPicPr>
        <p:blipFill>
          <a:blip r:embed="rId1"/>
          <a:stretch/>
        </p:blipFill>
        <p:spPr>
          <a:xfrm>
            <a:off x="596880" y="-19080"/>
            <a:ext cx="2841480" cy="1019160"/>
          </a:xfrm>
          <a:prstGeom prst="rect">
            <a:avLst/>
          </a:prstGeom>
          <a:ln w="0">
            <a:noFill/>
          </a:ln>
        </p:spPr>
      </p:pic>
      <p:pic>
        <p:nvPicPr>
          <p:cNvPr id="363" name="Схема 4" descr=""/>
          <p:cNvPicPr/>
          <p:nvPr/>
        </p:nvPicPr>
        <p:blipFill>
          <a:blip r:embed="rId2"/>
          <a:stretch/>
        </p:blipFill>
        <p:spPr>
          <a:xfrm>
            <a:off x="212760" y="907920"/>
            <a:ext cx="3384360" cy="1073160"/>
          </a:xfrm>
          <a:prstGeom prst="rect">
            <a:avLst/>
          </a:prstGeom>
          <a:ln w="0">
            <a:noFill/>
          </a:ln>
        </p:spPr>
      </p:pic>
      <p:pic>
        <p:nvPicPr>
          <p:cNvPr id="364" name="Схема 6" descr=""/>
          <p:cNvPicPr/>
          <p:nvPr/>
        </p:nvPicPr>
        <p:blipFill>
          <a:blip r:embed="rId3"/>
          <a:stretch/>
        </p:blipFill>
        <p:spPr>
          <a:xfrm>
            <a:off x="743040" y="3121200"/>
            <a:ext cx="2463840" cy="1218960"/>
          </a:xfrm>
          <a:prstGeom prst="rect">
            <a:avLst/>
          </a:prstGeom>
          <a:ln w="0">
            <a:noFill/>
          </a:ln>
        </p:spPr>
      </p:pic>
      <p:pic>
        <p:nvPicPr>
          <p:cNvPr id="365" name="Схема 7" descr=""/>
          <p:cNvPicPr/>
          <p:nvPr/>
        </p:nvPicPr>
        <p:blipFill>
          <a:blip r:embed="rId4"/>
          <a:stretch/>
        </p:blipFill>
        <p:spPr>
          <a:xfrm>
            <a:off x="1292400" y="2054160"/>
            <a:ext cx="1841400" cy="1000080"/>
          </a:xfrm>
          <a:prstGeom prst="rect">
            <a:avLst/>
          </a:prstGeom>
          <a:ln w="0">
            <a:noFill/>
          </a:ln>
        </p:spPr>
      </p:pic>
      <p:pic>
        <p:nvPicPr>
          <p:cNvPr id="366" name="Схема 8" descr=""/>
          <p:cNvPicPr/>
          <p:nvPr/>
        </p:nvPicPr>
        <p:blipFill>
          <a:blip r:embed="rId5"/>
          <a:stretch/>
        </p:blipFill>
        <p:spPr>
          <a:xfrm>
            <a:off x="907920" y="4419720"/>
            <a:ext cx="2292480" cy="1109520"/>
          </a:xfrm>
          <a:prstGeom prst="rect">
            <a:avLst/>
          </a:prstGeom>
          <a:ln w="0">
            <a:noFill/>
          </a:ln>
        </p:spPr>
      </p:pic>
      <p:pic>
        <p:nvPicPr>
          <p:cNvPr id="367" name="Содержимое 4" descr=""/>
          <p:cNvPicPr/>
          <p:nvPr/>
        </p:nvPicPr>
        <p:blipFill>
          <a:blip r:embed="rId6"/>
          <a:stretch/>
        </p:blipFill>
        <p:spPr>
          <a:xfrm>
            <a:off x="749160" y="5718240"/>
            <a:ext cx="2762280" cy="84780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13"/>
          <p:cNvSpPr/>
          <p:nvPr/>
        </p:nvSpPr>
        <p:spPr>
          <a:xfrm>
            <a:off x="4114800" y="304920"/>
            <a:ext cx="1447920" cy="304560"/>
          </a:xfrm>
          <a:prstGeom prst="rightArrow">
            <a:avLst>
              <a:gd name="adj1" fmla="val 50000"/>
              <a:gd name="adj2" fmla="val 11885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9"/>
          <p:cNvSpPr/>
          <p:nvPr/>
        </p:nvSpPr>
        <p:spPr>
          <a:xfrm>
            <a:off x="5486400" y="304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Начало алгоритма, вход в програ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0"/>
          <p:cNvSpPr/>
          <p:nvPr/>
        </p:nvSpPr>
        <p:spPr>
          <a:xfrm>
            <a:off x="5486400" y="59436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Конец алгоритма, выход из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1"/>
          <p:cNvSpPr/>
          <p:nvPr/>
        </p:nvSpPr>
        <p:spPr>
          <a:xfrm>
            <a:off x="5410080" y="121932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611c"/>
                </a:solidFill>
                <a:latin typeface="Arial"/>
              </a:rPr>
              <a:t>Ввод исходных данных или вывод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5334120" y="2362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Выполнение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3"/>
          <p:cNvSpPr/>
          <p:nvPr/>
        </p:nvSpPr>
        <p:spPr>
          <a:xfrm>
            <a:off x="5410080" y="33526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Проверка логического у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4"/>
          <p:cNvSpPr/>
          <p:nvPr/>
        </p:nvSpPr>
        <p:spPr>
          <a:xfrm>
            <a:off x="5562720" y="464832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Количество повторов ци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26"/>
          <p:cNvSpPr/>
          <p:nvPr/>
        </p:nvSpPr>
        <p:spPr>
          <a:xfrm>
            <a:off x="3657600" y="1295280"/>
            <a:ext cx="1447920" cy="304920"/>
          </a:xfrm>
          <a:prstGeom prst="rightArrow">
            <a:avLst>
              <a:gd name="adj1" fmla="val 50000"/>
              <a:gd name="adj2" fmla="val 11871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27"/>
          <p:cNvSpPr/>
          <p:nvPr/>
        </p:nvSpPr>
        <p:spPr>
          <a:xfrm>
            <a:off x="3429000" y="2362320"/>
            <a:ext cx="1447920" cy="304560"/>
          </a:xfrm>
          <a:prstGeom prst="rightArrow">
            <a:avLst>
              <a:gd name="adj1" fmla="val 50000"/>
              <a:gd name="adj2" fmla="val 11885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28"/>
          <p:cNvSpPr/>
          <p:nvPr/>
        </p:nvSpPr>
        <p:spPr>
          <a:xfrm>
            <a:off x="3429000" y="3429000"/>
            <a:ext cx="1447920" cy="304920"/>
          </a:xfrm>
          <a:prstGeom prst="rightArrow">
            <a:avLst>
              <a:gd name="adj1" fmla="val 50000"/>
              <a:gd name="adj2" fmla="val 11871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29"/>
          <p:cNvSpPr/>
          <p:nvPr/>
        </p:nvSpPr>
        <p:spPr>
          <a:xfrm>
            <a:off x="3505320" y="4800600"/>
            <a:ext cx="1447560" cy="304920"/>
          </a:xfrm>
          <a:prstGeom prst="rightArrow">
            <a:avLst>
              <a:gd name="adj1" fmla="val 50000"/>
              <a:gd name="adj2" fmla="val 11868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30"/>
          <p:cNvSpPr/>
          <p:nvPr/>
        </p:nvSpPr>
        <p:spPr>
          <a:xfrm>
            <a:off x="3657600" y="5867280"/>
            <a:ext cx="1447920" cy="304920"/>
          </a:xfrm>
          <a:prstGeom prst="rightArrow">
            <a:avLst>
              <a:gd name="adj1" fmla="val 50000"/>
              <a:gd name="adj2" fmla="val 11871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Рисунок 19" descr="знак.png"/>
          <p:cNvPicPr/>
          <p:nvPr/>
        </p:nvPicPr>
        <p:blipFill>
          <a:blip r:embed="rId7"/>
          <a:stretch/>
        </p:blipFill>
        <p:spPr>
          <a:xfrm>
            <a:off x="5667480" y="4952880"/>
            <a:ext cx="3476520" cy="1143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5f6d"/>
                </a:solidFill>
                <a:latin typeface="Century Schoolbook"/>
              </a:rPr>
              <a:t>ЛИНЕЙНЫЕ АЛГОРИТМЫ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Виды алгоритмических структур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ЛИНЕЙНЫЙ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 АЛГОРИТМ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560" y="16002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алгоритм,  все этап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которого выполняют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однократно, в строго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последовательно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85" name="Group 44"/>
          <p:cNvGrpSpPr/>
          <p:nvPr/>
        </p:nvGrpSpPr>
        <p:grpSpPr>
          <a:xfrm>
            <a:off x="4572000" y="228600"/>
            <a:ext cx="3806640" cy="6400080"/>
            <a:chOff x="4572000" y="228600"/>
            <a:chExt cx="3806640" cy="6400080"/>
          </a:xfrm>
        </p:grpSpPr>
        <p:grpSp>
          <p:nvGrpSpPr>
            <p:cNvPr id="386" name="Group 39"/>
            <p:cNvGrpSpPr/>
            <p:nvPr/>
          </p:nvGrpSpPr>
          <p:grpSpPr>
            <a:xfrm>
              <a:off x="4594680" y="1067760"/>
              <a:ext cx="3122640" cy="758880"/>
              <a:chOff x="4594680" y="1067760"/>
              <a:chExt cx="3122640" cy="758880"/>
            </a:xfrm>
          </p:grpSpPr>
          <p:sp>
            <p:nvSpPr>
              <p:cNvPr id="387" name="AutoShape 12"/>
              <p:cNvSpPr/>
              <p:nvPr/>
            </p:nvSpPr>
            <p:spPr>
              <a:xfrm>
                <a:off x="4594680" y="1067760"/>
                <a:ext cx="3122640" cy="758880"/>
              </a:xfrm>
              <a:prstGeom prst="flowChartInputOutpu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13"/>
              <p:cNvSpPr/>
              <p:nvPr/>
            </p:nvSpPr>
            <p:spPr>
              <a:xfrm>
                <a:off x="4982040" y="1163520"/>
                <a:ext cx="2190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ввод исходных данны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8"/>
            <p:cNvGrpSpPr/>
            <p:nvPr/>
          </p:nvGrpSpPr>
          <p:grpSpPr>
            <a:xfrm>
              <a:off x="4596120" y="228600"/>
              <a:ext cx="3118320" cy="586800"/>
              <a:chOff x="4596120" y="228600"/>
              <a:chExt cx="3118320" cy="586800"/>
            </a:xfrm>
          </p:grpSpPr>
          <p:sp>
            <p:nvSpPr>
              <p:cNvPr id="390" name="AutoShape 9"/>
              <p:cNvSpPr/>
              <p:nvPr/>
            </p:nvSpPr>
            <p:spPr>
              <a:xfrm>
                <a:off x="4596120" y="228600"/>
                <a:ext cx="3118320" cy="586800"/>
              </a:xfrm>
              <a:prstGeom prst="flowChartTermina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10"/>
              <p:cNvSpPr/>
              <p:nvPr/>
            </p:nvSpPr>
            <p:spPr>
              <a:xfrm>
                <a:off x="4942080" y="228600"/>
                <a:ext cx="2311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начал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14"/>
            <p:cNvGrpSpPr/>
            <p:nvPr/>
          </p:nvGrpSpPr>
          <p:grpSpPr>
            <a:xfrm>
              <a:off x="4590000" y="5161680"/>
              <a:ext cx="3136680" cy="600120"/>
              <a:chOff x="4590000" y="5161680"/>
              <a:chExt cx="3136680" cy="600120"/>
            </a:xfrm>
          </p:grpSpPr>
          <p:sp>
            <p:nvSpPr>
              <p:cNvPr id="393" name="AutoShape 15"/>
              <p:cNvSpPr/>
              <p:nvPr/>
            </p:nvSpPr>
            <p:spPr>
              <a:xfrm>
                <a:off x="4590000" y="5161680"/>
                <a:ext cx="3136680" cy="600120"/>
              </a:xfrm>
              <a:prstGeom prst="flowChartInputOutpu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16"/>
              <p:cNvSpPr/>
              <p:nvPr/>
            </p:nvSpPr>
            <p:spPr>
              <a:xfrm>
                <a:off x="5056560" y="5194440"/>
                <a:ext cx="243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вывод результа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17"/>
            <p:cNvGrpSpPr/>
            <p:nvPr/>
          </p:nvGrpSpPr>
          <p:grpSpPr>
            <a:xfrm>
              <a:off x="4587840" y="6064920"/>
              <a:ext cx="3135240" cy="563760"/>
              <a:chOff x="4587840" y="6064920"/>
              <a:chExt cx="3135240" cy="563760"/>
            </a:xfrm>
          </p:grpSpPr>
          <p:sp>
            <p:nvSpPr>
              <p:cNvPr id="396" name="AutoShape 18"/>
              <p:cNvSpPr/>
              <p:nvPr/>
            </p:nvSpPr>
            <p:spPr>
              <a:xfrm>
                <a:off x="4587840" y="6064920"/>
                <a:ext cx="3135240" cy="563760"/>
              </a:xfrm>
              <a:prstGeom prst="flowChartTermina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19"/>
              <p:cNvSpPr/>
              <p:nvPr/>
            </p:nvSpPr>
            <p:spPr>
              <a:xfrm>
                <a:off x="5284800" y="6064920"/>
                <a:ext cx="174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конец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AutoShape 23"/>
            <p:cNvSpPr/>
            <p:nvPr/>
          </p:nvSpPr>
          <p:spPr>
            <a:xfrm>
              <a:off x="4572000" y="4114080"/>
              <a:ext cx="3146760" cy="74844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ейст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5"/>
            <p:cNvSpPr/>
            <p:nvPr/>
          </p:nvSpPr>
          <p:spPr>
            <a:xfrm>
              <a:off x="6231600" y="8042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6"/>
            <p:cNvSpPr/>
            <p:nvPr/>
          </p:nvSpPr>
          <p:spPr>
            <a:xfrm>
              <a:off x="6226200" y="1824120"/>
              <a:ext cx="0" cy="2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27"/>
            <p:cNvSpPr/>
            <p:nvPr/>
          </p:nvSpPr>
          <p:spPr>
            <a:xfrm>
              <a:off x="6233760" y="4857840"/>
              <a:ext cx="0" cy="2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28"/>
            <p:cNvSpPr/>
            <p:nvPr/>
          </p:nvSpPr>
          <p:spPr>
            <a:xfrm>
              <a:off x="6235200" y="383472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29"/>
            <p:cNvSpPr/>
            <p:nvPr/>
          </p:nvSpPr>
          <p:spPr>
            <a:xfrm>
              <a:off x="6233760" y="5762520"/>
              <a:ext cx="0" cy="2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31"/>
            <p:cNvSpPr/>
            <p:nvPr/>
          </p:nvSpPr>
          <p:spPr>
            <a:xfrm>
              <a:off x="4579920" y="2131560"/>
              <a:ext cx="3137760" cy="74844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ейств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1"/>
            <p:cNvSpPr/>
            <p:nvPr/>
          </p:nvSpPr>
          <p:spPr>
            <a:xfrm>
              <a:off x="5438520" y="2791800"/>
              <a:ext cx="1524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2"/>
            <p:cNvSpPr/>
            <p:nvPr/>
          </p:nvSpPr>
          <p:spPr>
            <a:xfrm>
              <a:off x="7756920" y="1845360"/>
              <a:ext cx="189720" cy="3215880"/>
            </a:xfrm>
            <a:custGeom>
              <a:avLst/>
              <a:gdLst>
                <a:gd name="textAreaLeft" fmla="*/ 0 w 189720"/>
                <a:gd name="textAreaRight" fmla="*/ 68400 w 189720"/>
                <a:gd name="textAreaTop" fmla="*/ 83520 h 3215880"/>
                <a:gd name="textAreaBottom" fmla="*/ 3132360 h 321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3"/>
            <p:cNvSpPr/>
            <p:nvPr/>
          </p:nvSpPr>
          <p:spPr>
            <a:xfrm>
              <a:off x="7977240" y="1864800"/>
              <a:ext cx="401400" cy="331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12920" y="260640"/>
            <a:ext cx="3593520" cy="59472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Пример 1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375440" y="260640"/>
            <a:ext cx="3593520" cy="5947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Пример 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10" name="Group 38"/>
          <p:cNvGrpSpPr/>
          <p:nvPr/>
        </p:nvGrpSpPr>
        <p:grpSpPr>
          <a:xfrm>
            <a:off x="4351320" y="914400"/>
            <a:ext cx="4332240" cy="5713920"/>
            <a:chOff x="4351320" y="914400"/>
            <a:chExt cx="4332240" cy="5713920"/>
          </a:xfrm>
        </p:grpSpPr>
        <p:grpSp>
          <p:nvGrpSpPr>
            <p:cNvPr id="411" name="Group 37"/>
            <p:cNvGrpSpPr/>
            <p:nvPr/>
          </p:nvGrpSpPr>
          <p:grpSpPr>
            <a:xfrm>
              <a:off x="4351320" y="914400"/>
              <a:ext cx="4332240" cy="5713920"/>
              <a:chOff x="4351320" y="914400"/>
              <a:chExt cx="4332240" cy="5713920"/>
            </a:xfrm>
          </p:grpSpPr>
          <p:grpSp>
            <p:nvGrpSpPr>
              <p:cNvPr id="412" name="Group 36"/>
              <p:cNvGrpSpPr/>
              <p:nvPr/>
            </p:nvGrpSpPr>
            <p:grpSpPr>
              <a:xfrm>
                <a:off x="4351320" y="914400"/>
                <a:ext cx="4332240" cy="5713920"/>
                <a:chOff x="4351320" y="914400"/>
                <a:chExt cx="4332240" cy="5713920"/>
              </a:xfrm>
            </p:grpSpPr>
            <p:sp>
              <p:nvSpPr>
                <p:cNvPr id="413" name="Rectangle 5"/>
                <p:cNvSpPr/>
                <p:nvPr/>
              </p:nvSpPr>
              <p:spPr>
                <a:xfrm>
                  <a:off x="4351320" y="914400"/>
                  <a:ext cx="4332240" cy="57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4" name="Group 7"/>
                <p:cNvGrpSpPr/>
                <p:nvPr/>
              </p:nvGrpSpPr>
              <p:grpSpPr>
                <a:xfrm>
                  <a:off x="4787640" y="1127160"/>
                  <a:ext cx="3423600" cy="409320"/>
                  <a:chOff x="4787640" y="1127160"/>
                  <a:chExt cx="3423600" cy="409320"/>
                </a:xfrm>
              </p:grpSpPr>
              <p:sp>
                <p:nvSpPr>
                  <p:cNvPr id="415" name="AutoShape 8"/>
                  <p:cNvSpPr/>
                  <p:nvPr/>
                </p:nvSpPr>
                <p:spPr>
                  <a:xfrm>
                    <a:off x="4787640" y="1127160"/>
                    <a:ext cx="3423600" cy="4093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Text Box 9"/>
                  <p:cNvSpPr/>
                  <p:nvPr/>
                </p:nvSpPr>
                <p:spPr>
                  <a:xfrm>
                    <a:off x="5167440" y="1127160"/>
                    <a:ext cx="25372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Century Schoolbook"/>
                      </a:rPr>
                      <a:t>начало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Group 10"/>
                <p:cNvGrpSpPr/>
                <p:nvPr/>
              </p:nvGrpSpPr>
              <p:grpSpPr>
                <a:xfrm>
                  <a:off x="4786200" y="1849320"/>
                  <a:ext cx="3402720" cy="532440"/>
                  <a:chOff x="4786200" y="1849320"/>
                  <a:chExt cx="3402720" cy="532440"/>
                </a:xfrm>
              </p:grpSpPr>
              <p:sp>
                <p:nvSpPr>
                  <p:cNvPr id="418" name="AutoShape 11"/>
                  <p:cNvSpPr/>
                  <p:nvPr/>
                </p:nvSpPr>
                <p:spPr>
                  <a:xfrm>
                    <a:off x="4786200" y="1849320"/>
                    <a:ext cx="3402720" cy="532440"/>
                  </a:xfrm>
                  <a:prstGeom prst="flowChartInputOutput">
                    <a:avLst/>
                  </a:prstGeom>
                  <a:solidFill>
                    <a:srgbClr val="ffffff"/>
                  </a:solidFill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Text Box 12"/>
                  <p:cNvSpPr/>
                  <p:nvPr/>
                </p:nvSpPr>
                <p:spPr>
                  <a:xfrm>
                    <a:off x="5178600" y="1867680"/>
                    <a:ext cx="2387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Century Schoolbook"/>
                      </a:rPr>
                      <a:t>ввод: 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entury Schoolbook"/>
                      </a:rPr>
                      <a:t>A, B, 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Group 13"/>
                <p:cNvGrpSpPr/>
                <p:nvPr/>
              </p:nvGrpSpPr>
              <p:grpSpPr>
                <a:xfrm>
                  <a:off x="4824000" y="4976280"/>
                  <a:ext cx="3372840" cy="510480"/>
                  <a:chOff x="4824000" y="4976280"/>
                  <a:chExt cx="3372840" cy="510480"/>
                </a:xfrm>
              </p:grpSpPr>
              <p:sp>
                <p:nvSpPr>
                  <p:cNvPr id="421" name="AutoShape 14"/>
                  <p:cNvSpPr/>
                  <p:nvPr/>
                </p:nvSpPr>
                <p:spPr>
                  <a:xfrm>
                    <a:off x="4824000" y="4976280"/>
                    <a:ext cx="3372840" cy="510480"/>
                  </a:xfrm>
                  <a:prstGeom prst="flowChartInputOutput">
                    <a:avLst/>
                  </a:prstGeom>
                  <a:solidFill>
                    <a:srgbClr val="ffffff"/>
                  </a:solidFill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Text Box 15"/>
                  <p:cNvSpPr/>
                  <p:nvPr/>
                </p:nvSpPr>
                <p:spPr>
                  <a:xfrm>
                    <a:off x="5325480" y="5004360"/>
                    <a:ext cx="26229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Century Schoolbook"/>
                      </a:rPr>
                      <a:t>вывод: 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entury Schoolbook"/>
                      </a:rPr>
                      <a:t>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Group 16"/>
                <p:cNvGrpSpPr/>
                <p:nvPr/>
              </p:nvGrpSpPr>
              <p:grpSpPr>
                <a:xfrm>
                  <a:off x="4768560" y="5835960"/>
                  <a:ext cx="3425040" cy="409320"/>
                  <a:chOff x="4768560" y="5835960"/>
                  <a:chExt cx="3425040" cy="409320"/>
                </a:xfrm>
              </p:grpSpPr>
              <p:sp>
                <p:nvSpPr>
                  <p:cNvPr id="424" name="AutoShape 17"/>
                  <p:cNvSpPr/>
                  <p:nvPr/>
                </p:nvSpPr>
                <p:spPr>
                  <a:xfrm>
                    <a:off x="4768560" y="5835960"/>
                    <a:ext cx="3425040" cy="4093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Text Box 18"/>
                  <p:cNvSpPr/>
                  <p:nvPr/>
                </p:nvSpPr>
                <p:spPr>
                  <a:xfrm>
                    <a:off x="5529960" y="5835960"/>
                    <a:ext cx="1899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Century Schoolbook"/>
                      </a:rPr>
                      <a:t>конец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32"/>
                <p:cNvGrpSpPr/>
                <p:nvPr/>
              </p:nvGrpSpPr>
              <p:grpSpPr>
                <a:xfrm>
                  <a:off x="4771800" y="2728800"/>
                  <a:ext cx="3425040" cy="783000"/>
                  <a:chOff x="4771800" y="2728800"/>
                  <a:chExt cx="3425040" cy="783000"/>
                </a:xfrm>
              </p:grpSpPr>
              <p:sp>
                <p:nvSpPr>
                  <p:cNvPr id="427" name="Rectangle 23"/>
                  <p:cNvSpPr/>
                  <p:nvPr/>
                </p:nvSpPr>
                <p:spPr>
                  <a:xfrm>
                    <a:off x="4771800" y="2728800"/>
                    <a:ext cx="3425040" cy="783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Century Schoolbook"/>
                      </a:rPr>
                      <a:t>          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Century Schoolbook"/>
                      </a:rPr>
                      <a:t>P</a:t>
                    </a:r>
                    <a:r>
                      <a:rPr b="1" lang="ru-RU" sz="2400" spc="-1" strike="noStrike">
                        <a:solidFill>
                          <a:srgbClr val="000000"/>
                        </a:solidFill>
                        <a:latin typeface="Century Schoolbook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Century Schoolbook"/>
                      </a:rPr>
                      <a:t>=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428" name="Object 2"/>
                      <p:cNvSpPr txBox="1"/>
                      <p:nvPr/>
                    </p:nvSpPr>
                    <p:spPr>
                      <a:xfrm>
                        <a:off x="6433920" y="2840400"/>
                        <a:ext cx="1033920" cy="6354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sp>
              <p:nvSpPr>
                <p:cNvPr id="429" name="AutoShape 34"/>
                <p:cNvSpPr/>
                <p:nvPr/>
              </p:nvSpPr>
              <p:spPr>
                <a:xfrm>
                  <a:off x="4773240" y="3833640"/>
                  <a:ext cx="3428640" cy="830160"/>
                </a:xfrm>
                <a:prstGeom prst="flowChartProcess">
                  <a:avLst/>
                </a:prstGeom>
                <a:solidFill>
                  <a:srgbClr val="ffffff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S=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430" name="Object 3"/>
                  <p:cNvSpPr txBox="1"/>
                  <p:nvPr/>
                </p:nvSpPr>
                <p:spPr>
                  <a:xfrm>
                    <a:off x="5263920" y="4003560"/>
                    <a:ext cx="2918880" cy="404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31" name="Line 19"/>
            <p:cNvSpPr/>
            <p:nvPr/>
          </p:nvSpPr>
          <p:spPr>
            <a:xfrm>
              <a:off x="6515280" y="155700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0"/>
            <p:cNvSpPr/>
            <p:nvPr/>
          </p:nvSpPr>
          <p:spPr>
            <a:xfrm>
              <a:off x="6513480" y="2396880"/>
              <a:ext cx="0" cy="3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21"/>
            <p:cNvSpPr/>
            <p:nvPr/>
          </p:nvSpPr>
          <p:spPr>
            <a:xfrm>
              <a:off x="6519960" y="465912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5"/>
            <p:cNvSpPr/>
            <p:nvPr/>
          </p:nvSpPr>
          <p:spPr>
            <a:xfrm>
              <a:off x="6523200" y="352332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22"/>
            <p:cNvSpPr/>
            <p:nvPr/>
          </p:nvSpPr>
          <p:spPr>
            <a:xfrm>
              <a:off x="6510240" y="550080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Группа 63"/>
          <p:cNvGrpSpPr/>
          <p:nvPr/>
        </p:nvGrpSpPr>
        <p:grpSpPr>
          <a:xfrm>
            <a:off x="0" y="1143000"/>
            <a:ext cx="4114080" cy="5714640"/>
            <a:chOff x="0" y="1143000"/>
            <a:chExt cx="4114080" cy="5714640"/>
          </a:xfrm>
        </p:grpSpPr>
        <p:grpSp>
          <p:nvGrpSpPr>
            <p:cNvPr id="437" name="Group 36"/>
            <p:cNvGrpSpPr/>
            <p:nvPr/>
          </p:nvGrpSpPr>
          <p:grpSpPr>
            <a:xfrm>
              <a:off x="0" y="1143000"/>
              <a:ext cx="4114080" cy="5714640"/>
              <a:chOff x="0" y="1143000"/>
              <a:chExt cx="4114080" cy="5714640"/>
            </a:xfrm>
          </p:grpSpPr>
          <p:sp>
            <p:nvSpPr>
              <p:cNvPr id="438" name="Rectangle 5"/>
              <p:cNvSpPr/>
              <p:nvPr/>
            </p:nvSpPr>
            <p:spPr>
              <a:xfrm>
                <a:off x="0" y="1143000"/>
                <a:ext cx="3991320" cy="571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9" name="Group 7"/>
              <p:cNvGrpSpPr/>
              <p:nvPr/>
            </p:nvGrpSpPr>
            <p:grpSpPr>
              <a:xfrm>
                <a:off x="792720" y="1205640"/>
                <a:ext cx="3321360" cy="420480"/>
                <a:chOff x="792720" y="1205640"/>
                <a:chExt cx="3321360" cy="420480"/>
              </a:xfrm>
            </p:grpSpPr>
            <p:sp>
              <p:nvSpPr>
                <p:cNvPr id="440" name="AutoShape 8"/>
                <p:cNvSpPr/>
                <p:nvPr/>
              </p:nvSpPr>
              <p:spPr>
                <a:xfrm>
                  <a:off x="792720" y="1205640"/>
                  <a:ext cx="3321360" cy="420480"/>
                </a:xfrm>
                <a:prstGeom prst="flowChartTerminator">
                  <a:avLst/>
                </a:prstGeom>
                <a:solidFill>
                  <a:srgbClr val="ffffff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Text Box 9"/>
                <p:cNvSpPr/>
                <p:nvPr/>
              </p:nvSpPr>
              <p:spPr>
                <a:xfrm>
                  <a:off x="1161360" y="1205640"/>
                  <a:ext cx="2461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entury Schoolbook"/>
                    </a:rPr>
                    <a:t>начало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Text Box 12"/>
              <p:cNvSpPr/>
              <p:nvPr/>
            </p:nvSpPr>
            <p:spPr>
              <a:xfrm>
                <a:off x="1171800" y="1968120"/>
                <a:ext cx="23158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3" name="Group 16"/>
              <p:cNvGrpSpPr/>
              <p:nvPr/>
            </p:nvGrpSpPr>
            <p:grpSpPr>
              <a:xfrm>
                <a:off x="686880" y="4418280"/>
                <a:ext cx="3322440" cy="420480"/>
                <a:chOff x="686880" y="4418280"/>
                <a:chExt cx="3322440" cy="420480"/>
              </a:xfrm>
            </p:grpSpPr>
            <p:sp>
              <p:nvSpPr>
                <p:cNvPr id="444" name="AutoShape 17"/>
                <p:cNvSpPr/>
                <p:nvPr/>
              </p:nvSpPr>
              <p:spPr>
                <a:xfrm>
                  <a:off x="686880" y="4418280"/>
                  <a:ext cx="3322440" cy="420480"/>
                </a:xfrm>
                <a:prstGeom prst="flowChartTerminator">
                  <a:avLst/>
                </a:prstGeom>
                <a:solidFill>
                  <a:srgbClr val="ffffff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Text Box 18"/>
                <p:cNvSpPr/>
                <p:nvPr/>
              </p:nvSpPr>
              <p:spPr>
                <a:xfrm>
                  <a:off x="1370520" y="4418280"/>
                  <a:ext cx="184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entury Schoolbook"/>
                    </a:rPr>
                    <a:t>конец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Rectangle 23"/>
              <p:cNvSpPr/>
              <p:nvPr/>
            </p:nvSpPr>
            <p:spPr>
              <a:xfrm>
                <a:off x="739080" y="2005200"/>
                <a:ext cx="3322800" cy="80496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Schoolbook"/>
                  </a:rPr>
                  <a:t>      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Century Schoolbook"/>
                    <a:ea typeface="Arial"/>
                  </a:rPr>
                  <a:t>Пойду на речк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34"/>
              <p:cNvSpPr/>
              <p:nvPr/>
            </p:nvSpPr>
            <p:spPr>
              <a:xfrm>
                <a:off x="664920" y="3179160"/>
                <a:ext cx="3326040" cy="853200"/>
              </a:xfrm>
              <a:prstGeom prst="flowChartProcess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Century Schoolbook"/>
                  </a:rPr>
                  <a:t>Буду загорат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Line 19"/>
            <p:cNvSpPr/>
            <p:nvPr/>
          </p:nvSpPr>
          <p:spPr>
            <a:xfrm>
              <a:off x="2468520" y="1647360"/>
              <a:ext cx="0" cy="30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21"/>
            <p:cNvSpPr/>
            <p:nvPr/>
          </p:nvSpPr>
          <p:spPr>
            <a:xfrm>
              <a:off x="2439360" y="4040280"/>
              <a:ext cx="0" cy="33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25"/>
            <p:cNvSpPr/>
            <p:nvPr/>
          </p:nvSpPr>
          <p:spPr>
            <a:xfrm>
              <a:off x="2439360" y="2788200"/>
              <a:ext cx="0" cy="33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5f6d"/>
                </a:solidFill>
                <a:latin typeface="Century Schoolbook"/>
              </a:rPr>
              <a:t>РЕШЕНИЕ ЗАДАЧ</a:t>
            </a:r>
            <a:br>
              <a:rPr sz="4800"/>
            </a:b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3962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№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1</a:t>
            </a:r>
            <a:br>
              <a:rPr sz="2400"/>
            </a:br>
            <a:r>
              <a:rPr b="1" lang="ru-RU" sz="2400" spc="-1" strike="noStrike">
                <a:solidFill>
                  <a:srgbClr val="3668c4"/>
                </a:solidFill>
                <a:latin typeface="Century Schoolbook"/>
              </a:rPr>
              <a:t>И</a:t>
            </a:r>
            <a:r>
              <a:rPr b="1" lang="ru-RU" sz="2000" spc="-1" strike="noStrike">
                <a:solidFill>
                  <a:srgbClr val="3668c4"/>
                </a:solidFill>
                <a:latin typeface="Century Schoolbook"/>
              </a:rPr>
              <a:t>СПОЛЬЗУЯ БЛОК-СХЕМУ АЛГОРИТМА 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ЫЧИСЛИТЕ ЗНАЧЕНИЕ ФУНКЦИИ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Y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ПРИ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X=2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80000"/>
              </a:lnSpc>
              <a:spcBef>
                <a:spcPts val="1375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чало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X = 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Z = 8 * 2 = 16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Z =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√16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= 4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Z = 4 – 1 = 3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Y = 3 * 2 = 6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Y = 6 / 3 = 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конец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55" name="Group 47"/>
          <p:cNvGrpSpPr/>
          <p:nvPr/>
        </p:nvGrpSpPr>
        <p:grpSpPr>
          <a:xfrm>
            <a:off x="4433760" y="100080"/>
            <a:ext cx="4529160" cy="6710400"/>
            <a:chOff x="4433760" y="100080"/>
            <a:chExt cx="4529160" cy="6710400"/>
          </a:xfrm>
        </p:grpSpPr>
        <p:sp>
          <p:nvSpPr>
            <p:cNvPr id="456" name="Rectangle 5"/>
            <p:cNvSpPr/>
            <p:nvPr/>
          </p:nvSpPr>
          <p:spPr>
            <a:xfrm>
              <a:off x="4433760" y="100080"/>
              <a:ext cx="4529160" cy="67104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7"/>
            <p:cNvGrpSpPr/>
            <p:nvPr/>
          </p:nvGrpSpPr>
          <p:grpSpPr>
            <a:xfrm>
              <a:off x="4933800" y="452520"/>
              <a:ext cx="3578040" cy="398880"/>
              <a:chOff x="4933800" y="452520"/>
              <a:chExt cx="3578040" cy="398880"/>
            </a:xfrm>
          </p:grpSpPr>
          <p:sp>
            <p:nvSpPr>
              <p:cNvPr id="458" name="AutoShape 8"/>
              <p:cNvSpPr/>
              <p:nvPr/>
            </p:nvSpPr>
            <p:spPr>
              <a:xfrm>
                <a:off x="4933800" y="452520"/>
                <a:ext cx="3578040" cy="360360"/>
              </a:xfrm>
              <a:prstGeom prst="flowChartTermina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9"/>
              <p:cNvSpPr/>
              <p:nvPr/>
            </p:nvSpPr>
            <p:spPr>
              <a:xfrm>
                <a:off x="5330880" y="452520"/>
                <a:ext cx="265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начал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10"/>
            <p:cNvGrpSpPr/>
            <p:nvPr/>
          </p:nvGrpSpPr>
          <p:grpSpPr>
            <a:xfrm>
              <a:off x="4930560" y="1030320"/>
              <a:ext cx="3557160" cy="468360"/>
              <a:chOff x="4930560" y="1030320"/>
              <a:chExt cx="3557160" cy="468360"/>
            </a:xfrm>
          </p:grpSpPr>
          <p:sp>
            <p:nvSpPr>
              <p:cNvPr id="461" name="AutoShape 11"/>
              <p:cNvSpPr/>
              <p:nvPr/>
            </p:nvSpPr>
            <p:spPr>
              <a:xfrm>
                <a:off x="4930560" y="1030320"/>
                <a:ext cx="3557160" cy="468360"/>
              </a:xfrm>
              <a:prstGeom prst="flowChartInputOutpu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 Box 12"/>
              <p:cNvSpPr/>
              <p:nvPr/>
            </p:nvSpPr>
            <p:spPr>
              <a:xfrm>
                <a:off x="5340600" y="1047600"/>
                <a:ext cx="2495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вод: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3"/>
            <p:cNvGrpSpPr/>
            <p:nvPr/>
          </p:nvGrpSpPr>
          <p:grpSpPr>
            <a:xfrm>
              <a:off x="4835520" y="5510160"/>
              <a:ext cx="3525480" cy="448920"/>
              <a:chOff x="4835520" y="5510160"/>
              <a:chExt cx="3525480" cy="448920"/>
            </a:xfrm>
          </p:grpSpPr>
          <p:sp>
            <p:nvSpPr>
              <p:cNvPr id="464" name="AutoShape 14"/>
              <p:cNvSpPr/>
              <p:nvPr/>
            </p:nvSpPr>
            <p:spPr>
              <a:xfrm>
                <a:off x="4835520" y="5510160"/>
                <a:ext cx="3525480" cy="448920"/>
              </a:xfrm>
              <a:prstGeom prst="flowChartInputOutpu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15"/>
              <p:cNvSpPr/>
              <p:nvPr/>
            </p:nvSpPr>
            <p:spPr>
              <a:xfrm>
                <a:off x="5359680" y="5534640"/>
                <a:ext cx="274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ывод: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16"/>
            <p:cNvGrpSpPr/>
            <p:nvPr/>
          </p:nvGrpSpPr>
          <p:grpSpPr>
            <a:xfrm>
              <a:off x="4863960" y="6156360"/>
              <a:ext cx="3579480" cy="398880"/>
              <a:chOff x="4863960" y="6156360"/>
              <a:chExt cx="3579480" cy="398880"/>
            </a:xfrm>
          </p:grpSpPr>
          <p:sp>
            <p:nvSpPr>
              <p:cNvPr id="467" name="AutoShape 17"/>
              <p:cNvSpPr/>
              <p:nvPr/>
            </p:nvSpPr>
            <p:spPr>
              <a:xfrm>
                <a:off x="4863960" y="6156360"/>
                <a:ext cx="3579480" cy="360360"/>
              </a:xfrm>
              <a:prstGeom prst="flowChartTermina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8"/>
              <p:cNvSpPr/>
              <p:nvPr/>
            </p:nvSpPr>
            <p:spPr>
              <a:xfrm>
                <a:off x="5659560" y="6156360"/>
                <a:ext cx="198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коне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Rectangle 19"/>
            <p:cNvSpPr/>
            <p:nvPr/>
          </p:nvSpPr>
          <p:spPr>
            <a:xfrm>
              <a:off x="4894200" y="1693800"/>
              <a:ext cx="3583080" cy="571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Z = 8 *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21"/>
            <p:cNvSpPr/>
            <p:nvPr/>
          </p:nvSpPr>
          <p:spPr>
            <a:xfrm flipH="1">
              <a:off x="6703920" y="819360"/>
              <a:ext cx="14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26"/>
            <p:cNvSpPr/>
            <p:nvPr/>
          </p:nvSpPr>
          <p:spPr>
            <a:xfrm>
              <a:off x="4905360" y="3247920"/>
              <a:ext cx="3582720" cy="53352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Z = Z -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29"/>
            <p:cNvSpPr/>
            <p:nvPr/>
          </p:nvSpPr>
          <p:spPr>
            <a:xfrm>
              <a:off x="4890960" y="4014720"/>
              <a:ext cx="3583080" cy="53496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 = 3 *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37"/>
            <p:cNvGrpSpPr/>
            <p:nvPr/>
          </p:nvGrpSpPr>
          <p:grpSpPr>
            <a:xfrm>
              <a:off x="4917960" y="2489400"/>
              <a:ext cx="3583080" cy="554040"/>
              <a:chOff x="4917960" y="2489400"/>
              <a:chExt cx="3583080" cy="554040"/>
            </a:xfrm>
          </p:grpSpPr>
          <p:sp>
            <p:nvSpPr>
              <p:cNvPr id="474" name="AutoShape 20"/>
              <p:cNvSpPr/>
              <p:nvPr/>
            </p:nvSpPr>
            <p:spPr>
              <a:xfrm>
                <a:off x="4917960" y="2489400"/>
                <a:ext cx="3583080" cy="554040"/>
              </a:xfrm>
              <a:prstGeom prst="flowChartProcess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Z =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75" name="Object 2"/>
                  <p:cNvSpPr txBox="1"/>
                  <p:nvPr/>
                </p:nvSpPr>
                <p:spPr>
                  <a:xfrm>
                    <a:off x="6924600" y="2546640"/>
                    <a:ext cx="509400" cy="412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Z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76" name="AutoShape 38"/>
            <p:cNvSpPr/>
            <p:nvPr/>
          </p:nvSpPr>
          <p:spPr>
            <a:xfrm>
              <a:off x="4881600" y="4773600"/>
              <a:ext cx="3582720" cy="53496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 = Y / 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9"/>
            <p:cNvSpPr/>
            <p:nvPr/>
          </p:nvSpPr>
          <p:spPr>
            <a:xfrm flipH="1">
              <a:off x="6693840" y="1508040"/>
              <a:ext cx="1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40"/>
            <p:cNvSpPr/>
            <p:nvPr/>
          </p:nvSpPr>
          <p:spPr>
            <a:xfrm flipH="1">
              <a:off x="6684840" y="2274840"/>
              <a:ext cx="14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41"/>
            <p:cNvSpPr/>
            <p:nvPr/>
          </p:nvSpPr>
          <p:spPr>
            <a:xfrm flipH="1">
              <a:off x="6684840" y="3032280"/>
              <a:ext cx="14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42"/>
            <p:cNvSpPr/>
            <p:nvPr/>
          </p:nvSpPr>
          <p:spPr>
            <a:xfrm flipH="1">
              <a:off x="6684840" y="3789360"/>
              <a:ext cx="14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43"/>
            <p:cNvSpPr/>
            <p:nvPr/>
          </p:nvSpPr>
          <p:spPr>
            <a:xfrm flipH="1">
              <a:off x="6684840" y="4556160"/>
              <a:ext cx="14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44"/>
            <p:cNvSpPr/>
            <p:nvPr/>
          </p:nvSpPr>
          <p:spPr>
            <a:xfrm flipH="1">
              <a:off x="6693840" y="5305320"/>
              <a:ext cx="1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45"/>
            <p:cNvSpPr/>
            <p:nvPr/>
          </p:nvSpPr>
          <p:spPr>
            <a:xfrm flipH="1">
              <a:off x="6684840" y="5954760"/>
              <a:ext cx="14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орелова А.В.</dc:creator>
  <dc:description/>
  <dc:language>en-US</dc:language>
  <cp:lastModifiedBy>Информатика</cp:lastModifiedBy>
  <dcterms:modified xsi:type="dcterms:W3CDTF">2014-01-30T05:20:4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