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C14C-9B89-4101-8CC8-B48C69B4DF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014C-2FA6-4C4D-9FA8-4EFE0A5F0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E7B2-EA56-4269-9414-784AC2D93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D38-FD35-4B2B-995C-6C9161D5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81D-476E-422B-B3F3-6696D15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57B-BDF7-4B24-B2F7-06620F90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337-BA4E-4E96-BCD2-16EDA129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6972-65B7-4005-B1E7-E31D7134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5C35-200F-422B-938F-6E47BDF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EAC2-E00F-4FF6-9081-D685C60B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47A-09E0-4E17-9E60-75B3D57A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A0E1-B4CF-4DCE-A325-74EA6AE8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044B-8A15-492A-9B2A-9E468DE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0B39-09C7-4601-BC7C-2F1957A8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0C7-D551-4131-BDB9-07793C83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A22A-FDEA-4477-8D3D-88A7D51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7F0D-32AC-4D52-94EC-982BCB66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7510-26F2-4CFA-8F0F-24A6D710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5891-CB88-4C35-80A1-3CB11237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1518-2676-4DF3-BD21-C2893F83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E5245-1C78-4946-924F-F69AD7C2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BFBD7-7E3B-475F-A61D-D5C69D07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60053-182E-427F-837F-2F9CCC27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04E93-EB57-4C23-A008-16CE8045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C6D45-E525-44DC-8522-D0DA08DD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81D-3A53-4320-A1E7-521D88A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13428-9A89-44A0-957E-A649B111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6DA6B-550E-4C77-A319-FB5F75C4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2A111-A6E8-4816-9BC6-5F74930A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6AF80-2107-44B2-86A3-49FDF61C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5057B-2B66-451B-A054-45FF1F22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184A0-1EC2-44C3-8ABC-ABE20D3D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2D3FE-B9A2-42E4-B4D8-48279696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B555-9AF5-4238-9D25-169FC5C7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76971-F51E-4364-BF40-58821A2C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9EB3-90A3-4117-B1B3-6F7865B5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FAF-F346-4E66-A72C-FE3E2A1C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3BAE-A877-4C43-93E7-1E3E5617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E20C7-FD32-4424-8A25-4F4BCDA8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779D-5B49-4E77-8D05-652D65BA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50EDE-1042-4AAA-BB7A-A379E67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94EB-A029-4931-A0BE-E72E0383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F57A-3B92-4C9A-B289-5F38BE8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8A95-2E11-4075-A655-B65C7694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A642-30A5-45E6-AAC2-3A271EAE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7A5F-CE7E-4162-A1CE-D81A3B47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44073-54BE-47CD-8FD6-FC22720D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284-9D26-4910-813D-369229F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68759-9B28-4BB3-B27A-6C113240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84E32-E75E-467E-AC1A-7298670F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F60E8-8B7D-457C-B0BF-30956961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19619-3514-4F40-8EBE-894744C4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96A22-ABB7-4B90-BC1B-54F0C579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B36DE-D413-4EBA-BD5A-AEDD4F6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FAB12-1316-419E-830A-8CB31FF7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4D08C-CAEC-42F9-8227-00481C4B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1BAB1-B133-47BB-9E50-964A76C2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0CC5A-EB75-4546-9897-BC0C61AF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C2D-602F-4095-89C6-A3AF854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18E8C-799C-45A5-802E-AB4943DF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E6157A-6B72-4942-B8AB-756E30A0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4FBE3-12E7-499E-8032-BBDA7FEE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6A219-E87F-4B47-9425-E254A81A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41920-5C51-45A0-94EC-5A8C81A1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C14D7-698C-4D89-84BC-EE8388A8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0E534-10E4-49AB-8588-943E824E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A5128-633C-49AB-BD6C-7CA8EA23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358C9-AC5A-4821-B510-65FF1985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37517-AB2E-4B43-9BFE-8DFB6C48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34B-95EA-422F-AE38-BA57BDDF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8A2B0-BDDD-49A6-ABD4-4D552931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D0A4B-7131-4492-8133-5CFF0451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712684-7B56-4309-9F15-211E62A8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3F57B-C6DC-43FD-8621-48A7C20C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AAC8E-9216-49A1-ACCC-A9B9A88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EBA58-4553-4F81-BE76-51A9F685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39327-D732-43C8-A9F7-57B0C8C7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4D3E8-6373-4089-AE4D-B9F90B4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3BBCE-6553-4D8E-855B-39A6142F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4B91C-79EF-4A0E-8D4D-85E141D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9B0-E5E0-47A8-9C36-8AA439F5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46254-A201-4775-8D3E-D24EE476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742D9-879C-4E79-86A8-54554748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D623F-A3F1-435F-9A58-38CE0634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85545-2745-436B-A92B-2F2F0625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DBCD5-849B-46BA-8900-9A0957B4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ABE-C08D-4E1D-878B-2231666A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3480-3C1B-4683-AD14-909F082238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0FB1-F884-4902-BC1A-DAEEE0C47C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4FED-BFC3-4A0B-8888-DE0240FEF8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333B-327A-429A-A23C-83818B3F42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EB41-B412-42E4-B1F8-7BA6312938E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5CC4-37B2-4E5F-991F-22CAF47D0E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99CB-8822-4878-B0CC-5321E7E46AB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75f6d"/>
                </a:solidFill>
                <a:latin typeface="Arial"/>
              </a:rPr>
              <a:t>Средства представления и записи алгоритмов.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Блок – схемы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575f6d"/>
                </a:solidFill>
                <a:latin typeface="Arial"/>
              </a:rPr>
              <a:t>Виды алгоритмических структур.</a:t>
            </a:r>
            <a:br>
              <a:rPr sz="2600"/>
            </a:br>
            <a:r>
              <a:rPr b="0" lang="ru-RU" sz="2600" spc="-1" strike="noStrike">
                <a:solidFill>
                  <a:srgbClr val="575f6d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Линейный алгоритм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2</a:t>
            </a:r>
            <a:br>
              <a:rPr sz="2000"/>
            </a:b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 ИСПОЛЬЗУЯ БЛОК-СХЕМУ АЛГОРИТМ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ЧИСЛИТЕ ЗНАЧЕНИЕ ФУНКЦИИ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Y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И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X=0; -1; 3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85" name="Group 48"/>
          <p:cNvGrpSpPr/>
          <p:nvPr/>
        </p:nvGrpSpPr>
        <p:grpSpPr>
          <a:xfrm>
            <a:off x="4270320" y="228600"/>
            <a:ext cx="4111560" cy="5943600"/>
            <a:chOff x="4270320" y="228600"/>
            <a:chExt cx="4111560" cy="5943600"/>
          </a:xfrm>
        </p:grpSpPr>
        <p:sp>
          <p:nvSpPr>
            <p:cNvPr id="486" name="Rectangle 5"/>
            <p:cNvSpPr/>
            <p:nvPr/>
          </p:nvSpPr>
          <p:spPr>
            <a:xfrm>
              <a:off x="4270320" y="228600"/>
              <a:ext cx="4111560" cy="5943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4"/>
            <p:cNvGrpSpPr/>
            <p:nvPr/>
          </p:nvGrpSpPr>
          <p:grpSpPr>
            <a:xfrm>
              <a:off x="4721400" y="397080"/>
              <a:ext cx="3336840" cy="5670000"/>
              <a:chOff x="4721400" y="397080"/>
              <a:chExt cx="3336840" cy="5670000"/>
            </a:xfrm>
          </p:grpSpPr>
          <p:sp>
            <p:nvSpPr>
              <p:cNvPr id="488" name="Line 36"/>
              <p:cNvSpPr/>
              <p:nvPr/>
            </p:nvSpPr>
            <p:spPr>
              <a:xfrm flipH="1">
                <a:off x="6427440" y="2532600"/>
                <a:ext cx="1440" cy="1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38"/>
              <p:cNvSpPr/>
              <p:nvPr/>
            </p:nvSpPr>
            <p:spPr>
              <a:xfrm flipH="1">
                <a:off x="6417360" y="3151080"/>
                <a:ext cx="1440" cy="15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39"/>
              <p:cNvSpPr/>
              <p:nvPr/>
            </p:nvSpPr>
            <p:spPr>
              <a:xfrm flipH="1">
                <a:off x="6417360" y="3786840"/>
                <a:ext cx="1440" cy="1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40"/>
              <p:cNvSpPr/>
              <p:nvPr/>
            </p:nvSpPr>
            <p:spPr>
              <a:xfrm flipH="1">
                <a:off x="6425640" y="4395600"/>
                <a:ext cx="1080" cy="1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Group 43"/>
              <p:cNvGrpSpPr/>
              <p:nvPr/>
            </p:nvGrpSpPr>
            <p:grpSpPr>
              <a:xfrm>
                <a:off x="4721400" y="397080"/>
                <a:ext cx="3336840" cy="5670000"/>
                <a:chOff x="4721400" y="397080"/>
                <a:chExt cx="3336840" cy="5670000"/>
              </a:xfrm>
            </p:grpSpPr>
            <p:grpSp>
              <p:nvGrpSpPr>
                <p:cNvPr id="493" name="Group 6"/>
                <p:cNvGrpSpPr/>
                <p:nvPr/>
              </p:nvGrpSpPr>
              <p:grpSpPr>
                <a:xfrm>
                  <a:off x="4810320" y="397080"/>
                  <a:ext cx="3247920" cy="398880"/>
                  <a:chOff x="4810320" y="397080"/>
                  <a:chExt cx="3247920" cy="398880"/>
                </a:xfrm>
              </p:grpSpPr>
              <p:sp>
                <p:nvSpPr>
                  <p:cNvPr id="494" name="AutoShape 7"/>
                  <p:cNvSpPr/>
                  <p:nvPr/>
                </p:nvSpPr>
                <p:spPr>
                  <a:xfrm>
                    <a:off x="4810320" y="397080"/>
                    <a:ext cx="3247920" cy="318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Text Box 8"/>
                  <p:cNvSpPr/>
                  <p:nvPr/>
                </p:nvSpPr>
                <p:spPr>
                  <a:xfrm>
                    <a:off x="5170680" y="397080"/>
                    <a:ext cx="24069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начал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9"/>
                <p:cNvGrpSpPr/>
                <p:nvPr/>
              </p:nvGrpSpPr>
              <p:grpSpPr>
                <a:xfrm>
                  <a:off x="4807800" y="859680"/>
                  <a:ext cx="3228840" cy="415080"/>
                  <a:chOff x="4807800" y="859680"/>
                  <a:chExt cx="3228840" cy="415080"/>
                </a:xfrm>
              </p:grpSpPr>
              <p:sp>
                <p:nvSpPr>
                  <p:cNvPr id="497" name="AutoShape 10"/>
                  <p:cNvSpPr/>
                  <p:nvPr/>
                </p:nvSpPr>
                <p:spPr>
                  <a:xfrm>
                    <a:off x="4807800" y="859680"/>
                    <a:ext cx="3228840" cy="41508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Text Box 11"/>
                  <p:cNvSpPr/>
                  <p:nvPr/>
                </p:nvSpPr>
                <p:spPr>
                  <a:xfrm>
                    <a:off x="5180040" y="874800"/>
                    <a:ext cx="22651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ввод: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X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12"/>
                <p:cNvGrpSpPr/>
                <p:nvPr/>
              </p:nvGrpSpPr>
              <p:grpSpPr>
                <a:xfrm>
                  <a:off x="4721400" y="5135040"/>
                  <a:ext cx="3200040" cy="420480"/>
                  <a:chOff x="4721400" y="5135040"/>
                  <a:chExt cx="3200040" cy="420480"/>
                </a:xfrm>
              </p:grpSpPr>
              <p:sp>
                <p:nvSpPr>
                  <p:cNvPr id="500" name="AutoShape 13"/>
                  <p:cNvSpPr/>
                  <p:nvPr/>
                </p:nvSpPr>
                <p:spPr>
                  <a:xfrm>
                    <a:off x="4721400" y="5135040"/>
                    <a:ext cx="3200040" cy="39780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Text Box 14"/>
                  <p:cNvSpPr/>
                  <p:nvPr/>
                </p:nvSpPr>
                <p:spPr>
                  <a:xfrm>
                    <a:off x="5197320" y="5156640"/>
                    <a:ext cx="24886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вывод: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15"/>
                <p:cNvGrpSpPr/>
                <p:nvPr/>
              </p:nvGrpSpPr>
              <p:grpSpPr>
                <a:xfrm>
                  <a:off x="4746960" y="5668200"/>
                  <a:ext cx="3249000" cy="398880"/>
                  <a:chOff x="4746960" y="5668200"/>
                  <a:chExt cx="3249000" cy="398880"/>
                </a:xfrm>
              </p:grpSpPr>
              <p:sp>
                <p:nvSpPr>
                  <p:cNvPr id="503" name="AutoShape 16"/>
                  <p:cNvSpPr/>
                  <p:nvPr/>
                </p:nvSpPr>
                <p:spPr>
                  <a:xfrm>
                    <a:off x="4746960" y="5668200"/>
                    <a:ext cx="3249000" cy="318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Text Box 17"/>
                  <p:cNvSpPr/>
                  <p:nvPr/>
                </p:nvSpPr>
                <p:spPr>
                  <a:xfrm>
                    <a:off x="5469120" y="5668200"/>
                    <a:ext cx="1804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конец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Rectangle 18"/>
                <p:cNvSpPr/>
                <p:nvPr/>
              </p:nvSpPr>
              <p:spPr>
                <a:xfrm>
                  <a:off x="4774320" y="1420560"/>
                  <a:ext cx="3252600" cy="5061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Z = X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9"/>
                <p:cNvSpPr/>
                <p:nvPr/>
              </p:nvSpPr>
              <p:spPr>
                <a:xfrm flipH="1">
                  <a:off x="6417360" y="721440"/>
                  <a:ext cx="1440" cy="12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21"/>
                <p:cNvSpPr/>
                <p:nvPr/>
              </p:nvSpPr>
              <p:spPr>
                <a:xfrm>
                  <a:off x="4771440" y="3307320"/>
                  <a:ext cx="3252600" cy="47376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 = Y * 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23"/>
                <p:cNvSpPr/>
                <p:nvPr/>
              </p:nvSpPr>
              <p:spPr>
                <a:xfrm>
                  <a:off x="4751640" y="2051640"/>
                  <a:ext cx="3252240" cy="49068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Z = Z - 8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25"/>
                <p:cNvSpPr/>
                <p:nvPr/>
              </p:nvSpPr>
              <p:spPr>
                <a:xfrm>
                  <a:off x="4763160" y="3910680"/>
                  <a:ext cx="3252600" cy="47376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 = Y * 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utoShape 33"/>
                <p:cNvSpPr/>
                <p:nvPr/>
              </p:nvSpPr>
              <p:spPr>
                <a:xfrm>
                  <a:off x="4754160" y="4519440"/>
                  <a:ext cx="3252600" cy="47376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 = Z / Y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4"/>
                <p:cNvSpPr/>
                <p:nvPr/>
              </p:nvSpPr>
              <p:spPr>
                <a:xfrm flipH="1">
                  <a:off x="6417360" y="1278720"/>
                  <a:ext cx="144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5"/>
                <p:cNvSpPr/>
                <p:nvPr/>
              </p:nvSpPr>
              <p:spPr>
                <a:xfrm flipH="1">
                  <a:off x="6435720" y="1932120"/>
                  <a:ext cx="10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37"/>
                <p:cNvSpPr/>
                <p:nvPr/>
              </p:nvSpPr>
              <p:spPr>
                <a:xfrm>
                  <a:off x="4749840" y="2663280"/>
                  <a:ext cx="3252600" cy="472320"/>
                </a:xfrm>
                <a:prstGeom prst="flowChartProcess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Y = X + 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41"/>
                <p:cNvSpPr/>
                <p:nvPr/>
              </p:nvSpPr>
              <p:spPr>
                <a:xfrm flipH="1">
                  <a:off x="6407280" y="5006160"/>
                  <a:ext cx="144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2"/>
                <p:cNvSpPr/>
                <p:nvPr/>
              </p:nvSpPr>
              <p:spPr>
                <a:xfrm flipH="1">
                  <a:off x="6388200" y="5537520"/>
                  <a:ext cx="1080" cy="12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3</a:t>
            </a:r>
            <a:br>
              <a:rPr sz="2000"/>
            </a:b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СОСТАВЬТЕ БЛОК-СХЕМУ АЛГОРИТМА РЕШЕНИЯ ПОСТАВЛЕННОЙ ЗАДАЧ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АНЫ КООРДИНАТЫ ВЕРШИН ТРЕУГОЛЬНИКА АВС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ЙТИ ЕГО ПЛОЩАДЬ.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8" name="Group 112"/>
          <p:cNvGrpSpPr/>
          <p:nvPr/>
        </p:nvGrpSpPr>
        <p:grpSpPr>
          <a:xfrm>
            <a:off x="4248000" y="287280"/>
            <a:ext cx="4603320" cy="6308640"/>
            <a:chOff x="4248000" y="287280"/>
            <a:chExt cx="4603320" cy="6308640"/>
          </a:xfrm>
        </p:grpSpPr>
        <p:grpSp>
          <p:nvGrpSpPr>
            <p:cNvPr id="519" name="Group 88"/>
            <p:cNvGrpSpPr/>
            <p:nvPr/>
          </p:nvGrpSpPr>
          <p:grpSpPr>
            <a:xfrm>
              <a:off x="4248000" y="287280"/>
              <a:ext cx="4603320" cy="6308640"/>
              <a:chOff x="4248000" y="287280"/>
              <a:chExt cx="4603320" cy="6308640"/>
            </a:xfrm>
          </p:grpSpPr>
          <p:sp>
            <p:nvSpPr>
              <p:cNvPr id="520" name="Rectangle 86"/>
              <p:cNvSpPr/>
              <p:nvPr/>
            </p:nvSpPr>
            <p:spPr>
              <a:xfrm>
                <a:off x="4248000" y="287280"/>
                <a:ext cx="4603320" cy="630864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Group 85"/>
              <p:cNvGrpSpPr/>
              <p:nvPr/>
            </p:nvGrpSpPr>
            <p:grpSpPr>
              <a:xfrm>
                <a:off x="4725360" y="387000"/>
                <a:ext cx="3427920" cy="6120720"/>
                <a:chOff x="4725360" y="387000"/>
                <a:chExt cx="3427920" cy="6120720"/>
              </a:xfrm>
            </p:grpSpPr>
            <p:pic>
              <p:nvPicPr>
                <p:cNvPr id="522" name="AutoShape 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791240" y="1819440"/>
                  <a:ext cx="3349440" cy="52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AutoShape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3720" y="387000"/>
                  <a:ext cx="3308760" cy="44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AutoShap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20760" y="976680"/>
                  <a:ext cx="3332520" cy="64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AutoShape 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725360" y="5402520"/>
                  <a:ext cx="3421800" cy="45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AutoShape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33720" y="6052320"/>
                  <a:ext cx="3308760" cy="4554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7" name="Group 34"/>
                <p:cNvGrpSpPr/>
                <p:nvPr/>
              </p:nvGrpSpPr>
              <p:grpSpPr>
                <a:xfrm>
                  <a:off x="4846320" y="2548440"/>
                  <a:ext cx="3281040" cy="501120"/>
                  <a:chOff x="4846320" y="2548440"/>
                  <a:chExt cx="3281040" cy="501120"/>
                </a:xfrm>
              </p:grpSpPr>
              <p:pic>
                <p:nvPicPr>
                  <p:cNvPr id="528" name="AutoShape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6320" y="2548440"/>
                    <a:ext cx="3281040" cy="5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mc:AlternateContent>
                <mc:Choice xmlns:a14="http://schemas.microsoft.com/office/drawing/2010/main" Requires="a14">
                  <p:sp>
                    <p:nvSpPr>
                      <p:cNvPr id="529" name="Object 2"/>
                      <p:cNvSpPr txBox="1"/>
                      <p:nvPr/>
                    </p:nvSpPr>
                    <p:spPr>
                      <a:xfrm>
                        <a:off x="5373000" y="2597760"/>
                        <a:ext cx="2683440" cy="3718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530" name="Group 43"/>
                <p:cNvGrpSpPr/>
                <p:nvPr/>
              </p:nvGrpSpPr>
              <p:grpSpPr>
                <a:xfrm>
                  <a:off x="4846320" y="3264480"/>
                  <a:ext cx="3281040" cy="501120"/>
                  <a:chOff x="4846320" y="3264480"/>
                  <a:chExt cx="3281040" cy="501120"/>
                </a:xfrm>
              </p:grpSpPr>
              <p:pic>
                <p:nvPicPr>
                  <p:cNvPr id="531" name="AutoShape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46320" y="3264480"/>
                    <a:ext cx="3281040" cy="5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mc:AlternateContent>
                <mc:Choice xmlns:a14="http://schemas.microsoft.com/office/drawing/2010/main" Requires="a14">
                  <p:sp>
                    <p:nvSpPr>
                      <p:cNvPr id="532" name="Object 3"/>
                      <p:cNvSpPr txBox="1"/>
                      <p:nvPr/>
                    </p:nvSpPr>
                    <p:spPr>
                      <a:xfrm>
                        <a:off x="5373000" y="3311280"/>
                        <a:ext cx="2566800" cy="376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533" name="Group 59"/>
                <p:cNvGrpSpPr/>
                <p:nvPr/>
              </p:nvGrpSpPr>
              <p:grpSpPr>
                <a:xfrm>
                  <a:off x="4750920" y="3982320"/>
                  <a:ext cx="3376440" cy="506160"/>
                  <a:chOff x="4750920" y="3982320"/>
                  <a:chExt cx="3376440" cy="506160"/>
                </a:xfrm>
              </p:grpSpPr>
              <p:pic>
                <p:nvPicPr>
                  <p:cNvPr id="534" name="AutoShape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0920" y="3982320"/>
                    <a:ext cx="337644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mc:AlternateContent>
                <mc:Choice xmlns:a14="http://schemas.microsoft.com/office/drawing/2010/main" Requires="a14">
                  <p:sp>
                    <p:nvSpPr>
                      <p:cNvPr id="535" name="Object 4"/>
                      <p:cNvSpPr txBox="1"/>
                      <p:nvPr/>
                    </p:nvSpPr>
                    <p:spPr>
                      <a:xfrm>
                        <a:off x="6197400" y="3994200"/>
                        <a:ext cx="1164600" cy="4845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536" name="Group 63"/>
                <p:cNvGrpSpPr/>
                <p:nvPr/>
              </p:nvGrpSpPr>
              <p:grpSpPr>
                <a:xfrm>
                  <a:off x="4750920" y="4700160"/>
                  <a:ext cx="3376440" cy="501120"/>
                  <a:chOff x="4750920" y="4700160"/>
                  <a:chExt cx="3376440" cy="501120"/>
                </a:xfrm>
              </p:grpSpPr>
              <p:pic>
                <p:nvPicPr>
                  <p:cNvPr id="537" name="AutoShape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50920" y="4700160"/>
                    <a:ext cx="3376440" cy="5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mc:AlternateContent>
                <mc:Choice xmlns:a14="http://schemas.microsoft.com/office/drawing/2010/main" Requires="a14">
                  <p:sp>
                    <p:nvSpPr>
                      <p:cNvPr id="538" name="Object 5"/>
                      <p:cNvSpPr txBox="1"/>
                      <p:nvPr/>
                    </p:nvSpPr>
                    <p:spPr>
                      <a:xfrm>
                        <a:off x="5278320" y="4782240"/>
                        <a:ext cx="2817720" cy="3358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pic>
              <p:nvPicPr>
                <p:cNvPr id="539" name="Line 7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650200" y="1607400"/>
                  <a:ext cx="1677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Line 7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650200" y="818640"/>
                  <a:ext cx="1677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Line 7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650200" y="3046320"/>
                  <a:ext cx="167760" cy="303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Line 7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650200" y="3763080"/>
                  <a:ext cx="167760" cy="30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Line 8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650200" y="4479120"/>
                  <a:ext cx="167760" cy="303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Line 8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650200" y="5195520"/>
                  <a:ext cx="167760" cy="30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Line 8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650200" y="5838840"/>
                  <a:ext cx="167760" cy="30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Line 8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650200" y="2329920"/>
                  <a:ext cx="167760" cy="303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547" name="Group 90" descr=""/>
            <p:cNvPicPr/>
            <p:nvPr/>
          </p:nvPicPr>
          <p:blipFill>
            <a:blip r:embed="rId18"/>
            <a:stretch/>
          </p:blipFill>
          <p:spPr>
            <a:xfrm>
              <a:off x="5346720" y="1847520"/>
              <a:ext cx="2718720" cy="42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04920" y="685800"/>
            <a:ext cx="3962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Составьте блок-схему алгоритма решения поставленной задач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числить путь, пройденный лодкой, если ее скорость в стоячей воде </a:t>
            </a:r>
            <a:r>
              <a:rPr b="1" i="1" lang="en-US" sz="2200" spc="-1" strike="noStrike">
                <a:solidFill>
                  <a:srgbClr val="c00000"/>
                </a:solidFill>
                <a:latin typeface="Century Schoolbook"/>
              </a:rPr>
              <a:t>v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км/ч, скорость течения реки </a:t>
            </a:r>
            <a:r>
              <a:rPr b="1" i="1" lang="en-US" sz="2200" spc="-1" strike="noStrike">
                <a:solidFill>
                  <a:srgbClr val="c00000"/>
                </a:solidFill>
                <a:latin typeface="Century Schoolbook"/>
              </a:rPr>
              <a:t>v</a:t>
            </a:r>
            <a:r>
              <a:rPr b="1" i="1" lang="ru-RU" sz="2200" spc="-1" strike="noStrike" baseline="-25000">
                <a:solidFill>
                  <a:srgbClr val="c00000"/>
                </a:solidFill>
                <a:latin typeface="Century Schoolbook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км/ч, время движения по озеру </a:t>
            </a:r>
            <a:r>
              <a:rPr b="1" i="1" lang="en-US" sz="2200" spc="-1" strike="noStrike">
                <a:solidFill>
                  <a:srgbClr val="c00000"/>
                </a:solidFill>
                <a:latin typeface="Century Schoolbook"/>
              </a:rPr>
              <a:t>t</a:t>
            </a:r>
            <a:r>
              <a:rPr b="1" i="1" lang="en-US" sz="2200" spc="-1" strike="noStrike" baseline="-25000">
                <a:solidFill>
                  <a:srgbClr val="c00000"/>
                </a:solidFill>
                <a:latin typeface="Century Schoolbook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, а против течения реки – </a:t>
            </a:r>
            <a:r>
              <a:rPr b="1" i="1" lang="en-US" sz="2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ч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9" name="Group 32"/>
          <p:cNvGrpSpPr/>
          <p:nvPr/>
        </p:nvGrpSpPr>
        <p:grpSpPr>
          <a:xfrm>
            <a:off x="4270320" y="457200"/>
            <a:ext cx="3959280" cy="5714640"/>
            <a:chOff x="4270320" y="457200"/>
            <a:chExt cx="3959280" cy="5714640"/>
          </a:xfrm>
        </p:grpSpPr>
        <p:sp>
          <p:nvSpPr>
            <p:cNvPr id="550" name="Rectangle 6"/>
            <p:cNvSpPr/>
            <p:nvPr/>
          </p:nvSpPr>
          <p:spPr>
            <a:xfrm>
              <a:off x="4270320" y="457200"/>
              <a:ext cx="3959280" cy="5714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8"/>
            <p:cNvGrpSpPr/>
            <p:nvPr/>
          </p:nvGrpSpPr>
          <p:grpSpPr>
            <a:xfrm>
              <a:off x="4707360" y="649440"/>
              <a:ext cx="3127320" cy="398880"/>
              <a:chOff x="4707360" y="649440"/>
              <a:chExt cx="3127320" cy="398880"/>
            </a:xfrm>
          </p:grpSpPr>
          <p:sp>
            <p:nvSpPr>
              <p:cNvPr id="552" name="AutoShape 9"/>
              <p:cNvSpPr/>
              <p:nvPr/>
            </p:nvSpPr>
            <p:spPr>
              <a:xfrm>
                <a:off x="4707360" y="649440"/>
                <a:ext cx="3127320" cy="36900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10"/>
              <p:cNvSpPr/>
              <p:nvPr/>
            </p:nvSpPr>
            <p:spPr>
              <a:xfrm>
                <a:off x="5054400" y="649440"/>
                <a:ext cx="231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1"/>
            <p:cNvGrpSpPr/>
            <p:nvPr/>
          </p:nvGrpSpPr>
          <p:grpSpPr>
            <a:xfrm>
              <a:off x="4704480" y="1300320"/>
              <a:ext cx="3109320" cy="479880"/>
              <a:chOff x="4704480" y="1300320"/>
              <a:chExt cx="3109320" cy="479880"/>
            </a:xfrm>
          </p:grpSpPr>
          <p:sp>
            <p:nvSpPr>
              <p:cNvPr id="555" name="AutoShape 12"/>
              <p:cNvSpPr/>
              <p:nvPr/>
            </p:nvSpPr>
            <p:spPr>
              <a:xfrm>
                <a:off x="4704480" y="1300320"/>
                <a:ext cx="3109320" cy="47988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13"/>
              <p:cNvSpPr/>
              <p:nvPr/>
            </p:nvSpPr>
            <p:spPr>
              <a:xfrm>
                <a:off x="5063040" y="1316880"/>
                <a:ext cx="21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, v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, t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, t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4"/>
            <p:cNvGrpSpPr/>
            <p:nvPr/>
          </p:nvGrpSpPr>
          <p:grpSpPr>
            <a:xfrm>
              <a:off x="4740480" y="4725000"/>
              <a:ext cx="3081600" cy="460080"/>
              <a:chOff x="4740480" y="4725000"/>
              <a:chExt cx="3081600" cy="460080"/>
            </a:xfrm>
          </p:grpSpPr>
          <p:sp>
            <p:nvSpPr>
              <p:cNvPr id="558" name="AutoShape 15"/>
              <p:cNvSpPr/>
              <p:nvPr/>
            </p:nvSpPr>
            <p:spPr>
              <a:xfrm>
                <a:off x="4740480" y="4725000"/>
                <a:ext cx="3081600" cy="46008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5198760" y="4750200"/>
                <a:ext cx="23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ы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7"/>
            <p:cNvGrpSpPr/>
            <p:nvPr/>
          </p:nvGrpSpPr>
          <p:grpSpPr>
            <a:xfrm>
              <a:off x="4689360" y="5499720"/>
              <a:ext cx="3128760" cy="398880"/>
              <a:chOff x="4689360" y="5499720"/>
              <a:chExt cx="3128760" cy="398880"/>
            </a:xfrm>
          </p:grpSpPr>
          <p:sp>
            <p:nvSpPr>
              <p:cNvPr id="561" name="AutoShape 18"/>
              <p:cNvSpPr/>
              <p:nvPr/>
            </p:nvSpPr>
            <p:spPr>
              <a:xfrm>
                <a:off x="4689360" y="5499720"/>
                <a:ext cx="3128760" cy="36900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9"/>
              <p:cNvSpPr/>
              <p:nvPr/>
            </p:nvSpPr>
            <p:spPr>
              <a:xfrm>
                <a:off x="5384880" y="5499720"/>
                <a:ext cx="173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>
              <a:off x="4690440" y="2093040"/>
              <a:ext cx="3132000" cy="586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v * 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21"/>
            <p:cNvSpPr/>
            <p:nvPr/>
          </p:nvSpPr>
          <p:spPr>
            <a:xfrm>
              <a:off x="4693320" y="3001320"/>
              <a:ext cx="3132000" cy="56772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(v –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 * 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2"/>
            <p:cNvSpPr/>
            <p:nvPr/>
          </p:nvSpPr>
          <p:spPr>
            <a:xfrm>
              <a:off x="6256080" y="1036440"/>
              <a:ext cx="0" cy="26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3"/>
            <p:cNvSpPr/>
            <p:nvPr/>
          </p:nvSpPr>
          <p:spPr>
            <a:xfrm>
              <a:off x="6256080" y="1793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>
              <a:off x="6260040" y="35694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5"/>
            <p:cNvSpPr/>
            <p:nvPr/>
          </p:nvSpPr>
          <p:spPr>
            <a:xfrm>
              <a:off x="6262920" y="2682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6"/>
            <p:cNvSpPr/>
            <p:nvPr/>
          </p:nvSpPr>
          <p:spPr>
            <a:xfrm>
              <a:off x="6246360" y="51973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7"/>
            <p:cNvSpPr/>
            <p:nvPr/>
          </p:nvSpPr>
          <p:spPr>
            <a:xfrm>
              <a:off x="4682520" y="3857400"/>
              <a:ext cx="3131640" cy="5468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 = 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8"/>
            <p:cNvSpPr/>
            <p:nvPr/>
          </p:nvSpPr>
          <p:spPr>
            <a:xfrm>
              <a:off x="6253200" y="44190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1430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Schoolbook"/>
              </a:rPr>
              <a:t>По данной блок-схеме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числения значения некоторой функции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осстановите условие задачи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напишите формулу вычисления значения функц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3" name="Group 4"/>
          <p:cNvGrpSpPr/>
          <p:nvPr/>
        </p:nvGrpSpPr>
        <p:grpSpPr>
          <a:xfrm>
            <a:off x="4270320" y="304920"/>
            <a:ext cx="3657600" cy="5867280"/>
            <a:chOff x="4270320" y="304920"/>
            <a:chExt cx="3657600" cy="5867280"/>
          </a:xfrm>
        </p:grpSpPr>
        <p:sp>
          <p:nvSpPr>
            <p:cNvPr id="574" name="Rectangle 5"/>
            <p:cNvSpPr/>
            <p:nvPr/>
          </p:nvSpPr>
          <p:spPr>
            <a:xfrm>
              <a:off x="4270320" y="304920"/>
              <a:ext cx="3657600" cy="58672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6"/>
            <p:cNvGrpSpPr/>
            <p:nvPr/>
          </p:nvGrpSpPr>
          <p:grpSpPr>
            <a:xfrm>
              <a:off x="4673880" y="613080"/>
              <a:ext cx="2889360" cy="398880"/>
              <a:chOff x="4673880" y="613080"/>
              <a:chExt cx="2889360" cy="398880"/>
            </a:xfrm>
          </p:grpSpPr>
          <p:sp>
            <p:nvSpPr>
              <p:cNvPr id="576" name="AutoShape 7"/>
              <p:cNvSpPr/>
              <p:nvPr/>
            </p:nvSpPr>
            <p:spPr>
              <a:xfrm>
                <a:off x="4673880" y="613080"/>
                <a:ext cx="2889360" cy="31464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8"/>
              <p:cNvSpPr/>
              <p:nvPr/>
            </p:nvSpPr>
            <p:spPr>
              <a:xfrm>
                <a:off x="4994280" y="613080"/>
                <a:ext cx="21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9"/>
            <p:cNvGrpSpPr/>
            <p:nvPr/>
          </p:nvGrpSpPr>
          <p:grpSpPr>
            <a:xfrm>
              <a:off x="4671720" y="1118160"/>
              <a:ext cx="2872800" cy="414000"/>
              <a:chOff x="4671720" y="1118160"/>
              <a:chExt cx="2872800" cy="414000"/>
            </a:xfrm>
          </p:grpSpPr>
          <p:sp>
            <p:nvSpPr>
              <p:cNvPr id="579" name="AutoShape 10"/>
              <p:cNvSpPr/>
              <p:nvPr/>
            </p:nvSpPr>
            <p:spPr>
              <a:xfrm>
                <a:off x="4671720" y="1118160"/>
                <a:ext cx="2872800" cy="40896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1"/>
              <p:cNvSpPr/>
              <p:nvPr/>
            </p:nvSpPr>
            <p:spPr>
              <a:xfrm>
                <a:off x="5002920" y="1133280"/>
                <a:ext cx="201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2"/>
            <p:cNvGrpSpPr/>
            <p:nvPr/>
          </p:nvGrpSpPr>
          <p:grpSpPr>
            <a:xfrm>
              <a:off x="4594680" y="5037840"/>
              <a:ext cx="2846880" cy="420480"/>
              <a:chOff x="4594680" y="5037840"/>
              <a:chExt cx="2846880" cy="420480"/>
            </a:xfrm>
          </p:grpSpPr>
          <p:sp>
            <p:nvSpPr>
              <p:cNvPr id="582" name="AutoShape 13"/>
              <p:cNvSpPr/>
              <p:nvPr/>
            </p:nvSpPr>
            <p:spPr>
              <a:xfrm>
                <a:off x="4594680" y="5037840"/>
                <a:ext cx="2846880" cy="39276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14"/>
              <p:cNvSpPr/>
              <p:nvPr/>
            </p:nvSpPr>
            <p:spPr>
              <a:xfrm>
                <a:off x="5018040" y="5059440"/>
                <a:ext cx="221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ы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15"/>
            <p:cNvGrpSpPr/>
            <p:nvPr/>
          </p:nvGrpSpPr>
          <p:grpSpPr>
            <a:xfrm>
              <a:off x="4617720" y="5600160"/>
              <a:ext cx="2890440" cy="398880"/>
              <a:chOff x="4617720" y="5600160"/>
              <a:chExt cx="2890440" cy="398880"/>
            </a:xfrm>
          </p:grpSpPr>
          <p:sp>
            <p:nvSpPr>
              <p:cNvPr id="585" name="AutoShape 16"/>
              <p:cNvSpPr/>
              <p:nvPr/>
            </p:nvSpPr>
            <p:spPr>
              <a:xfrm>
                <a:off x="4617720" y="5600160"/>
                <a:ext cx="2890440" cy="31464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17"/>
              <p:cNvSpPr/>
              <p:nvPr/>
            </p:nvSpPr>
            <p:spPr>
              <a:xfrm>
                <a:off x="5259960" y="5600160"/>
                <a:ext cx="160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Rectangle 18"/>
            <p:cNvSpPr/>
            <p:nvPr/>
          </p:nvSpPr>
          <p:spPr>
            <a:xfrm>
              <a:off x="4641840" y="1698120"/>
              <a:ext cx="2893320" cy="499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=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9"/>
            <p:cNvSpPr/>
            <p:nvPr/>
          </p:nvSpPr>
          <p:spPr>
            <a:xfrm flipH="1">
              <a:off x="6103440" y="933480"/>
              <a:ext cx="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20"/>
            <p:cNvSpPr/>
            <p:nvPr/>
          </p:nvSpPr>
          <p:spPr>
            <a:xfrm>
              <a:off x="4650840" y="3057120"/>
              <a:ext cx="2893320" cy="46620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 = A +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1"/>
            <p:cNvSpPr/>
            <p:nvPr/>
          </p:nvSpPr>
          <p:spPr>
            <a:xfrm>
              <a:off x="4639320" y="3727440"/>
              <a:ext cx="2893320" cy="4676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 = B +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22"/>
            <p:cNvSpPr/>
            <p:nvPr/>
          </p:nvSpPr>
          <p:spPr>
            <a:xfrm>
              <a:off x="4631760" y="4390920"/>
              <a:ext cx="2893320" cy="4676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 = C /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23"/>
            <p:cNvSpPr/>
            <p:nvPr/>
          </p:nvSpPr>
          <p:spPr>
            <a:xfrm flipH="1">
              <a:off x="6095520" y="1535760"/>
              <a:ext cx="10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24"/>
            <p:cNvSpPr/>
            <p:nvPr/>
          </p:nvSpPr>
          <p:spPr>
            <a:xfrm flipH="1">
              <a:off x="6087960" y="2206440"/>
              <a:ext cx="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H="1">
              <a:off x="6087960" y="2868480"/>
              <a:ext cx="144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 flipH="1">
              <a:off x="6087960" y="3530520"/>
              <a:ext cx="144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 flipH="1">
              <a:off x="6087960" y="4200840"/>
              <a:ext cx="144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 flipH="1">
              <a:off x="6095520" y="4856040"/>
              <a:ext cx="10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9"/>
            <p:cNvSpPr/>
            <p:nvPr/>
          </p:nvSpPr>
          <p:spPr>
            <a:xfrm flipH="1">
              <a:off x="6087960" y="5423760"/>
              <a:ext cx="144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30"/>
            <p:cNvSpPr/>
            <p:nvPr/>
          </p:nvSpPr>
          <p:spPr>
            <a:xfrm>
              <a:off x="4625280" y="2378520"/>
              <a:ext cx="2893320" cy="499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 = 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" name="Рисунок 29" descr="знак.png"/>
          <p:cNvPicPr/>
          <p:nvPr/>
        </p:nvPicPr>
        <p:blipFill>
          <a:blip r:embed="rId1"/>
          <a:stretch/>
        </p:blipFill>
        <p:spPr>
          <a:xfrm>
            <a:off x="5667480" y="4952880"/>
            <a:ext cx="34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Содержимое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7747200" cy="646272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7772400" y="990720"/>
            <a:ext cx="91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0" spc="-1" strike="noStrike">
                <a:solidFill>
                  <a:srgbClr val="c00000"/>
                </a:solidFill>
                <a:latin typeface="Century Schoolbook"/>
              </a:rPr>
              <a:t>!</a:t>
            </a:r>
            <a:endParaRPr b="0" lang="en-US" sz="27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Century Schoolbook"/>
              </a:rPr>
              <a:t>СОСТАВЬТЕ  БЛОК-СХЕМЫ АЛГОРИТМА РЕШЕНИЯ ПОСТАВЛЕННЫХ ЗАДАЧ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 квадратной комнате шириной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 высотой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ть окно и дверь с размерами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M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N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оответственно. Вычислите площадь стен для оклеивания их обоям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Дана величина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,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ыражающая объем информации в байтах. Перевести А в более крупные единицы измерения информаци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228600"/>
            <a:ext cx="3657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entury Schoolbook"/>
              </a:rPr>
              <a:t>По данной блок-схем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числения значения некоторой функции, восстановите условие задачи; напишите формулу вычисления значения функци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09" name="Group 68"/>
          <p:cNvGrpSpPr/>
          <p:nvPr/>
        </p:nvGrpSpPr>
        <p:grpSpPr>
          <a:xfrm>
            <a:off x="4270320" y="228600"/>
            <a:ext cx="3657600" cy="5943600"/>
            <a:chOff x="4270320" y="228600"/>
            <a:chExt cx="3657600" cy="5943600"/>
          </a:xfrm>
        </p:grpSpPr>
        <p:sp>
          <p:nvSpPr>
            <p:cNvPr id="610" name="Rectangle 39"/>
            <p:cNvSpPr/>
            <p:nvPr/>
          </p:nvSpPr>
          <p:spPr>
            <a:xfrm>
              <a:off x="4270320" y="228600"/>
              <a:ext cx="3657600" cy="5943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40"/>
            <p:cNvGrpSpPr/>
            <p:nvPr/>
          </p:nvGrpSpPr>
          <p:grpSpPr>
            <a:xfrm>
              <a:off x="4673880" y="540720"/>
              <a:ext cx="2889360" cy="398880"/>
              <a:chOff x="4673880" y="540720"/>
              <a:chExt cx="2889360" cy="398880"/>
            </a:xfrm>
          </p:grpSpPr>
          <p:sp>
            <p:nvSpPr>
              <p:cNvPr id="612" name="AutoShape 41"/>
              <p:cNvSpPr/>
              <p:nvPr/>
            </p:nvSpPr>
            <p:spPr>
              <a:xfrm>
                <a:off x="4673880" y="540720"/>
                <a:ext cx="2889360" cy="3189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42"/>
              <p:cNvSpPr/>
              <p:nvPr/>
            </p:nvSpPr>
            <p:spPr>
              <a:xfrm>
                <a:off x="4994280" y="540720"/>
                <a:ext cx="214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43"/>
            <p:cNvGrpSpPr/>
            <p:nvPr/>
          </p:nvGrpSpPr>
          <p:grpSpPr>
            <a:xfrm>
              <a:off x="4671720" y="1053720"/>
              <a:ext cx="2872800" cy="415440"/>
              <a:chOff x="4671720" y="1053720"/>
              <a:chExt cx="2872800" cy="415440"/>
            </a:xfrm>
          </p:grpSpPr>
          <p:sp>
            <p:nvSpPr>
              <p:cNvPr id="615" name="AutoShape 44"/>
              <p:cNvSpPr/>
              <p:nvPr/>
            </p:nvSpPr>
            <p:spPr>
              <a:xfrm>
                <a:off x="4671720" y="1053720"/>
                <a:ext cx="2872800" cy="41544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45"/>
              <p:cNvSpPr/>
              <p:nvPr/>
            </p:nvSpPr>
            <p:spPr>
              <a:xfrm>
                <a:off x="5002920" y="1068840"/>
                <a:ext cx="201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46"/>
            <p:cNvGrpSpPr/>
            <p:nvPr/>
          </p:nvGrpSpPr>
          <p:grpSpPr>
            <a:xfrm>
              <a:off x="4594680" y="5025960"/>
              <a:ext cx="2846880" cy="420480"/>
              <a:chOff x="4594680" y="5025960"/>
              <a:chExt cx="2846880" cy="420480"/>
            </a:xfrm>
          </p:grpSpPr>
          <p:sp>
            <p:nvSpPr>
              <p:cNvPr id="618" name="AutoShape 47"/>
              <p:cNvSpPr/>
              <p:nvPr/>
            </p:nvSpPr>
            <p:spPr>
              <a:xfrm>
                <a:off x="4594680" y="5025960"/>
                <a:ext cx="2846880" cy="39780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48"/>
              <p:cNvSpPr/>
              <p:nvPr/>
            </p:nvSpPr>
            <p:spPr>
              <a:xfrm>
                <a:off x="5018040" y="5047560"/>
                <a:ext cx="221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ы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49"/>
            <p:cNvGrpSpPr/>
            <p:nvPr/>
          </p:nvGrpSpPr>
          <p:grpSpPr>
            <a:xfrm>
              <a:off x="4617720" y="5592600"/>
              <a:ext cx="2890440" cy="398880"/>
              <a:chOff x="4617720" y="5592600"/>
              <a:chExt cx="2890440" cy="398880"/>
            </a:xfrm>
          </p:grpSpPr>
          <p:sp>
            <p:nvSpPr>
              <p:cNvPr id="621" name="AutoShape 50"/>
              <p:cNvSpPr/>
              <p:nvPr/>
            </p:nvSpPr>
            <p:spPr>
              <a:xfrm>
                <a:off x="4617720" y="5592600"/>
                <a:ext cx="2890440" cy="3189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51"/>
              <p:cNvSpPr/>
              <p:nvPr/>
            </p:nvSpPr>
            <p:spPr>
              <a:xfrm>
                <a:off x="5259960" y="5592600"/>
                <a:ext cx="160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Rectangle 52"/>
            <p:cNvSpPr/>
            <p:nvPr/>
          </p:nvSpPr>
          <p:spPr>
            <a:xfrm>
              <a:off x="4641840" y="1640160"/>
              <a:ext cx="2893320" cy="506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 = A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53"/>
            <p:cNvSpPr/>
            <p:nvPr/>
          </p:nvSpPr>
          <p:spPr>
            <a:xfrm flipH="1">
              <a:off x="6103440" y="865080"/>
              <a:ext cx="144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54"/>
            <p:cNvSpPr/>
            <p:nvPr/>
          </p:nvSpPr>
          <p:spPr>
            <a:xfrm>
              <a:off x="4650840" y="3016440"/>
              <a:ext cx="2893320" cy="47232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 = C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55"/>
            <p:cNvSpPr/>
            <p:nvPr/>
          </p:nvSpPr>
          <p:spPr>
            <a:xfrm>
              <a:off x="4639320" y="3695760"/>
              <a:ext cx="2893320" cy="47376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 = D /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59"/>
            <p:cNvSpPr/>
            <p:nvPr/>
          </p:nvSpPr>
          <p:spPr>
            <a:xfrm>
              <a:off x="4631760" y="4367880"/>
              <a:ext cx="2893320" cy="47376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 = E +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60"/>
            <p:cNvSpPr/>
            <p:nvPr/>
          </p:nvSpPr>
          <p:spPr>
            <a:xfrm flipH="1">
              <a:off x="6095520" y="1475640"/>
              <a:ext cx="108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61"/>
            <p:cNvSpPr/>
            <p:nvPr/>
          </p:nvSpPr>
          <p:spPr>
            <a:xfrm flipH="1">
              <a:off x="6087960" y="2154600"/>
              <a:ext cx="144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62"/>
            <p:cNvSpPr/>
            <p:nvPr/>
          </p:nvSpPr>
          <p:spPr>
            <a:xfrm flipH="1">
              <a:off x="6087960" y="2825640"/>
              <a:ext cx="14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63"/>
            <p:cNvSpPr/>
            <p:nvPr/>
          </p:nvSpPr>
          <p:spPr>
            <a:xfrm flipH="1">
              <a:off x="6087960" y="3496320"/>
              <a:ext cx="14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64"/>
            <p:cNvSpPr/>
            <p:nvPr/>
          </p:nvSpPr>
          <p:spPr>
            <a:xfrm flipH="1">
              <a:off x="6087960" y="4175280"/>
              <a:ext cx="14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65"/>
            <p:cNvSpPr/>
            <p:nvPr/>
          </p:nvSpPr>
          <p:spPr>
            <a:xfrm flipH="1">
              <a:off x="6095520" y="4838760"/>
              <a:ext cx="1080" cy="1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66"/>
            <p:cNvSpPr/>
            <p:nvPr/>
          </p:nvSpPr>
          <p:spPr>
            <a:xfrm flipH="1">
              <a:off x="6087960" y="5414040"/>
              <a:ext cx="14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67"/>
            <p:cNvSpPr/>
            <p:nvPr/>
          </p:nvSpPr>
          <p:spPr>
            <a:xfrm>
              <a:off x="4625280" y="2329200"/>
              <a:ext cx="2893320" cy="50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 = B +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entury Schoolbook"/>
              </a:rPr>
              <a:t>ИТОГИ УРОКА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6840" y="609480"/>
            <a:ext cx="746748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C69E-DD99-4572-B064-691E514EA08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БЛОК – СХЕМЫ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5640" y="5028840"/>
            <a:ext cx="617220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Средства представления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и записи алгоритмо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entury Schoolbook"/>
              </a:rPr>
              <a:t>Блок-схема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графическое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представлени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лгоритма в виде последовательности связанных между собой функциональных блоков (</a:t>
            </a:r>
            <a:r>
              <a:rPr b="1" i="1" lang="ru-RU" sz="2800" spc="-1" strike="noStrike">
                <a:solidFill>
                  <a:srgbClr val="00b050"/>
                </a:solidFill>
                <a:latin typeface="Century Schoolbook"/>
              </a:rPr>
              <a:t>стандартных графических элементов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), каждый из которых соответствует выполнению одного или нескольких действий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Содержимое 4" descr=""/>
          <p:cNvPicPr/>
          <p:nvPr/>
        </p:nvPicPr>
        <p:blipFill>
          <a:blip r:embed="rId1"/>
          <a:stretch/>
        </p:blipFill>
        <p:spPr>
          <a:xfrm>
            <a:off x="596880" y="-19080"/>
            <a:ext cx="2841480" cy="1019160"/>
          </a:xfrm>
          <a:prstGeom prst="rect">
            <a:avLst/>
          </a:prstGeom>
          <a:ln w="0">
            <a:noFill/>
          </a:ln>
        </p:spPr>
      </p:pic>
      <p:pic>
        <p:nvPicPr>
          <p:cNvPr id="363" name="Схема 4" descr=""/>
          <p:cNvPicPr/>
          <p:nvPr/>
        </p:nvPicPr>
        <p:blipFill>
          <a:blip r:embed="rId2"/>
          <a:stretch/>
        </p:blipFill>
        <p:spPr>
          <a:xfrm>
            <a:off x="212760" y="907920"/>
            <a:ext cx="3384360" cy="1073160"/>
          </a:xfrm>
          <a:prstGeom prst="rect">
            <a:avLst/>
          </a:prstGeom>
          <a:ln w="0">
            <a:noFill/>
          </a:ln>
        </p:spPr>
      </p:pic>
      <p:pic>
        <p:nvPicPr>
          <p:cNvPr id="364" name="Схема 6" descr=""/>
          <p:cNvPicPr/>
          <p:nvPr/>
        </p:nvPicPr>
        <p:blipFill>
          <a:blip r:embed="rId3"/>
          <a:stretch/>
        </p:blipFill>
        <p:spPr>
          <a:xfrm>
            <a:off x="743040" y="3121200"/>
            <a:ext cx="2463840" cy="1218960"/>
          </a:xfrm>
          <a:prstGeom prst="rect">
            <a:avLst/>
          </a:prstGeom>
          <a:ln w="0">
            <a:noFill/>
          </a:ln>
        </p:spPr>
      </p:pic>
      <p:pic>
        <p:nvPicPr>
          <p:cNvPr id="365" name="Схема 7" descr=""/>
          <p:cNvPicPr/>
          <p:nvPr/>
        </p:nvPicPr>
        <p:blipFill>
          <a:blip r:embed="rId4"/>
          <a:stretch/>
        </p:blipFill>
        <p:spPr>
          <a:xfrm>
            <a:off x="1292400" y="2054160"/>
            <a:ext cx="1841400" cy="1000080"/>
          </a:xfrm>
          <a:prstGeom prst="rect">
            <a:avLst/>
          </a:prstGeom>
          <a:ln w="0">
            <a:noFill/>
          </a:ln>
        </p:spPr>
      </p:pic>
      <p:pic>
        <p:nvPicPr>
          <p:cNvPr id="366" name="Схема 8" descr=""/>
          <p:cNvPicPr/>
          <p:nvPr/>
        </p:nvPicPr>
        <p:blipFill>
          <a:blip r:embed="rId5"/>
          <a:stretch/>
        </p:blipFill>
        <p:spPr>
          <a:xfrm>
            <a:off x="907920" y="4419720"/>
            <a:ext cx="2292480" cy="110952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4" descr=""/>
          <p:cNvPicPr/>
          <p:nvPr/>
        </p:nvPicPr>
        <p:blipFill>
          <a:blip r:embed="rId6"/>
          <a:stretch/>
        </p:blipFill>
        <p:spPr>
          <a:xfrm>
            <a:off x="749160" y="5718240"/>
            <a:ext cx="2762280" cy="8478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13"/>
          <p:cNvSpPr/>
          <p:nvPr/>
        </p:nvSpPr>
        <p:spPr>
          <a:xfrm>
            <a:off x="4114800" y="304920"/>
            <a:ext cx="1447920" cy="304560"/>
          </a:xfrm>
          <a:prstGeom prst="rightArrow">
            <a:avLst>
              <a:gd name="adj1" fmla="val 50000"/>
              <a:gd name="adj2" fmla="val 11885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5486400" y="304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Начало алгоритма, вход в про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5486400" y="59436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онец алгоритма, выход из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5410080" y="121932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611c"/>
                </a:solidFill>
                <a:latin typeface="Arial"/>
              </a:rPr>
              <a:t>Ввод исходных данных или вывод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5334120" y="2362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Выполнение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5410080" y="33526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Проверка логического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4"/>
          <p:cNvSpPr/>
          <p:nvPr/>
        </p:nvSpPr>
        <p:spPr>
          <a:xfrm>
            <a:off x="5562720" y="46483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Количество повторов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6"/>
          <p:cNvSpPr/>
          <p:nvPr/>
        </p:nvSpPr>
        <p:spPr>
          <a:xfrm>
            <a:off x="3657600" y="129528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7"/>
          <p:cNvSpPr/>
          <p:nvPr/>
        </p:nvSpPr>
        <p:spPr>
          <a:xfrm>
            <a:off x="3429000" y="2362320"/>
            <a:ext cx="1447920" cy="304560"/>
          </a:xfrm>
          <a:prstGeom prst="rightArrow">
            <a:avLst>
              <a:gd name="adj1" fmla="val 50000"/>
              <a:gd name="adj2" fmla="val 11885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8"/>
          <p:cNvSpPr/>
          <p:nvPr/>
        </p:nvSpPr>
        <p:spPr>
          <a:xfrm>
            <a:off x="3429000" y="342900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29"/>
          <p:cNvSpPr/>
          <p:nvPr/>
        </p:nvSpPr>
        <p:spPr>
          <a:xfrm>
            <a:off x="3505320" y="480060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0"/>
          <p:cNvSpPr/>
          <p:nvPr/>
        </p:nvSpPr>
        <p:spPr>
          <a:xfrm>
            <a:off x="3657600" y="5867280"/>
            <a:ext cx="1447920" cy="304920"/>
          </a:xfrm>
          <a:prstGeom prst="rightArrow">
            <a:avLst>
              <a:gd name="adj1" fmla="val 50000"/>
              <a:gd name="adj2" fmla="val 11871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19" descr="знак.png"/>
          <p:cNvPicPr/>
          <p:nvPr/>
        </p:nvPicPr>
        <p:blipFill>
          <a:blip r:embed="rId7"/>
          <a:stretch/>
        </p:blipFill>
        <p:spPr>
          <a:xfrm>
            <a:off x="5667480" y="4952880"/>
            <a:ext cx="3476520" cy="114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ЛИНЕЙНЫЕ АЛГОРИТМЫ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Виды алгоритмических структур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ЛИНЕЙНЫЙ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 АЛГОРИТМ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560" y="16002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алгоритм,  все этап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которого выполняю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однократно, в строго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последовательно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4572000" y="228600"/>
            <a:ext cx="3806640" cy="6400080"/>
            <a:chOff x="4572000" y="228600"/>
            <a:chExt cx="3806640" cy="6400080"/>
          </a:xfrm>
        </p:grpSpPr>
        <p:grpSp>
          <p:nvGrpSpPr>
            <p:cNvPr id="386" name="Group 39"/>
            <p:cNvGrpSpPr/>
            <p:nvPr/>
          </p:nvGrpSpPr>
          <p:grpSpPr>
            <a:xfrm>
              <a:off x="4594680" y="1067760"/>
              <a:ext cx="3122640" cy="758880"/>
              <a:chOff x="4594680" y="1067760"/>
              <a:chExt cx="3122640" cy="758880"/>
            </a:xfrm>
          </p:grpSpPr>
          <p:sp>
            <p:nvSpPr>
              <p:cNvPr id="387" name="AutoShape 12"/>
              <p:cNvSpPr/>
              <p:nvPr/>
            </p:nvSpPr>
            <p:spPr>
              <a:xfrm>
                <a:off x="4594680" y="1067760"/>
                <a:ext cx="3122640" cy="75888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3"/>
              <p:cNvSpPr/>
              <p:nvPr/>
            </p:nvSpPr>
            <p:spPr>
              <a:xfrm>
                <a:off x="4982040" y="1163520"/>
                <a:ext cx="219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ввод исходных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8"/>
            <p:cNvGrpSpPr/>
            <p:nvPr/>
          </p:nvGrpSpPr>
          <p:grpSpPr>
            <a:xfrm>
              <a:off x="4596120" y="228600"/>
              <a:ext cx="3118320" cy="586800"/>
              <a:chOff x="4596120" y="228600"/>
              <a:chExt cx="3118320" cy="586800"/>
            </a:xfrm>
          </p:grpSpPr>
          <p:sp>
            <p:nvSpPr>
              <p:cNvPr id="390" name="AutoShape 9"/>
              <p:cNvSpPr/>
              <p:nvPr/>
            </p:nvSpPr>
            <p:spPr>
              <a:xfrm>
                <a:off x="4596120" y="228600"/>
                <a:ext cx="3118320" cy="58680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0"/>
              <p:cNvSpPr/>
              <p:nvPr/>
            </p:nvSpPr>
            <p:spPr>
              <a:xfrm>
                <a:off x="4942080" y="228600"/>
                <a:ext cx="2311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4"/>
            <p:cNvGrpSpPr/>
            <p:nvPr/>
          </p:nvGrpSpPr>
          <p:grpSpPr>
            <a:xfrm>
              <a:off x="4590000" y="5161680"/>
              <a:ext cx="3136680" cy="600120"/>
              <a:chOff x="4590000" y="5161680"/>
              <a:chExt cx="3136680" cy="600120"/>
            </a:xfrm>
          </p:grpSpPr>
          <p:sp>
            <p:nvSpPr>
              <p:cNvPr id="393" name="AutoShape 15"/>
              <p:cNvSpPr/>
              <p:nvPr/>
            </p:nvSpPr>
            <p:spPr>
              <a:xfrm>
                <a:off x="4590000" y="5161680"/>
                <a:ext cx="3136680" cy="60012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6"/>
              <p:cNvSpPr/>
              <p:nvPr/>
            </p:nvSpPr>
            <p:spPr>
              <a:xfrm>
                <a:off x="5056560" y="5194440"/>
                <a:ext cx="243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вывод результа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7"/>
            <p:cNvGrpSpPr/>
            <p:nvPr/>
          </p:nvGrpSpPr>
          <p:grpSpPr>
            <a:xfrm>
              <a:off x="4587840" y="6064920"/>
              <a:ext cx="3135240" cy="563760"/>
              <a:chOff x="4587840" y="6064920"/>
              <a:chExt cx="3135240" cy="563760"/>
            </a:xfrm>
          </p:grpSpPr>
          <p:sp>
            <p:nvSpPr>
              <p:cNvPr id="396" name="AutoShape 18"/>
              <p:cNvSpPr/>
              <p:nvPr/>
            </p:nvSpPr>
            <p:spPr>
              <a:xfrm>
                <a:off x="4587840" y="6064920"/>
                <a:ext cx="3135240" cy="5637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19"/>
              <p:cNvSpPr/>
              <p:nvPr/>
            </p:nvSpPr>
            <p:spPr>
              <a:xfrm>
                <a:off x="5284800" y="6064920"/>
                <a:ext cx="174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23"/>
            <p:cNvSpPr/>
            <p:nvPr/>
          </p:nvSpPr>
          <p:spPr>
            <a:xfrm>
              <a:off x="4572000" y="4114080"/>
              <a:ext cx="3146760" cy="7484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йст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5"/>
            <p:cNvSpPr/>
            <p:nvPr/>
          </p:nvSpPr>
          <p:spPr>
            <a:xfrm>
              <a:off x="6231600" y="8042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6"/>
            <p:cNvSpPr/>
            <p:nvPr/>
          </p:nvSpPr>
          <p:spPr>
            <a:xfrm>
              <a:off x="6226200" y="1824120"/>
              <a:ext cx="0" cy="2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7"/>
            <p:cNvSpPr/>
            <p:nvPr/>
          </p:nvSpPr>
          <p:spPr>
            <a:xfrm>
              <a:off x="6233760" y="4857840"/>
              <a:ext cx="0" cy="2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8"/>
            <p:cNvSpPr/>
            <p:nvPr/>
          </p:nvSpPr>
          <p:spPr>
            <a:xfrm>
              <a:off x="6235200" y="38347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29"/>
            <p:cNvSpPr/>
            <p:nvPr/>
          </p:nvSpPr>
          <p:spPr>
            <a:xfrm>
              <a:off x="6233760" y="5762520"/>
              <a:ext cx="0" cy="2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4579920" y="2131560"/>
              <a:ext cx="3137760" cy="74844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йст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1"/>
            <p:cNvSpPr/>
            <p:nvPr/>
          </p:nvSpPr>
          <p:spPr>
            <a:xfrm>
              <a:off x="5438520" y="2791800"/>
              <a:ext cx="1524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2"/>
            <p:cNvSpPr/>
            <p:nvPr/>
          </p:nvSpPr>
          <p:spPr>
            <a:xfrm>
              <a:off x="7756920" y="1845360"/>
              <a:ext cx="189720" cy="3215880"/>
            </a:xfrm>
            <a:custGeom>
              <a:avLst/>
              <a:gdLst>
                <a:gd name="textAreaLeft" fmla="*/ 0 w 189720"/>
                <a:gd name="textAreaRight" fmla="*/ 68400 w 189720"/>
                <a:gd name="textAreaTop" fmla="*/ 83520 h 3215880"/>
                <a:gd name="textAreaBottom" fmla="*/ 3132360 h 321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3"/>
            <p:cNvSpPr/>
            <p:nvPr/>
          </p:nvSpPr>
          <p:spPr>
            <a:xfrm>
              <a:off x="7977240" y="1864800"/>
              <a:ext cx="401400" cy="331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12920" y="260640"/>
            <a:ext cx="3593520" cy="59472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Пример 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5440" y="260640"/>
            <a:ext cx="3593520" cy="594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Пример 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10" name="Group 38"/>
          <p:cNvGrpSpPr/>
          <p:nvPr/>
        </p:nvGrpSpPr>
        <p:grpSpPr>
          <a:xfrm>
            <a:off x="4351320" y="914400"/>
            <a:ext cx="4332240" cy="5713920"/>
            <a:chOff x="4351320" y="914400"/>
            <a:chExt cx="4332240" cy="5713920"/>
          </a:xfrm>
        </p:grpSpPr>
        <p:grpSp>
          <p:nvGrpSpPr>
            <p:cNvPr id="411" name="Group 37"/>
            <p:cNvGrpSpPr/>
            <p:nvPr/>
          </p:nvGrpSpPr>
          <p:grpSpPr>
            <a:xfrm>
              <a:off x="4351320" y="914400"/>
              <a:ext cx="4332240" cy="5713920"/>
              <a:chOff x="4351320" y="914400"/>
              <a:chExt cx="4332240" cy="5713920"/>
            </a:xfrm>
          </p:grpSpPr>
          <p:grpSp>
            <p:nvGrpSpPr>
              <p:cNvPr id="412" name="Group 36"/>
              <p:cNvGrpSpPr/>
              <p:nvPr/>
            </p:nvGrpSpPr>
            <p:grpSpPr>
              <a:xfrm>
                <a:off x="4351320" y="914400"/>
                <a:ext cx="4332240" cy="5713920"/>
                <a:chOff x="4351320" y="914400"/>
                <a:chExt cx="4332240" cy="5713920"/>
              </a:xfrm>
            </p:grpSpPr>
            <p:sp>
              <p:nvSpPr>
                <p:cNvPr id="413" name="Rectangle 5"/>
                <p:cNvSpPr/>
                <p:nvPr/>
              </p:nvSpPr>
              <p:spPr>
                <a:xfrm>
                  <a:off x="4351320" y="914400"/>
                  <a:ext cx="4332240" cy="571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4" name="Group 7"/>
                <p:cNvGrpSpPr/>
                <p:nvPr/>
              </p:nvGrpSpPr>
              <p:grpSpPr>
                <a:xfrm>
                  <a:off x="4787640" y="1127160"/>
                  <a:ext cx="3423600" cy="409320"/>
                  <a:chOff x="4787640" y="1127160"/>
                  <a:chExt cx="3423600" cy="409320"/>
                </a:xfrm>
              </p:grpSpPr>
              <p:sp>
                <p:nvSpPr>
                  <p:cNvPr id="415" name="AutoShape 8"/>
                  <p:cNvSpPr/>
                  <p:nvPr/>
                </p:nvSpPr>
                <p:spPr>
                  <a:xfrm>
                    <a:off x="4787640" y="1127160"/>
                    <a:ext cx="3423600" cy="4093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Text Box 9"/>
                  <p:cNvSpPr/>
                  <p:nvPr/>
                </p:nvSpPr>
                <p:spPr>
                  <a:xfrm>
                    <a:off x="5167440" y="1127160"/>
                    <a:ext cx="2537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начал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10"/>
                <p:cNvGrpSpPr/>
                <p:nvPr/>
              </p:nvGrpSpPr>
              <p:grpSpPr>
                <a:xfrm>
                  <a:off x="4786200" y="1849320"/>
                  <a:ext cx="3402720" cy="532440"/>
                  <a:chOff x="4786200" y="1849320"/>
                  <a:chExt cx="3402720" cy="532440"/>
                </a:xfrm>
              </p:grpSpPr>
              <p:sp>
                <p:nvSpPr>
                  <p:cNvPr id="418" name="AutoShape 11"/>
                  <p:cNvSpPr/>
                  <p:nvPr/>
                </p:nvSpPr>
                <p:spPr>
                  <a:xfrm>
                    <a:off x="4786200" y="1849320"/>
                    <a:ext cx="3402720" cy="53244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Text Box 12"/>
                  <p:cNvSpPr/>
                  <p:nvPr/>
                </p:nvSpPr>
                <p:spPr>
                  <a:xfrm>
                    <a:off x="5178600" y="1867680"/>
                    <a:ext cx="2387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ввод: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A, B, 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4824000" y="4976280"/>
                  <a:ext cx="3372840" cy="510480"/>
                  <a:chOff x="4824000" y="4976280"/>
                  <a:chExt cx="3372840" cy="510480"/>
                </a:xfrm>
              </p:grpSpPr>
              <p:sp>
                <p:nvSpPr>
                  <p:cNvPr id="421" name="AutoShape 14"/>
                  <p:cNvSpPr/>
                  <p:nvPr/>
                </p:nvSpPr>
                <p:spPr>
                  <a:xfrm>
                    <a:off x="4824000" y="4976280"/>
                    <a:ext cx="3372840" cy="51048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Text Box 15"/>
                  <p:cNvSpPr/>
                  <p:nvPr/>
                </p:nvSpPr>
                <p:spPr>
                  <a:xfrm>
                    <a:off x="5325480" y="5004360"/>
                    <a:ext cx="26229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вывод: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4768560" y="5835960"/>
                  <a:ext cx="3425040" cy="409320"/>
                  <a:chOff x="4768560" y="5835960"/>
                  <a:chExt cx="3425040" cy="409320"/>
                </a:xfrm>
              </p:grpSpPr>
              <p:sp>
                <p:nvSpPr>
                  <p:cNvPr id="424" name="AutoShape 17"/>
                  <p:cNvSpPr/>
                  <p:nvPr/>
                </p:nvSpPr>
                <p:spPr>
                  <a:xfrm>
                    <a:off x="4768560" y="5835960"/>
                    <a:ext cx="3425040" cy="4093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Text Box 18"/>
                  <p:cNvSpPr/>
                  <p:nvPr/>
                </p:nvSpPr>
                <p:spPr>
                  <a:xfrm>
                    <a:off x="5529960" y="5835960"/>
                    <a:ext cx="1899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конец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32"/>
                <p:cNvGrpSpPr/>
                <p:nvPr/>
              </p:nvGrpSpPr>
              <p:grpSpPr>
                <a:xfrm>
                  <a:off x="4771800" y="2728800"/>
                  <a:ext cx="3425040" cy="783000"/>
                  <a:chOff x="4771800" y="2728800"/>
                  <a:chExt cx="3425040" cy="783000"/>
                </a:xfrm>
              </p:grpSpPr>
              <p:sp>
                <p:nvSpPr>
                  <p:cNvPr id="427" name="Rectangle 23"/>
                  <p:cNvSpPr/>
                  <p:nvPr/>
                </p:nvSpPr>
                <p:spPr>
                  <a:xfrm>
                    <a:off x="4771800" y="2728800"/>
                    <a:ext cx="3425040" cy="78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         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P</a:t>
                    </a:r>
                    <a:r>
                      <a:rPr b="1" lang="ru-RU" sz="24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entury Schoolbook"/>
                      </a:rPr>
                      <a:t>=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428" name="Object 2"/>
                      <p:cNvSpPr txBox="1"/>
                      <p:nvPr/>
                    </p:nvSpPr>
                    <p:spPr>
                      <a:xfrm>
                        <a:off x="6433920" y="2840400"/>
                        <a:ext cx="1033920" cy="635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429" name="AutoShape 34"/>
                <p:cNvSpPr/>
                <p:nvPr/>
              </p:nvSpPr>
              <p:spPr>
                <a:xfrm>
                  <a:off x="4773240" y="3833640"/>
                  <a:ext cx="3428640" cy="830160"/>
                </a:xfrm>
                <a:prstGeom prst="flowChartProcess">
                  <a:avLst/>
                </a:prstGeom>
                <a:solidFill>
                  <a:srgbClr val="ffff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30" name="Object 3"/>
                  <p:cNvSpPr txBox="1"/>
                  <p:nvPr/>
                </p:nvSpPr>
                <p:spPr>
                  <a:xfrm>
                    <a:off x="5263920" y="4003560"/>
                    <a:ext cx="2918880" cy="404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31" name="Line 19"/>
            <p:cNvSpPr/>
            <p:nvPr/>
          </p:nvSpPr>
          <p:spPr>
            <a:xfrm>
              <a:off x="6515280" y="15570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0"/>
            <p:cNvSpPr/>
            <p:nvPr/>
          </p:nvSpPr>
          <p:spPr>
            <a:xfrm>
              <a:off x="6513480" y="2396880"/>
              <a:ext cx="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1"/>
            <p:cNvSpPr/>
            <p:nvPr/>
          </p:nvSpPr>
          <p:spPr>
            <a:xfrm>
              <a:off x="6519960" y="465912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5"/>
            <p:cNvSpPr/>
            <p:nvPr/>
          </p:nvSpPr>
          <p:spPr>
            <a:xfrm>
              <a:off x="6523200" y="352332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2"/>
            <p:cNvSpPr/>
            <p:nvPr/>
          </p:nvSpPr>
          <p:spPr>
            <a:xfrm>
              <a:off x="6510240" y="55008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Группа 63"/>
          <p:cNvGrpSpPr/>
          <p:nvPr/>
        </p:nvGrpSpPr>
        <p:grpSpPr>
          <a:xfrm>
            <a:off x="0" y="1143000"/>
            <a:ext cx="4114080" cy="5714640"/>
            <a:chOff x="0" y="1143000"/>
            <a:chExt cx="4114080" cy="5714640"/>
          </a:xfrm>
        </p:grpSpPr>
        <p:grpSp>
          <p:nvGrpSpPr>
            <p:cNvPr id="437" name="Group 36"/>
            <p:cNvGrpSpPr/>
            <p:nvPr/>
          </p:nvGrpSpPr>
          <p:grpSpPr>
            <a:xfrm>
              <a:off x="0" y="1143000"/>
              <a:ext cx="4114080" cy="5714640"/>
              <a:chOff x="0" y="1143000"/>
              <a:chExt cx="4114080" cy="5714640"/>
            </a:xfrm>
          </p:grpSpPr>
          <p:sp>
            <p:nvSpPr>
              <p:cNvPr id="438" name="Rectangle 5"/>
              <p:cNvSpPr/>
              <p:nvPr/>
            </p:nvSpPr>
            <p:spPr>
              <a:xfrm>
                <a:off x="0" y="1143000"/>
                <a:ext cx="3991320" cy="571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Group 7"/>
              <p:cNvGrpSpPr/>
              <p:nvPr/>
            </p:nvGrpSpPr>
            <p:grpSpPr>
              <a:xfrm>
                <a:off x="792720" y="1205640"/>
                <a:ext cx="3321360" cy="420480"/>
                <a:chOff x="792720" y="1205640"/>
                <a:chExt cx="3321360" cy="420480"/>
              </a:xfrm>
            </p:grpSpPr>
            <p:sp>
              <p:nvSpPr>
                <p:cNvPr id="440" name="AutoShape 8"/>
                <p:cNvSpPr/>
                <p:nvPr/>
              </p:nvSpPr>
              <p:spPr>
                <a:xfrm>
                  <a:off x="792720" y="1205640"/>
                  <a:ext cx="3321360" cy="420480"/>
                </a:xfrm>
                <a:prstGeom prst="flowChartTerminator">
                  <a:avLst/>
                </a:prstGeom>
                <a:solidFill>
                  <a:srgbClr val="ffff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Text Box 9"/>
                <p:cNvSpPr/>
                <p:nvPr/>
              </p:nvSpPr>
              <p:spPr>
                <a:xfrm>
                  <a:off x="1161360" y="1205640"/>
                  <a:ext cx="2461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entury Schoolbook"/>
                    </a:rPr>
                    <a:t>начало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12"/>
              <p:cNvSpPr/>
              <p:nvPr/>
            </p:nvSpPr>
            <p:spPr>
              <a:xfrm>
                <a:off x="1171800" y="1968120"/>
                <a:ext cx="231588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" name="Group 16"/>
              <p:cNvGrpSpPr/>
              <p:nvPr/>
            </p:nvGrpSpPr>
            <p:grpSpPr>
              <a:xfrm>
                <a:off x="686880" y="4418280"/>
                <a:ext cx="3322440" cy="420480"/>
                <a:chOff x="686880" y="4418280"/>
                <a:chExt cx="3322440" cy="420480"/>
              </a:xfrm>
            </p:grpSpPr>
            <p:sp>
              <p:nvSpPr>
                <p:cNvPr id="444" name="AutoShape 17"/>
                <p:cNvSpPr/>
                <p:nvPr/>
              </p:nvSpPr>
              <p:spPr>
                <a:xfrm>
                  <a:off x="686880" y="4418280"/>
                  <a:ext cx="3322440" cy="420480"/>
                </a:xfrm>
                <a:prstGeom prst="flowChartTerminator">
                  <a:avLst/>
                </a:prstGeom>
                <a:solidFill>
                  <a:srgbClr val="ffffff"/>
                </a:solidFill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18"/>
                <p:cNvSpPr/>
                <p:nvPr/>
              </p:nvSpPr>
              <p:spPr>
                <a:xfrm>
                  <a:off x="1370520" y="4418280"/>
                  <a:ext cx="184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entury Schoolbook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Rectangle 23"/>
              <p:cNvSpPr/>
              <p:nvPr/>
            </p:nvSpPr>
            <p:spPr>
              <a:xfrm>
                <a:off x="739080" y="2005200"/>
                <a:ext cx="3322800" cy="8049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Schoolbook"/>
                  </a:rPr>
                  <a:t>    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Century Schoolbook"/>
                    <a:ea typeface="Arial"/>
                  </a:rPr>
                  <a:t>Пойду на речк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34"/>
              <p:cNvSpPr/>
              <p:nvPr/>
            </p:nvSpPr>
            <p:spPr>
              <a:xfrm>
                <a:off x="664920" y="3179160"/>
                <a:ext cx="3326040" cy="853200"/>
              </a:xfrm>
              <a:prstGeom prst="flowChartProcess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Century Schoolbook"/>
                  </a:rPr>
                  <a:t>Буду загора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Line 19"/>
            <p:cNvSpPr/>
            <p:nvPr/>
          </p:nvSpPr>
          <p:spPr>
            <a:xfrm>
              <a:off x="2468520" y="1647360"/>
              <a:ext cx="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21"/>
            <p:cNvSpPr/>
            <p:nvPr/>
          </p:nvSpPr>
          <p:spPr>
            <a:xfrm>
              <a:off x="2439360" y="4040280"/>
              <a:ext cx="0" cy="33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439360" y="2788200"/>
              <a:ext cx="0" cy="33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РЕШЕНИЕ ЗАДАЧ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3962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№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</a:t>
            </a:r>
            <a:br>
              <a:rPr sz="2400"/>
            </a:br>
            <a:r>
              <a:rPr b="1" lang="ru-RU" sz="2400" spc="-1" strike="noStrike">
                <a:solidFill>
                  <a:srgbClr val="3668c4"/>
                </a:solidFill>
                <a:latin typeface="Century Schoolbook"/>
              </a:rPr>
              <a:t>И</a:t>
            </a:r>
            <a:r>
              <a:rPr b="1" lang="ru-RU" sz="2000" spc="-1" strike="noStrike">
                <a:solidFill>
                  <a:srgbClr val="3668c4"/>
                </a:solidFill>
                <a:latin typeface="Century Schoolbook"/>
              </a:rPr>
              <a:t>СПОЛЬЗУЯ БЛОК-СХЕМУ АЛГОРИТМА 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ВЫЧИСЛИТЕ ЗНАЧЕНИЕ ФУНКЦИИ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Y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И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X=2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чало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 = 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 = 8 * 2 = 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 =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√16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= 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Z = 4 – 1 = 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Y = 3 * 2 = 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Y = 6 / 3 = 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конец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55" name="Group 47"/>
          <p:cNvGrpSpPr/>
          <p:nvPr/>
        </p:nvGrpSpPr>
        <p:grpSpPr>
          <a:xfrm>
            <a:off x="4433760" y="100080"/>
            <a:ext cx="4529160" cy="6710400"/>
            <a:chOff x="4433760" y="100080"/>
            <a:chExt cx="4529160" cy="6710400"/>
          </a:xfrm>
        </p:grpSpPr>
        <p:sp>
          <p:nvSpPr>
            <p:cNvPr id="456" name="Rectangle 5"/>
            <p:cNvSpPr/>
            <p:nvPr/>
          </p:nvSpPr>
          <p:spPr>
            <a:xfrm>
              <a:off x="4433760" y="100080"/>
              <a:ext cx="4529160" cy="67104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7"/>
            <p:cNvGrpSpPr/>
            <p:nvPr/>
          </p:nvGrpSpPr>
          <p:grpSpPr>
            <a:xfrm>
              <a:off x="4933800" y="452520"/>
              <a:ext cx="3578040" cy="398880"/>
              <a:chOff x="4933800" y="452520"/>
              <a:chExt cx="3578040" cy="398880"/>
            </a:xfrm>
          </p:grpSpPr>
          <p:sp>
            <p:nvSpPr>
              <p:cNvPr id="458" name="AutoShape 8"/>
              <p:cNvSpPr/>
              <p:nvPr/>
            </p:nvSpPr>
            <p:spPr>
              <a:xfrm>
                <a:off x="4933800" y="452520"/>
                <a:ext cx="3578040" cy="3603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9"/>
              <p:cNvSpPr/>
              <p:nvPr/>
            </p:nvSpPr>
            <p:spPr>
              <a:xfrm>
                <a:off x="5330880" y="452520"/>
                <a:ext cx="265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0"/>
            <p:cNvGrpSpPr/>
            <p:nvPr/>
          </p:nvGrpSpPr>
          <p:grpSpPr>
            <a:xfrm>
              <a:off x="4930560" y="1030320"/>
              <a:ext cx="3557160" cy="468360"/>
              <a:chOff x="4930560" y="1030320"/>
              <a:chExt cx="3557160" cy="468360"/>
            </a:xfrm>
          </p:grpSpPr>
          <p:sp>
            <p:nvSpPr>
              <p:cNvPr id="461" name="AutoShape 11"/>
              <p:cNvSpPr/>
              <p:nvPr/>
            </p:nvSpPr>
            <p:spPr>
              <a:xfrm>
                <a:off x="4930560" y="1030320"/>
                <a:ext cx="3557160" cy="46836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2"/>
              <p:cNvSpPr/>
              <p:nvPr/>
            </p:nvSpPr>
            <p:spPr>
              <a:xfrm>
                <a:off x="5340600" y="1047600"/>
                <a:ext cx="2495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3"/>
            <p:cNvGrpSpPr/>
            <p:nvPr/>
          </p:nvGrpSpPr>
          <p:grpSpPr>
            <a:xfrm>
              <a:off x="4835520" y="5510160"/>
              <a:ext cx="3525480" cy="448920"/>
              <a:chOff x="4835520" y="5510160"/>
              <a:chExt cx="3525480" cy="448920"/>
            </a:xfrm>
          </p:grpSpPr>
          <p:sp>
            <p:nvSpPr>
              <p:cNvPr id="464" name="AutoShape 14"/>
              <p:cNvSpPr/>
              <p:nvPr/>
            </p:nvSpPr>
            <p:spPr>
              <a:xfrm>
                <a:off x="4835520" y="5510160"/>
                <a:ext cx="3525480" cy="448920"/>
              </a:xfrm>
              <a:prstGeom prst="flowChartInputOutpu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5"/>
              <p:cNvSpPr/>
              <p:nvPr/>
            </p:nvSpPr>
            <p:spPr>
              <a:xfrm>
                <a:off x="5359680" y="5534640"/>
                <a:ext cx="274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ы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16"/>
            <p:cNvGrpSpPr/>
            <p:nvPr/>
          </p:nvGrpSpPr>
          <p:grpSpPr>
            <a:xfrm>
              <a:off x="4863960" y="6156360"/>
              <a:ext cx="3579480" cy="398880"/>
              <a:chOff x="4863960" y="6156360"/>
              <a:chExt cx="3579480" cy="398880"/>
            </a:xfrm>
          </p:grpSpPr>
          <p:sp>
            <p:nvSpPr>
              <p:cNvPr id="467" name="AutoShape 17"/>
              <p:cNvSpPr/>
              <p:nvPr/>
            </p:nvSpPr>
            <p:spPr>
              <a:xfrm>
                <a:off x="4863960" y="6156360"/>
                <a:ext cx="3579480" cy="360360"/>
              </a:xfrm>
              <a:prstGeom prst="flowChartTerminator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8"/>
              <p:cNvSpPr/>
              <p:nvPr/>
            </p:nvSpPr>
            <p:spPr>
              <a:xfrm>
                <a:off x="5659560" y="6156360"/>
                <a:ext cx="198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Rectangle 19"/>
            <p:cNvSpPr/>
            <p:nvPr/>
          </p:nvSpPr>
          <p:spPr>
            <a:xfrm>
              <a:off x="4894200" y="1693800"/>
              <a:ext cx="3583080" cy="57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 = 8 *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1"/>
            <p:cNvSpPr/>
            <p:nvPr/>
          </p:nvSpPr>
          <p:spPr>
            <a:xfrm flipH="1">
              <a:off x="6703920" y="819360"/>
              <a:ext cx="14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26"/>
            <p:cNvSpPr/>
            <p:nvPr/>
          </p:nvSpPr>
          <p:spPr>
            <a:xfrm>
              <a:off x="4905360" y="3247920"/>
              <a:ext cx="3582720" cy="53352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Z = Z -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9"/>
            <p:cNvSpPr/>
            <p:nvPr/>
          </p:nvSpPr>
          <p:spPr>
            <a:xfrm>
              <a:off x="4890960" y="4014720"/>
              <a:ext cx="3583080" cy="53496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 = 3 *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37"/>
            <p:cNvGrpSpPr/>
            <p:nvPr/>
          </p:nvGrpSpPr>
          <p:grpSpPr>
            <a:xfrm>
              <a:off x="4917960" y="2489400"/>
              <a:ext cx="3583080" cy="554040"/>
              <a:chOff x="4917960" y="2489400"/>
              <a:chExt cx="3583080" cy="554040"/>
            </a:xfrm>
          </p:grpSpPr>
          <p:sp>
            <p:nvSpPr>
              <p:cNvPr id="474" name="AutoShape 20"/>
              <p:cNvSpPr/>
              <p:nvPr/>
            </p:nvSpPr>
            <p:spPr>
              <a:xfrm>
                <a:off x="4917960" y="2489400"/>
                <a:ext cx="3583080" cy="554040"/>
              </a:xfrm>
              <a:prstGeom prst="flowChartProcess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Z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5" name="Object 2"/>
                  <p:cNvSpPr txBox="1"/>
                  <p:nvPr/>
                </p:nvSpPr>
                <p:spPr>
                  <a:xfrm>
                    <a:off x="6924600" y="2546640"/>
                    <a:ext cx="509400" cy="412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Z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76" name="AutoShape 38"/>
            <p:cNvSpPr/>
            <p:nvPr/>
          </p:nvSpPr>
          <p:spPr>
            <a:xfrm>
              <a:off x="4881600" y="4773600"/>
              <a:ext cx="3582720" cy="53496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 = Y / 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9"/>
            <p:cNvSpPr/>
            <p:nvPr/>
          </p:nvSpPr>
          <p:spPr>
            <a:xfrm flipH="1">
              <a:off x="6693840" y="1508040"/>
              <a:ext cx="1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0"/>
            <p:cNvSpPr/>
            <p:nvPr/>
          </p:nvSpPr>
          <p:spPr>
            <a:xfrm flipH="1">
              <a:off x="6684840" y="2274840"/>
              <a:ext cx="14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1"/>
            <p:cNvSpPr/>
            <p:nvPr/>
          </p:nvSpPr>
          <p:spPr>
            <a:xfrm flipH="1">
              <a:off x="6684840" y="3032280"/>
              <a:ext cx="14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2"/>
            <p:cNvSpPr/>
            <p:nvPr/>
          </p:nvSpPr>
          <p:spPr>
            <a:xfrm flipH="1">
              <a:off x="6684840" y="3789360"/>
              <a:ext cx="14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3"/>
            <p:cNvSpPr/>
            <p:nvPr/>
          </p:nvSpPr>
          <p:spPr>
            <a:xfrm flipH="1">
              <a:off x="6684840" y="4556160"/>
              <a:ext cx="14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4"/>
            <p:cNvSpPr/>
            <p:nvPr/>
          </p:nvSpPr>
          <p:spPr>
            <a:xfrm flipH="1">
              <a:off x="6693840" y="5305320"/>
              <a:ext cx="1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45"/>
            <p:cNvSpPr/>
            <p:nvPr/>
          </p:nvSpPr>
          <p:spPr>
            <a:xfrm flipH="1">
              <a:off x="6684840" y="5954760"/>
              <a:ext cx="144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орелова А.В.</dc:creator>
  <dc:description/>
  <dc:language>en-US</dc:language>
  <cp:lastModifiedBy>Информатика</cp:lastModifiedBy>
  <dcterms:modified xsi:type="dcterms:W3CDTF">2014-01-30T05:20:4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