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5.png" ContentType="image/png"/>
  <Override PartName="/ppt/media/image5.png" ContentType="image/png"/>
  <Override PartName="/ppt/media/image43.jpeg" ContentType="image/jpeg"/>
  <Override PartName="/ppt/media/image4.png" ContentType="image/png"/>
  <Override PartName="/ppt/media/image12.wmf" ContentType="image/x-wmf"/>
  <Override PartName="/ppt/media/image27.png" ContentType="image/png"/>
  <Override PartName="/ppt/media/image33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13.gif" ContentType="image/gif"/>
  <Override PartName="/ppt/media/image16.png" ContentType="image/png"/>
  <Override PartName="/ppt/media/image30.jpeg" ContentType="image/jpeg"/>
  <Override PartName="/ppt/media/image41.jpeg" ContentType="image/jpeg"/>
  <Override PartName="/ppt/media/image45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42.jpeg" ContentType="image/jpeg"/>
  <Override PartName="/ppt/media/image6.png" ContentType="image/png"/>
  <Override PartName="/ppt/media/image14.wmf" ContentType="image/x-wmf"/>
  <Override PartName="/ppt/media/image3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F63-E8ED-4E39-8573-20B52E28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4EA-7083-437C-85F9-0F129CC2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80E-562B-4D56-9C72-A6639AAB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1C0-4AA9-41C6-800E-78804559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8C8-F329-4550-8393-0DBCDED1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E00-6006-49EA-99EF-F97BCF7E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8C7-79FA-43C8-81FB-5F4AD99A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334-F403-495E-ACFF-A1C1B19A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D3A-B7D8-464A-9057-B4E10E77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16F-0A4D-4402-8B50-58A72F45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733-EE9B-467B-BC40-4D54544D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4BC-89D5-441A-BA8C-C7F6D9B7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0700-0B90-4724-8322-BA3780B0E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1557360"/>
            <a:ext cx="75596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 Antiqua"/>
              </a:rPr>
              <a:t>Учебны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 Antiqua"/>
              </a:rPr>
              <a:t>«Математика и здоров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Book Antiqua"/>
              </a:rPr>
              <a:t>Выполнили ученики 5 «Б» кла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Book Antiqua"/>
              </a:rPr>
              <a:t>    </a:t>
            </a: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Баранова Е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      </a:t>
            </a: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Ходакова Ар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      </a:t>
            </a: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Воробьёва По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Богатырёва Анна Константин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835280" y="69228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десятичных дробях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36720"/>
            <a:ext cx="7128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К десятичным дробям математики пришли в разные времена в Азии и Евр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Целую часть от дробной отделяли в Китае особым знаком «дянь» (точка). Большое внимание дробям уделял средне-азиатский учёный аль-Коши. В Европе дроби были «открыты» нидерландским математиком и инженером С. Стев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В России впервые изложил учение о десятичных дробях Леонтий Магницкий в своей «Арифметик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63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81,-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87280" y="798120"/>
            <a:ext cx="763272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alisto MT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Calisto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Дроби возникли из практических нужд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2. Задачи трехвековой давности актуальны и сейчас. Их решение требует немалой смекалки, сообразительности и умения рассужд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3. Старинные меры нужно знать не только для развития своего кругозора, но и потому что без прошлого невозможно будущ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475400" y="404640"/>
            <a:ext cx="13860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16000" y="1700280"/>
            <a:ext cx="67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Исследовательская работа груп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груп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«Валеологов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270920" y="765000"/>
            <a:ext cx="1873080" cy="1495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68360" y="4508640"/>
            <a:ext cx="23302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9640" y="54936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Calisto MT"/>
              </a:rPr>
              <a:t>Есть ли дроби в нашей жиз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276640"/>
            <a:ext cx="67690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Calisto MT"/>
              </a:rPr>
              <a:t>Цели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Узнать, где используются десятичные дроб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быту и в работе людей разных 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Составить примерный режим дня для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5-го класса с использованием десят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Составить примерное меню для ученика 5-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класса с использованием десятичных дробей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1341360"/>
            <a:ext cx="7561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Был проведен опрос среди родителей пятиклассников и учителей для выявления, где используются десятичные дроби в быту и в работе людей разных профе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После чего проанализировали получ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alisto MT"/>
              </a:rPr>
              <a:t>Ответы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sto MT"/>
              </a:rPr>
              <a:t>● </a:t>
            </a:r>
            <a:r>
              <a:rPr b="1" i="1" lang="en-US" sz="2400" spc="-1" strike="noStrike">
                <a:solidFill>
                  <a:srgbClr val="000000"/>
                </a:solidFill>
                <a:latin typeface="Calisto MT"/>
              </a:rPr>
              <a:t>Десятичные дроби нужны швее для измерения длины издели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692280"/>
            <a:ext cx="67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620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alisto MT"/>
              </a:rPr>
              <a:t>Для ответа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C:\Users\ОЛЬГА\ЕВА\швея.jpg"/>
          <p:cNvPicPr/>
          <p:nvPr/>
        </p:nvPicPr>
        <p:blipFill>
          <a:blip r:embed="rId2"/>
          <a:stretch/>
        </p:blipFill>
        <p:spPr>
          <a:xfrm>
            <a:off x="3924360" y="5238720"/>
            <a:ext cx="12668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1" descr="http://dic.academic.ru/pictures/wiki/files/50/220px-Boiler_man.jpg"/>
          <p:cNvPicPr/>
          <p:nvPr/>
        </p:nvPicPr>
        <p:blipFill>
          <a:blip r:embed="rId2"/>
          <a:stretch/>
        </p:blipFill>
        <p:spPr>
          <a:xfrm>
            <a:off x="4067280" y="1268280"/>
            <a:ext cx="1533600" cy="1152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9" descr="C:\Users\ОЛЬГА\ЕВА\200px-GMAW.welding.af.ncs.jpg"/>
          <p:cNvPicPr/>
          <p:nvPr/>
        </p:nvPicPr>
        <p:blipFill>
          <a:blip r:embed="rId3"/>
          <a:stretch/>
        </p:blipFill>
        <p:spPr>
          <a:xfrm>
            <a:off x="4211640" y="2997360"/>
            <a:ext cx="1219320" cy="1361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2" descr="http://t1.gstatic.com/images?q=tbn:ANd9GcSU_yI6wLLhYi3_aFQ-qVadyHxNdtLgJVdbSZetdKeey5uVsPAPoflp6w"/>
          <p:cNvPicPr/>
          <p:nvPr/>
        </p:nvPicPr>
        <p:blipFill>
          <a:blip r:embed="rId4"/>
          <a:stretch/>
        </p:blipFill>
        <p:spPr>
          <a:xfrm>
            <a:off x="3492360" y="5200560"/>
            <a:ext cx="2951280" cy="205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76360" y="64116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Тем, кто работает оператором теплосетей, нужны десятичные дроби для повышения и понижения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93680" y="2328480"/>
            <a:ext cx="77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Сварщикам десятичные дроби нужны для измерения длины сваренной трубы и ширины сварочного ш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93680" y="4362840"/>
            <a:ext cx="80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ровизоры используют десятичные дроби при приготовлении лекар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561600" cy="7479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C:\Users\ОЛЬГА\ЕВА\повар.jpg"/>
          <p:cNvPicPr/>
          <p:nvPr/>
        </p:nvPicPr>
        <p:blipFill>
          <a:blip r:embed="rId2"/>
          <a:stretch/>
        </p:blipFill>
        <p:spPr>
          <a:xfrm>
            <a:off x="3924360" y="1628640"/>
            <a:ext cx="148572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C:\Users\ОЛЬГА\ЕВА\парикмахер.jpg"/>
          <p:cNvPicPr/>
          <p:nvPr/>
        </p:nvPicPr>
        <p:blipFill>
          <a:blip r:embed="rId3"/>
          <a:stretch/>
        </p:blipFill>
        <p:spPr>
          <a:xfrm>
            <a:off x="1835280" y="4221000"/>
            <a:ext cx="1485720" cy="1905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47640" y="92520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овара применяют десятичные дроби для составления мен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235440" y="3626280"/>
            <a:ext cx="951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арикмахер применяет десятичные дроби для приготовления раствор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окраски волос и для завивки</a:t>
            </a:r>
            <a:r>
              <a:rPr b="1" i="1" lang="en-US" sz="1100" spc="-1" strike="noStrike">
                <a:solidFill>
                  <a:srgbClr val="000000"/>
                </a:solidFill>
                <a:latin typeface="Calisto MT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66009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В кулинарии при приготовлении блюд по рецеп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6" descr="http://t2.gstatic.com/images?q=tbn:ANd9GcTbk3w-QX8Ygfal-7PVeasZb8Q6j-FDAQ46bStz-7Pr8onSvPP_ejrLguQ"/>
          <p:cNvPicPr/>
          <p:nvPr/>
        </p:nvPicPr>
        <p:blipFill>
          <a:blip r:embed="rId4"/>
          <a:stretch/>
        </p:blipFill>
        <p:spPr>
          <a:xfrm>
            <a:off x="6227640" y="4437000"/>
            <a:ext cx="1324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7" descr="http://t3.gstatic.com/images?q=tbn:ANd9GcRbYn65pSEX6Tf-Dgxb6HB68ELCtNTmDLVmxg5-TWFzKiTxsetpovLj7ucv"/>
          <p:cNvPicPr/>
          <p:nvPr/>
        </p:nvPicPr>
        <p:blipFill>
          <a:blip r:embed="rId2"/>
          <a:stretch/>
        </p:blipFill>
        <p:spPr>
          <a:xfrm>
            <a:off x="1652760" y="561960"/>
            <a:ext cx="1257120" cy="1752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" descr="C:\Users\ОЛЬГА\ЕВА\бухгалтер.jpg"/>
          <p:cNvPicPr/>
          <p:nvPr/>
        </p:nvPicPr>
        <p:blipFill>
          <a:blip r:embed="rId3"/>
          <a:stretch/>
        </p:blipFill>
        <p:spPr>
          <a:xfrm>
            <a:off x="611280" y="2421000"/>
            <a:ext cx="1085760" cy="15429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:\Users\ОЛЬГА\ЕВА\строитель.jpg"/>
          <p:cNvPicPr/>
          <p:nvPr/>
        </p:nvPicPr>
        <p:blipFill>
          <a:blip r:embed="rId4"/>
          <a:stretch/>
        </p:blipFill>
        <p:spPr>
          <a:xfrm>
            <a:off x="3132000" y="3933720"/>
            <a:ext cx="1965600" cy="2519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03640" y="403560"/>
            <a:ext cx="576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В магазине при взвешивании товар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2329560"/>
            <a:ext cx="74916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Экономисты и бухгалтеры используют десятичные дроби для составления отчетов, расчето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329544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Строители используют десятичные дроби для составления см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5092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alisto MT"/>
              </a:rPr>
              <a:t>Исслед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1339920"/>
            <a:ext cx="698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тям 11-15 лет на каждый килограмм своей массы необходимо употреблять в день: белков – 1,8 г, жиров -1,8 г, углеводов – 7,8 г. Посчитайте приближенно до граммов сколько должен употреблять ежедневно белков, жиров и углеводов мальчик 11 лет, масса которого равна 36,9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4304160"/>
            <a:ext cx="70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Белков – 66,4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Жиров – 66,4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Углеводов – 287,8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03280" y="686880"/>
            <a:ext cx="7489800" cy="54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alisto MT"/>
              </a:rPr>
              <a:t>Рацион питания (мальчик, 11 лет, вес 36,9 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ервый завтрак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ша (пшенная, овсяная, гречневая), горячий напиток (кофе, чай, какао), компот или моло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торой завтрак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омлет или сырники, горячий напиток (кофе, чай, какао), компот или моло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бед: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ощной салат, первое - суп, второе – блюдо из мяса или рыбы и гарнир (каша или картофельное пюре), комп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олдник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ефир или питьевой йогурт, печенье с добавлением цельных злаков, фр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Ужин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людо из овощей или творога, кефир или йогу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-й завтрак дома (7-8 часов) – 20% калорийности суточного рациона; 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-й завтрак  в школе (10-11 часов) – 20% калорийности суточного рациона; 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бед дома или в школе (13-15 часов) – 35% калорийности суточного рациона;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Ужин дома(19-20 часов) – 25% калорийности суточного рацион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1656000" cy="1103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50920" y="3068640"/>
            <a:ext cx="1447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35280" y="1195200"/>
            <a:ext cx="6986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alibri"/>
              </a:rPr>
              <a:t>Краткая аннотация проект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ект 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"Математика и здоровье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назначен для учащихся 5-6 классов. Цель данного проекта – исследовать применение дробей в области математики, биологии, экологии,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187280" y="5799600"/>
            <a:ext cx="566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4005360"/>
            <a:ext cx="64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alibri"/>
              </a:rPr>
              <a:t>Проблем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Зачем возникли дроб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Есть ли дроби в нашей жизн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Как знания дробей могут повлиять на нашу жизнь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5092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alisto MT"/>
              </a:rPr>
              <a:t>Исслед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1203120"/>
            <a:ext cx="698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ебные занятия в школе занимают 25% времени суток. Продолжительность ночного сна должно быть в 1,5 раза больше времени, проводимого в школе, не менее 1/16 части суток должен составлять активный отдых на свежем воздухе. Подготовка домашнего задания должна занимать 5/18 от времени, отведенного на учебные занятия. Досуг составляет около 1,8 времени от времени приготовления уроков дома. Время провождения около телевизора не должно превышать 1/6 части вашего досуг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436428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Сон – 9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Занятия в школе – 6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Прогулка – 1час 3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Подготовка дом задания – 1 час 40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Отдых – 3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Телевизор – 30 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76360" y="476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alisto MT"/>
              </a:rPr>
              <a:t>Примерный режим дня школьника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.00 – Подъ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.00-7.30 – Утренняя гимнастика, водные процедуры, уборка пост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туа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.30-7-50 – Утренний завт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.50-8.20 – Дорога в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8.30-14.40 – Занятия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0.00 – Горячий завтрак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3.00-14.00 – Горячий обед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4.40-14.50 – Дорога из школы до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5.00-15.30 – отд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5.30-16.30 – Прогулка и игры на свежем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6.30-16.50 – Пол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7.00-18.10 – Приготовление домашн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8.10-19.00 – Прогулка на свежем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9.00-19.20 – 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9.20-20.30 – Свободны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0.30-21.00 – Приготовление ко с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1.00-7.00 --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55640" y="1341360"/>
            <a:ext cx="792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. Каждодневное меню должно состоять из нужных и полезных продуктов, доли которых определяются ди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2. Постоянное употребление продуктов быстрого приготовления приводит к тяжелым заболев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3. Режим питания должен быть постоянным, чтобы организм успевал перерабатывать пищу, не голодал и не перенасыщ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4. Режим дня строится на основе биоритмов человека и нужен для того, чтобы не уставать и быть всегда в тону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5. Продолжительность суток состоит из множества частей: сон, питание, учеба, различ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6. Десятичные дроби постоянно встречаются в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1280" y="765000"/>
            <a:ext cx="48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alisto MT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734240" y="189000"/>
            <a:ext cx="15638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116000" y="2205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alisto MT"/>
              </a:rPr>
              <a:t>Спасибо за внимание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33130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3280" y="2039400"/>
            <a:ext cx="7201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Работа ведется двумя группами:</a:t>
            </a:r>
            <a:r>
              <a:rPr b="0" i="1" lang="ru-RU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"Историки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зучают историческое происхождение дроби, слова "дробь" и дробной че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"Валеологи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оверяют наличие дробей в режиме дня и рационе питания пятикласс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0920" y="501480"/>
            <a:ext cx="4897440" cy="635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95640" y="1484280"/>
            <a:ext cx="3600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Monotype Corsiva"/>
              </a:rPr>
              <a:t>И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Monotype Corsiva"/>
              </a:rPr>
              <a:t>истор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Monotype Corsiva"/>
              </a:rPr>
              <a:t>д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651640" y="3284640"/>
            <a:ext cx="1830240" cy="14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907920"/>
            <a:ext cx="8805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alisto MT"/>
              </a:rPr>
              <a:t>Результаты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6200" y="2060640"/>
            <a:ext cx="84978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sto MT"/>
              </a:rPr>
              <a:t>           </a:t>
            </a:r>
            <a:r>
              <a:rPr b="1" i="1" lang="en-US" sz="2800" spc="-1" strike="noStrike">
                <a:solidFill>
                  <a:srgbClr val="000000"/>
                </a:solidFill>
                <a:latin typeface="Calisto MT"/>
              </a:rPr>
              <a:t>С древних времен людям приходилось не только считать предметы, но и измерять длину, время, площадь, вести расчеты за купленные или проданные тов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sto MT"/>
              </a:rPr>
              <a:t>Не всегда результат измерения или стоимость товара удавалось выразить натуральным числом. Приходилось учитывать и части, доли меры. Так появились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0132" t="0" r="22397" b="4642"/>
          <a:stretch/>
        </p:blipFill>
        <p:spPr>
          <a:xfrm>
            <a:off x="7451640" y="2781360"/>
            <a:ext cx="1440000" cy="387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451640" y="765000"/>
            <a:ext cx="432000" cy="79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1916280"/>
            <a:ext cx="79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осмотрите, как  изображали дроби в Древнем Егип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rcRect l="8866" t="0" r="3852" b="14059"/>
          <a:stretch/>
        </p:blipFill>
        <p:spPr>
          <a:xfrm>
            <a:off x="900000" y="249228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rcRect l="16667" t="30670" r="11152" b="23110"/>
          <a:stretch/>
        </p:blipFill>
        <p:spPr>
          <a:xfrm>
            <a:off x="2340000" y="2565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rcRect l="15799" t="29124" r="10595" b="19759"/>
          <a:stretch/>
        </p:blipFill>
        <p:spPr>
          <a:xfrm>
            <a:off x="3708360" y="256536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16667" t="30670" r="16791" b="23110"/>
          <a:stretch/>
        </p:blipFill>
        <p:spPr>
          <a:xfrm>
            <a:off x="5219640" y="2565360"/>
            <a:ext cx="863640" cy="433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8000" y="3068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          0 0      00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716280"/>
            <a:ext cx="67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 Древнем Китае вместо черты ставили точ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203640" y="4437000"/>
            <a:ext cx="550800" cy="1157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35280" y="47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4067280" y="4508640"/>
            <a:ext cx="506160" cy="1092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796000" y="5084640"/>
            <a:ext cx="474480" cy="1444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76360" y="57340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Индийцы записывали так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83664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ервой дробью, наверное, была дроб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0" y="115920"/>
            <a:ext cx="150804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71640" y="476280"/>
            <a:ext cx="792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осмотрите, как записывалась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есятичная дробь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5162" t="5436" r="9210" b="17815"/>
          <a:stretch/>
        </p:blipFill>
        <p:spPr>
          <a:xfrm>
            <a:off x="1547640" y="2924280"/>
            <a:ext cx="597708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08720" y="4221000"/>
            <a:ext cx="1697040" cy="229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7164360" y="1484280"/>
            <a:ext cx="100980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0,1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4581360"/>
            <a:ext cx="568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роби на Руси называли ДО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зже ЛОМАНН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старых руководствах наход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ледующие названия дроб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5920"/>
            <a:ext cx="4679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1" lang="en-US" sz="10500" spc="-1" strike="noStrike">
                <a:solidFill>
                  <a:srgbClr val="0099ff"/>
                </a:solidFill>
                <a:latin typeface="Comic Sans MS"/>
              </a:rPr>
              <a:t>р</a:t>
            </a:r>
            <a:r>
              <a:rPr b="1" lang="en-US" sz="10500" spc="-1" strike="noStrike">
                <a:solidFill>
                  <a:srgbClr val="808080"/>
                </a:solidFill>
                <a:latin typeface="Comic Sans MS"/>
              </a:rPr>
              <a:t>о</a:t>
            </a:r>
            <a:r>
              <a:rPr b="1" lang="en-US" sz="10500" spc="-1" strike="noStrike">
                <a:solidFill>
                  <a:srgbClr val="009999"/>
                </a:solidFill>
                <a:latin typeface="Comic Sans MS"/>
              </a:rPr>
              <a:t>б</a:t>
            </a:r>
            <a:r>
              <a:rPr b="1" lang="en-US" sz="10500" spc="-1" strike="noStrike">
                <a:solidFill>
                  <a:srgbClr val="99cc00"/>
                </a:solidFill>
                <a:latin typeface="Comic Sans MS"/>
              </a:rPr>
              <a:t>и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1484280"/>
            <a:ext cx="2519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ff3399"/>
                </a:solidFill>
                <a:latin typeface="Comic Sans MS"/>
              </a:rPr>
              <a:t>н</a:t>
            </a:r>
            <a:r>
              <a:rPr b="1" lang="en-US" sz="10500" spc="-1" strike="noStrike">
                <a:solidFill>
                  <a:srgbClr val="9900cc"/>
                </a:solidFill>
                <a:latin typeface="Comic Sans MS"/>
              </a:rPr>
              <a:t>а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2492280"/>
            <a:ext cx="56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66ff"/>
                </a:solidFill>
                <a:latin typeface="Monotype Corsiva"/>
              </a:rPr>
              <a:t>уси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1428840" cy="1238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172404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3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3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3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оловина, пол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62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-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565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357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Пя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-Пол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155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Седь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2492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-Пол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36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- Деся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41300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-Пол-пол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242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Пол-пол-треть (мал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3573360"/>
            <a:ext cx="262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5050"/>
                </a:solidFill>
                <a:latin typeface="Monotype Corsiva"/>
              </a:rPr>
              <a:t>-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Пол-пол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4581360"/>
            <a:ext cx="352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ff66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Пол-полчеть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(Мал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46040" cy="79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1436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859280" y="1197000"/>
            <a:ext cx="595440" cy="878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1781280" cy="216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995640" y="4437000"/>
            <a:ext cx="584280" cy="863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79280" y="2421000"/>
            <a:ext cx="6699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108000" y="3357720"/>
            <a:ext cx="577800" cy="99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924360" y="260280"/>
            <a:ext cx="5014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2411280" y="1341360"/>
            <a:ext cx="615960" cy="1028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2556000" y="2349360"/>
            <a:ext cx="426960" cy="93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2411280" y="3357720"/>
            <a:ext cx="646200" cy="1074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4932360" y="3500280"/>
            <a:ext cx="749160" cy="8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4859280" y="2133720"/>
            <a:ext cx="587520" cy="110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7093080" y="18900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2:21:03Z</dcterms:created>
  <dc:creator>Customer</dc:creator>
  <dc:description/>
  <dc:language>en-US</dc:language>
  <cp:lastModifiedBy>Customer</cp:lastModifiedBy>
  <dcterms:modified xsi:type="dcterms:W3CDTF">2013-04-25T13:12:37Z</dcterms:modified>
  <cp:revision>5</cp:revision>
  <dc:subject/>
  <dc:title>Слайд 1</dc:title>
</cp:coreProperties>
</file>