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5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13.gif" ContentType="image/gif"/>
  <Override PartName="/ppt/media/image16.png" ContentType="image/png"/>
  <Override PartName="/ppt/media/image30.jpeg" ContentType="image/jpeg"/>
  <Override PartName="/ppt/media/image41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42.jpeg" ContentType="image/jpeg"/>
  <Override PartName="/ppt/media/image6.png" ContentType="image/png"/>
  <Override PartName="/ppt/media/image14.wmf" ContentType="image/x-wmf"/>
  <Override PartName="/ppt/media/image3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0AF-322C-45F7-BC10-95F32EFA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1CF-E939-4E41-B63B-94FB2B0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7A7-B364-4B40-A856-0E252574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847-5272-441F-8A15-A717FDC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8DB-39EF-4848-A6F1-B7F4EE6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B33-A298-47F4-8780-D0240E90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CDE-B33B-4441-AA32-74E4383D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D4F-BACA-4463-9AB2-87EFD178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B78-9116-4AB7-B40B-09E3919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43A-33C5-4DDC-88DE-8F486AA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655-F968-48C4-8506-91496E0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711-DCE6-4F8A-9B1E-857BA5FC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491-2264-405A-A88A-50C807A3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1557360"/>
            <a:ext cx="7559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Учеб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«Математика и здор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Выполнили ученики 5 «Б» 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Баранова 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  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Ходакова А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      </a:t>
            </a: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Воробьё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Богатырёва Анна Константин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835280" y="692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есятичных дробя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36720"/>
            <a:ext cx="712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К десятичным дробям математики пришли в разные времена в Азии 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Целую часть от дробной отделяли в Китае особым знаком «дянь» (точка). Большое внимание дробям уделял средне-азиатский учёный аль-Коши. В Европе дроби были «открыты» нидерландским математиком и инженером С. Стев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В России впервые изложил учение о десятичных дробях Леонтий Магницкий в своей «Арифмет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63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81,-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7280" y="798120"/>
            <a:ext cx="76327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listo MT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Дроби возникли из практических нужд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2. Задачи трехвековой давности актуальны и сейчас. Их решение требует немалой смекалки, сообразительности и умения рассуж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3. Старинные меры нужно знать не только для развития своего кругозора, но и потому что без прошлого невозможно будущ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475400" y="404640"/>
            <a:ext cx="1386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6000" y="170028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Исследовательская работа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«Валеолого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70920" y="765000"/>
            <a:ext cx="1873080" cy="1495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233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Calisto MT"/>
              </a:rPr>
              <a:t>Есть ли дроби в нашей жиз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276640"/>
            <a:ext cx="6769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Calisto MT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Узнать, где используются десятичные дроб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быту и в работе люд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ставить примерный режим дня для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5-го класса с использованием десят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ставить примерное меню для ученика 5-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класса с использованием десятичных дробей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1341360"/>
            <a:ext cx="7561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Был проведен опрос среди родителей пятиклассников и учителей для выявления, где используются десятичные дроби в быту и в работе людей раз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После чего проанализировали полу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Calisto MT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Ответы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sto MT"/>
              </a:rPr>
              <a:t>● </a:t>
            </a:r>
            <a:r>
              <a:rPr b="1" i="1" lang="en-US" sz="2400" spc="-1" strike="noStrike">
                <a:solidFill>
                  <a:srgbClr val="000000"/>
                </a:solidFill>
                <a:latin typeface="Calisto MT"/>
              </a:rPr>
              <a:t>Десятичные дроби нужны швее для измерения длины издел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692280"/>
            <a:ext cx="67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62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Для ответа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C:\Users\ОЛЬГА\ЕВА\швея.jpg"/>
          <p:cNvPicPr/>
          <p:nvPr/>
        </p:nvPicPr>
        <p:blipFill>
          <a:blip r:embed="rId2"/>
          <a:stretch/>
        </p:blipFill>
        <p:spPr>
          <a:xfrm>
            <a:off x="3924360" y="5238720"/>
            <a:ext cx="1266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1" descr="http://dic.academic.ru/pictures/wiki/files/50/220px-Boiler_man.jpg"/>
          <p:cNvPicPr/>
          <p:nvPr/>
        </p:nvPicPr>
        <p:blipFill>
          <a:blip r:embed="rId2"/>
          <a:stretch/>
        </p:blipFill>
        <p:spPr>
          <a:xfrm>
            <a:off x="4067280" y="1268280"/>
            <a:ext cx="1533600" cy="1152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9" descr="C:\Users\ОЛЬГА\ЕВА\200px-GMAW.welding.af.ncs.jpg"/>
          <p:cNvPicPr/>
          <p:nvPr/>
        </p:nvPicPr>
        <p:blipFill>
          <a:blip r:embed="rId3"/>
          <a:stretch/>
        </p:blipFill>
        <p:spPr>
          <a:xfrm>
            <a:off x="4211640" y="2997360"/>
            <a:ext cx="1219320" cy="1361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2" descr="http://t1.gstatic.com/images?q=tbn:ANd9GcSU_yI6wLLhYi3_aFQ-qVadyHxNdtLgJVdbSZetdKeey5uVsPAPoflp6w"/>
          <p:cNvPicPr/>
          <p:nvPr/>
        </p:nvPicPr>
        <p:blipFill>
          <a:blip r:embed="rId4"/>
          <a:stretch/>
        </p:blipFill>
        <p:spPr>
          <a:xfrm>
            <a:off x="3492360" y="5200560"/>
            <a:ext cx="2951280" cy="205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6360" y="64116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Тем, кто работает оператором теплосетей, нужны десятичные дроби для повышения и понижения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93680" y="2328480"/>
            <a:ext cx="77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варщикам десятичные дроби нужны для измерения длины сваренной трубы и ширины сварочного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93680" y="4362840"/>
            <a:ext cx="80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ровизоры используют десятичные дроби при приготовлении лекар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561600" cy="7479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C:\Users\ОЛЬГА\ЕВА\повар.jpg"/>
          <p:cNvPicPr/>
          <p:nvPr/>
        </p:nvPicPr>
        <p:blipFill>
          <a:blip r:embed="rId2"/>
          <a:stretch/>
        </p:blipFill>
        <p:spPr>
          <a:xfrm>
            <a:off x="3924360" y="162864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ОЛЬГА\ЕВА\парикмахер.jpg"/>
          <p:cNvPicPr/>
          <p:nvPr/>
        </p:nvPicPr>
        <p:blipFill>
          <a:blip r:embed="rId3"/>
          <a:stretch/>
        </p:blipFill>
        <p:spPr>
          <a:xfrm>
            <a:off x="1835280" y="4221000"/>
            <a:ext cx="14857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47640" y="925200"/>
            <a:ext cx="75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вара применяют десятичные дроби для составления ме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35440" y="3626280"/>
            <a:ext cx="951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арикмахер применяет десятичные дроби для приготовления раствор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краски волос и для завивки</a:t>
            </a:r>
            <a:r>
              <a:rPr b="1" i="1" lang="en-US" sz="1100" spc="-1" strike="noStrike">
                <a:solidFill>
                  <a:srgbClr val="000000"/>
                </a:solidFill>
                <a:latin typeface="Calisto MT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66009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кулинарии при приготовлении блюд по рецеп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http://t2.gstatic.com/images?q=tbn:ANd9GcTbk3w-QX8Ygfal-7PVeasZb8Q6j-FDAQ46bStz-7Pr8onSvPP_ejrLguQ"/>
          <p:cNvPicPr/>
          <p:nvPr/>
        </p:nvPicPr>
        <p:blipFill>
          <a:blip r:embed="rId4"/>
          <a:stretch/>
        </p:blipFill>
        <p:spPr>
          <a:xfrm>
            <a:off x="6227640" y="4437000"/>
            <a:ext cx="1324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" descr="http://t3.gstatic.com/images?q=tbn:ANd9GcRbYn65pSEX6Tf-Dgxb6HB68ELCtNTmDLVmxg5-TWFzKiTxsetpovLj7ucv"/>
          <p:cNvPicPr/>
          <p:nvPr/>
        </p:nvPicPr>
        <p:blipFill>
          <a:blip r:embed="rId2"/>
          <a:stretch/>
        </p:blipFill>
        <p:spPr>
          <a:xfrm>
            <a:off x="1652760" y="561960"/>
            <a:ext cx="125712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C:\Users\ОЛЬГА\ЕВА\бухгалтер.jpg"/>
          <p:cNvPicPr/>
          <p:nvPr/>
        </p:nvPicPr>
        <p:blipFill>
          <a:blip r:embed="rId3"/>
          <a:stretch/>
        </p:blipFill>
        <p:spPr>
          <a:xfrm>
            <a:off x="611280" y="2421000"/>
            <a:ext cx="1085760" cy="1542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:\Users\ОЛЬГА\ЕВА\строитель.jpg"/>
          <p:cNvPicPr/>
          <p:nvPr/>
        </p:nvPicPr>
        <p:blipFill>
          <a:blip r:embed="rId4"/>
          <a:stretch/>
        </p:blipFill>
        <p:spPr>
          <a:xfrm>
            <a:off x="3132000" y="3933720"/>
            <a:ext cx="1965600" cy="2519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03640" y="403560"/>
            <a:ext cx="576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магазине при взвешивании товар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329560"/>
            <a:ext cx="749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Экономисты и бухгалтеры используют десятичные дроби для составления отчетов, расчето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29544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en-US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троители используют десятичные дроби для составления с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1339920"/>
            <a:ext cx="698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тям 11-15 лет на каждый килограмм своей массы необходимо употреблять в день: белков – 1,8 г, жиров -1,8 г, углеводов – 7,8 г. Посчитайте приближенно до граммов сколько должен употреблять ежедневно белков, жиров и углеводов мальчик 11 лет, масса которого равна 36,9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4304160"/>
            <a:ext cx="70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Белк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Жир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Углеводов – 287,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03280" y="686880"/>
            <a:ext cx="7489800" cy="54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Рацион питания (мальчик, 11 лет, вес 36,9 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ервый завтр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а (пшенная, овсяная, гречневая), горячий напиток (кофе, чай, какао), компот или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торой завтрак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омлет или сырники, горячий напиток (кофе, чай, какао), компот или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ед: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вощной салат, первое - суп, второе – блюдо из мяса или рыбы и гарнир (каша или картофельное пюре), комп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олдни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ефир или питьевой йогурт, печенье с добавлением цельных злаков,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жин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людо из овощей или творога, кефир или йогу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-й завтрак дома (7-8 часов) – 20% калорийности суточного рациона; 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-й завтрак  в школе (10-11 часов) – 20% калорийности суточного рациона; 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ед дома или в школе (13-15 часов) – 35% калорийности суточного рациона;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Ужин дома(19-20 часов) – 25% калорийности суточного рацион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1447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1195200"/>
            <a:ext cx="6986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alibri"/>
              </a:rPr>
              <a:t>Краткая аннотация проект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1" lang="en-US" sz="2400" spc="-1" strike="noStrike">
                <a:solidFill>
                  <a:srgbClr val="990000"/>
                </a:solidFill>
                <a:latin typeface="Calibri"/>
              </a:rPr>
              <a:t>"Математика и здоровье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назначен для учащихся 5-6 классов. Цель данного проекта – исследовать применение дробей в области математики, биологии, экологии,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87280" y="5799600"/>
            <a:ext cx="56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4005360"/>
            <a:ext cx="64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bri"/>
              </a:rPr>
              <a:t>Проблем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Зачем возникли дроб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Есть ли дроби в нашей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alibri"/>
              </a:rPr>
              <a:t>Как знания дробей могут повлиять на нашу жизнь?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1203120"/>
            <a:ext cx="698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ебные занятия в школе занимают 25% времени суток. Продолжительность ночного сна должно быть в 1,5 раза больше времени, проводимого в школе, не менее 1/16 части суток должен составлять активный отдых на свежем воздухе. Подготовка домашнего задания должна занимать 5/18 от времени, отведенного на учебные занятия. Досуг составляет около 1,8 времени от времени приготовления уроков дома. Время провождения около телевизора не должно превышать 1/6 части вашего досу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364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он – 9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Занятия в школе – 6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Прогулка – 1час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Подготовка дом задания – 1 час 40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Отдых – 3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Телевизор – 3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76360" y="476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Calisto MT"/>
              </a:rPr>
              <a:t>Примерный режим дня школьника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00 – Подъ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00-7.30 – Утренняя гимнастика, водные процедуры, уборка пос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уа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30-7-50 – Утренний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.50-8.20 – 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.30-14.40 –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.00 – Горячий завтрак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3.00-14.00 – Горячий обед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4.40-14.50 – Дорога из школы 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.00-15.30 –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5.30-16.30 – Прогулка и игры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6.30-16.50 – Пол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7.00-18.10 – Приготовление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8.10-19.00 – Прогулка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9.00-19.20 –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9.20-20.30 – Свобод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0.30-21.00 – Приготовление ко с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1.00-7.00 --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1341360"/>
            <a:ext cx="79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. Каждодневное меню должно состоять из нужных и полезных продуктов, доли которых определяются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2. Постоянное употребление продуктов быстрого приготовления приводит к тяжелы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. Режим питания должен быть постоянным, чтобы организм успевал перерабатывать пищу, не голодал и не перенасыщ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4. Режим дня строится на основе биоритмов человека и нужен для того, чтобы не уставать и быть всегда в тону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5. Продолжительность суток состоит из множества частей: сон, питание, учеба, различ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6. Десятичные дроби постоянно встречаются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765000"/>
            <a:ext cx="48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listo MT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734240" y="18900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116000" y="2205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alisto MT"/>
              </a:rPr>
              <a:t>Спасибо за внимание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3280" y="2039400"/>
            <a:ext cx="720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Работа ведется двумя группами:</a:t>
            </a: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Историк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зучают историческое происхождение дроби, слова "дробь" и дробной че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Валеолог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оверяют наличие дробей в режиме дня и рационе питания пятикласс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0920" y="501480"/>
            <a:ext cx="4897440" cy="635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95640" y="1484280"/>
            <a:ext cx="360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истор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66"/>
                </a:solidFill>
                <a:latin typeface="Monotype Corsiva"/>
              </a:rPr>
              <a:t>д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183024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907920"/>
            <a:ext cx="880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alisto MT"/>
              </a:rPr>
              <a:t>Результат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6200" y="2060640"/>
            <a:ext cx="8497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sto MT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С древних времен людям приходилось не только считать предметы, но и измерять длину, время, площадь, вести расчеты за купленные или проданные тов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sto MT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0132" t="0" r="22397" b="4642"/>
          <a:stretch/>
        </p:blipFill>
        <p:spPr>
          <a:xfrm>
            <a:off x="7451640" y="2781360"/>
            <a:ext cx="1440000" cy="38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451640" y="765000"/>
            <a:ext cx="432000" cy="79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1916280"/>
            <a:ext cx="79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отрите, как  изображали дроби в Древнем Егип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866" t="0" r="3852" b="14059"/>
          <a:stretch/>
        </p:blipFill>
        <p:spPr>
          <a:xfrm>
            <a:off x="900000" y="249228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16667" t="30670" r="11152" b="23110"/>
          <a:stretch/>
        </p:blipFill>
        <p:spPr>
          <a:xfrm>
            <a:off x="2340000" y="2565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rcRect l="15799" t="29124" r="10595" b="19759"/>
          <a:stretch/>
        </p:blipFill>
        <p:spPr>
          <a:xfrm>
            <a:off x="3708360" y="256536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16667" t="30670" r="16791" b="23110"/>
          <a:stretch/>
        </p:blipFill>
        <p:spPr>
          <a:xfrm>
            <a:off x="5219640" y="2565360"/>
            <a:ext cx="863640" cy="433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8000" y="3068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          0 0      00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716280"/>
            <a:ext cx="67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Древнем Китае вместо черты ставили точ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203640" y="4437000"/>
            <a:ext cx="550800" cy="11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3528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4067280" y="4508640"/>
            <a:ext cx="506160" cy="1092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796000" y="5084640"/>
            <a:ext cx="474480" cy="144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76360" y="57340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ндийцы записывали так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83664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ервой дробью, наверное, была дроб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115920"/>
            <a:ext cx="150804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476280"/>
            <a:ext cx="79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мотрите, как записывалас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сятичная дроб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5162" t="5436" r="9210" b="17815"/>
          <a:stretch/>
        </p:blipFill>
        <p:spPr>
          <a:xfrm>
            <a:off x="1547640" y="2924280"/>
            <a:ext cx="597708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697040" cy="229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164360" y="1484280"/>
            <a:ext cx="10098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0,1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4581360"/>
            <a:ext cx="568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роби на Руси называли Д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зже ЛОМАН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старых руководствах на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ледующие названия дроб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5920"/>
            <a:ext cx="46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en-US" sz="10500" spc="-1" strike="noStrike">
                <a:solidFill>
                  <a:srgbClr val="0099ff"/>
                </a:solidFill>
                <a:latin typeface="Comic Sans MS"/>
              </a:rPr>
              <a:t>р</a:t>
            </a:r>
            <a:r>
              <a:rPr b="1" lang="en-US" sz="10500" spc="-1" strike="noStrike">
                <a:solidFill>
                  <a:srgbClr val="808080"/>
                </a:solidFill>
                <a:latin typeface="Comic Sans MS"/>
              </a:rPr>
              <a:t>о</a:t>
            </a:r>
            <a:r>
              <a:rPr b="1" lang="en-US" sz="10500" spc="-1" strike="noStrike">
                <a:solidFill>
                  <a:srgbClr val="009999"/>
                </a:solidFill>
                <a:latin typeface="Comic Sans MS"/>
              </a:rPr>
              <a:t>б</a:t>
            </a:r>
            <a:r>
              <a:rPr b="1" lang="en-US" sz="10500" spc="-1" strike="noStrike">
                <a:solidFill>
                  <a:srgbClr val="99cc00"/>
                </a:solidFill>
                <a:latin typeface="Comic Sans MS"/>
              </a:rPr>
              <a:t>и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1484280"/>
            <a:ext cx="251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3399"/>
                </a:solidFill>
                <a:latin typeface="Comic Sans MS"/>
              </a:rPr>
              <a:t>н</a:t>
            </a:r>
            <a:r>
              <a:rPr b="1" lang="en-US" sz="10500" spc="-1" strike="noStrike">
                <a:solidFill>
                  <a:srgbClr val="9900cc"/>
                </a:solidFill>
                <a:latin typeface="Comic Sans MS"/>
              </a:rPr>
              <a:t>а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2492280"/>
            <a:ext cx="56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66ff"/>
                </a:solidFill>
                <a:latin typeface="Monotype Corsiva"/>
              </a:rPr>
              <a:t>ус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3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овина, пол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56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П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155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-Сед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 Дес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41300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-Пол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ол-пол-треть 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3573360"/>
            <a:ext cx="26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5050"/>
                </a:solidFill>
                <a:latin typeface="Monotype Corsiva"/>
              </a:rPr>
              <a:t>-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Пол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581360"/>
            <a:ext cx="352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f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Пол-полчеть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04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436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595440" cy="87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78128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995640" y="4437000"/>
            <a:ext cx="58428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79280" y="2421000"/>
            <a:ext cx="6699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08000" y="3357720"/>
            <a:ext cx="577800" cy="99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924360" y="260280"/>
            <a:ext cx="5014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61596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2556000" y="2349360"/>
            <a:ext cx="426960" cy="9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2411280" y="3357720"/>
            <a:ext cx="646200" cy="107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749160" cy="85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4859280" y="2133720"/>
            <a:ext cx="587520" cy="110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7093080" y="189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2:21:03Z</dcterms:created>
  <dc:creator>Customer</dc:creator>
  <dc:description/>
  <dc:language>en-US</dc:language>
  <cp:lastModifiedBy>Customer</cp:lastModifiedBy>
  <dcterms:modified xsi:type="dcterms:W3CDTF">2013-04-25T13:12:37Z</dcterms:modified>
  <cp:revision>5</cp:revision>
  <dc:subject/>
  <dc:title>Слайд 1</dc:title>
</cp:coreProperties>
</file>