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316-5364-45A6-878C-95004A47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E897-1556-4FD6-903B-D7B76306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4D56-ADAD-4B7A-9112-5E502D71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8195-1060-4FF4-85E7-EDEEAB85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BAFC-2991-40FA-9844-BE140445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0A98-A83A-41DE-9586-01A64542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910F-E191-471A-911E-5119C434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E1B2-477B-403F-B479-41E2509C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FDE1-3E15-40D8-B53A-2453D559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67B9-CCC7-4497-BA64-39084722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F9DD-ECA9-479D-845D-BF8FEE59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81FA-08AB-409B-B511-1ADC3750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BEBA-2F5F-470C-83F3-3EA5A1CD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8F7E-EBC0-44BA-90AF-03929B06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4A4F-A5A9-45E8-830F-F5694ED4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54E6-1C7D-49A4-884C-0EDC2461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5A41-6F7B-44E8-932F-EAF86FEA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7214-B94A-47C1-97CB-DE374CAA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5FC4-3531-4530-B7AA-AD29D46A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E132-14CF-4DC9-8B36-95FD2687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D261-9696-48EB-82CF-20C5C051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118C-7EC7-4007-BD43-F23CE433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6FD-1C5C-4CCF-B545-828B4C42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871-BBD9-4051-A0CC-A3766351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int1234ыярфенш"/>
          <p:cNvPicPr/>
          <p:nvPr/>
        </p:nvPicPr>
        <p:blipFill>
          <a:blip r:embed="rId2"/>
          <a:stretch/>
        </p:blipFill>
        <p:spPr>
          <a:xfrm>
            <a:off x="0" y="0"/>
            <a:ext cx="2335320" cy="179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2B63-1FED-49F2-8530-E70F71BD02ED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99D8-603D-4FEA-ADE8-F25F6A1CC8C6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2960" y="1714320"/>
            <a:ext cx="7772400" cy="14698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ff"/>
                </a:solidFill>
                <a:latin typeface="Century Gothic"/>
              </a:rPr>
              <a:t> </a:t>
            </a:r>
            <a:r>
              <a:rPr b="1" lang="ru-RU" sz="6000" spc="-1" strike="noStrike">
                <a:solidFill>
                  <a:srgbClr val="0066ff"/>
                </a:solidFill>
                <a:latin typeface="Century Gothic"/>
              </a:rPr>
              <a:t>«Ума палата».</a:t>
            </a:r>
            <a:endParaRPr b="1" lang="en-US" sz="60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Century Gothic"/>
              </a:rPr>
              <a:t>Что можно узнать из фразеологического словаря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(мини-исследование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Руководитель: Веретельникова И.В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Century Gothic"/>
              </a:rPr>
              <a:t>Введение.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8400" y="1714320"/>
            <a:ext cx="8358120" cy="47862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5892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Словарь – это вселенная,                  расположенная в алфавитном порядке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5892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А. Франс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5892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Русский язык не стоит на месте в своём развитии. Некоторые слова отмирают вместе с понятиями, ставшими нам ненужными. Некоторые рождаются. А фиксируют всё это словари.  Без словарей, без справочников в настоящее время обойтись невозможно, так как  в них спрессованы огромные человеческие знания, расположенные в алфавитном порядке.  Существует справедливое изречение: «Не тот образованный человек, который всё знает (это и невозможно!), а тот, кто знает, где можно найти ответ на возникший вопрос»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7" name="Рисунок 4" descr="http://im8-tub-ru.yandex.net/i?id=508697747-20-72"/>
          <p:cNvPicPr/>
          <p:nvPr/>
        </p:nvPicPr>
        <p:blipFill>
          <a:blip r:embed="rId1"/>
          <a:stretch/>
        </p:blipFill>
        <p:spPr>
          <a:xfrm>
            <a:off x="285840" y="214200"/>
            <a:ext cx="1714320" cy="14288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http://im0-tub-ru.yandex.net/i?id=376271263-45-72"/>
          <p:cNvPicPr/>
          <p:nvPr/>
        </p:nvPicPr>
        <p:blipFill>
          <a:blip r:embed="rId2"/>
          <a:stretch/>
        </p:blipFill>
        <p:spPr>
          <a:xfrm>
            <a:off x="7000920" y="2142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66ff"/>
                </a:solidFill>
                <a:latin typeface="Century Gothic"/>
              </a:rPr>
              <a:t>Фразеологический  словарь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71680" y="1928880"/>
            <a:ext cx="7929360" cy="4572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 fontScale="97000"/>
          </a:bodyPr>
          <a:p>
            <a:pPr marL="332640" indent="10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Русские словари имеют многовековую историю. Известны, например, словари 1282 года. Многие «азбуковники» толковали редкие слова, которые встречались в книгах религиозного содержания Сейчас очень много словарей. Один из них – это   «Школьный  фразеологический словарь русского языка» В. П. Жукова.  С его помощью можно узнать яркие образные выражения русского языка – фразеологизмы, которые многие века создавались в народе. Он интересен людям любых профессий. О человеке кротком, безобидном говорят, что он мухи не обидит. В словаре фразеологизмов, как и в любом другом, есть словарная статья, которая включает в себя заголовочное слово, грамматические и стилистические пометы, толкование фразеологизма, иллюстративный материал, справочную часть, в которой часто даётся этимология некоторых фразеологизмов. В словаре максимально  использованы пометы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1" name="Рисунок 3" descr="http://im3-tub-ru.yandex.net/i?id=289518277-70-72"/>
          <p:cNvPicPr/>
          <p:nvPr/>
        </p:nvPicPr>
        <p:blipFill>
          <a:blip r:embed="rId1"/>
          <a:stretch/>
        </p:blipFill>
        <p:spPr>
          <a:xfrm>
            <a:off x="285840" y="214200"/>
            <a:ext cx="1714320" cy="1500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Century Gothic"/>
              </a:rPr>
              <a:t>Продолжение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28760" y="1785960"/>
            <a:ext cx="8215200" cy="4572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88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Это особенно важно, так как фразеологизмы чаще всего  наделены оценочным значением ,  яркой эмоциональной окраской.  Фразеологизмы характеризуются целой гаммой  помет: выражение «разговорное», «просторечное», «книжное», «шутливое», «ироническое», «одобрительное» и так далее. Например: бабушкины сказки (разг.),  без задних ног лежать (прост.), белены объелся  (груб.-прост., неодобр.).   Во фразеологическом словаре  В. П. Жукова большое внимание уделено историко-этимологическим сведениям.   Так, все семь фразеологизмов, помещённых в словаре на букву А, снабжены интересными историческими (этимологическими) справками : авгиевы конюшни, альфа и омега, аннибалова клятва, аредовы веки,  ариаднина нить, аршин с шапкой, ахиллесова пята.  Например, авгиевы конюшни – из буквального словосочетания Авгиевы конюшни, т. е. громадные конюшни Авгия, царя Элиды. По мифу, эти конюшни, которые не убирались 30 лет, Геркулес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Рисунок 3" descr="http://im2-tub-ru.yandex.net/i?id=178606188-35-72"/>
          <p:cNvPicPr/>
          <p:nvPr/>
        </p:nvPicPr>
        <p:blipFill>
          <a:blip r:embed="rId1"/>
          <a:stretch/>
        </p:blipFill>
        <p:spPr>
          <a:xfrm>
            <a:off x="214200" y="0"/>
            <a:ext cx="178596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42720" y="357120"/>
            <a:ext cx="65437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Очистил в один день, направив через них воды бурной реки Алфей.  Этот фразеологизм означает :  очень загрязнённое место и крайний беспорядок в делах.</a:t>
            </a:r>
            <a:br>
              <a:rPr sz="1800"/>
            </a:br>
            <a:endParaRPr b="1" lang="en-US" sz="1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Century Gothic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Речь человека,  владеющего фразеологией, не только образна и выразительна,  но строится быстрее и легче: фразеология облегчает конструирование предложений, обогащает речь.  Без знания  фразеологии невозможно овладеть  образной речью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И по сей день  современные учёные ведут огромную работу, выявляя всё новые  и новые слова, определяя и уточняя их лексическое значение, разъясняя значения фразеологизмов.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Умелое использование фразеологизмов сделает нашу речь меткой, яркой и выразительной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. 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Без словарей  сегодня просто никуда не денешь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Рисунок 3" descr="http://im7-tub-ru.yandex.net/i?id=8969315-44-72"/>
          <p:cNvPicPr/>
          <p:nvPr/>
        </p:nvPicPr>
        <p:blipFill>
          <a:blip r:embed="rId1"/>
          <a:stretch/>
        </p:blipFill>
        <p:spPr>
          <a:xfrm>
            <a:off x="285840" y="214200"/>
            <a:ext cx="171432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99760" y="499680"/>
            <a:ext cx="718668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Century Gothic"/>
              </a:rPr>
              <a:t>      </a:t>
            </a:r>
            <a:r>
              <a:rPr b="1" lang="ru-RU" sz="3200" spc="-1" strike="noStrike">
                <a:solidFill>
                  <a:srgbClr val="0066ff"/>
                </a:solidFill>
                <a:latin typeface="Century Gothic"/>
              </a:rPr>
              <a:t>Результаты исследования</a:t>
            </a:r>
            <a:br>
              <a:rPr sz="3200"/>
            </a:b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2071440"/>
            <a:ext cx="8229600" cy="42685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Это была увлекательная и интересная работа. Шаг за шагом мы  </a:t>
            </a:r>
            <a:r>
              <a:rPr b="1" i="1" lang="ru-RU" sz="1800" spc="-1" strike="noStrike" u="sng">
                <a:solidFill>
                  <a:srgbClr val="0066ff"/>
                </a:solidFill>
                <a:uFillTx/>
                <a:latin typeface="Century Gothic"/>
              </a:rPr>
              <a:t>окунались с головой</a:t>
            </a:r>
            <a:r>
              <a:rPr b="1" lang="ru-RU" sz="1800" spc="-1" strike="noStrike">
                <a:solidFill>
                  <a:srgbClr val="0066ff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в чудесный мир фразеологизмов. В результате проделанной работы пришли к выводу, что знакомство  с фразеологическими словарями повышает нашу культуру речи, формирует эстетический вкус, приобщает к историческому и духовному опыту народа, воспитывает любовь к языку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Знакомясь с фразеологическими словарями, мы формировали свои лингвистические и речевые умения и навыки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Мы  расширили  и углубили языковые знания, повысили общую и языковую культуру    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0" name="Рисунок 3" descr="http://im8-tub-ru.yandex.net/i?id=89738309-16-72"/>
          <p:cNvPicPr/>
          <p:nvPr/>
        </p:nvPicPr>
        <p:blipFill>
          <a:blip r:embed="rId1"/>
          <a:stretch/>
        </p:blipFill>
        <p:spPr>
          <a:xfrm>
            <a:off x="214200" y="142920"/>
            <a:ext cx="192888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Century Gothic"/>
              </a:rPr>
              <a:t>Литература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1. Ожегов  С. И. Словарь русского языка. - М.: Просвещение, 1984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2. Зимин В. И. Краткий фразеологический словарь. – М.: Просвещение, 1968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3. Кохтев Н. Н. Русская фразеология. – М.: Русский язык, 2006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4. Розенталь Д. Э. Словарь-справочник лингвистических      терминов. – М.: Просвещение, 1976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5.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Жуков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.П. Школьный фразеологический словарь                русского языка. - М.: Просвещение, 1994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еретельников   Дмитри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3" name="Рисунок 3" descr="http://im0-tub-ru.yandex.net/i?id=161106745-34-72"/>
          <p:cNvPicPr/>
          <p:nvPr/>
        </p:nvPicPr>
        <p:blipFill>
          <a:blip r:embed="rId1"/>
          <a:stretch/>
        </p:blipFill>
        <p:spPr>
          <a:xfrm>
            <a:off x="285840" y="214200"/>
            <a:ext cx="1857240" cy="13575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9:58:38Z</dcterms:created>
  <dc:creator>Администрация</dc:creator>
  <dc:description/>
  <dc:language>en-US</dc:language>
  <cp:lastModifiedBy>User</cp:lastModifiedBy>
  <dcterms:modified xsi:type="dcterms:W3CDTF">2012-04-05T11:53:52Z</dcterms:modified>
  <cp:revision>104</cp:revision>
  <dc:subject/>
  <dc:title>«Юный юрист»</dc:title>
</cp:coreProperties>
</file>