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D83-348F-4E01-9426-06F7CA4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DEC-6BD8-4CDB-87A9-4D173A1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F4E-E5B7-45DD-8F19-375AC26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337-46DF-4445-AEE6-EF84F95F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503-FF82-4866-8D76-F6223B01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B66C-A06B-47CF-A21B-69BDB151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D0EE-8297-42AF-8D1C-642AFC4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F45C-EA56-4678-8680-52F8409C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353-BC9C-44BF-B69E-3314084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7D9-EEDD-411D-80D9-DC186D1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6E22-BADE-47F3-B6BC-E77FB9F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6C5-B781-43F6-892F-613D3CB2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A0D-9791-4B0A-8C59-C23DFED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4A8C-9165-40D1-91B4-2DC5388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E60-81AC-430D-B150-D53C71DE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5D2-C920-43D3-B570-4F79E6DC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80FB-24D8-4004-81DC-E3506EC7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692-D289-4EBB-9051-FF77A068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49E-C1FA-4A3E-A5E3-BC7CE1F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D52-33C7-4AA2-9D1F-343A94CF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209-2160-4046-849E-E2EB278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F6B-CD07-44FD-B02D-E5F9965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8B0-ECC5-4771-B643-12EF9E9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C81-36EA-4009-924A-0EF4F9F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2ED-46B3-4FB2-83D7-E3AACF9B82C8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C41-54E3-4AFD-84F1-4F11EDB0F348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7772400" cy="1469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1" lang="ru-RU" sz="6000" spc="-1" strike="noStrike">
                <a:solidFill>
                  <a:srgbClr val="0066ff"/>
                </a:solidFill>
                <a:latin typeface="Century Gothic"/>
              </a:rPr>
              <a:t>«Ума палата».</a:t>
            </a:r>
            <a:endParaRPr b="1" lang="en-US" sz="60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entury Gothic"/>
              </a:rPr>
              <a:t>Что можно узнать из фразеологического словаря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мини-исследование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Руководитель: Веретельникова И.В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Введение.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714320"/>
            <a:ext cx="8358120" cy="47862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5892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ловарь – это вселенная,                  расположенная в алфавитном порядк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5892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Франс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5892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сский язык не стоит на месте в своём развитии. Некоторые слова отмирают вместе с понятиями, ставшими нам ненужными. Некоторые рождаются. А фиксируют всё это словари.  Без словарей, без справочников в настоящее время обойтись невозможно, так как  в них спрессованы огромные человеческие знания, расположенные в алфавитном порядке.  Существует справедливое изречение: «Не тот образованный человек, который всё знает (это и невозможно!), а тот, кто знает, где можно найти ответ на возникший вопрос»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7" name="Рисунок 4" descr="http://im8-tub-ru.yandex.net/i?id=508697747-20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im0-tub-ru.yandex.net/i?id=376271263-45-72"/>
          <p:cNvPicPr/>
          <p:nvPr/>
        </p:nvPicPr>
        <p:blipFill>
          <a:blip r:embed="rId2"/>
          <a:stretch/>
        </p:blipFill>
        <p:spPr>
          <a:xfrm>
            <a:off x="700092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Фразеологический  словарь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1928880"/>
            <a:ext cx="7929360" cy="45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7000"/>
          </a:bodyPr>
          <a:p>
            <a:pPr marL="332640" indent="1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сские словари имеют многовековую историю. Известны, например, словари 1282 года. Многие «азбуковники» толковали редкие слова, которые встречались в книгах религиозного содержания Сейчас очень много словарей. Один из них – это   «Школьный  фразеологический словарь русского языка» В. П. Жукова.  С его помощью можно узнать яркие образные выражения русского языка – фразеологизмы, которые многие века создавались в народе. Он интересен людям любых профессий. О человеке кротком, безобидном говорят, что он мухи не обидит. В словаре фразеологизмов, как и в любом другом, есть словарная статья, которая включает в себя заголовочное слово, грамматические и стилистические пометы, толкование фразеологизма, иллюстративный материал, справочную часть, в которой часто даётся этимология некоторых фразеологизмов. В словаре максимально  использованы пометы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Рисунок 3" descr="http://im3-tub-ru.yandex.net/i?id=289518277-70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500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Продолжени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760" y="1785960"/>
            <a:ext cx="8215200" cy="45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88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особенно важно, так как фразеологизмы чаще всего  наделены оценочным значением ,  яркой эмоциональной окраской.  Фразеологизмы характеризуются целой гаммой  помет: выражение «разговорное», «просторечное», «книжное», «шутливое», «ироническое», «одобрительное» и так далее. Например: бабушкины сказки (разг.),  без задних ног лежать (прост.), белены объелся  (груб.-прост., неодобр.).   Во фразеологическом словаре  В. П. Жукова большое внимание уделено историко-этимологическим сведениям.   Так, все семь фразеологизмов, помещённых в словаре на букву А, снабжены интересными историческими (этимологическими) справками : авгиевы конюшни, альфа и омега, аннибалова клятва, аредовы веки,  ариаднина нить, аршин с шапкой, ахиллесова пята.  Например, авгиевы конюшни – из буквального словосочетания Авгиевы конюшни, т. е. громадные конюшни Авгия, царя Элиды. По мифу, эти конюшни, которые не убирались 30 лет, Геркуле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Рисунок 3" descr="http://im2-tub-ru.yandex.net/i?id=178606188-35-72"/>
          <p:cNvPicPr/>
          <p:nvPr/>
        </p:nvPicPr>
        <p:blipFill>
          <a:blip r:embed="rId1"/>
          <a:stretch/>
        </p:blipFill>
        <p:spPr>
          <a:xfrm>
            <a:off x="214200" y="0"/>
            <a:ext cx="178596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720" y="357120"/>
            <a:ext cx="6543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чистил в один день, направив через них воды бурной реки Алфей.  Этот фразеологизм означает :  очень загрязнённое место и крайний беспорядок в делах.</a:t>
            </a:r>
            <a:br>
              <a:rPr sz="1800"/>
            </a:br>
            <a:endParaRPr b="1" lang="en-US" sz="1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чь человека,  владеющего фразеологией, не только образна и выразительна,  но строится быстрее и легче: фразеология облегчает конструирование предложений, обогащает речь.  Без знания  фразеологии невозможно овладеть  образной речью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по сей день  современные учёные ведут огромную работу, выявляя всё новые  и новые слова, определяя и уточняя их лексическое значение, разъясняя значения фразеологизмов.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мелое использование фразеологизмов сделает нашу речь меткой, яркой и выразительно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 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ез словарей  сегодня просто никуда не денешь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Рисунок 3" descr="http://im7-tub-ru.yandex.net/i?id=8969315-44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9760" y="499680"/>
            <a:ext cx="7186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      </a:t>
            </a:r>
            <a:r>
              <a:rPr b="1" lang="ru-RU" sz="3200" spc="-1" strike="noStrike">
                <a:solidFill>
                  <a:srgbClr val="0066ff"/>
                </a:solidFill>
                <a:latin typeface="Century Gothic"/>
              </a:rPr>
              <a:t>Результаты исследования</a:t>
            </a:r>
            <a:br>
              <a:rPr sz="3200"/>
            </a:b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2071440"/>
            <a:ext cx="8229600" cy="42685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была увлекательная и интересная работа. Шаг за шагом мы  </a:t>
            </a:r>
            <a:r>
              <a:rPr b="1" i="1" lang="ru-RU" sz="1800" spc="-1" strike="noStrike" u="sng">
                <a:solidFill>
                  <a:srgbClr val="0066ff"/>
                </a:solidFill>
                <a:uFillTx/>
                <a:latin typeface="Century Gothic"/>
              </a:rPr>
              <a:t>окунались с головой</a:t>
            </a:r>
            <a:r>
              <a:rPr b="1" lang="ru-RU" sz="18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чудесный мир фразеологизмов. В результате проделанной работы пришли к выводу, что знакомство  с фразеологическими словарями повышает нашу культуру речи, формирует эстетический вкус, приобщает к историческому и духовному опыту народа, воспитывает любовь к языку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накомясь с фразеологическими словарями, мы формировали свои лингвистические и речевые умения и навык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ы  расширили  и углубили языковые знания, повысили общую и языковую культуру   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Рисунок 3" descr="http://im8-tub-ru.yandex.net/i?id=89738309-16-72"/>
          <p:cNvPicPr/>
          <p:nvPr/>
        </p:nvPicPr>
        <p:blipFill>
          <a:blip r:embed="rId1"/>
          <a:stretch/>
        </p:blipFill>
        <p:spPr>
          <a:xfrm>
            <a:off x="214200" y="142920"/>
            <a:ext cx="19288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Литература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1. Ожегов  С. И. Словарь русского языка. - М.: Просвещение, 198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2. Зимин В. И. Краткий фразеологический словарь. – М.: Просвещение, 1968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3. Кохтев Н. Н. Русская фразеология. – М.: Русский язык, 2006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4. Розенталь Д. Э. Словарь-справочник лингвистических      терминов. – М.: Просвещение, 1976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Жук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П. Школьный фразеологический словарь                русского языка. - М.: Просвещение, 199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еретельников   Дмитр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Рисунок 3" descr="http://im0-tub-ru.yandex.net/i?id=161106745-34-72"/>
          <p:cNvPicPr/>
          <p:nvPr/>
        </p:nvPicPr>
        <p:blipFill>
          <a:blip r:embed="rId1"/>
          <a:stretch/>
        </p:blipFill>
        <p:spPr>
          <a:xfrm>
            <a:off x="285840" y="214200"/>
            <a:ext cx="185724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9:58:38Z</dcterms:created>
  <dc:creator>Администрация</dc:creator>
  <dc:description/>
  <dc:language>en-US</dc:language>
  <cp:lastModifiedBy>User</cp:lastModifiedBy>
  <dcterms:modified xsi:type="dcterms:W3CDTF">2012-04-05T11:53:52Z</dcterms:modified>
  <cp:revision>104</cp:revision>
  <dc:subject/>
  <dc:title>«Юный юрист»</dc:title>
</cp:coreProperties>
</file>