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2AE-E178-4526-93BE-D44B87CB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D8E-2C65-4208-9971-92A5AD8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D01-2E44-476F-8508-D0EF2BA6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052-59AE-4B01-B472-CA4EAE8B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FCAA-EEB1-4C4F-AD2A-64DB805F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0003-15F5-4C80-B544-D4400FD2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0F96-C591-419E-918E-E5BE0F7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6EE8-2A0F-46EE-AE9E-E069284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03A-C57D-4DA8-B693-AC157FD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AE1-88E4-4430-94E6-0125F30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0D48-DC8D-41D7-B5A1-226ED16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763-3594-43AB-8B39-95EC7AE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A26-DC52-4639-BDAE-6850AD6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A82-B2FF-4C4D-89D7-53FB9B3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F36E-9B8D-4136-BAAE-DDBC1343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F43D-4D34-4C47-9D63-42F28731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8233-8D02-40DD-9ADA-115A3B2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199D-B304-4430-BEE1-DC8C2085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7B35-F9D8-45A2-A2DF-4F3AB3E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8BD4-16BF-4675-A557-F0D1272C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A270-9862-4003-9E56-3F4633A1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4BC5-C3AA-4D11-826A-97ED011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5CB-B7E7-4A2F-BA71-C67CFA00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3ECE-C83A-4444-B550-1B7F1C0B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D6E3-93DF-4D9D-AFE8-3D3541F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C94C-2265-4DB0-B017-B1BC97C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FFBC-231A-4076-B741-DE30079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8C8D-81F6-4564-86E4-AF7A2B7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534B-3E42-41D7-B078-1288DE31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ED82-C857-4A81-8888-8DF40535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E700-67EE-48D4-A09C-0C5FD57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2F9E-EC6B-40EA-A4E3-FF5E3F7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41FD-BACA-4761-A278-A14D75EB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670-AECB-4DC5-9F47-555434C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A6F7-E04A-456A-A436-ADA0E8D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5F9B-195E-4AEC-BF27-2BFFCB8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DB4E-D253-4745-9A3F-63BA4CF2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0B95-0849-4936-A4F6-65F3978B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6590-3DED-41BA-8218-D51FB133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9B5C-8809-4667-94D7-5C8BA2A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5071-BEF2-4018-9591-7827387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0F07-10C9-4E4D-BBB4-C306719D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33DC-E1A2-426D-8E06-6B891A54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13F2-E568-4001-96F3-74597230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34D-340F-4706-AA85-B851DD3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8A6B-299E-41B5-8018-6C6BB79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477E-0A68-4338-B5F7-08520CB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DB04-D9D9-42E2-97F4-F262DA4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6184-C227-46ED-8EA1-321D2D8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0127-110D-4835-9E52-719902B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83D3-02B3-4984-A783-691A129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A956-FAA1-4154-9FCA-45F2232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C73E-F607-49BA-8BCF-EACFCFE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5937-370D-4D77-AAD4-10BDD9A0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097D-AC7C-4E42-BA2E-3FD30E9C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5A8-5A8A-4D7B-B026-6DD9F3B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1A6E-619F-4D71-ACE9-A9BCAF88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E5C-FD1E-424E-80A9-6107D16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5D5-AF09-4ACA-9A46-82C553A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A89-69E6-440D-8380-154F938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C31-501E-4C36-848B-4AF06F62A194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E7E1-F9A0-4B7D-86CF-94B57582A38D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B74A-63DF-4FF0-AFB9-FB904C777876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E88-4755-4E24-BE07-8A5B48C1E13F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D81-994A-43F0-8A90-02761DDB494F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639720" y="2567160"/>
            <a:ext cx="7821720" cy="1414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4995720" y="1700280"/>
            <a:ext cx="3564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Лежит в тени старый змей и говорит хриплым голосом: </a:t>
            </a:r>
            <a:r>
              <a:rPr b="0" lang="en-US" sz="2800" spc="-1" strike="noStrike">
                <a:solidFill>
                  <a:srgbClr val="dfe6d0"/>
                </a:solidFill>
                <a:latin typeface="Tw Cen MT"/>
              </a:rPr>
              <a:t>&lt;&lt;</a:t>
            </a: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Я стар и скучен, никому не нужен. Я раньше как и все змей ползал и играл а, потом время прошло и я стал стар. Никто ко мне не ходит, не навещает , никому я не нужен. Ведь раньше меня считали самым умным, приходили ко мне за советом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.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Все считали что я самый длинный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Самый страшный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41148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Самый силь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И в конце концов самый красив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130400" y="2060640"/>
            <a:ext cx="6657840" cy="441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ез некоторое время Змей услышал голоса медведей: 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&lt;&lt;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Вы старый и самый умный. Мы пришли просить ответа на наш вопрос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&gt;&gt;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-говорили медведи Змею. Как только Змей это услышал это он так обрадовался что у него на лице была видна улыбка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4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e6d0"/>
                </a:solidFill>
                <a:latin typeface="Calibri"/>
              </a:rPr>
              <a:t>Конец!!!</a:t>
            </a:r>
            <a:endParaRPr b="0" lang="en-US" sz="96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3:04:58Z</dcterms:created>
  <dc:creator>User</dc:creator>
  <dc:description/>
  <dc:language>en-US</dc:language>
  <cp:lastModifiedBy>User</cp:lastModifiedBy>
  <dcterms:modified xsi:type="dcterms:W3CDTF">2014-01-15T11:16:34Z</dcterms:modified>
  <cp:revision>8</cp:revision>
  <dc:subject/>
  <dc:title>Мудрый ЗМЕЙ</dc:title>
</cp:coreProperties>
</file>