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FF1-CA4E-48A4-9916-1CD49BF3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034-61BD-4C5B-93CF-39DF7E75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C38-A5C0-41E0-8AE8-D429F002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CCD-B641-483B-9DCA-97A2668B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6F12-616D-4514-8B4B-449272B6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1E6B-7DE3-4DBC-89CC-836208FE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C50A-B026-4415-8075-CC517B80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F195-6F40-4D22-9ADC-64EAA10D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45FC-7CF1-47A5-A72B-4F8D2BAF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DB8E-C340-478E-BFD4-F042BF4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E070-3123-41FB-8D0C-76D1E443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9FA-9C50-4A9E-AC6A-C35305D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B9AA-A440-48CB-BC4F-0105882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FF80-1984-41CC-A925-B215C6A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91CE-C28C-4103-A096-BB54EEDB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9A3C-CD62-452C-BBD3-8693334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9D9F-9EDB-4120-8007-D6216078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FCB6-712D-4BE8-B903-4A88422D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5246-5A64-49A8-9B3A-96C52A0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AA733-48C1-44DC-BC3A-F89598B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ACF2-15DC-4F0A-B1A8-0C85CA3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7A43-78F7-48E4-ABB7-055DE304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0C5-B7A7-4D45-B957-3ABE142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7C64-DDBB-47F3-8703-0F706DE4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DC71-529F-4CD7-B157-A828BCEA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4253-42FC-40B2-B065-373D818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0B11-509D-402C-9989-8AB9A9F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ED70-8E97-4B17-83CF-FB28257B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BE3E-A7D7-4DF9-9B95-44CC1D06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3FB8-916C-4DB6-87FA-3AA6C63F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5CD8-2855-4D09-8539-E3E2A702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F5E3-B1A6-4BCC-BCFA-F1AAAB3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C64E-2AE9-430B-9B38-E350B0C7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842-CCCA-4DC5-8F4F-2C7DDB4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23D7-EA11-4739-B28A-0799BF9A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0F10-13CB-48B6-9BF6-D93F5870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DF62-1257-4ABB-B0CA-7C25A3D8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0865-FBD5-40B6-8E3C-DF67D32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96B2-406E-467A-BD3A-3F198845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1E13-33A3-4583-9EBE-C9D33DF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28E73-12CB-4B63-B88B-1A1FCD85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F081-E14E-4E0E-8B26-11E47CBB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9409-9B1D-49CD-BE7A-33137E6F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5084-1FFA-4E2B-9264-7B646953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173-30E1-4F07-A6E9-3302FCA1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D5B97-62AC-4B1E-97F8-BCD9E7F1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890F1-36DF-4444-B0E5-66DC9CD8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72541-1DB9-434C-B221-44E4395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0913-E190-4AB5-A12A-38F0B40C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9292C-5386-4956-AB76-96F2080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9C0F6-B7EE-4E50-A196-65143897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8D45-486C-48B3-B265-A186754D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9983-EB85-40ED-A1B0-2AD9751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4734-84E6-4CE0-A91C-4EC8E2A2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3C312-E1EC-4E09-BD85-713311B8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F5B-792D-41C1-8934-7243CBD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D904-A1FE-4C78-9266-068A7A8F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60A-959B-4888-A05B-EC6498A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52C-B69D-4414-BA2C-D0F6636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425-7A02-4197-BD1D-B23032E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4738-CC8F-4488-B188-34FDF4411B0E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13E0-8065-49CE-8388-F36140AFEC41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167-B4E7-40B0-807C-F02011EF0DB5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1605-E2AB-44FB-998A-1D3F15349DC4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45E8-8741-4D72-9BA0-988E6F7CD02F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639720" y="2567160"/>
            <a:ext cx="7821720" cy="1414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4995720" y="1700280"/>
            <a:ext cx="3564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Лежит в тени старый змей и говорит хриплым голосом: </a:t>
            </a:r>
            <a:r>
              <a:rPr b="0" lang="en-US" sz="2800" spc="-1" strike="noStrike">
                <a:solidFill>
                  <a:srgbClr val="dfe6d0"/>
                </a:solidFill>
                <a:latin typeface="Tw Cen MT"/>
              </a:rPr>
              <a:t>&lt;&lt;</a:t>
            </a:r>
            <a:r>
              <a:rPr b="0" lang="ru-RU" sz="2800" spc="-1" strike="noStrike">
                <a:solidFill>
                  <a:srgbClr val="dfe6d0"/>
                </a:solidFill>
                <a:latin typeface="Calibri"/>
              </a:rPr>
              <a:t>Я стар и скучен, никому не нужен. Я раньше как и все змей ползал и играл а, потом время прошло и я стал стар. Никто ко мне не ходит, не навещает , никому я не нужен. Ведь раньше меня считали самым умным, приходили ко мне за советом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.    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Все считали что я самый длинный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Самый страшный,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411480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Самый силь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И в конце концов самый красив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130400" y="2060640"/>
            <a:ext cx="6657840" cy="441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Через некоторое время Змей услышал голоса медведей: 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&lt;&lt;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Вы старый и самый умный. Мы пришли просить ответа на наш вопрос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&gt;&gt;</a:t>
            </a: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-говорили медведи Змею. Как только Змей это услышал это он так обрадовался что у него на лице была видна улыбка.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4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e6d0"/>
                </a:solidFill>
                <a:latin typeface="Calibri"/>
              </a:rPr>
              <a:t>Конец!!!</a:t>
            </a:r>
            <a:endParaRPr b="0" lang="en-US" sz="96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3:04:58Z</dcterms:created>
  <dc:creator>User</dc:creator>
  <dc:description/>
  <dc:language>en-US</dc:language>
  <cp:lastModifiedBy>User</cp:lastModifiedBy>
  <dcterms:modified xsi:type="dcterms:W3CDTF">2014-01-15T11:16:34Z</dcterms:modified>
  <cp:revision>8</cp:revision>
  <dc:subject/>
  <dc:title>Мудрый ЗМЕЙ</dc:title>
</cp:coreProperties>
</file>