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23.png" ContentType="image/png"/>
  <Override PartName="/ppt/media/image17.jpeg" ContentType="image/jpe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62A-9087-467A-9B10-238AF01D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999-63DF-457D-96E6-698C017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0765-186C-43EB-A935-B52B4730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4FAB-5A66-44A5-9E5F-D2DC8D1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90FAC-FE61-4D33-BDA9-4EFE11E1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349B-8801-493D-9AAB-9EDA31F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95AD4-FE9C-45B7-AC3A-7CD75D41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8F9F-1176-48ED-9F52-FAF1AD5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E40D-A16B-4722-8E8F-0D65846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FF2CB-8E98-4420-87DC-90E9720C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894F4-CDD9-49BB-86DA-E3436470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A61A4-08F6-4E9C-8939-190F895E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821-7C73-41E0-9877-CA9E9D29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D2631-4A1C-4C38-ADFE-64FCA6B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0B9A-5F4A-4EC3-A7E4-773A17C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7AFE-4079-4405-9111-C3D6953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C6FF6-7E23-4EFD-8B0E-CC1B7A9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39283-252B-4509-AD9D-CC590E7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FB12E-F417-41D4-AED9-0EC86C3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17E2D-BB28-43EE-AFB9-A7B5C94D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D3C55-B4B3-4E00-B21F-51025B2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B2C60-59D6-434D-9A7B-8AEAE655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BCBD1-FD53-4C35-A7E5-8E93BC9F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B2F-AEDE-403B-80C7-FEEF89CC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D9B62-F8D6-4DDE-8AA0-EC08CDD1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7999A-8453-4BA0-9F94-EF77AA38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2D1D2-E9EA-4A17-8C1A-98303BBD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A37C5-4BDC-494B-9FC6-AA66B46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FF94D-39E2-4368-A751-156218B6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E557B-E2F7-4E18-AEE7-A376473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D2124-2DE9-4F19-AC15-6E1F5DE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2CAFC-E114-4B29-A396-A7B86FF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85754-219F-4DA3-B6B8-E60C482C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8948-C397-420C-87AB-2A9B708E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8EE6-54B9-46A5-94AA-7A5E8AB5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A7B77-DBB8-4F30-A8C4-88D57875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DC321-E2D8-4873-84A5-3D9D18ED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171F-8B9C-4F39-A408-AF700306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7067-2EE0-4048-9A60-6F56BEE4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5B7B-A3A4-47FB-A821-B7CD185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9CA8-AE09-441D-AB58-FBA30264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09EB-C697-4CEB-A8BA-79B0524F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139F-7A19-465F-93C1-3554E3E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AF50-5DA7-483D-85CC-0D8F70A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52D-46E7-4590-8B86-6F01B53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226F-5356-4673-BA34-C8850EB1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04B4-D4B3-4420-B174-BFD0E67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4016-296E-4E4D-9817-F5F78C8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D9D3-806B-46B2-A024-6BBFA508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0C8-166B-4E3C-961D-7E4F3449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C380-2255-49C4-A6A3-3D1DD020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5DEF-561E-4D2F-A318-1A743BDC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18FC-0F95-4A48-A1B4-89BB3BB9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7712-BDB0-48C3-BDB6-77396163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A323-9E21-4883-B146-DE66965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5D9-AD1D-40B3-A90D-FEC2A253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A98D-556D-4E62-9794-2B9EDC1F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AA47-8BFF-4C91-8011-FCC6427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A9E8-11E3-457A-B4D6-4D2AEA4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6704-8087-4C3A-BD91-18ABF9B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93F6-208F-4A5E-92B7-5626033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BAC5-9AB1-4F2E-BC56-52E49F26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B46F-768F-493D-918B-291D7921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CA3E-808E-417C-8C97-4987FF6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93B3-ED6E-4452-9B42-A3E01E94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4D69-25D2-418C-B507-6F657409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515-9ED6-4054-A448-95C68FC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92C3-61AD-4526-AD24-580915F3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1257-245E-43F5-A1AF-5BE0E62B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FD7E-E5D0-4102-9D91-1B49F16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9DEA-B440-43EF-8D0E-3430B4B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BD18-711C-4037-AE13-2B6158A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7B2C-3426-4E04-881F-3B1CB5F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5D59-BEE7-47F0-B6C4-9B01F3FA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07CD-97EF-469F-8BA9-820F6341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7D7C-24E7-47C0-952B-E8A59DA5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5E3A-036C-4E60-B656-126F820E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534-10BE-4083-8314-C679368B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3A91-48D4-412A-86D9-A9D0ED94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32213-2646-4D2A-84E2-DA5FFEC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F0E17-9486-4970-B1F0-EBF8947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EB05-123C-4214-9C52-8F78683C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03B54-3C74-4D65-AC28-A1BC812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FC51-8C2C-45AB-9633-21E6B48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2AA2-E6EC-48EF-A730-4A92D40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237C-85D2-4594-8F4B-D27B36E9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5FC3-319F-4737-88D3-861338D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BED1-EE87-4D17-A95D-3CABF022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C48-088A-49B6-80C4-EA07F7B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7DCA7-B6F0-49A0-B948-065C47A8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5EC0-B47C-464D-86A3-82521B93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3F5BD-BAE7-48EF-A917-117FECB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E19B-63AB-422B-A029-56E4C794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14F0-334F-497C-8302-832EC77C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F168-9A4E-4AED-AAE0-D8C22BE6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B4F2-8424-44CD-8A3C-B6AA095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BC2F-5DF6-456F-8830-8A987D1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71A4-830E-48F8-AE5C-F4D0DA5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97B8-A2C9-4D94-9E75-8438D82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E8D-F492-4D7B-8ADC-E3C62F0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3F12-B89B-4BE3-96D0-19B2A9B6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4AD5-7ADF-4CAD-B457-D9B8183E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8AA19-7B97-4B1C-B7DD-F1B13E73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205D-8E9A-49D1-BC22-EBE7EC97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8FA4-83B0-49C8-800A-1F18CE40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C2FB-013E-44AF-9DA9-91C89E7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EF095-FC74-4793-A8D7-006A852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63E6-00E9-4DE5-8289-A6B80A9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C179C-F51B-4FF1-A5A8-8FC26988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F02F-AA55-45F1-9591-F8BA3491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6EB-1FDA-40DE-AB56-CE68AD82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D6DD2-536C-4545-B4C8-E112E2D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FC24-B611-47AF-AA1C-1D76A5D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3863-A274-4D7B-9E77-F030166F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7A3A8-66F5-4C2C-B456-5FEEF24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3816-B086-4945-A13A-335E86A9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428-0CEE-4C2D-8D0E-C37F32C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2B45-80F0-49E6-A323-C908519E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228F-2E4A-4004-89F7-0AA8198F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87CC-7BB4-4A67-BABA-0AA7F94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3E69-089A-40A3-8B4B-18E60FCCBF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1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72DB-3817-4EBB-BA63-28E948F53A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75E3-0FEB-4C7E-900D-2EBD2F5C0A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ADD-155A-4A0E-ACA9-DCC40760F2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F7D4-B8C7-4C7C-B445-245ECC740C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02F-1FF6-48D4-AC47-D9CB94E638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EF24-CA78-4AE6-BEB1-8E15F2418F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E89-6DCC-4791-A5BD-0CFD210581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D96-2D07-4686-994C-9C325C0872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6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2CE-4756-4856-A2FB-7DFF8B47B0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Заголовок 1"/>
          <p:cNvGrpSpPr/>
          <p:nvPr/>
        </p:nvGrpSpPr>
        <p:grpSpPr>
          <a:xfrm>
            <a:off x="706320" y="255600"/>
            <a:ext cx="8437680" cy="3120840"/>
            <a:chOff x="706320" y="255600"/>
            <a:chExt cx="8437680" cy="3120840"/>
          </a:xfrm>
        </p:grpSpPr>
        <p:pic>
          <p:nvPicPr>
            <p:cNvPr id="50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06320" y="255600"/>
              <a:ext cx="843768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071720" y="357120"/>
              <a:ext cx="7815240" cy="29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orbel"/>
                </a:rPr>
                <a:t>Н.А. Некрасов.</a:t>
              </a:r>
              <a:br>
                <a:rPr sz="4400"/>
              </a:br>
              <a:r>
                <a:rPr b="0" lang="ru-RU" sz="4400" spc="-1" strike="noStrike">
                  <a:solidFill>
                    <a:srgbClr val="000000"/>
                  </a:solidFill>
                  <a:latin typeface="Corbel"/>
                </a:rPr>
                <a:t>Поэма «Русские женщины». История создания произведения, героини поэмы</a:t>
              </a:r>
              <a:r>
                <a:rPr b="0" lang="ru-RU" sz="43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43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10" name="Подзаголовок 2"/>
          <p:cNvGrpSpPr/>
          <p:nvPr/>
        </p:nvGrpSpPr>
        <p:grpSpPr>
          <a:xfrm>
            <a:off x="1073160" y="4145040"/>
            <a:ext cx="7686720" cy="2017800"/>
            <a:chOff x="1073160" y="4145040"/>
            <a:chExt cx="7686720" cy="2017800"/>
          </a:xfrm>
        </p:grpSpPr>
        <p:pic>
          <p:nvPicPr>
            <p:cNvPr id="511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073160" y="4145040"/>
              <a:ext cx="76867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1285920" y="4357800"/>
              <a:ext cx="74073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marL="27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Franklin Gothic Medium"/>
                </a:rPr>
                <a:t>Цель: изучение поэмы Н.А.Некрасова "Русские женщины", построенной на принципах историзма.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4038480" cy="3024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68360" y="3715920"/>
            <a:ext cx="6480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Мы надрывались под зноем и холодом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С вечно согнутой спино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Жили в землянках, боролися с голодом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Мёрзли и мокли, болели цинго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Грабили нас грамотеи-десятник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Секло начальство, давила нужд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Corbel"/>
              </a:rPr>
              <a:t>Н.А. Некрасов «Железная дорог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648320" y="549360"/>
            <a:ext cx="4038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Падение крепостного права поставило крестьян в такие условия, что они не могли уже кормиться с оставшихся у них клочков земли. Масса народа бросилась на поиски заработка, идя на фабрики, на постройку железных доро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Corbel"/>
              </a:rPr>
              <a:t>С большой теплотой писал Некрасов о крестьянских детях, которых он хорошо знал и любил за любознательность, живость ума, находчивость, трудолюбие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то часто их видел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Тот, верю я, люби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рестьянских де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И.шествуя важно, в спокойствии чинном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Лошадку ведёт под уздцы мужич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больших сапогах, в полушубке овчинном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больших рукавицах…а сам с ноготок</a:t>
            </a: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Corbel"/>
              </a:rPr>
              <a:t>Н.А. Некрасов «Крестьянские дети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5500800" y="5643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Мужичок с ноготок». С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рисунка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.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Шмарин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2" name="Picture 4" descr="12"/>
          <p:cNvPicPr/>
          <p:nvPr/>
        </p:nvPicPr>
        <p:blipFill>
          <a:blip r:embed="rId1"/>
          <a:stretch/>
        </p:blipFill>
        <p:spPr>
          <a:xfrm>
            <a:off x="5357880" y="1351080"/>
            <a:ext cx="32860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  </a:t>
            </a:r>
            <a:r>
              <a:rPr b="1" lang="ru-RU" sz="2500" spc="-1" strike="noStrike">
                <a:solidFill>
                  <a:srgbClr val="800080"/>
                </a:solidFill>
                <a:latin typeface="Corbel"/>
              </a:rPr>
              <a:t>Волга для Некрасова была не  только источником радостных впечатлений – с детства запомнились ему картины нечеловеческого труда бурлаков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41468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Выдь на Волгу: чей стон раздаёт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Над великою русской рекой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Этот стон у нас песней зовётся –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То бурлаки идут бечевой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Почти пригнувшись голов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К ногам, обвитым бечево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Обутым в лапти вдоль ре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 был невыносимо ди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 страшно ясен в тишин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х мерный похоронный крик –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 сердце дрогнуло во мне</a:t>
            </a: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5" name="Picture 7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3960720" cy="38876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8"/>
          <p:cNvSpPr/>
          <p:nvPr/>
        </p:nvSpPr>
        <p:spPr>
          <a:xfrm>
            <a:off x="395280" y="56494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урлаки на Волг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 картины И. Репи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57280" y="356760"/>
            <a:ext cx="66153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Пленительные образы! Едва ли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В истории какой-нибудь страны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Вы что-нибудь прекраснее встречали.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Их имена забыться не должны.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Н.Некрасов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214800" y="2643120"/>
            <a:ext cx="421488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9" name="Picture 5" descr="Volkonskaj"/>
          <p:cNvPicPr/>
          <p:nvPr/>
        </p:nvPicPr>
        <p:blipFill>
          <a:blip r:embed="rId1"/>
          <a:stretch/>
        </p:blipFill>
        <p:spPr>
          <a:xfrm>
            <a:off x="1071720" y="1714680"/>
            <a:ext cx="3825720" cy="43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trubeckaj"/>
          <p:cNvPicPr/>
          <p:nvPr/>
        </p:nvPicPr>
        <p:blipFill>
          <a:blip r:embed="rId2"/>
          <a:stretch/>
        </p:blipFill>
        <p:spPr>
          <a:xfrm>
            <a:off x="5197320" y="2214720"/>
            <a:ext cx="3649680" cy="43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e7dec9"/>
                </a:solidFill>
                <a:latin typeface="Corbel"/>
              </a:rPr>
              <a:t>Историческая основа поэ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олитическое самосознание жен декабристов не было развито : деятельность их мужей происходила в тайных обществах, и весть об арестах для родных и близких звучала как гром среди ясного неб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о, выполняя свой женский долг, "декабристки" поневоле наполняли его гражданским содержанием. Именно так воспринимали их поступок все - от императора до людей из простого сосло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реди этих женщин были: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. Трубецкая, В.Нарышкина, В. Розен, М. Волконская и д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иколай I, учинивший расправу над декабристами, понимал, что и неслыханный по дерзости поступок жен бунтовщиков может вызвать сочувствие в обществе, смутить умы. Поэтому он не поскупился на угрозы - только бы удержать женщин от воссоединения с мужьями, посягнувшими на священную царскую вла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7dec9"/>
                </a:solidFill>
                <a:latin typeface="Times New Roman"/>
              </a:rPr>
              <a:t>Историческая основа поэ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Из дневника М.Волконско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«Жена, следуя за своим мужем, сделается естественно причастной его судьбе и потеряет прежнее звание, то есть будет уже признаваема не иначе, как женою ссыльного-каторжного, и с тем вместе принимает на себя переносить все, что такое состояние может иметь тягостного, ибо даже и начальство не в состоянии будет защитить ее от ежечасных могущих быть оскорблений от людей самого неразвитого, презрительного класса, которые найдут в том как будто некоторое право считать жену государственного преступника, несущею равную с ним участь, себе подобно: оскорбления сии могут быть даже насильственные. Закоренелым злодеям не страшны наказания. Дети, которые приживутся в Сибири, поступят в казенные заводские крестьяне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 Ни денежных сумм, ни вещей многоценных с собою взять не дозволено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dec9"/>
                </a:solidFill>
                <a:latin typeface="Times New Roman"/>
              </a:rPr>
              <a:t>Историческая основа поэм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сопротивление собственной семь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трудность получения официального разреш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сознательный отказ от привилег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невозможность взять с собой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«Они бросили все: знатность, богатство, связи 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родных, всем пожертвовали для высочайшег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нравственного долга… Ни в чем не повинны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они… перенесли все, что перенесли их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осуждённые мужья», - писал Ф.М. Достоевск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Авторская позиция в поэм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0872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Отношение автора к Княгине.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ff"/>
                </a:solidFill>
                <a:uFillTx/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1403280" y="330192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0" y="1447920"/>
            <a:ext cx="3348000" cy="5181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9"/>
          <p:cNvSpPr/>
          <p:nvPr/>
        </p:nvSpPr>
        <p:spPr>
          <a:xfrm>
            <a:off x="3500280" y="1714680"/>
            <a:ext cx="564372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d0"/>
                </a:solidFill>
                <a:latin typeface="Times New Roman"/>
              </a:rPr>
              <a:t>Имя героини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- в заглавии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част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поэмы, указание подзаголовка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1826 г. – поэт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rbel"/>
              </a:rPr>
              <a:t>восхищаетс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поступком этой женщины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она первая добилас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азрешения поехать к муж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в Сибир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2920" y="2928960"/>
            <a:ext cx="3933720" cy="3714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428760" y="214200"/>
            <a:ext cx="8420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Зима 1827 г. – осень 1830 г. Читинский остро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М.Бестужев: «Каземат соединил нас вместе, дал опору дру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в друге и через наших ангелов-спасителей, дам, соедини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с с тем миром, от которого навсегда мы были оторван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политической смертью, соединил нас с родными, дал н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охоту жить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2920" y="25718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</a:rPr>
              <a:t>Колония декабристок. Дамская ул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114800" y="2492280"/>
            <a:ext cx="50292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Осень 1830 г. – Петровский завод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Манифест о помиловании – амнистия 1856 г. после смерти Николая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в связи с коронацией нового императора Александра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Разрешение вернуться в европейскую Росс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Из 121 декабриста вернулись 19. Остальные остались в сибирской земл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7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7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4498920" cy="511632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928800" y="214200"/>
            <a:ext cx="78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Деревенская изба в Благодатском рудни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364000" y="914400"/>
            <a:ext cx="3780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з записок М.Волконской</a:t>
            </a:r>
            <a:r>
              <a:rPr b="0" lang="ru-RU" sz="2400" spc="-1" strike="noStrike">
                <a:solidFill>
                  <a:srgbClr val="e7dec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d0"/>
                </a:solidFill>
                <a:latin typeface="Times New Roman"/>
              </a:rPr>
              <a:t>«Она была до того тесна, что, когда я ложилась на полу на своем матраце, головой касалась стены, а ноги упирались в двер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d0"/>
                </a:solidFill>
                <a:latin typeface="Times New Roman"/>
              </a:rPr>
              <a:t>Печь дымила, и ее нельзя было топить, когда на дворе было ветрено; окна без стекол, их заменяла слюда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75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63579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2314"/>
                </a:solidFill>
                <a:latin typeface="Corbel"/>
                <a:ea typeface="Andalus"/>
              </a:rPr>
              <a:t>Некрасов Николай Алексеевич</a:t>
            </a:r>
            <a:br>
              <a:rPr sz="4900"/>
            </a:br>
            <a:r>
              <a:rPr b="1" lang="ru-RU" sz="4900" spc="-1" strike="noStrike">
                <a:solidFill>
                  <a:srgbClr val="572314"/>
                </a:solidFill>
                <a:latin typeface="Corbel"/>
                <a:ea typeface="Andalus"/>
              </a:rPr>
              <a:t>(1821 – 1877)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14" name="Содержимое 5" descr="0123-062.jpg"/>
          <p:cNvPicPr/>
          <p:nvPr/>
        </p:nvPicPr>
        <p:blipFill>
          <a:blip r:embed="rId1"/>
          <a:srcRect l="0" t="5298" r="0" b="3154"/>
          <a:stretch/>
        </p:blipFill>
        <p:spPr>
          <a:xfrm>
            <a:off x="2928960" y="2476440"/>
            <a:ext cx="3011400" cy="3987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804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рия Николаевна Волконск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3214800" y="1874880"/>
            <a:ext cx="33573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000160" y="1857240"/>
            <a:ext cx="5500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Нет! я не жалкая раба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Я женщина, жена!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Пускай горька моя судьба –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Я буду ей верна!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О, если б он меня забыл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Для женщины другой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В моей душе достало б сил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Не быть его рабой!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Но знаю: к родине любовь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 Соперница моя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И если б нужно было, вновь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 Ему простила б я!.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14320" y="2071440"/>
            <a:ext cx="6615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Corbel"/>
              </a:rPr>
              <a:t>Поэтическое завещание Н.А. Некрасова.</a:t>
            </a:r>
            <a:br>
              <a:rPr sz="3900"/>
            </a:br>
            <a:br>
              <a:rPr sz="39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Сейте разумное, доброе, вечное,</a:t>
            </a:r>
            <a:br>
              <a:rPr sz="32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Сейте!</a:t>
            </a:r>
            <a:br>
              <a:rPr sz="32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Спасибо вам скажет сердечное</a:t>
            </a:r>
            <a:br>
              <a:rPr sz="32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Русский народ!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7240" y="1905120"/>
            <a:ext cx="822024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</a:t>
            </a:r>
            <a:r>
              <a:rPr b="0" lang="ru-RU" sz="3200" spc="-1" strike="noStrike">
                <a:solidFill>
                  <a:srgbClr val="800080"/>
                </a:solidFill>
                <a:latin typeface="Corbel"/>
                <a:ea typeface="Courier New CYR"/>
              </a:rPr>
              <a:t>Детство</a:t>
            </a:r>
            <a:r>
              <a:rPr b="0" lang="ru-RU" sz="3200" spc="-1" strike="noStrike">
                <a:solidFill>
                  <a:srgbClr val="cc3399"/>
                </a:solidFill>
                <a:latin typeface="Corbel"/>
                <a:ea typeface="Courier New CYR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иколай Алексеевич Некрасов родился 28 ноября (10 декабря по н. ст.)1821г.в местечке Немирове Подольской губернии. Он был третьим ребенком в семье. Мать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лена Андреевна, урожденная Закревская, малороссийская дворянка. Отец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Алексей Сергеевич Некрасов, небогатый помещик, армейский офицер. Через три года после рождения сына он, выйдя в отставку майором, навсегда переселился в свое родовое поместье в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Courier New CYR"/>
              </a:rPr>
              <a:t>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ославском имении Грешневе, которое находилось недалеко от Волг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Грешнево находилось на равнине, среди бесконечных лугов и полей. Здесь, в деревне, поэт провел свое дет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957240" y="285840"/>
            <a:ext cx="818676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28640" y="214200"/>
            <a:ext cx="50482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Грешнёво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030560" y="1827360"/>
            <a:ext cx="5113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Именно из Грешнёва Некрасов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оэт вынес исключительную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чуткость к чужому страданию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В Грешнёве завязалась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ердечная привязанность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Некрасова к русскому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крестьянину, определившая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впоследствии исключительну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народность его творчеств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9" name="Picture 4" descr="b5g0506"/>
          <p:cNvPicPr/>
          <p:nvPr/>
        </p:nvPicPr>
        <p:blipFill>
          <a:blip r:embed="rId1"/>
          <a:stretch/>
        </p:blipFill>
        <p:spPr>
          <a:xfrm>
            <a:off x="846000" y="3048120"/>
            <a:ext cx="3117960" cy="30477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J7PMACAM7F5QACAQVZS7ICAG9Q3H4CAQ1D8EDCA1ZZ6G2CAC689AACAISIEJCCA7J9EVNCAB5CM2ICA76VDAMCA3DXJCPCAN63GS1CAE9M93VCALPJ8QICABLT2A6CAMQ5V3MCAKS6BRFCAZXCSCC"/>
          <p:cNvPicPr/>
          <p:nvPr/>
        </p:nvPicPr>
        <p:blipFill>
          <a:blip r:embed="rId2"/>
          <a:stretch/>
        </p:blipFill>
        <p:spPr>
          <a:xfrm>
            <a:off x="1285920" y="500040"/>
            <a:ext cx="2805120" cy="1889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7"/>
          <p:cNvSpPr/>
          <p:nvPr/>
        </p:nvSpPr>
        <p:spPr>
          <a:xfrm>
            <a:off x="1214280" y="621504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-музей в Карабих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071720" y="250020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-усадьба 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ешнё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11000" y="0"/>
            <a:ext cx="8265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Corbel"/>
                <a:ea typeface="Courier New CYR"/>
              </a:rPr>
              <a:t>Дружба с крестьянскими детьми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р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Courier New CYR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адьбе был старый, запущенный сад, обнесенный глухим забором. Мальчик проделал в заборе лазейку и в те часы, когда отца не было дома, зазывал к себе крестьянских детей. Дети врывались в сад и набрасывались на яблоки, груши, смородину, вишню. Но стоило няньке крикнуть: "Барин, барин идет!"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ак они мгновенно исчезали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онечно, барскому сыну не разрешали дружить с детьми крепостных крестьян. Но, улучшив удобную минуту, мальчик убегал через ту же лазейку к своим деревенским друзьям, уходил с ними в лес, купался в речке Самарке. Этот момент его жизни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посредственное общение с крестьянскими деть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ourier New CYR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оказал влияние на его творчество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41360" y="-686160"/>
            <a:ext cx="870264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orbel"/>
                <a:ea typeface="Courier New CYR"/>
              </a:rPr>
              <a:t>                            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 Unicode MS"/>
                <a:ea typeface="Courier New CYR"/>
              </a:rPr>
              <a:t>Взаимоотношения в семь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щ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ё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дно горе постоянно было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ядом с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Николаем Алексеевичем.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Это горе в родной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емье. Его мать,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лена Андреевна, кроткая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женщина,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чень страдала в замужестве.Он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была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человеком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высокой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ультуры, а ее муж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тец Николая,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был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человеком грубым,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жестоким, невежественным.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Целыми днями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идела она дома одна, а ее муж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остоянно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азъезжал по соседним помещикам: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го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излюбленными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  <a:ea typeface="Courier New CYR"/>
              </a:rPr>
              <a:t>р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азвлечениями были карты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опойки, псовая охота на зайцев. Бывали такие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дни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огда она целыми днями сидела за роялем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ела и плакала о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воей горькой участи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красов писал:"Она была певица с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удивительным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голосом". В некоторых его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тихах он воспроизводил тот печальный мотив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авеянный ему песнями матери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Играла ты и пела гимн печальный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Ту песню, вопль души многострадальной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Твой первенец наследовал пото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5" descr="477-1"/>
          <p:cNvPicPr/>
          <p:nvPr/>
        </p:nvPicPr>
        <p:blipFill>
          <a:blip r:embed="rId1"/>
          <a:stretch/>
        </p:blipFill>
        <p:spPr>
          <a:xfrm>
            <a:off x="428760" y="357120"/>
            <a:ext cx="399564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99720" y="0"/>
            <a:ext cx="7929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  <a:ea typeface="Courier New CYR"/>
              </a:rPr>
              <a:t>Ярославская  гимназ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Courier New CYR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смотря на отсутствие домашних учителей, к 10 годам Некрасов овладел грамотой и в 1832 г. поступил в Ярославскую гимназию вместе со старшим братом Андреем. Пребывание в гимназии не стало значимым этапом в жизни Некрасова; ни разу не вспомнил он ни о педагогах, ни о товарищах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Четыре года обучения мало что дали, а в последний, 1837 г., Николай Некрасов даже не был аттестован по многим предметам. Под предлогом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«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асстроенного здоровья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»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красов-отец забрал сына из гимназии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»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В это время Алексей Сергеевич служил исправником, и Николай помогал ему в качестве письмоводителя. Юноша, почти мальчик, присутствовал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«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ри различных сценах народной жизни, при следствиях, при вскрытии трупов, а иногда и при расправах во вкусе прежнего времени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».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Все это производило глубокое впечатление на ребенка и рано в живых картинах знакомило его с тогдашними, часто слишком тяжелыми, условиями народной жизн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7" name="Picture 3" descr="Gumnasium"/>
          <p:cNvPicPr/>
          <p:nvPr/>
        </p:nvPicPr>
        <p:blipFill>
          <a:blip r:embed="rId1"/>
          <a:stretch/>
        </p:blipFill>
        <p:spPr>
          <a:xfrm>
            <a:off x="6130800" y="152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Corbel"/>
              </a:rPr>
              <a:t>Некрасов много писал о безрадостном детстве маленьких тружеников, о их голодной и нищей жизни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Только нам гулять не довело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По полям и нивам золотым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Целый день на фабрике колёс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Мы вертим – вертим – вертим!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Колесо чугунное вертится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И гудит и ветром обдаёт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Голова пылает и кружится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Сердце бьётся, всё кругом идё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Красный нос безжалостной старухи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Что за нами смотрит сквозь очк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По стенам гуляющие мух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Стены, двери, окна, потолки…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ccff"/>
                </a:solidFill>
                <a:latin typeface="Corbel"/>
              </a:rPr>
              <a:t>  </a:t>
            </a:r>
            <a:r>
              <a:rPr b="1" i="1" lang="ru-RU" sz="1900" spc="-1" strike="noStrike">
                <a:solidFill>
                  <a:srgbClr val="660033"/>
                </a:solidFill>
                <a:latin typeface="Corbel"/>
              </a:rPr>
              <a:t>Н.А Некрасов «Плач детей</a:t>
            </a:r>
            <a:r>
              <a:rPr b="1" i="1" lang="ru-RU" sz="1900" spc="-1" strike="noStrike">
                <a:solidFill>
                  <a:srgbClr val="00ccff"/>
                </a:solidFill>
                <a:latin typeface="Corbel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0" name="Picture 10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43527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1"/>
          <p:cNvSpPr/>
          <p:nvPr/>
        </p:nvSpPr>
        <p:spPr>
          <a:xfrm>
            <a:off x="539640" y="5903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«Плач детей». </a:t>
            </a:r>
            <a:r>
              <a:rPr b="1" i="1" lang="ru-RU" sz="1800" spc="-1" strike="noStrike">
                <a:solidFill>
                  <a:srgbClr val="660033"/>
                </a:solidFill>
                <a:latin typeface="Corbel"/>
              </a:rPr>
              <a:t>С рисунка О. Шухвост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Corbel"/>
              </a:rPr>
              <a:t>Он был певцом народа-пахаря…И видел Некрасов, как тяжела его жизнь, слышал, как стоном стелется его бесприютная тоска над нескончаемым простором лугов и полей</a:t>
            </a:r>
            <a:r>
              <a:rPr b="1" lang="ru-RU" sz="1800" spc="-1" strike="noStrike">
                <a:solidFill>
                  <a:srgbClr val="6600cc"/>
                </a:solidFill>
                <a:latin typeface="Corbel"/>
              </a:rPr>
              <a:t>…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714560" y="1643040"/>
            <a:ext cx="430380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Поздняя осень. Грачи улетел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Лес обнажился. Поля опустел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Только не сжата полоска одна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Грустную думу наводит о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Руки, что вывели борозды эт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Высохли в щепку, повисли, как плет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Очи потускли, и голос пропал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Что заунывную песню певал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ff"/>
                </a:solidFill>
                <a:latin typeface="Corbel"/>
              </a:rPr>
              <a:t>                </a:t>
            </a: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Н.А. Некрасо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             </a:t>
            </a: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«Несжатая полос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4360" cy="42498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8"/>
          <p:cNvSpPr/>
          <p:nvPr/>
        </p:nvSpPr>
        <p:spPr>
          <a:xfrm>
            <a:off x="0" y="57398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«Несжатая полоса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С </a:t>
            </a:r>
            <a:r>
              <a:rPr b="1" i="1" lang="ru-RU" sz="1800" spc="-1" strike="noStrike">
                <a:solidFill>
                  <a:srgbClr val="660033"/>
                </a:solidFill>
                <a:latin typeface="Corbel"/>
              </a:rPr>
              <a:t>рисунка Д. Шмарин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4:23:49Z</dcterms:created>
  <dc:creator>Юля Ермолаева</dc:creator>
  <dc:description/>
  <dc:language>en-US</dc:language>
  <cp:lastModifiedBy>Юля Ермолаева</cp:lastModifiedBy>
  <dcterms:modified xsi:type="dcterms:W3CDTF">2012-04-13T16:15:22Z</dcterms:modified>
  <cp:revision>11</cp:revision>
  <dc:subject/>
  <dc:title>Н.А. Некрасов. Поэма «Русские женщины». История создания произведения, героини поэмы.</dc:title>
</cp:coreProperties>
</file>