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23.png" ContentType="image/png"/>
  <Override PartName="/ppt/media/image17.jpeg" ContentType="image/jpeg"/>
  <Override PartName="/ppt/media/image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CEB1-B930-4FD7-81BB-DED53F71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1A0-6DA2-4D5C-AAC6-9DA1DEA1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31260-74F2-45AB-834A-894F9ED2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52459-728C-471A-A89F-0C615B7C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849BC-E797-4D5E-AAF4-A5B563D9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9A496-5D19-4EA2-97C4-249C8457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28972-86EA-4F5B-AA0E-E3F83128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0CF70-A11E-4B7F-8349-B4B2DD14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3E727-3338-4691-948C-3F2CA1A1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8A2AC-DBAC-42ED-8DB0-37FE6DAF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27409-330F-40FC-B5C0-CE49ABA0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EBC89-F3A2-4DDB-8968-C71BBA8D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0F7D-B3F2-47C5-ADDF-A4EE9C9C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5986C-0D33-41FC-AFEA-EE768098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C3957-1268-4C27-9AE9-D5D6E7D5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CEB92-9C48-404A-B0F6-1D71DC5E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C45FB-77FF-4498-9E5F-A0B22393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8FEBB-8891-4A38-B5BD-CF61ACBC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41CD7-0F54-4512-BAD3-BF70F9FB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0BDA2-8655-4D77-8818-6E5C0430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22EE2-6D1D-45AE-9DDF-BAF1FA4A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2BEFF-EAA3-4639-9BAC-0CB98328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92C52-F649-4A02-A068-987A5C5D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CB7-9C9F-438B-BEC9-A62BEBE2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DFBF9-46D2-400D-817F-7210EBA0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A2CFD-91CC-448E-A0A3-AA9CF41D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3DF2A-25DF-429C-8839-F6C2BBBF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8F836-B139-4463-8C46-F6059CDD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1BDB3-AF40-4B56-A180-158BB532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A142A-16A5-434F-BE90-F5838FDB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0485D-EABA-4576-BB47-429EC4DA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AE7FC-4395-43B7-A8CC-45B9C589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0D099-595E-42AE-BDB9-851E759F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CC37B-4254-4F2C-ADCE-93FF909A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A8F6-F3D9-4025-AF88-4DAFCF29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E7A63-AC43-4D77-B674-6E066C37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CE1BC-4E5B-4F8B-BF1E-28F5E8FB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DB027-2B98-43AD-900E-9358AA76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4C00-B6ED-4A57-AC52-37E593A1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E0ED-48C7-467D-954A-9DAD5A0A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C164-BAB0-4F43-8E38-7B3AA386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8BAA-96FA-4A39-A260-0A3AB025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74BE-BFBF-4BB5-825F-7E69072E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875B-9B7B-403C-A656-BB88A0A7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26B-BEBD-4439-B17C-501B5D26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47AA-53D5-4325-8FAA-467BE5F0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3C96-DAF5-4259-A99B-3C8EAFE9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F322-99A8-479E-9674-C6A2E49E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381C-C554-497E-B301-396D3AE3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F628-5EAC-4C85-96FE-94661198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AAFCA-3321-413F-BD58-6190B86F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22B64-6890-4342-8F26-700D97D5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A0B13-7B6C-4261-B0A2-31323F83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3EFFE-B926-4F26-9A9B-6C3C7825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2ED0E-10C5-44E6-B261-DFF333EE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C9B-40F3-440E-97C6-13FDEC0B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F0244-DE69-4F9B-9D95-5B04D324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C0ECD-4E5C-4882-9AF1-755D3ADC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2A1CC-0490-489B-8933-997FDC26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F2659-A797-423A-8A0B-9F729DF9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6F321-8830-4269-98B2-E1BC5F1D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E73D5-8238-467B-91B1-FA5DBC3A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401AA-055E-47D3-A859-1723767D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E276F-737B-47D5-81F1-DC21C2A5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A0FCE-6CC3-47ED-BF03-CAED9B9D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DC42B-07DB-4FFA-9260-8EA30A04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FE3-1A36-46E6-86AB-818D406A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49F5E-91CF-4DEC-8579-9E471245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66252-48E6-4984-83B7-5754E42C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844BB-39F6-419B-8975-28A0B0D1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D439D-153C-4C41-941D-3F41B2B9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2F433-86A4-4C3F-9F08-A77C6484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96E12-D243-4A95-ACF3-9FC0A52C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24314-AD2D-4BA2-BFB4-78FF5791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736F7-4BC5-4DB7-85D2-0A769F6F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64A38-4604-4326-A0F1-0E969B98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B12E0-5FBD-428E-B5A1-84156592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23C6-8A9D-4CE7-A61F-E80C91CC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C5A01-1719-47C9-A48D-CDD060B9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6A076-B20C-4645-BC9A-29815901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0C315-9534-423C-A58C-EB3290C6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C029C-8B36-4CEF-A2AE-69E73B73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37472-2DEE-4D5E-8D59-7A5C1823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BE548-9410-4ABA-995A-33B8DB9C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DAF6C-6577-4BF6-8777-2D439CA0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28324-2399-45FC-AE7C-4CF4BF52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EC820-A4EF-4EAF-8119-9A73639D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38E34-00C1-4B87-91D1-B86AC007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2AD-841D-47A8-8CAF-3E46FB76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1A527-9444-490E-A4D3-B8883E10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15D7C-4340-439B-8A34-216915A3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89C74-9D4D-44E4-95D6-36640C95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580F3-6A78-4A1C-9D23-630AA793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BDCF9-E1C8-466B-8CDF-61CAD925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B580F-63EF-4E76-858F-5D373B13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60303-5115-43FC-96B7-9CBCE09B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95C39-2F00-483F-B755-A07EBC77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C5397-F42B-44B2-B789-675DF536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B7A27-7B66-4BC5-8FCC-B458EEFD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C458-C0ED-4AC1-A2E8-6604BF94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98C6D-5EA6-4167-B9C3-64171D49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AE003-79A5-4E95-A791-F8169CF7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6EA61-4350-4456-BD13-CE5CA78A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817BF-E1A0-49E4-809B-FE0A90EC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23615-F9B3-413A-A94F-162A5E44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FD124-4CE5-44FA-8551-95861086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94C0B-F466-4C1F-8762-BD11D38D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83678-9F65-44EB-9CC1-4B72A08D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4CA35-7259-468E-992E-65C534D0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A2C43-09CF-490C-B8EB-F76B9DF6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427-D9C9-448C-80E7-DE3255CE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5B8A1-1FA9-466C-BE3F-62C7D3C0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2740A-229E-4814-B1CC-57BFB5DB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A535C-5D29-4606-8553-425B0574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95087-22BF-45F0-8DF9-3633FC67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CAA80-0F75-4DDC-8652-B70039F4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32FC-206A-48A0-B2B2-DE975E56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D964F-CD82-45CF-93EF-516CADE0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D9EAB-B44A-4350-885A-3EA1F895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7082A-DD4D-4E08-AA1E-09D10392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9843-B881-457F-AFAF-8462C0FD522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13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1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41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BB37-8195-4F99-94A1-5523556CA01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61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46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001C-33B3-494F-AC31-9F49B625703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CFA2-57E7-4D37-86FD-BB14EE5E0B1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D906-C95A-4AC3-BC49-CA5A54E01B3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8B54-1FBF-4F18-AA1F-D16D2084B96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AD58-A27B-42BA-BEA4-790A540B88A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60E8-C608-4D41-89EF-937D0A6AEDE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497A-3215-40D8-A668-718E243FEEF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65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6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68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BCA9-DBAC-4E91-A037-806E0031D82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Заголовок 1"/>
          <p:cNvGrpSpPr/>
          <p:nvPr/>
        </p:nvGrpSpPr>
        <p:grpSpPr>
          <a:xfrm>
            <a:off x="706320" y="255600"/>
            <a:ext cx="8437680" cy="3120840"/>
            <a:chOff x="706320" y="255600"/>
            <a:chExt cx="8437680" cy="3120840"/>
          </a:xfrm>
        </p:grpSpPr>
        <p:pic>
          <p:nvPicPr>
            <p:cNvPr id="50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706320" y="255600"/>
              <a:ext cx="843768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071720" y="357120"/>
              <a:ext cx="7815240" cy="29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Corbel"/>
                </a:rPr>
                <a:t>Н.А. Некрасов.</a:t>
              </a:r>
              <a:br>
                <a:rPr sz="4400"/>
              </a:br>
              <a:r>
                <a:rPr b="0" lang="ru-RU" sz="4400" spc="-1" strike="noStrike">
                  <a:solidFill>
                    <a:srgbClr val="000000"/>
                  </a:solidFill>
                  <a:latin typeface="Corbel"/>
                </a:rPr>
                <a:t>Поэма «Русские женщины». История создания произведения, героини поэмы</a:t>
              </a:r>
              <a:r>
                <a:rPr b="0" lang="ru-RU" sz="4300" spc="-1" strike="noStrike">
                  <a:solidFill>
                    <a:srgbClr val="000000"/>
                  </a:solidFill>
                  <a:latin typeface="Corbel"/>
                </a:rPr>
                <a:t>.</a:t>
              </a:r>
              <a:endParaRPr b="0" lang="en-US" sz="43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510" name="Подзаголовок 2"/>
          <p:cNvGrpSpPr/>
          <p:nvPr/>
        </p:nvGrpSpPr>
        <p:grpSpPr>
          <a:xfrm>
            <a:off x="1073160" y="4145040"/>
            <a:ext cx="7686720" cy="2017800"/>
            <a:chOff x="1073160" y="4145040"/>
            <a:chExt cx="7686720" cy="2017800"/>
          </a:xfrm>
        </p:grpSpPr>
        <p:pic>
          <p:nvPicPr>
            <p:cNvPr id="511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1073160" y="4145040"/>
              <a:ext cx="76867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1285920" y="4357800"/>
              <a:ext cx="740736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marL="27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00000"/>
                  </a:solidFill>
                  <a:latin typeface="Franklin Gothic Medium"/>
                </a:rPr>
                <a:t>Цель: изучение поэмы Н.А.Некрасова "Русские женщины", построенной на принципах историзма.</a:t>
              </a:r>
              <a:endParaRPr b="0" lang="en-US" sz="3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7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4038480" cy="30240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68360" y="3715920"/>
            <a:ext cx="64800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Мы надрывались под зноем и холодом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С вечно согнутой спиной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Жили в землянках, боролися с голодом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Мёрзли и мокли, болели цингой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Грабили нас грамотеи-десятники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Секло начальство, давила нужд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cc"/>
                </a:solidFill>
                <a:latin typeface="Corbel"/>
              </a:rPr>
              <a:t>Н.А. Некрасов «Железная дорога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648320" y="549360"/>
            <a:ext cx="40384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2000" spc="-1" strike="noStrike">
                <a:solidFill>
                  <a:srgbClr val="660033"/>
                </a:solidFill>
                <a:latin typeface="Corbel"/>
              </a:rPr>
              <a:t>Падение крепостного права поставило крестьян в такие условия, что они не могли уже кормиться с оставшихся у них клочков земли. Масса народа бросилась на поиски заработка, идя на фабрики, на постройку железных дорог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Corbel"/>
              </a:rPr>
              <a:t>С большой теплотой писал Некрасов о крестьянских детях, которых он хорошо знал и любил за любознательность, живость ума, находчивость, трудолюбие</a:t>
            </a: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Кто часто их видел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Тот, верю я, люби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крестьянских дет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И.шествуя важно, в спокойствии чинном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Лошадку ведёт под уздцы мужичо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В больших сапогах, в полушубке овчинном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В больших рукавицах…а сам с ноготок</a:t>
            </a:r>
            <a:r>
              <a:rPr b="0" lang="ru-RU" sz="2400" spc="-1" strike="noStrike">
                <a:solidFill>
                  <a:srgbClr val="0000ff"/>
                </a:solidFill>
                <a:latin typeface="Corbe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33"/>
                </a:solidFill>
                <a:latin typeface="Corbel"/>
              </a:rPr>
              <a:t>Н.А. Некрасов «Крестьянские дети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Rectangle 8"/>
          <p:cNvSpPr/>
          <p:nvPr/>
        </p:nvSpPr>
        <p:spPr>
          <a:xfrm>
            <a:off x="5500800" y="564336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«Мужичок с ноготок». С </a:t>
            </a: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рисунка 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Д. </a:t>
            </a:r>
            <a:r>
              <a:rPr b="1" i="1" lang="ru-RU" sz="1800" spc="-1" strike="noStrike">
                <a:solidFill>
                  <a:srgbClr val="660033"/>
                </a:solidFill>
                <a:latin typeface="Times New Roman"/>
              </a:rPr>
              <a:t>Шмаринов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42" name="Picture 4" descr="12"/>
          <p:cNvPicPr/>
          <p:nvPr/>
        </p:nvPicPr>
        <p:blipFill>
          <a:blip r:embed="rId1"/>
          <a:stretch/>
        </p:blipFill>
        <p:spPr>
          <a:xfrm>
            <a:off x="5357880" y="1351080"/>
            <a:ext cx="328608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  </a:t>
            </a:r>
            <a:r>
              <a:rPr b="1" lang="ru-RU" sz="2500" spc="-1" strike="noStrike">
                <a:solidFill>
                  <a:srgbClr val="800080"/>
                </a:solidFill>
                <a:latin typeface="Corbel"/>
              </a:rPr>
              <a:t>Волга для Некрасова была не  только источником радостных впечатлений – с детства запомнились ему картины нечеловеческого труда бурлаков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785840" y="1642680"/>
            <a:ext cx="414684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Выдь на Волгу: чей стон раздаётс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Над великою русской рекой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Этот стон у нас песней зовётся –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rbel"/>
              </a:rPr>
              <a:t>То бурлаки идут бечевой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Почти пригнувшись голово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К ногам, обвитым бечевой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Обутым в лапти вдоль рек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И был невыносимо дик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И страшно ясен в тишин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Их мерный похоронный крик –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И сердце дрогнуло во мне</a:t>
            </a:r>
            <a:r>
              <a:rPr b="0" lang="ru-RU" sz="2400" spc="-1" strike="noStrike">
                <a:solidFill>
                  <a:srgbClr val="0000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45" name="Picture 7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3960720" cy="388764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8"/>
          <p:cNvSpPr/>
          <p:nvPr/>
        </p:nvSpPr>
        <p:spPr>
          <a:xfrm>
            <a:off x="395280" y="56494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Бурлаки на Волге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С картины И. Репин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357280" y="356760"/>
            <a:ext cx="661536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Corbel"/>
              </a:rPr>
              <a:t>Пленительные образы! Едва ли</a:t>
            </a:r>
            <a:br>
              <a:rPr sz="2200"/>
            </a:br>
            <a:r>
              <a:rPr b="0" i="1" lang="ru-RU" sz="2200" spc="-1" strike="noStrike">
                <a:solidFill>
                  <a:srgbClr val="ff0000"/>
                </a:solidFill>
                <a:latin typeface="Corbel"/>
              </a:rPr>
              <a:t>В истории какой-нибудь страны</a:t>
            </a:r>
            <a:br>
              <a:rPr sz="2200"/>
            </a:br>
            <a:r>
              <a:rPr b="0" i="1" lang="ru-RU" sz="2200" spc="-1" strike="noStrike">
                <a:solidFill>
                  <a:srgbClr val="ff0000"/>
                </a:solidFill>
                <a:latin typeface="Corbel"/>
              </a:rPr>
              <a:t>Вы что-нибудь прекраснее встречали.</a:t>
            </a:r>
            <a:br>
              <a:rPr sz="2200"/>
            </a:br>
            <a:r>
              <a:rPr b="0" i="1" lang="ru-RU" sz="2200" spc="-1" strike="noStrike">
                <a:solidFill>
                  <a:srgbClr val="ff0000"/>
                </a:solidFill>
                <a:latin typeface="Corbel"/>
              </a:rPr>
              <a:t>Их имена забыться не должны.</a:t>
            </a:r>
            <a:br>
              <a:rPr sz="2200"/>
            </a:br>
            <a:r>
              <a:rPr b="0" i="1" lang="ru-RU" sz="2200" spc="-1" strike="noStrike">
                <a:solidFill>
                  <a:srgbClr val="ff0000"/>
                </a:solidFill>
                <a:latin typeface="Corbel"/>
              </a:rPr>
              <a:t>Н.Некрасов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214800" y="2643120"/>
            <a:ext cx="421488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49" name="Picture 5" descr="Volkonskaj"/>
          <p:cNvPicPr/>
          <p:nvPr/>
        </p:nvPicPr>
        <p:blipFill>
          <a:blip r:embed="rId1"/>
          <a:stretch/>
        </p:blipFill>
        <p:spPr>
          <a:xfrm>
            <a:off x="1071720" y="1714680"/>
            <a:ext cx="3825720" cy="4357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7" descr="trubeckaj"/>
          <p:cNvPicPr/>
          <p:nvPr/>
        </p:nvPicPr>
        <p:blipFill>
          <a:blip r:embed="rId2"/>
          <a:stretch/>
        </p:blipFill>
        <p:spPr>
          <a:xfrm>
            <a:off x="5197320" y="2214720"/>
            <a:ext cx="3649680" cy="43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e7dec9"/>
                </a:solidFill>
                <a:latin typeface="Corbel"/>
              </a:rPr>
              <a:t>Историческая основа поэ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Политическое самосознание жен декабристов не было развито : деятельность их мужей происходила в тайных обществах, и весть об арестах для родных и близких звучала как гром среди ясного неб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Но, выполняя свой женский долг, "декабристки" поневоле наполняли его гражданским содержанием. Именно так воспринимали их поступок все - от императора до людей из простого сослов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Среди этих женщин были: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Е. Трубецкая, В.Нарышкина, В. Розен, М. Волконская и др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Николай I, учинивший расправу над декабристами, понимал, что и неслыханный по дерзости поступок жен бунтовщиков может вызвать сочувствие в обществе, смутить умы. Поэтому он не поскупился на угрозы - только бы удержать женщин от воссоединения с мужьями, посягнувшими на священную царскую влас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75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75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e7dec9"/>
                </a:solidFill>
                <a:latin typeface="Times New Roman"/>
              </a:rPr>
              <a:t>Историческая основа поэ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Из дневника М.Волконской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                        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«Жена, следуя за своим мужем, сделается естественно причастной его судьбе и потеряет прежнее звание, то есть будет уже признаваема не иначе, как женою ссыльного-каторжного, и с тем вместе принимает на себя переносить все, что такое состояние может иметь тягостного, ибо даже и начальство не в состоянии будет защитить ее от ежечасных могущих быть оскорблений от людей самого неразвитого, презрительного класса, которые найдут в том как будто некоторое право считать жену государственного преступника, несущею равную с ним участь, себе подобно: оскорбления сии могут быть даже насильственные. Закоренелым злодеям не страшны наказания. Дети, которые приживутся в Сибири, поступят в казенные заводские крестьяне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- Ни денежных сумм, ни вещей многоценных с собою взять не дозволено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dec9"/>
                </a:solidFill>
                <a:latin typeface="Times New Roman"/>
              </a:rPr>
              <a:t>Историческая основа поэмы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сопротивление собственной семьи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трудность получения официального разреше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сознательный отказ от привилеги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невозможность взять с собой дете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dec9"/>
                </a:solidFill>
                <a:latin typeface="Times New Roman"/>
              </a:rPr>
              <a:t>«Они бросили все: знатность, богатство, связи 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dec9"/>
                </a:solidFill>
                <a:latin typeface="Times New Roman"/>
              </a:rPr>
              <a:t>родных, всем пожертвовали для высочайшего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dec9"/>
                </a:solidFill>
                <a:latin typeface="Times New Roman"/>
              </a:rPr>
              <a:t>нравственного долга… Ни в чем не повинные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dec9"/>
                </a:solidFill>
                <a:latin typeface="Times New Roman"/>
              </a:rPr>
              <a:t>они… перенесли все, что перенесли их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dec9"/>
                </a:solidFill>
                <a:latin typeface="Times New Roman"/>
              </a:rPr>
              <a:t>осуждённые мужья», - писал Ф.М. Достоевск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5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Авторская позиция в поэм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0872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Monotype Corsiva"/>
              </a:rPr>
              <a:t>Отношение автора к Княгине.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ff"/>
                </a:solidFill>
                <a:uFillTx/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1403280" y="3301920"/>
            <a:ext cx="511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60" name="Picture 7" descr=""/>
          <p:cNvPicPr/>
          <p:nvPr/>
        </p:nvPicPr>
        <p:blipFill>
          <a:blip r:embed="rId1"/>
          <a:stretch/>
        </p:blipFill>
        <p:spPr>
          <a:xfrm>
            <a:off x="0" y="1447920"/>
            <a:ext cx="3348000" cy="51814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9"/>
          <p:cNvSpPr/>
          <p:nvPr/>
        </p:nvSpPr>
        <p:spPr>
          <a:xfrm>
            <a:off x="3500280" y="1714680"/>
            <a:ext cx="5643720" cy="42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d0"/>
                </a:solidFill>
                <a:latin typeface="Times New Roman"/>
              </a:rPr>
              <a:t>Имя героини</a:t>
            </a: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 - в заглавии 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 част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поэмы, указание подзаголовка –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1826 г. – поэт 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Corbel"/>
              </a:rPr>
              <a:t>восхищается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поступком этой женщины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она первая добилас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азрешения поехать к муж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в Сибир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75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75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142920" y="2928960"/>
            <a:ext cx="3933720" cy="371484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3"/>
          <p:cNvSpPr/>
          <p:nvPr/>
        </p:nvSpPr>
        <p:spPr>
          <a:xfrm>
            <a:off x="428760" y="214200"/>
            <a:ext cx="84200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2800" spc="-1" strike="noStrike">
                <a:solidFill>
                  <a:srgbClr val="0066cc"/>
                </a:solidFill>
                <a:latin typeface="Times New Roman"/>
              </a:rPr>
              <a:t>Зима 1827 г. – осень 1830 г. Читинский острог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М.Бестужев: «Каземат соединил нас вместе, дал опору друг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в друге и через наших ангелов-спасителей, дам, соедини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нас с тем миром, от которого навсегда мы были оторваны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политической смертью, соединил нас с родными, дал на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охоту жить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142920" y="257184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</a:rPr>
              <a:t>Колония декабристок. Дамская улиц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4114800" y="2492280"/>
            <a:ext cx="502920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Осень 1830 г. – Петровский завод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Манифест о помиловании – амнистия 1856 г. после смерти Николая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в связи с коронацией нового императора Александра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Разрешение вернуться в европейскую Росси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Times New Roman"/>
              </a:rPr>
              <a:t>Из 121 декабриста вернулись 19. Остальные остались в сибирской земл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75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75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785880" y="1285920"/>
            <a:ext cx="4498920" cy="511632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4"/>
          <p:cNvSpPr/>
          <p:nvPr/>
        </p:nvSpPr>
        <p:spPr>
          <a:xfrm>
            <a:off x="928800" y="214200"/>
            <a:ext cx="78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Деревенская изба в Благодатском рудник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5364000" y="914400"/>
            <a:ext cx="3780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Из записок М.Волконской</a:t>
            </a:r>
            <a:r>
              <a:rPr b="0" lang="ru-RU" sz="2400" spc="-1" strike="noStrike">
                <a:solidFill>
                  <a:srgbClr val="e7dec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d0"/>
                </a:solidFill>
                <a:latin typeface="Times New Roman"/>
              </a:rPr>
              <a:t>«Она была до того тесна, что, когда я ложилась на полу на своем матраце, головой касалась стены, а ноги упирались в двер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d0"/>
                </a:solidFill>
                <a:latin typeface="Times New Roman"/>
              </a:rPr>
              <a:t>Печь дымила, и ее нельзя было топить, когда на дворе было ветрено; окна без стекол, их заменяла слюда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75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75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85600" y="285840"/>
            <a:ext cx="63579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572314"/>
                </a:solidFill>
                <a:latin typeface="Corbel"/>
                <a:ea typeface="Andalus"/>
              </a:rPr>
              <a:t>Некрасов Николай Алексеевич</a:t>
            </a:r>
            <a:br>
              <a:rPr sz="4900"/>
            </a:br>
            <a:r>
              <a:rPr b="1" lang="ru-RU" sz="4900" spc="-1" strike="noStrike">
                <a:solidFill>
                  <a:srgbClr val="572314"/>
                </a:solidFill>
                <a:latin typeface="Corbel"/>
                <a:ea typeface="Andalus"/>
              </a:rPr>
              <a:t>(1821 – 1877)</a:t>
            </a:r>
            <a:endParaRPr b="0" lang="en-US" sz="4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14" name="Содержимое 5" descr="0123-062.jpg"/>
          <p:cNvPicPr/>
          <p:nvPr/>
        </p:nvPicPr>
        <p:blipFill>
          <a:blip r:embed="rId1"/>
          <a:srcRect l="0" t="5298" r="0" b="3154"/>
          <a:stretch/>
        </p:blipFill>
        <p:spPr>
          <a:xfrm>
            <a:off x="2928960" y="2476440"/>
            <a:ext cx="3011400" cy="3987720"/>
          </a:xfrm>
          <a:prstGeom prst="rect">
            <a:avLst/>
          </a:prstGeom>
          <a:ln w="0">
            <a:noFill/>
          </a:ln>
        </p:spPr>
      </p:pic>
    </p:spTree>
  </p:cSld>
  <p:transition>
    <p:wheel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80408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рия Николаевна Волконска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70" name="Picture 3" descr=""/>
          <p:cNvPicPr/>
          <p:nvPr/>
        </p:nvPicPr>
        <p:blipFill>
          <a:blip r:embed="rId1"/>
          <a:stretch/>
        </p:blipFill>
        <p:spPr>
          <a:xfrm>
            <a:off x="3214800" y="1874880"/>
            <a:ext cx="3357360" cy="3844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000160" y="1857240"/>
            <a:ext cx="550080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Нет! я не жалкая раба,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   Я женщина, жена!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Пускай горька моя судьба –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    Я буду ей верна!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О, если б он меня забыл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    Для женщины другой,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В моей душе достало б сил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   Не быть его рабой!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Но знаю: к родине любовь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     Соперница моя,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И если б нужно было, вновь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  <a:ea typeface="Andalus"/>
              </a:rPr>
              <a:t>     Ему простила б я!.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med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714320" y="2071440"/>
            <a:ext cx="66150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Corbel"/>
              </a:rPr>
              <a:t>Поэтическое завещание Н.А. Некрасова.</a:t>
            </a:r>
            <a:br>
              <a:rPr sz="3900"/>
            </a:br>
            <a:br>
              <a:rPr sz="3900"/>
            </a:br>
            <a:r>
              <a:rPr b="0" lang="ru-RU" sz="3200" spc="-1" strike="noStrike">
                <a:solidFill>
                  <a:srgbClr val="35436a"/>
                </a:solidFill>
                <a:latin typeface="Corbel"/>
              </a:rPr>
              <a:t>Сейте разумное, доброе, вечное,</a:t>
            </a:r>
            <a:br>
              <a:rPr sz="3200"/>
            </a:br>
            <a:r>
              <a:rPr b="0" lang="ru-RU" sz="3200" spc="-1" strike="noStrike">
                <a:solidFill>
                  <a:srgbClr val="35436a"/>
                </a:solidFill>
                <a:latin typeface="Corbel"/>
              </a:rPr>
              <a:t>Сейте!</a:t>
            </a:r>
            <a:br>
              <a:rPr sz="3200"/>
            </a:br>
            <a:r>
              <a:rPr b="0" lang="ru-RU" sz="3200" spc="-1" strike="noStrike">
                <a:solidFill>
                  <a:srgbClr val="35436a"/>
                </a:solidFill>
                <a:latin typeface="Corbel"/>
              </a:rPr>
              <a:t>Спасибо вам скажет сердечное</a:t>
            </a:r>
            <a:br>
              <a:rPr sz="3200"/>
            </a:br>
            <a:r>
              <a:rPr b="0" lang="ru-RU" sz="3200" spc="-1" strike="noStrike">
                <a:solidFill>
                  <a:srgbClr val="35436a"/>
                </a:solidFill>
                <a:latin typeface="Corbel"/>
              </a:rPr>
              <a:t>Русский народ!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87240" y="1905120"/>
            <a:ext cx="822024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23004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</a:t>
            </a:r>
            <a:r>
              <a:rPr b="0" lang="ru-RU" sz="3200" spc="-1" strike="noStrike">
                <a:solidFill>
                  <a:srgbClr val="800080"/>
                </a:solidFill>
                <a:latin typeface="Corbel"/>
                <a:ea typeface="Courier New CYR"/>
              </a:rPr>
              <a:t>Детство</a:t>
            </a:r>
            <a:r>
              <a:rPr b="0" lang="ru-RU" sz="3200" spc="-1" strike="noStrike">
                <a:solidFill>
                  <a:srgbClr val="cc3399"/>
                </a:solidFill>
                <a:latin typeface="Corbel"/>
                <a:ea typeface="Courier New CYR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23004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Николай Алексеевич Некрасов родился 28 ноября (10 декабря по н. ст.)1821г.в местечке Немирове Подольской губернии. Он был третьим ребенком в семье. Мать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Елена Андреевна, урожденная Закревская, малороссийская дворянка. Отец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Алексей Сергеевич Некрасов, небогатый помещик, армейский офицер. Через три года после рождения сына он, выйдя в отставку майором, навсегда переселился в свое родовое поместье в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Courier New CYR"/>
              </a:rPr>
              <a:t>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рославском имении Грешневе, которое находилось недалеко от Волг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30040"/>
                <a:tab algn="l" pos="679320"/>
                <a:tab algn="l" pos="1128600"/>
                <a:tab algn="l" pos="1577880"/>
                <a:tab algn="l" pos="2027160"/>
                <a:tab algn="l" pos="2476440"/>
                <a:tab algn="l" pos="2925720"/>
                <a:tab algn="l" pos="3375000"/>
                <a:tab algn="l" pos="3824280"/>
                <a:tab algn="l" pos="4273560"/>
                <a:tab algn="l" pos="4722840"/>
                <a:tab algn="l" pos="5172120"/>
                <a:tab algn="l" pos="5621400"/>
                <a:tab algn="l" pos="6070680"/>
                <a:tab algn="l" pos="6519960"/>
                <a:tab algn="l" pos="6969240"/>
                <a:tab algn="l" pos="7418520"/>
                <a:tab algn="l" pos="7867800"/>
                <a:tab algn="l" pos="8317080"/>
                <a:tab algn="l" pos="8766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Грешнево находилось на равнине, среди бесконечных лугов и полей. Здесь, в деревне, поэт провел свое детств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957240" y="285840"/>
            <a:ext cx="8186760" cy="1857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428640" y="214200"/>
            <a:ext cx="50482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                    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Грешнёво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030560" y="1827360"/>
            <a:ext cx="51134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Именно из Грешнёва Некрасов-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поэт вынес исключительную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чуткость к чужому страданию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В Грешнёве завязалась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сердечная привязанность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Некрасова к русскому              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крестьянину, определившая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впоследствии исключительную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народность его творчества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9" name="Picture 4" descr="b5g0506"/>
          <p:cNvPicPr/>
          <p:nvPr/>
        </p:nvPicPr>
        <p:blipFill>
          <a:blip r:embed="rId1"/>
          <a:stretch/>
        </p:blipFill>
        <p:spPr>
          <a:xfrm>
            <a:off x="846000" y="3048120"/>
            <a:ext cx="3117960" cy="30477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6" descr="J7PMACAM7F5QACAQVZS7ICAG9Q3H4CAQ1D8EDCA1ZZ6G2CAC689AACAISIEJCCA7J9EVNCAB5CM2ICA76VDAMCA3DXJCPCAN63GS1CAE9M93VCALPJ8QICABLT2A6CAMQ5V3MCAKS6BRFCAZXCSCC"/>
          <p:cNvPicPr/>
          <p:nvPr/>
        </p:nvPicPr>
        <p:blipFill>
          <a:blip r:embed="rId2"/>
          <a:stretch/>
        </p:blipFill>
        <p:spPr>
          <a:xfrm>
            <a:off x="1285920" y="500040"/>
            <a:ext cx="2805120" cy="188928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7"/>
          <p:cNvSpPr/>
          <p:nvPr/>
        </p:nvSpPr>
        <p:spPr>
          <a:xfrm>
            <a:off x="1214280" y="621504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м-музей в Карабих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1071720" y="2500200"/>
            <a:ext cx="33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м-усадьба в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решнёв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11000" y="0"/>
            <a:ext cx="82659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</a:t>
            </a:r>
            <a:r>
              <a:rPr b="0" lang="ru-RU" sz="2800" spc="-1" strike="noStrike">
                <a:solidFill>
                  <a:srgbClr val="800080"/>
                </a:solidFill>
                <a:latin typeface="Corbel"/>
                <a:ea typeface="Courier New CYR"/>
              </a:rPr>
              <a:t>Дружба с крестьянскими детьми.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Пр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Courier New CYR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 у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садьбе был старый, запущенный сад, обнесенный глухим забором. Мальчик проделал в заборе лазейку и в те часы, когда отца не было дома, зазывал к себе крестьянских детей. Дети врывались в сад и набрасывались на яблоки, груши, смородину, вишню. Но стоило няньке крикнуть: "Барин, барин идет!"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как они мгновенно исчезали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Конечно, барскому сыну не разрешали дружить с детьми крепостных крестьян. Но, улучшив удобную минуту, мальчик убегал через ту же лазейку к своим деревенским друзьям, уходил с ними в лес, купался в речке Самарке. Этот момент его жизни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непосредственное общение с крестьянскими детьм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Courier New CYR"/>
              </a:rPr>
              <a:t> 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 оказал влияние на его творчество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41360" y="-686160"/>
            <a:ext cx="8702640" cy="80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orbel"/>
                <a:ea typeface="Courier New CYR"/>
              </a:rPr>
              <a:t>                                                                                           </a:t>
            </a:r>
            <a:r>
              <a:rPr b="0" lang="ru-RU" sz="2000" spc="-1" strike="noStrike">
                <a:solidFill>
                  <a:srgbClr val="800080"/>
                </a:solidFill>
                <a:latin typeface="Arial Unicode MS"/>
                <a:ea typeface="Courier New CYR"/>
              </a:rPr>
              <a:t>Взаимоотношения в семь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Ещ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ё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одно горе постоянно было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рядом с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Николаем Алексеевичем.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Это горе в родной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семье. Его мать,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Елена Андреевна, кроткая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женщина,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очень страдала в замужестве.Она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была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человеком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высокой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культуры, а ее муж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отец Николая,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был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человеком грубым,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жестоким, невежественным.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Целыми днями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сидела она дома одна, а ее муж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постоянно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разъезжал по соседним помещикам: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его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излюбленными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  <a:ea typeface="Courier New CYR"/>
              </a:rPr>
              <a:t>р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азвлечениями были карты,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попойки, псовая охота на зайцев. Бывали такие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дни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,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когда она целыми днями сидела за роялем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пела и плакала о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своей горькой участи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Некрасов писал:"Она была певица с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удивительным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голосом". В некоторых его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стихах он воспроизводил тот печальный мотив,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навеянный ему песнями матери: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Играла ты и пела гимн печальный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Ту песню, вопль души многострадальной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Courier New CYR"/>
              </a:rPr>
              <a:t>                                                                                              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Твой первенец наследовал потом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5" name="Picture 5" descr="477-1"/>
          <p:cNvPicPr/>
          <p:nvPr/>
        </p:nvPicPr>
        <p:blipFill>
          <a:blip r:embed="rId1"/>
          <a:stretch/>
        </p:blipFill>
        <p:spPr>
          <a:xfrm>
            <a:off x="428760" y="357120"/>
            <a:ext cx="3995640" cy="6019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5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5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5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52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2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2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2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52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2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999720" y="0"/>
            <a:ext cx="7929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imes New Roman"/>
                <a:ea typeface="Courier New CYR"/>
              </a:rPr>
              <a:t>Ярославская  гимназ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imes New Roman"/>
                <a:ea typeface="Courier New CYR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Несмотря на отсутствие домашних учителей, к 10 годам Некрасов овладел грамотой и в 1832 г. поступил в Ярославскую гимназию вместе со старшим братом Андреем. Пребывание в гимназии не стало значимым этапом в жизни Некрасова; ни разу не вспомнил он ни о педагогах, ни о товарищах.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Четыре года обучения мало что дали, а в последний, 1837 г., Николай Некрасов даже не был аттестован по многим предметам. Под предлогом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«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расстроенного здоровья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»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Некрасов-отец забрал сына из гимназии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».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В это время Алексей Сергеевич служил исправником, и Николай помогал ему в качестве письмоводителя. Юноша, почти мальчик, присутствовал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«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при различных сценах народной жизни, при следствиях, при вскрытии трупов, а иногда и при расправах во вкусе прежнего времени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».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Courier New CYR"/>
              </a:rPr>
              <a:t>Все это производило глубокое впечатление на ребенка и рано в живых картинах знакомило его с тогдашними, часто слишком тяжелыми, условиями народной жизни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7" name="Picture 3" descr="Gumnasium"/>
          <p:cNvPicPr/>
          <p:nvPr/>
        </p:nvPicPr>
        <p:blipFill>
          <a:blip r:embed="rId1"/>
          <a:stretch/>
        </p:blipFill>
        <p:spPr>
          <a:xfrm>
            <a:off x="6130800" y="15228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800080"/>
                </a:solidFill>
                <a:latin typeface="Corbel"/>
              </a:rPr>
              <a:t>Некрасов много писал о безрадостном детстве маленьких тружеников, о их голодной и нищей жизни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48320" y="1483920"/>
            <a:ext cx="4316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Только нам гулять не довелос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По полям и нивам золотым: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Целый день на фабрике колёса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Мы вертим – вертим – вертим!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Колесо чугунное вертится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И гудит и ветром обдаёт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Голова пылает и кружится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Сердце бьётся, всё кругом идё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Красный нос безжалостной старухи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Что за нами смотрит сквозь очки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По стенам гуляющие мухи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Corbel"/>
              </a:rPr>
              <a:t>Стены, двери, окна, потолки…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ccff"/>
                </a:solidFill>
                <a:latin typeface="Corbel"/>
              </a:rPr>
              <a:t>  </a:t>
            </a:r>
            <a:r>
              <a:rPr b="1" i="1" lang="ru-RU" sz="1900" spc="-1" strike="noStrike">
                <a:solidFill>
                  <a:srgbClr val="660033"/>
                </a:solidFill>
                <a:latin typeface="Corbel"/>
              </a:rPr>
              <a:t>Н.А Некрасов «Плач детей</a:t>
            </a:r>
            <a:r>
              <a:rPr b="1" i="1" lang="ru-RU" sz="1900" spc="-1" strike="noStrike">
                <a:solidFill>
                  <a:srgbClr val="00ccff"/>
                </a:solidFill>
                <a:latin typeface="Corbel"/>
              </a:rPr>
              <a:t>»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30" name="Picture 10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960720" cy="435276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11"/>
          <p:cNvSpPr/>
          <p:nvPr/>
        </p:nvSpPr>
        <p:spPr>
          <a:xfrm>
            <a:off x="539640" y="59032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orbel"/>
              </a:rPr>
              <a:t>«Плач детей». </a:t>
            </a:r>
            <a:r>
              <a:rPr b="1" i="1" lang="ru-RU" sz="1800" spc="-1" strike="noStrike">
                <a:solidFill>
                  <a:srgbClr val="660033"/>
                </a:solidFill>
                <a:latin typeface="Corbel"/>
              </a:rPr>
              <a:t>С рисунка О. Шухвостов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cc"/>
                </a:solidFill>
                <a:latin typeface="Corbel"/>
              </a:rPr>
              <a:t>Он был певцом народа-пахаря…И видел Некрасов, как тяжела его жизнь, слышал, как стоном стелется его бесприютная тоска над нескончаемым простором лугов и полей</a:t>
            </a:r>
            <a:r>
              <a:rPr b="1" lang="ru-RU" sz="1800" spc="-1" strike="noStrike">
                <a:solidFill>
                  <a:srgbClr val="6600cc"/>
                </a:solidFill>
                <a:latin typeface="Corbel"/>
              </a:rPr>
              <a:t>…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714560" y="1643040"/>
            <a:ext cx="430380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Поздняя осень. Грачи улетели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Лес обнажился. Поля опустели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Только не сжата полоска одна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Грустную думу наводит он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Руки, что вывели борозды эти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Высохли в щепку, повисли, как плети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Очи потускли, и голос пропал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Что заунывную песню певал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rbel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ff"/>
                </a:solidFill>
                <a:latin typeface="Corbel"/>
              </a:rPr>
              <a:t>                </a:t>
            </a:r>
            <a:r>
              <a:rPr b="1" lang="ru-RU" sz="2000" spc="-1" strike="noStrike">
                <a:solidFill>
                  <a:srgbClr val="660033"/>
                </a:solidFill>
                <a:latin typeface="Corbel"/>
              </a:rPr>
              <a:t>Н.А. Некрасов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orbel"/>
              </a:rPr>
              <a:t>             </a:t>
            </a:r>
            <a:r>
              <a:rPr b="1" lang="ru-RU" sz="2000" spc="-1" strike="noStrike">
                <a:solidFill>
                  <a:srgbClr val="660033"/>
                </a:solidFill>
                <a:latin typeface="Corbel"/>
              </a:rPr>
              <a:t>«Несжатая полоса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34" name="Picture 7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3924360" cy="424980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8"/>
          <p:cNvSpPr/>
          <p:nvPr/>
        </p:nvSpPr>
        <p:spPr>
          <a:xfrm>
            <a:off x="0" y="573984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orbel"/>
              </a:rPr>
              <a:t>«Несжатая полоса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Corbel"/>
              </a:rPr>
              <a:t>С </a:t>
            </a:r>
            <a:r>
              <a:rPr b="1" i="1" lang="ru-RU" sz="1800" spc="-1" strike="noStrike">
                <a:solidFill>
                  <a:srgbClr val="660033"/>
                </a:solidFill>
                <a:latin typeface="Corbel"/>
              </a:rPr>
              <a:t>рисунка Д. Шмаринов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14:23:49Z</dcterms:created>
  <dc:creator>Юля Ермолаева</dc:creator>
  <dc:description/>
  <dc:language>en-US</dc:language>
  <cp:lastModifiedBy>Юля Ермолаева</cp:lastModifiedBy>
  <dcterms:modified xsi:type="dcterms:W3CDTF">2012-04-13T16:15:22Z</dcterms:modified>
  <cp:revision>11</cp:revision>
  <dc:subject/>
  <dc:title>Н.А. Некрасов. Поэма «Русские женщины». История создания произведения, героини поэмы.</dc:title>
</cp:coreProperties>
</file>