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FB9-6B55-4F11-86AD-9614F0AD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D22-B69F-4BCD-88B7-7A354FE9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833-9398-4C34-A999-2B0C3420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CB8-7D6D-4227-92DA-251E9A85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B1562-AD06-46FD-A42B-0E47FE05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D4975-6AAB-4652-A145-C2AB006D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D15E1-894F-4547-BE08-EDD11706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92F93-3A07-4E4A-AE83-B935241A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4F5A3-A482-4188-BD08-723FBA3D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5F84C-34E4-4056-ABD6-6F88392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715A8-273C-4A11-8A77-44EA0BB0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552-3B3E-4211-BA14-22928C88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1653E-FB6B-4E13-B449-7784241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619AF-1496-4E04-B92C-EBC4BA3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38811-80B6-4AD9-978E-5C67DFF7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AE47A-3FD8-491B-9B15-CF4FD44C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2AC53-B006-490E-BC05-EE42719C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1DC-B21D-4F84-8594-8A676A55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786-6F18-4D8B-8D8B-0F437BD7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523-493C-46B9-80F0-E49C6670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6D1-88BC-431F-948B-C9FF2872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B61-1B3E-4417-ABFC-A891CAB0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3A4-00D1-4052-8E55-B680CD30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879-522B-47B4-A97F-5FA3B2E7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122-054C-4E1C-9BB4-594858337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699C-6195-41AE-B986-E241AB584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907640" y="170028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712800">
            <a:off x="6659640" y="549000"/>
            <a:ext cx="1855800" cy="1942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0971800">
            <a:off x="395280" y="4797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343800">
            <a:off x="6804000" y="4292280"/>
            <a:ext cx="2049480" cy="225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 rot="20116200">
            <a:off x="610920" y="475920"/>
            <a:ext cx="176364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708360" y="4221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910200">
            <a:off x="7149600" y="3573360"/>
            <a:ext cx="14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thi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553000">
            <a:off x="611280" y="400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71628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seco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549360"/>
            <a:ext cx="18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four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16360" y="2421000"/>
            <a:ext cx="345600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umeral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 rot="20380800">
            <a:off x="2411280" y="549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nin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x.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12  мар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1 сентябр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10 апрел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22 октябр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30 июн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1" i="1" lang="en-US" sz="4000" spc="-1" strike="noStrike">
                <a:solidFill>
                  <a:srgbClr val="010199"/>
                </a:solidFill>
                <a:latin typeface="Tahoma"/>
              </a:rPr>
              <a:t>3 на листочках </a:t>
            </a:r>
            <a:r>
              <a:rPr b="1" i="1" lang="en-US" sz="4000" spc="-1" strike="noStrike" u="sng">
                <a:solidFill>
                  <a:srgbClr val="010199"/>
                </a:solidFill>
                <a:uFillTx/>
                <a:latin typeface="Tahoma"/>
              </a:rPr>
              <a:t>ил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Tahoma"/>
              </a:rPr>
              <a:t>учебник стр. 69 № 2 письменн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1.На уроке я работал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2.Своей работой на уроке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3.Урок для меня показался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4.За урок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5.Мое настроение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6.Материал урока мне был..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206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Thank you for your work!</a:t>
            </a:r>
            <a:br>
              <a:rPr sz="5400"/>
            </a:b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Good bye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Тренировка лексико-грамматических навыков (порядковые числительны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Совершенствование навыков устной реч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Тренировка учащихся в употреблении ранее изученных лексических единиц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Фонетическая размин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e]-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ond, tw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lfth, S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tember,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brua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[i]-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th,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teenth, D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ember,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ty-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t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ɜ: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]-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t, 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d, b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hday, 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eent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[ei] –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ht,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ril, M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y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, tod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y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hteent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[ai]- n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ne, n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nth, n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neteenth, Jul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ɔ: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]-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r,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rth,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rteenth,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u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u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бразование порядковых числительных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акой по порядк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 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- the fir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-two-the sec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- three- the thi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- four- the fou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-five- the f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-six-the si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-seven-the seve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92" descr="d180d0b8d181d183d0bdd0bed0ba162"/>
          <p:cNvPicPr/>
          <p:nvPr/>
        </p:nvPicPr>
        <p:blipFill>
          <a:blip r:embed="rId1"/>
          <a:stretch/>
        </p:blipFill>
        <p:spPr>
          <a:xfrm>
            <a:off x="5508720" y="2565360"/>
            <a:ext cx="3192480" cy="331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11111"/>
                </a:solidFill>
                <a:latin typeface="Arial"/>
              </a:rPr>
              <a:t>For example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May is </a:t>
            </a:r>
            <a:r>
              <a:rPr b="1" i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the third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month of spring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My birthday is </a:t>
            </a:r>
            <a:r>
              <a:rPr b="1" i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the seventeenth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of Marc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5610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cc00"/>
                </a:solidFill>
                <a:uFillTx/>
                <a:latin typeface="Arial"/>
              </a:rPr>
              <a:t>Речевая разминка</a:t>
            </a:r>
            <a:br>
              <a:rPr sz="4800"/>
            </a:br>
            <a:r>
              <a:rPr b="1" lang="en-US" sz="4000" spc="-1" strike="noStrike">
                <a:solidFill>
                  <a:srgbClr val="010199"/>
                </a:solidFill>
                <a:latin typeface="Arial"/>
              </a:rPr>
              <a:t>Answer  the ques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2492280"/>
            <a:ext cx="7848720" cy="35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the date toda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day is the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…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...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en is your birth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y birthday is on the …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2255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199"/>
                </a:solidFill>
                <a:latin typeface="Tahoma"/>
              </a:rPr>
              <a:t>Translate into Englis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0920" y="1844280"/>
            <a:ext cx="777708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62612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Апрель-четвертый месяц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Май-пятый месяц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Октябрь-десятый месяц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нтябрь-девятый месяц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кабрь-двенадцатый меся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199"/>
                </a:solidFill>
                <a:latin typeface="Arial"/>
              </a:rPr>
              <a:t>Translate the sentences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February is the second month of the year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. Monday is the first day of the week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. October is the second month of the autumn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. April is the second month of the spring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(the) te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six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fir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        seve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        sec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        thi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fou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ni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fif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eigh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628640"/>
            <a:ext cx="936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2133720"/>
            <a:ext cx="86328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708280"/>
            <a:ext cx="93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13000"/>
            <a:ext cx="93636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3716280"/>
            <a:ext cx="100800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4360" y="2276280"/>
            <a:ext cx="863280" cy="19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84360" y="3284640"/>
            <a:ext cx="863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5157720"/>
            <a:ext cx="792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4360" y="5300640"/>
            <a:ext cx="86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360"/>
            <a:ext cx="647640" cy="45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15:34:28Z</dcterms:created>
  <dc:creator>Navigator</dc:creator>
  <dc:description/>
  <dc:language>en-US</dc:language>
  <cp:lastModifiedBy>Navigator</cp:lastModifiedBy>
  <dcterms:modified xsi:type="dcterms:W3CDTF">2014-01-28T17:26:59Z</dcterms:modified>
  <cp:revision>8</cp:revision>
  <dc:subject/>
  <dc:title>Lesson 4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