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FDD-7ED3-478B-AFF4-44EBE681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3FD-09A8-4239-94C5-1C78ECE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F99-E4A9-4838-B977-15F942DA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A1D-9043-4A4B-8889-7E6B1FBD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E2749-BC42-436D-A495-2F0564DD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0CAEA-D461-47F2-8B7E-9F45BDF0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13B0A-DEC8-461D-9273-35EA8D3A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0F383-5637-4A14-BBCC-E68D6DDA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E6D5C-F7FC-4B70-9B6C-15C789EA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850B8-487E-481C-8566-1E81E02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41E23-82B6-498E-A020-A1D5C12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2F3-7DEB-4D8E-A0D2-C330FDD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9746-07BD-41C4-AFC7-5D9416D0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48A0B-038E-4D11-A109-D81E494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6DC35-2F43-412F-8106-EB88583B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643FE-2DC1-434D-944D-91C712B1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7CA0C-8414-4167-95DF-02DEF434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BA8-347B-4E36-96BA-8FC0FD6A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0D9-8D57-4D3C-9EF9-A58BDBA1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776-857B-46B5-B40D-E8A6BD4A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A82-4371-4286-82DC-2C13E6A2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C22-6757-4499-86C1-882FB9D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A28-0B98-4A8F-8086-31DAE82A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018-0D45-475E-A950-9C7EA13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A09C-C1A7-4735-81F4-23BBF99FA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B993-82D9-44C8-8C4B-EAF725D2B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07640" y="170028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712800">
            <a:off x="6659640" y="549000"/>
            <a:ext cx="1855800" cy="1942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 rot="20971800">
            <a:off x="395280" y="4797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343800">
            <a:off x="6804000" y="4292280"/>
            <a:ext cx="2049480" cy="225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 rot="20116200">
            <a:off x="610920" y="475920"/>
            <a:ext cx="176364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708360" y="4221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910200">
            <a:off x="7149600" y="3573360"/>
            <a:ext cx="14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thi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553000">
            <a:off x="611280" y="400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71628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seco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54936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four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16360" y="2421000"/>
            <a:ext cx="3456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umeral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 rot="20380800">
            <a:off x="2411280" y="549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nin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x.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12  мар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1 сентяб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10 апрел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22 октяб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30 ию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Tahoma"/>
              </a:rPr>
              <a:t>№ </a:t>
            </a:r>
            <a:r>
              <a:rPr b="1" i="1" lang="en-US" sz="4000" spc="-1" strike="noStrike">
                <a:solidFill>
                  <a:srgbClr val="010199"/>
                </a:solidFill>
                <a:latin typeface="Tahoma"/>
              </a:rPr>
              <a:t>3 на листочках </a:t>
            </a:r>
            <a:r>
              <a:rPr b="1" i="1" lang="en-US" sz="4000" spc="-1" strike="noStrike" u="sng">
                <a:solidFill>
                  <a:srgbClr val="010199"/>
                </a:solidFill>
                <a:uFillTx/>
                <a:latin typeface="Tahoma"/>
              </a:rPr>
              <a:t>ил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Tahoma"/>
              </a:rPr>
              <a:t>учебник стр. 69 № 2 письменн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1.На уроке я работал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2.Своей работой на уроке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3.Урок для меня показался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4.За урок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5.Мое настроение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6.Материал урока мне был..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206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Thank you for your work!</a:t>
            </a:r>
            <a:br>
              <a:rPr sz="5400"/>
            </a:b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Good bye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Тренировка лексико-грамматических навыков (порядковые числительны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Совершенствование навыков устной ре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Тренировка учащихся в употреблении ранее изученных лексических единиц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Фонетическая размин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e]-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d, tw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lfth, S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tember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brua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i]-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th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teenth, D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ember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ty-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ɜ: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]-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t, 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, b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hday, 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een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ei] –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ht,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ril, M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y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, tod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y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hteen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ai]- n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ne, n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nth, n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neteenth, Jul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ahoma"/>
              </a:rPr>
              <a:t>ɔ: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]-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th, f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rteenth,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u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u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бразование порядковых числительных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акой по поряд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 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- the fi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-two-the sec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- three- the thi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- four- the fou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-five- the f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-six-the si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-seven-the seve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92" descr="d180d0b8d181d183d0bdd0bed0ba162"/>
          <p:cNvPicPr/>
          <p:nvPr/>
        </p:nvPicPr>
        <p:blipFill>
          <a:blip r:embed="rId1"/>
          <a:stretch/>
        </p:blipFill>
        <p:spPr>
          <a:xfrm>
            <a:off x="5508720" y="2565360"/>
            <a:ext cx="3192480" cy="331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11111"/>
                </a:solidFill>
                <a:latin typeface="Arial"/>
              </a:rPr>
              <a:t>For example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May is </a:t>
            </a:r>
            <a:r>
              <a:rPr b="1" i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the third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month of spring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My birthday is </a:t>
            </a:r>
            <a:r>
              <a:rPr b="1" i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the seventeenth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 of Marc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5610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cc00"/>
                </a:solidFill>
                <a:uFillTx/>
                <a:latin typeface="Arial"/>
              </a:rPr>
              <a:t>Речевая разминка</a:t>
            </a:r>
            <a:br>
              <a:rPr sz="4800"/>
            </a:br>
            <a:r>
              <a:rPr b="1" lang="en-US" sz="4000" spc="-1" strike="noStrike">
                <a:solidFill>
                  <a:srgbClr val="010199"/>
                </a:solidFill>
                <a:latin typeface="Arial"/>
              </a:rPr>
              <a:t>Answer  the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2492280"/>
            <a:ext cx="7848720" cy="35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the date today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day is the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…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...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en is your birth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y birthday is on the …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2255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199"/>
                </a:solidFill>
                <a:latin typeface="Tahoma"/>
              </a:rPr>
              <a:t>Translate into Englis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0920" y="1844280"/>
            <a:ext cx="777708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62612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Апрель-четвертый месяц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Май-пятый месяц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Октябрь-десятый месяц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нтябрь-девятый месяц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кабрь-двенадцатый меся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199"/>
                </a:solidFill>
                <a:latin typeface="Arial"/>
              </a:rPr>
              <a:t>Translate the sentences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February is the second month of the year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Monday is the first day of the week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October is the second month of the autumn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. April is the second month of the spring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(the) te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six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fi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        seve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        sec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     thi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fou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ni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fif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eigh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628640"/>
            <a:ext cx="93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133720"/>
            <a:ext cx="86328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708280"/>
            <a:ext cx="93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13000"/>
            <a:ext cx="93636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716280"/>
            <a:ext cx="100800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4360" y="2276280"/>
            <a:ext cx="863280" cy="19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84360" y="3284640"/>
            <a:ext cx="863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5157720"/>
            <a:ext cx="79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4360" y="5300640"/>
            <a:ext cx="86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360"/>
            <a:ext cx="647640" cy="45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15:34:28Z</dcterms:created>
  <dc:creator>Navigator</dc:creator>
  <dc:description/>
  <dc:language>en-US</dc:language>
  <cp:lastModifiedBy>Navigator</cp:lastModifiedBy>
  <dcterms:modified xsi:type="dcterms:W3CDTF">2014-01-28T17:26:59Z</dcterms:modified>
  <cp:revision>8</cp:revision>
  <dc:subject/>
  <dc:title>Lesson 4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