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60E-1D2D-4980-B0F3-716E1741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E42-D209-4DC5-AA06-E5E59FFA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3A8-1C49-4C61-8477-60CFE3D7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2EB-F64F-43D9-BC06-AF3ED978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3721-C765-49E8-A499-8AC0F05A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4D16-027F-4CC7-A39A-E1C4344F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F571-90C4-4A12-99EB-E9C4FBE6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86C9-615A-456F-8F7D-81EE1285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11AF-AD49-472C-9A43-953F2974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2181-AF15-43A0-99CE-39C49758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6AD0-FD3E-4483-A208-B335C902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886-9A92-41E3-AFC6-D2819056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E771-3C13-4C86-B1E7-EA3F7EAF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C618-5CFC-45F7-9057-5A97BDF0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F0A2-0207-4DD8-A44E-E97AD948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F694-A94A-4B43-82BE-32CF5ED4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1CA6-688C-4794-9892-913650CE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ED2-8953-4E17-8AB5-F8861A7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E4B-3CAB-466C-937D-A9E1FF4F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492-786E-40DB-8019-A3FD54AF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FCE-B480-4FC9-BFE6-1237AAAA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CCB-CA7F-4FEC-BE53-56C549A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E6D-8A2E-4230-A8ED-1ED80CB1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3EE-F4B0-4FBD-AA89-FE8084AB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9605-AE17-4CF5-8A58-1E1EF226A5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0E6E-4537-47B5-8E1F-1EA5E2D2A6A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Georgia"/>
              </a:rPr>
              <a:t>ПРЕЗЕНТАЦИЯ ОТКРЫТОГО ЗАНЯТИЯ В         МЛАДШЕЙ ГРУППЕ.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18920" y="1196640"/>
            <a:ext cx="445932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Georgia"/>
              </a:rPr>
              <a:t>   </a:t>
            </a:r>
            <a:r>
              <a:rPr b="1" i="1" lang="ru-RU" sz="2800" spc="-1" strike="noStrike">
                <a:solidFill>
                  <a:srgbClr val="2f1311"/>
                </a:solidFill>
                <a:latin typeface="Georgia"/>
              </a:rPr>
              <a:t>«МАМОЧКА МОЯ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868720" y="5589720"/>
            <a:ext cx="177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7d47d"/>
                </a:solidFill>
                <a:latin typeface="Arial"/>
              </a:rPr>
              <a:t>ГБДОУ №138</a:t>
            </a:r>
            <a:br>
              <a:rPr sz="1800"/>
            </a:br>
            <a:r>
              <a:rPr b="0" i="1" lang="ru-RU" sz="1800" spc="-1" strike="noStrike">
                <a:solidFill>
                  <a:srgbClr val="f7d47d"/>
                </a:solidFill>
                <a:latin typeface="Arial"/>
              </a:rPr>
              <a:t>Воспитатель:</a:t>
            </a:r>
            <a:br>
              <a:rPr sz="1800"/>
            </a:br>
            <a:r>
              <a:rPr b="0" i="1" lang="ru-RU" sz="1800" spc="-1" strike="noStrike">
                <a:solidFill>
                  <a:srgbClr val="f7d47d"/>
                </a:solidFill>
                <a:latin typeface="Arial"/>
              </a:rPr>
              <a:t>Купчикова Е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8" descr="image001"/>
          <p:cNvPicPr/>
          <p:nvPr/>
        </p:nvPicPr>
        <p:blipFill>
          <a:blip r:embed="rId1"/>
          <a:stretch/>
        </p:blipFill>
        <p:spPr>
          <a:xfrm>
            <a:off x="684360" y="1819440"/>
            <a:ext cx="63356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360" y="284040"/>
            <a:ext cx="630252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Georgia"/>
              </a:rPr>
              <a:t>Программное содержание: </a:t>
            </a:r>
            <a:br>
              <a:rPr sz="3600"/>
            </a:br>
            <a:r>
              <a:rPr b="1" i="1" lang="ru-RU" sz="3600" spc="-1" strike="noStrike">
                <a:solidFill>
                  <a:srgbClr val="f7d47d"/>
                </a:solidFill>
                <a:latin typeface="Georgia"/>
              </a:rPr>
              <a:t>Обучающие задач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-Ввод в активный словарь имён существительных  (бельё, таз, кран, пена)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имён прилагательных (добрая, красивая, умная, ласковая, родная, милая, весёлая)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глаголы (готовить, мыть, стирать, вешать, подметать, отжимать, гладить)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Уточнять обобщающие понятия (одежда, посуда, продукты)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Развитие общей и мелкой моторики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Развитие зрительного внимания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f1311"/>
                </a:solidFill>
                <a:latin typeface="Georgia"/>
              </a:rPr>
              <a:t>Количественный счёт в пределах пят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19" descr="0_8e3b7_38189bb9_XL"/>
          <p:cNvPicPr/>
          <p:nvPr/>
        </p:nvPicPr>
        <p:blipFill>
          <a:blip r:embed="rId8"/>
          <a:stretch/>
        </p:blipFill>
        <p:spPr>
          <a:xfrm>
            <a:off x="2124000" y="364500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74920" y="286920"/>
            <a:ext cx="2881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7d47d"/>
                </a:solidFill>
                <a:latin typeface="Georgia"/>
              </a:rPr>
              <a:t>ОСНАЩЕНИЕ: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Georgia"/>
              </a:rPr>
              <a:t>Схемы к заданию «Что делает мама?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Georgia"/>
              </a:rPr>
              <a:t>Предметы: таз, мыло, коробка из-под стирального порошка, крупа, картошка, морковь, кастрюля, ложка, тарелка, чашка, веник, утюг, губка, бутылочка из-под средства для мытья посуды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Georgia"/>
              </a:rPr>
              <a:t>Пособие «Волшебный цветок» с количеством лепестков, равным числу дет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0" descr="0_8e39a_b990753b_XL"/>
          <p:cNvPicPr/>
          <p:nvPr/>
        </p:nvPicPr>
        <p:blipFill>
          <a:blip r:embed="rId4"/>
          <a:stretch/>
        </p:blipFill>
        <p:spPr>
          <a:xfrm>
            <a:off x="4211640" y="378936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Georgia"/>
              </a:rPr>
              <a:t>МАМОЧКА МОЯ.</a:t>
            </a:r>
            <a:br>
              <a:rPr sz="3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Излучает она свет,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От улыбки - ямочка….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Никого дороже нет,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Чем родная…. (мамочка)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9" descr="z_6aacf78b"/>
          <p:cNvPicPr/>
          <p:nvPr/>
        </p:nvPicPr>
        <p:blipFill>
          <a:blip r:embed="rId1"/>
          <a:stretch/>
        </p:blipFill>
        <p:spPr>
          <a:xfrm>
            <a:off x="1042920" y="1628640"/>
            <a:ext cx="2187720" cy="2735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z_ba947faf"/>
          <p:cNvPicPr/>
          <p:nvPr/>
        </p:nvPicPr>
        <p:blipFill>
          <a:blip r:embed="rId2"/>
          <a:stretch/>
        </p:blipFill>
        <p:spPr>
          <a:xfrm>
            <a:off x="468360" y="4684680"/>
            <a:ext cx="3260520" cy="2173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z_caad5635"/>
          <p:cNvPicPr/>
          <p:nvPr/>
        </p:nvPicPr>
        <p:blipFill>
          <a:blip r:embed="rId3"/>
          <a:stretch/>
        </p:blipFill>
        <p:spPr>
          <a:xfrm>
            <a:off x="4788000" y="1628640"/>
            <a:ext cx="2174760" cy="2746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z_87f4b8e5"/>
          <p:cNvPicPr/>
          <p:nvPr/>
        </p:nvPicPr>
        <p:blipFill>
          <a:blip r:embed="rId4"/>
          <a:stretch/>
        </p:blipFill>
        <p:spPr>
          <a:xfrm>
            <a:off x="4140360" y="4684680"/>
            <a:ext cx="352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Раз, два, три, четыре, пять-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Будем маму поздравлять!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Милую, любимую,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Самую красивую.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И подарки, 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И цветы</a:t>
            </a:r>
            <a:br>
              <a:rPr sz="1600"/>
            </a:br>
            <a:r>
              <a:rPr b="1" i="1" lang="ru-RU" sz="1600" spc="-1" strike="noStrike">
                <a:solidFill>
                  <a:srgbClr val="f7d47d"/>
                </a:solidFill>
                <a:latin typeface="Georgia"/>
              </a:rPr>
              <a:t>Дарим мамам я и ты!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7" descr="064"/>
          <p:cNvPicPr/>
          <p:nvPr/>
        </p:nvPicPr>
        <p:blipFill>
          <a:blip r:embed="rId1"/>
          <a:stretch/>
        </p:blipFill>
        <p:spPr>
          <a:xfrm>
            <a:off x="179280" y="1989000"/>
            <a:ext cx="3600720" cy="4281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065"/>
          <p:cNvPicPr/>
          <p:nvPr/>
        </p:nvPicPr>
        <p:blipFill>
          <a:blip r:embed="rId2"/>
          <a:stretch/>
        </p:blipFill>
        <p:spPr>
          <a:xfrm>
            <a:off x="3851280" y="1989000"/>
            <a:ext cx="38876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2360" y="286920"/>
            <a:ext cx="4753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Georgia"/>
              </a:rPr>
              <a:t>Использование схем к заданию</a:t>
            </a:r>
            <a:br>
              <a:rPr sz="2400"/>
            </a:br>
            <a:r>
              <a:rPr b="0" i="1" lang="ru-RU" sz="2400" spc="-1" strike="noStrike">
                <a:solidFill>
                  <a:srgbClr val="f7d47d"/>
                </a:solidFill>
                <a:latin typeface="Georgia"/>
              </a:rPr>
              <a:t> «Что делает мама?»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9" descr="051 - копия - копия (640x474)"/>
          <p:cNvPicPr/>
          <p:nvPr/>
        </p:nvPicPr>
        <p:blipFill>
          <a:blip r:embed="rId1"/>
          <a:stretch/>
        </p:blipFill>
        <p:spPr>
          <a:xfrm>
            <a:off x="595440" y="1598760"/>
            <a:ext cx="2950920" cy="2171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051 - копия (640x515)"/>
          <p:cNvPicPr/>
          <p:nvPr/>
        </p:nvPicPr>
        <p:blipFill>
          <a:blip r:embed="rId2"/>
          <a:stretch/>
        </p:blipFill>
        <p:spPr>
          <a:xfrm>
            <a:off x="4491000" y="1598760"/>
            <a:ext cx="2698920" cy="2171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051 (640x496)"/>
          <p:cNvPicPr/>
          <p:nvPr/>
        </p:nvPicPr>
        <p:blipFill>
          <a:blip r:embed="rId3"/>
          <a:stretch/>
        </p:blipFill>
        <p:spPr>
          <a:xfrm>
            <a:off x="4438800" y="3921120"/>
            <a:ext cx="2803320" cy="2174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052 (640x479)"/>
          <p:cNvPicPr/>
          <p:nvPr/>
        </p:nvPicPr>
        <p:blipFill>
          <a:blip r:embed="rId4"/>
          <a:stretch/>
        </p:blipFill>
        <p:spPr>
          <a:xfrm>
            <a:off x="619200" y="3921120"/>
            <a:ext cx="290520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5041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Georgia"/>
              </a:rPr>
              <a:t>ПОМОЖЕМ МАМ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ПЕНА МЫЛИТСЯ В КОРЫТЕ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МЫ СТИРАЕМ-ПОСМОТРИТЕ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ВСЕ БЕЛЬЁ МЫ ОТОЖМЁ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ЖМЁМ, ЖМЁМ, ЖМЁМ, ЖМЁ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И ПОВЕСИМ, И ВСТРЯХНЁ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ОХ, УСТАЛИ-ОТДОХНЁМ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А ТЕПЕРЬ ПОГЛАДИМ САМИ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ПОМОГАТЬ УМЕЕМ МАМЕ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ПОСЛЕ ВЕНИК МЫ ВОЗЬМЁМ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ПОЛ НА КУХНЕ ПОДМЕТЁ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И ПОСУДУ ВСЮ ПОМОЕМ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МОЕМ, МОЕМ, МОЕМ, МОЕ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8" descr="067"/>
          <p:cNvPicPr/>
          <p:nvPr/>
        </p:nvPicPr>
        <p:blipFill>
          <a:blip r:embed="rId13"/>
          <a:stretch/>
        </p:blipFill>
        <p:spPr>
          <a:xfrm>
            <a:off x="3635280" y="1197000"/>
            <a:ext cx="3687840" cy="2603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DSC00899"/>
          <p:cNvPicPr/>
          <p:nvPr/>
        </p:nvPicPr>
        <p:blipFill>
          <a:blip r:embed="rId14"/>
          <a:stretch/>
        </p:blipFill>
        <p:spPr>
          <a:xfrm>
            <a:off x="3635280" y="3922560"/>
            <a:ext cx="365436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Georgia"/>
              </a:rPr>
              <a:t>ЧТО Я ДЕЛАЮ, СКАЖИ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9" descr="061"/>
          <p:cNvPicPr/>
          <p:nvPr/>
        </p:nvPicPr>
        <p:blipFill>
          <a:blip r:embed="rId1"/>
          <a:stretch/>
        </p:blipFill>
        <p:spPr>
          <a:xfrm>
            <a:off x="263520" y="1871640"/>
            <a:ext cx="3616200" cy="3951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070"/>
          <p:cNvPicPr/>
          <p:nvPr/>
        </p:nvPicPr>
        <p:blipFill>
          <a:blip r:embed="rId2"/>
          <a:stretch/>
        </p:blipFill>
        <p:spPr>
          <a:xfrm>
            <a:off x="5165640" y="1598760"/>
            <a:ext cx="1349640" cy="2171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DSC00940"/>
          <p:cNvPicPr/>
          <p:nvPr/>
        </p:nvPicPr>
        <p:blipFill>
          <a:blip r:embed="rId3"/>
          <a:stretch/>
        </p:blipFill>
        <p:spPr>
          <a:xfrm>
            <a:off x="4390920" y="3921120"/>
            <a:ext cx="29005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65134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Georgia"/>
              </a:rPr>
              <a:t>ВОЛШЕБНЫЙ ЦВЕТОК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907920"/>
            <a:ext cx="3587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Georgia"/>
              </a:rPr>
              <a:t>«СЛОЖИМ ЦВЕТОК ПОЖЕЛАНИЙ ДЛЯ НАШИХ ЛЮБИМЫХ МАМОЧЕК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Georgia"/>
              </a:rPr>
              <a:t>Цветок не простой, а волшебный. Выкладываем лепесток около белой серединки и произносим какое-нибудь пожелание для нашей мамы, оно обязательно сбудется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Georgia"/>
              </a:rPr>
              <a:t>«Пусть мама всегда будет здоровой. Пусть мама всегда будет красивой. Пусть мама всегда будет весёлой. Пусть мама всегда будет счастливой. Пусть мама всегда будет любимой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11" descr="058"/>
          <p:cNvPicPr/>
          <p:nvPr/>
        </p:nvPicPr>
        <p:blipFill>
          <a:blip r:embed="rId4"/>
          <a:stretch/>
        </p:blipFill>
        <p:spPr>
          <a:xfrm>
            <a:off x="4067280" y="1052640"/>
            <a:ext cx="3744720" cy="27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059"/>
          <p:cNvPicPr/>
          <p:nvPr/>
        </p:nvPicPr>
        <p:blipFill>
          <a:blip r:embed="rId5"/>
          <a:stretch/>
        </p:blipFill>
        <p:spPr>
          <a:xfrm>
            <a:off x="4067280" y="3922560"/>
            <a:ext cx="36734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7:28:24Z</dcterms:created>
  <dc:creator>Admin</dc:creator>
  <dc:description/>
  <dc:language>en-US</dc:language>
  <cp:lastModifiedBy>Котя</cp:lastModifiedBy>
  <dcterms:modified xsi:type="dcterms:W3CDTF">2014-01-30T13:39:46Z</dcterms:modified>
  <cp:revision>5</cp:revision>
  <dc:subject/>
  <dc:title>ПРЕЗЕНТАЦИЯ ОТКРЫТОГО ЗАНЯТИЯ В         МЛАДШЕЙ ГРУППЕ.</dc:title>
</cp:coreProperties>
</file>