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04D-5BB4-4726-B3FD-1F803CEF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ACC-D528-4225-B76D-68549409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035-BDC0-4ABD-815E-EE8E6DAD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871-0CDC-4689-9A43-BDA48FFB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ED5-2480-4CB7-B5AE-0FBFD1A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C9E-E32D-4E65-B9CC-B9642954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E5C-42BD-4E78-A93D-0304F22B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6B5-B45B-44EC-9DA3-3B398C25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204-95BF-4CCA-8B3D-DDF673C9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4A4-63B7-4087-9E5C-8E6D465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AF1-D9B0-410F-AE45-7487FD1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3CD-7F25-49A9-8ADB-61E3A98E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99C4-488B-4F6D-B842-BFB4CF9B7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Рассказы о животных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бщающий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Клюева Н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БЕРЕГИТЕ ЖИВОТНЫХ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im5-tub-ru.yandex.net/i?id=337783957-53-72&amp;n=21"/>
          <p:cNvPicPr/>
          <p:nvPr/>
        </p:nvPicPr>
        <p:blipFill>
          <a:blip r:embed="rId1"/>
          <a:stretch/>
        </p:blipFill>
        <p:spPr>
          <a:xfrm>
            <a:off x="2050920" y="1989000"/>
            <a:ext cx="49453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аю успех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im0-tub-ru.yandex.net/i?id=484430436-00-72&amp;n=21"/>
          <p:cNvPicPr/>
          <p:nvPr/>
        </p:nvPicPr>
        <p:blipFill>
          <a:blip r:embed="rId1"/>
          <a:stretch/>
        </p:blipFill>
        <p:spPr>
          <a:xfrm>
            <a:off x="1042920" y="4292640"/>
            <a:ext cx="138132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im4-tub-ru.yandex.net/i?id=126868224-45-72&amp;n=21"/>
          <p:cNvPicPr/>
          <p:nvPr/>
        </p:nvPicPr>
        <p:blipFill>
          <a:blip r:embed="rId2"/>
          <a:stretch/>
        </p:blipFill>
        <p:spPr>
          <a:xfrm>
            <a:off x="3780000" y="1197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im5-tub-ru.yandex.net/i?id=514921818-50-72&amp;n=21"/>
          <p:cNvPicPr/>
          <p:nvPr/>
        </p:nvPicPr>
        <p:blipFill>
          <a:blip r:embed="rId3"/>
          <a:stretch/>
        </p:blipFill>
        <p:spPr>
          <a:xfrm>
            <a:off x="6156360" y="1413000"/>
            <a:ext cx="1305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коро наступит весн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58ed5"/>
                </a:solidFill>
                <a:latin typeface="Calibri"/>
              </a:rPr>
              <a:t>Скоро наступит весн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7933c"/>
                </a:solidFill>
                <a:latin typeface="Calibri"/>
              </a:rPr>
              <a:t>Скоро наступит весн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Буря в стакан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99px.ru/sstorage/56/2012/03/12903121552203171.jpg"/>
          <p:cNvPicPr/>
          <p:nvPr/>
        </p:nvPicPr>
        <p:blipFill>
          <a:blip r:embed="rId1"/>
          <a:stretch/>
        </p:blipFill>
        <p:spPr>
          <a:xfrm>
            <a:off x="395280" y="1628640"/>
            <a:ext cx="70102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яем 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619280" y="1916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домашние задань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 четко выполнять.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рок без опоздань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 утром прибега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рассказы мы чит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static.eva.ro/blog/wp-content/uploads/19/2012/03/kjhjg.jpg"/>
          <p:cNvPicPr/>
          <p:nvPr/>
        </p:nvPicPr>
        <p:blipFill>
          <a:blip r:embed="rId1"/>
          <a:stretch/>
        </p:blipFill>
        <p:spPr>
          <a:xfrm>
            <a:off x="755640" y="3716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im6-tub-ru.yandex.net/i?id=106677232-63-72&amp;n=21"/>
          <p:cNvPicPr/>
          <p:nvPr/>
        </p:nvPicPr>
        <p:blipFill>
          <a:blip r:embed="rId2"/>
          <a:stretch/>
        </p:blipFill>
        <p:spPr>
          <a:xfrm>
            <a:off x="3780000" y="1413000"/>
            <a:ext cx="2114280" cy="142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8-tub-ru.yandex.net/i?id=179475887-26-72&amp;n=21"/>
          <p:cNvPicPr/>
          <p:nvPr/>
        </p:nvPicPr>
        <p:blipFill>
          <a:blip r:embed="rId3"/>
          <a:stretch/>
        </p:blipFill>
        <p:spPr>
          <a:xfrm>
            <a:off x="684360" y="1773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5-tub-ru.yandex.net/i?id=577979389-66-72&amp;n=21"/>
          <p:cNvPicPr/>
          <p:nvPr/>
        </p:nvPicPr>
        <p:blipFill>
          <a:blip r:embed="rId4"/>
          <a:stretch/>
        </p:blipFill>
        <p:spPr>
          <a:xfrm>
            <a:off x="6012000" y="2997360"/>
            <a:ext cx="221904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m5-tub-ru.yandex.net/i?id=25502948-40-72&amp;n=21"/>
          <p:cNvPicPr/>
          <p:nvPr/>
        </p:nvPicPr>
        <p:blipFill>
          <a:blip r:embed="rId5"/>
          <a:stretch/>
        </p:blipFill>
        <p:spPr>
          <a:xfrm>
            <a:off x="4140360" y="522936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-0.25 -7.40741E-007 E">
                                      <p:cBhvr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755640" y="83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зовите тех героев прочитанных произведений , которые поступают как истинные друзья природ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700360" y="37162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Какая мудрость заключена в поступках Олёны Данилов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539640" y="7650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К героям каких произведений этого раздела можно отнести призыв «Будь человеком!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484360" y="37893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Что общего между стихотворениями «Дачники» и «Будь человеком!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765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Оцените поступки человека , бросившего Жучку в колодец , бросающих прирученных животных , разрушающих муравей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411280" y="378936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Как вы думаете, правильно ли поступили люди , приручившие обезьянку Яшку? Легко ли ему было в невол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539640" y="1052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Нужно ли вообще держать диких животных до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2286000" y="282888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.У кого из вас есть домашние  питомц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вы о них заботите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м они платят вам за заботу?  Расскажите о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Sony</cp:lastModifiedBy>
  <dcterms:modified xsi:type="dcterms:W3CDTF">2013-10-22T15:33:00Z</dcterms:modified>
  <cp:revision>5</cp:revision>
  <dc:subject/>
  <dc:title>Презентация PowerPoint</dc:title>
</cp:coreProperties>
</file>