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E311-4124-4157-A93E-6448426B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A20-4391-4D7E-A943-26FDB8CB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52F-CA1C-4EC3-BD37-DEB670A1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F11-2FBB-43E1-B3D5-DDE0238F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29E8-C318-447E-9CD8-7263004E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FB8-248B-4044-964C-A730F16E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DD8-BFCF-4609-9718-C6EB8EC1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518-3743-40CF-9706-CFC3F349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CF4-A4B5-4175-A3FC-CCE75E04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23C5-0538-4C1B-8740-8AEB6301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3C38-22EC-439D-A3CF-58C23757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CEEC-CFEC-4BF5-BCA8-D8C9A644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5777-7397-4831-919D-5279EB5FB2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Рассказы о животных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общающий 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 Клюева Н.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БЕРЕГИТЕ ЖИВОТНЫХ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im5-tub-ru.yandex.net/i?id=337783957-53-72&amp;n=21"/>
          <p:cNvPicPr/>
          <p:nvPr/>
        </p:nvPicPr>
        <p:blipFill>
          <a:blip r:embed="rId1"/>
          <a:stretch/>
        </p:blipFill>
        <p:spPr>
          <a:xfrm>
            <a:off x="2050920" y="1989000"/>
            <a:ext cx="49453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елаю успехов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im0-tub-ru.yandex.net/i?id=484430436-00-72&amp;n=21"/>
          <p:cNvPicPr/>
          <p:nvPr/>
        </p:nvPicPr>
        <p:blipFill>
          <a:blip r:embed="rId1"/>
          <a:stretch/>
        </p:blipFill>
        <p:spPr>
          <a:xfrm>
            <a:off x="1042920" y="4292640"/>
            <a:ext cx="138132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im4-tub-ru.yandex.net/i?id=126868224-45-72&amp;n=21"/>
          <p:cNvPicPr/>
          <p:nvPr/>
        </p:nvPicPr>
        <p:blipFill>
          <a:blip r:embed="rId2"/>
          <a:stretch/>
        </p:blipFill>
        <p:spPr>
          <a:xfrm>
            <a:off x="3780000" y="1197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im5-tub-ru.yandex.net/i?id=514921818-50-72&amp;n=21"/>
          <p:cNvPicPr/>
          <p:nvPr/>
        </p:nvPicPr>
        <p:blipFill>
          <a:blip r:embed="rId3"/>
          <a:stretch/>
        </p:blipFill>
        <p:spPr>
          <a:xfrm>
            <a:off x="6156360" y="1413000"/>
            <a:ext cx="13050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4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Скоро наступит весна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58ed5"/>
                </a:solidFill>
                <a:latin typeface="Calibri"/>
              </a:rPr>
              <a:t>Скоро наступит весна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7933c"/>
                </a:solidFill>
                <a:latin typeface="Calibri"/>
              </a:rPr>
              <a:t>Скоро наступит весна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Буря в стакан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99px.ru/sstorage/56/2012/03/12903121552203171.jpg"/>
          <p:cNvPicPr/>
          <p:nvPr/>
        </p:nvPicPr>
        <p:blipFill>
          <a:blip r:embed="rId1"/>
          <a:stretch/>
        </p:blipFill>
        <p:spPr>
          <a:xfrm>
            <a:off x="395280" y="1628640"/>
            <a:ext cx="70102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яем 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1619280" y="191628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 домашние заданья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уду четко выполнять.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урок без опозданья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уду утром прибега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ие рассказы мы чита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static.eva.ro/blog/wp-content/uploads/19/2012/03/kjhjg.jpg"/>
          <p:cNvPicPr/>
          <p:nvPr/>
        </p:nvPicPr>
        <p:blipFill>
          <a:blip r:embed="rId1"/>
          <a:stretch/>
        </p:blipFill>
        <p:spPr>
          <a:xfrm>
            <a:off x="755640" y="371628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im6-tub-ru.yandex.net/i?id=106677232-63-72&amp;n=21"/>
          <p:cNvPicPr/>
          <p:nvPr/>
        </p:nvPicPr>
        <p:blipFill>
          <a:blip r:embed="rId2"/>
          <a:stretch/>
        </p:blipFill>
        <p:spPr>
          <a:xfrm>
            <a:off x="3780000" y="1413000"/>
            <a:ext cx="2114280" cy="142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im8-tub-ru.yandex.net/i?id=179475887-26-72&amp;n=21"/>
          <p:cNvPicPr/>
          <p:nvPr/>
        </p:nvPicPr>
        <p:blipFill>
          <a:blip r:embed="rId3"/>
          <a:stretch/>
        </p:blipFill>
        <p:spPr>
          <a:xfrm>
            <a:off x="684360" y="1773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im5-tub-ru.yandex.net/i?id=577979389-66-72&amp;n=21"/>
          <p:cNvPicPr/>
          <p:nvPr/>
        </p:nvPicPr>
        <p:blipFill>
          <a:blip r:embed="rId4"/>
          <a:stretch/>
        </p:blipFill>
        <p:spPr>
          <a:xfrm>
            <a:off x="6012000" y="2997360"/>
            <a:ext cx="2219040" cy="142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http://im5-tub-ru.yandex.net/i?id=25502948-40-72&amp;n=21"/>
          <p:cNvPicPr/>
          <p:nvPr/>
        </p:nvPicPr>
        <p:blipFill>
          <a:blip r:embed="rId5"/>
          <a:stretch/>
        </p:blipFill>
        <p:spPr>
          <a:xfrm>
            <a:off x="4140360" y="522936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1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40741E-007 L -0.25 -7.40741E-007 E">
                                      <p:cBhvr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755640" y="8366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зовите тех героев прочитанных произведений , которые поступают как истинные друзья природ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2700360" y="37162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Какая мудрость заключена в поступках Олёны Данилов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539640" y="76500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К героям каких произведений этого раздела можно отнести призыв «Будь человеком!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2484360" y="378936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Что общего между стихотворениями «Дачники» и «Будь человеком!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95280" y="76500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Оцените поступки человека , бросившего Жучку в колодец , бросающих прирученных животных , разрушающих муравейн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2411280" y="378936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.Как вы думаете, правильно ли поступили люди , приручившие обезьянку Яшку? Легко ли ему было в невол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539640" y="10526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.Нужно ли вообще держать диких животных дом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2286000" y="282888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.У кого из вас есть домашние  питомц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вы о них заботите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м они платят вам за заботу?  Расскажите о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Sony</cp:lastModifiedBy>
  <dcterms:modified xsi:type="dcterms:W3CDTF">2013-10-22T15:33:00Z</dcterms:modified>
  <cp:revision>5</cp:revision>
  <dc:subject/>
  <dc:title>Презентация PowerPoint</dc:title>
</cp:coreProperties>
</file>