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0.png" ContentType="image/png"/>
  <Override PartName="/ppt/media/image1.jpeg" ContentType="image/jpeg"/>
  <Override PartName="/ppt/media/image47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9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0.png" ContentType="image/png"/>
  <Override PartName="/ppt/media/image38.gif" ContentType="image/gif"/>
  <Override PartName="/ppt/media/image43.png" ContentType="image/png"/>
  <Override PartName="/ppt/media/image3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22A-D0C6-4163-A25D-62213D90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680-77B9-4A40-B4A4-3DB33105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82B-4A24-4C58-A4C0-62A20492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8A4-2BCD-47CE-9DF9-3801277F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775-6672-46E0-B002-B631D7D3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F6C-D6A1-41C2-B1DA-282E19F3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B9D-CF79-4918-8B9D-7CE69A48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D11-1FE4-4959-AF0F-ACDC3C3E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9CC-F2C4-4477-9735-C464FCB8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226-770D-4C53-AE37-079864BF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665-FC7C-44DF-952C-785A316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264-059E-458C-BE08-B8A6ABE8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5FE1-45DB-49ED-8B0A-672673A80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" Target="slide8.xml"/><Relationship Id="rId7" Type="http://schemas.openxmlformats.org/officeDocument/2006/relationships/image" Target="../media/image5.png"/><Relationship Id="rId8" Type="http://schemas.openxmlformats.org/officeDocument/2006/relationships/slide" Target="slide9.xml"/><Relationship Id="rId9" Type="http://schemas.openxmlformats.org/officeDocument/2006/relationships/image" Target="../media/image6.png"/><Relationship Id="rId10" Type="http://schemas.openxmlformats.org/officeDocument/2006/relationships/slide" Target="slide10.xml"/><Relationship Id="rId11" Type="http://schemas.openxmlformats.org/officeDocument/2006/relationships/image" Target="../media/image7.png"/><Relationship Id="rId12" Type="http://schemas.openxmlformats.org/officeDocument/2006/relationships/slide" Target="slide11.xm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4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gif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1"/>
          <p:cNvSpPr/>
          <p:nvPr/>
        </p:nvSpPr>
        <p:spPr>
          <a:xfrm>
            <a:off x="1428840" y="1428840"/>
            <a:ext cx="6715080" cy="2643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428920" y="1571760"/>
            <a:ext cx="47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утеше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в страну «Математ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4786200" y="4287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Arial"/>
              </a:rPr>
              <a:t>Найди соседей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000680" y="1214280"/>
          <a:ext cx="1357200" cy="5241960"/>
        </p:xfrm>
        <a:graphic>
          <a:graphicData uri="http://schemas.openxmlformats.org/drawingml/2006/table">
            <a:tbl>
              <a:tblPr/>
              <a:tblGrid>
                <a:gridCol w="1357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571840" y="1285920"/>
          <a:ext cx="1404720" cy="5143320"/>
        </p:xfrm>
        <a:graphic>
          <a:graphicData uri="http://schemas.openxmlformats.org/drawingml/2006/table">
            <a:tbl>
              <a:tblPr/>
              <a:tblGrid>
                <a:gridCol w="14047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214960" y="1285920"/>
          <a:ext cx="1405080" cy="5143320"/>
        </p:xfrm>
        <a:graphic>
          <a:graphicData uri="http://schemas.openxmlformats.org/drawingml/2006/table">
            <a:tbl>
              <a:tblPr/>
              <a:tblGrid>
                <a:gridCol w="140508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1420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1420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14200" y="400068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1420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57224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7572240" y="392904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57224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57224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3" name="Управляющая кнопка: назад 14"/>
          <p:cNvGrpSpPr/>
          <p:nvPr/>
        </p:nvGrpSpPr>
        <p:grpSpPr>
          <a:xfrm>
            <a:off x="298440" y="676440"/>
            <a:ext cx="828720" cy="469800"/>
            <a:chOff x="298440" y="676440"/>
            <a:chExt cx="828720" cy="469800"/>
          </a:xfrm>
        </p:grpSpPr>
        <p:pic>
          <p:nvPicPr>
            <p:cNvPr id="214" name="Управляющая кнопка: назад 14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828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57120" y="714240"/>
              <a:ext cx="7146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238" dur="indefinite" restart="never" nodeType="tmRoot">
          <p:childTnLst>
            <p:seq>
              <p:cTn id="23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028E-008 L 0.26459 0.5629 E">
                                      <p:cBhvr>
                                        <p:cTn id="24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-0.0037 L -0.26458 0.5629 E">
                                      <p:cBhvr>
                                        <p:cTn id="248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0611E-006 L 0.25208 0.17831 E">
                                      <p:cBhvr>
                                        <p:cTn id="25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-0.00208 L -0.2566 0.17623 E">
                                      <p:cBhvr>
                                        <p:cTn id="25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6531E-006 L 0.25192 -0.20976 E">
                                      <p:cBhvr>
                                        <p:cTn id="26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5069E-008 L -0.2566 -0.21022 E">
                                      <p:cBhvr>
                                        <p:cTn id="26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01157 L 0.24879 -0.58649 E">
                                      <p:cBhvr>
                                        <p:cTn id="273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67253E-006 L -0.26458 -0.5969 E">
                                      <p:cBhvr>
                                        <p:cTn id="27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c18839a12d0e2e4b6698d64f2e3_pre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2" descr="19aeda51190c9fcc3a24dedaf0392373.jpg"/>
          <p:cNvPicPr/>
          <p:nvPr/>
        </p:nvPicPr>
        <p:blipFill>
          <a:blip r:embed="rId3"/>
          <a:stretch/>
        </p:blipFill>
        <p:spPr>
          <a:xfrm>
            <a:off x="4992840" y="-6480"/>
            <a:ext cx="229860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2" descr="48891449_cifruy.gif"/>
          <p:cNvPicPr/>
          <p:nvPr/>
        </p:nvPicPr>
        <p:blipFill>
          <a:blip r:embed="rId2"/>
          <a:srcRect l="18934" t="0" r="62139" b="52507"/>
          <a:stretch/>
        </p:blipFill>
        <p:spPr>
          <a:xfrm rot="447600">
            <a:off x="3311640" y="3706560"/>
            <a:ext cx="1071360" cy="15652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48891449_cifruy.gif"/>
          <p:cNvPicPr/>
          <p:nvPr/>
        </p:nvPicPr>
        <p:blipFill>
          <a:blip r:embed="rId3"/>
          <a:srcRect l="83018" t="-4989" r="-477" b="50013"/>
          <a:stretch/>
        </p:blipFill>
        <p:spPr>
          <a:xfrm rot="995400">
            <a:off x="4562280" y="2814480"/>
            <a:ext cx="930240" cy="15717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48891449_cifruy.gif"/>
          <p:cNvPicPr/>
          <p:nvPr/>
        </p:nvPicPr>
        <p:blipFill>
          <a:blip r:embed="rId4"/>
          <a:srcRect l="0" t="52507" r="81073" b="-2494"/>
          <a:stretch/>
        </p:blipFill>
        <p:spPr>
          <a:xfrm rot="21305400">
            <a:off x="4352760" y="4686120"/>
            <a:ext cx="1068480" cy="15890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48891449_cifruy.gif"/>
          <p:cNvPicPr/>
          <p:nvPr/>
        </p:nvPicPr>
        <p:blipFill>
          <a:blip r:embed="rId5"/>
          <a:srcRect l="23301" t="50013" r="59225" b="-2494"/>
          <a:stretch/>
        </p:blipFill>
        <p:spPr>
          <a:xfrm rot="20958000">
            <a:off x="5924160" y="3152520"/>
            <a:ext cx="102384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8" descr="48891449_cifruy.gif"/>
          <p:cNvPicPr/>
          <p:nvPr/>
        </p:nvPicPr>
        <p:blipFill>
          <a:blip r:embed="rId6"/>
          <a:srcRect l="45149" t="52507" r="35924" b="-2482"/>
          <a:stretch/>
        </p:blipFill>
        <p:spPr>
          <a:xfrm>
            <a:off x="6143760" y="4857840"/>
            <a:ext cx="107136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9" descr="48891449_cifruy.gif"/>
          <p:cNvPicPr/>
          <p:nvPr/>
        </p:nvPicPr>
        <p:blipFill>
          <a:blip r:embed="rId7"/>
          <a:srcRect l="62630" t="50013" r="14076" b="0"/>
          <a:stretch/>
        </p:blipFill>
        <p:spPr>
          <a:xfrm rot="1385400">
            <a:off x="7478280" y="4473720"/>
            <a:ext cx="1284480" cy="17096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0" descr="48891449_cifruy.gif"/>
          <p:cNvPicPr/>
          <p:nvPr/>
        </p:nvPicPr>
        <p:blipFill>
          <a:blip r:embed="rId8"/>
          <a:srcRect l="85931" t="52507" r="-477" b="0"/>
          <a:stretch/>
        </p:blipFill>
        <p:spPr>
          <a:xfrm rot="1129200">
            <a:off x="7557840" y="2695680"/>
            <a:ext cx="1020600" cy="154764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12" descr=""/>
          <p:cNvPicPr/>
          <p:nvPr/>
        </p:nvPicPr>
        <p:blipFill>
          <a:blip r:embed="rId9"/>
          <a:stretch/>
        </p:blipFill>
        <p:spPr>
          <a:xfrm>
            <a:off x="36360" y="1054080"/>
            <a:ext cx="8998200" cy="17128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3" descr="b1accebf05a5.jpg"/>
          <p:cNvPicPr/>
          <p:nvPr/>
        </p:nvPicPr>
        <p:blipFill>
          <a:blip r:embed="rId10"/>
          <a:srcRect l="0" t="378" r="80471" b="58050"/>
          <a:stretch/>
        </p:blipFill>
        <p:spPr>
          <a:xfrm rot="21024000">
            <a:off x="498600" y="3610080"/>
            <a:ext cx="1473120" cy="18270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4" descr="48891449_cifruy.gif"/>
          <p:cNvPicPr/>
          <p:nvPr/>
        </p:nvPicPr>
        <p:blipFill>
          <a:blip r:embed="rId11"/>
          <a:srcRect l="36408" t="0" r="37377" b="52507"/>
          <a:stretch/>
        </p:blipFill>
        <p:spPr>
          <a:xfrm>
            <a:off x="2143080" y="2857680"/>
            <a:ext cx="1285920" cy="15001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5" descr="48891449_cifruy.gif"/>
          <p:cNvPicPr/>
          <p:nvPr/>
        </p:nvPicPr>
        <p:blipFill>
          <a:blip r:embed="rId12"/>
          <a:srcRect l="62630" t="-4989" r="18450" b="52507"/>
          <a:stretch/>
        </p:blipFill>
        <p:spPr>
          <a:xfrm rot="21091800">
            <a:off x="2247840" y="4568760"/>
            <a:ext cx="104616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214200" y="5357880"/>
            <a:ext cx="2143080" cy="1071360"/>
          </a:xfrm>
          <a:prstGeom prst="rect">
            <a:avLst/>
          </a:prstGeom>
          <a:solidFill>
            <a:srgbClr val="10253f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428760" y="2928960"/>
            <a:ext cx="1428480" cy="1285920"/>
          </a:xfrm>
          <a:prstGeom prst="rect">
            <a:avLst/>
          </a:prstGeom>
          <a:solidFill>
            <a:srgbClr val="34ec4a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Равнобедренный треугольник 6"/>
          <p:cNvSpPr/>
          <p:nvPr/>
        </p:nvSpPr>
        <p:spPr>
          <a:xfrm>
            <a:off x="3143160" y="1143000"/>
            <a:ext cx="1714680" cy="1500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4929120" y="3214800"/>
            <a:ext cx="221472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7215120" y="1071720"/>
            <a:ext cx="1643040" cy="1643040"/>
          </a:xfrm>
          <a:prstGeom prst="ellipse">
            <a:avLst/>
          </a:prstGeom>
          <a:solidFill>
            <a:srgbClr val="663300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1643040" y="428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Карта страны «МАТЕМА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0" descr="Рис.gif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643880" y="5500800"/>
            <a:ext cx="1500120" cy="102852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12"/>
          <p:cNvCxnSpPr>
            <a:endCxn id="43" idx="3"/>
          </p:cNvCxnSpPr>
          <p:nvPr/>
        </p:nvCxnSpPr>
        <p:spPr>
          <a:xfrm flipH="1" flipV="1">
            <a:off x="2356560" y="5893560"/>
            <a:ext cx="5287320" cy="121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Прямая со стрелкой 17"/>
          <p:cNvCxnSpPr/>
          <p:nvPr/>
        </p:nvCxnSpPr>
        <p:spPr>
          <a:xfrm flipV="1">
            <a:off x="2339640" y="5083920"/>
            <a:ext cx="500148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Прямая со стрелкой 19"/>
          <p:cNvCxnSpPr/>
          <p:nvPr/>
        </p:nvCxnSpPr>
        <p:spPr>
          <a:xfrm flipH="1" flipV="1">
            <a:off x="1856880" y="3785760"/>
            <a:ext cx="55015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Прямая со стрелкой 21"/>
          <p:cNvCxnSpPr>
            <a:endCxn id="45" idx="3"/>
          </p:cNvCxnSpPr>
          <p:nvPr/>
        </p:nvCxnSpPr>
        <p:spPr>
          <a:xfrm flipV="1">
            <a:off x="1857240" y="2642400"/>
            <a:ext cx="2144160" cy="1072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Прямая со стрелкой 23"/>
          <p:cNvCxnSpPr/>
          <p:nvPr/>
        </p:nvCxnSpPr>
        <p:spPr>
          <a:xfrm>
            <a:off x="3928680" y="2643120"/>
            <a:ext cx="178668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Прямая со стрелкой 27"/>
          <p:cNvCxnSpPr/>
          <p:nvPr/>
        </p:nvCxnSpPr>
        <p:spPr>
          <a:xfrm flipV="1">
            <a:off x="6286680" y="2642760"/>
            <a:ext cx="142920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56" name="Управляющая кнопка: далее 15"/>
          <p:cNvGrpSpPr/>
          <p:nvPr/>
        </p:nvGrpSpPr>
        <p:grpSpPr>
          <a:xfrm>
            <a:off x="225360" y="6035760"/>
            <a:ext cx="755640" cy="395280"/>
            <a:chOff x="225360" y="6035760"/>
            <a:chExt cx="755640" cy="395280"/>
          </a:xfrm>
        </p:grpSpPr>
        <p:pic>
          <p:nvPicPr>
            <p:cNvPr id="57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225360" y="6035760"/>
              <a:ext cx="755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5840" y="607212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Управляющая кнопка: далее 16"/>
          <p:cNvGrpSpPr/>
          <p:nvPr/>
        </p:nvGrpSpPr>
        <p:grpSpPr>
          <a:xfrm>
            <a:off x="8028000" y="5157720"/>
            <a:ext cx="755640" cy="396720"/>
            <a:chOff x="8028000" y="5157720"/>
            <a:chExt cx="755640" cy="396720"/>
          </a:xfrm>
        </p:grpSpPr>
        <p:pic>
          <p:nvPicPr>
            <p:cNvPr id="60" name="Управляющая кнопка: далее 1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028000" y="5157720"/>
              <a:ext cx="7556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088480" y="519732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Управляющая кнопка: далее 18"/>
          <p:cNvGrpSpPr/>
          <p:nvPr/>
        </p:nvGrpSpPr>
        <p:grpSpPr>
          <a:xfrm>
            <a:off x="438120" y="3822840"/>
            <a:ext cx="615960" cy="395280"/>
            <a:chOff x="438120" y="3822840"/>
            <a:chExt cx="615960" cy="395280"/>
          </a:xfrm>
        </p:grpSpPr>
        <p:pic>
          <p:nvPicPr>
            <p:cNvPr id="63" name="Управляющая кнопка: далее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38120" y="3822840"/>
              <a:ext cx="6159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00040" y="3857760"/>
              <a:ext cx="500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Управляющая кнопка: далее 20"/>
          <p:cNvGrpSpPr/>
          <p:nvPr/>
        </p:nvGrpSpPr>
        <p:grpSpPr>
          <a:xfrm>
            <a:off x="3297240" y="2249640"/>
            <a:ext cx="689040" cy="396720"/>
            <a:chOff x="3297240" y="2249640"/>
            <a:chExt cx="689040" cy="396720"/>
          </a:xfrm>
        </p:grpSpPr>
        <p:pic>
          <p:nvPicPr>
            <p:cNvPr id="66" name="Управляющая кнопка: далее 2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3297240" y="224964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357720" y="2286000"/>
              <a:ext cx="57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Управляющая кнопка: далее 22"/>
          <p:cNvGrpSpPr/>
          <p:nvPr/>
        </p:nvGrpSpPr>
        <p:grpSpPr>
          <a:xfrm>
            <a:off x="5297400" y="3962520"/>
            <a:ext cx="755640" cy="396720"/>
            <a:chOff x="5297400" y="3962520"/>
            <a:chExt cx="755640" cy="396720"/>
          </a:xfrm>
        </p:grpSpPr>
        <p:pic>
          <p:nvPicPr>
            <p:cNvPr id="69" name="Управляющая кнопка: далее 2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297400" y="3962520"/>
              <a:ext cx="7556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357880" y="4000680"/>
              <a:ext cx="642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Управляющая кнопка: далее 24"/>
          <p:cNvGrpSpPr/>
          <p:nvPr/>
        </p:nvGrpSpPr>
        <p:grpSpPr>
          <a:xfrm>
            <a:off x="7723080" y="2322360"/>
            <a:ext cx="615960" cy="397080"/>
            <a:chOff x="7723080" y="2322360"/>
            <a:chExt cx="615960" cy="397080"/>
          </a:xfrm>
        </p:grpSpPr>
        <p:pic>
          <p:nvPicPr>
            <p:cNvPr id="72" name="Управляющая кнопка: далее 24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723080" y="2322360"/>
              <a:ext cx="6159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786800" y="2357280"/>
              <a:ext cx="5000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 rot="16010400">
            <a:off x="7370640" y="32997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34 0.0007 L -0.66198 -0.02012 E">
                                      <p:cBhvr>
                                        <p:cTn id="20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198 -0.02012 L -0.11076 -0.12488 E">
                                      <p:cBhvr>
                                        <p:cTn id="31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76 -0.12488 L -0.71719 -0.30342 E">
                                      <p:cBhvr>
                                        <p:cTn id="4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719 -0.30342 L -0.45729 -0.48173 E">
                                      <p:cBhvr>
                                        <p:cTn id="53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729 -0.48172 L -0.22882 -0.46068 E">
                                      <p:cBhvr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81 -0.46069 L -0.03975 -0.4815 E">
                                      <p:cBhvr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5" descr="e5016a11eb85dc683b9201753804a6f2.gif"/>
          <p:cNvPicPr/>
          <p:nvPr/>
        </p:nvPicPr>
        <p:blipFill>
          <a:blip r:embed="rId2"/>
          <a:stretch/>
        </p:blipFill>
        <p:spPr>
          <a:xfrm>
            <a:off x="0" y="1214280"/>
            <a:ext cx="5643720" cy="5291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7" descr="1664.gif"/>
          <p:cNvPicPr/>
          <p:nvPr/>
        </p:nvPicPr>
        <p:blipFill>
          <a:blip r:embed="rId3"/>
          <a:stretch/>
        </p:blipFill>
        <p:spPr>
          <a:xfrm rot="13059600">
            <a:off x="711360" y="1351800"/>
            <a:ext cx="2055600" cy="16621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8" descr="1661.gif"/>
          <p:cNvPicPr/>
          <p:nvPr/>
        </p:nvPicPr>
        <p:blipFill>
          <a:blip r:embed="rId4"/>
          <a:stretch/>
        </p:blipFill>
        <p:spPr>
          <a:xfrm>
            <a:off x="571680" y="4286160"/>
            <a:ext cx="221436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9" descr="1688.gif"/>
          <p:cNvPicPr/>
          <p:nvPr/>
        </p:nvPicPr>
        <p:blipFill>
          <a:blip r:embed="rId5">
            <a:lum contrast="30000"/>
          </a:blip>
          <a:stretch/>
        </p:blipFill>
        <p:spPr>
          <a:xfrm rot="19692600">
            <a:off x="3903840" y="4001760"/>
            <a:ext cx="1842840" cy="19429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7" descr="c0c534fda4e3487c1e3b6d102302b621.gif"/>
          <p:cNvPicPr/>
          <p:nvPr/>
        </p:nvPicPr>
        <p:blipFill>
          <a:blip r:embed="rId6"/>
          <a:stretch/>
        </p:blipFill>
        <p:spPr>
          <a:xfrm rot="14497800">
            <a:off x="5800320" y="1087560"/>
            <a:ext cx="1898640" cy="1488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6" descr="c0c534fda4e3487c1e3b6d102302b621.gif"/>
          <p:cNvPicPr/>
          <p:nvPr/>
        </p:nvPicPr>
        <p:blipFill>
          <a:blip r:embed="rId7"/>
          <a:stretch/>
        </p:blipFill>
        <p:spPr>
          <a:xfrm rot="15500400">
            <a:off x="6578280" y="3720600"/>
            <a:ext cx="1878120" cy="1411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5429160" y="500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Arial"/>
              </a:rPr>
              <a:t>Составь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Управляющая кнопка: назад 8"/>
          <p:cNvGrpSpPr/>
          <p:nvPr/>
        </p:nvGrpSpPr>
        <p:grpSpPr>
          <a:xfrm>
            <a:off x="225360" y="463680"/>
            <a:ext cx="755640" cy="536400"/>
            <a:chOff x="225360" y="463680"/>
            <a:chExt cx="755640" cy="536400"/>
          </a:xfrm>
        </p:grpSpPr>
        <p:pic>
          <p:nvPicPr>
            <p:cNvPr id="83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225360" y="463680"/>
              <a:ext cx="755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85840" y="50004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9"/>
          <p:cNvSpPr/>
          <p:nvPr/>
        </p:nvSpPr>
        <p:spPr>
          <a:xfrm>
            <a:off x="5357880" y="5357880"/>
            <a:ext cx="357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Arial"/>
              </a:rPr>
              <a:t>3 + 2 =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"/>
          <p:cNvPicPr/>
          <p:nvPr/>
        </p:nvPicPr>
        <p:blipFill>
          <a:blip r:embed="rId2">
            <a:lum bright="16000"/>
          </a:blip>
          <a:srcRect l="0" t="0" r="0" b="4166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snap0502"/>
          <p:cNvPicPr/>
          <p:nvPr/>
        </p:nvPicPr>
        <p:blipFill>
          <a:blip r:embed="rId3"/>
          <a:stretch/>
        </p:blipFill>
        <p:spPr>
          <a:xfrm>
            <a:off x="214200" y="285840"/>
            <a:ext cx="3143520" cy="1714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8" name="Прямоугольник 6" descr=""/>
          <p:cNvPicPr/>
          <p:nvPr/>
        </p:nvPicPr>
        <p:blipFill>
          <a:blip r:embed="rId4"/>
          <a:stretch/>
        </p:blipFill>
        <p:spPr>
          <a:xfrm>
            <a:off x="-1841400" y="3054240"/>
            <a:ext cx="5041800" cy="2170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5"/>
          <a:stretch/>
        </p:blipFill>
        <p:spPr>
          <a:xfrm>
            <a:off x="6286680" y="214200"/>
            <a:ext cx="121428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0" name="Прямоугольник 8" descr=""/>
          <p:cNvPicPr/>
          <p:nvPr/>
        </p:nvPicPr>
        <p:blipFill>
          <a:blip r:embed="rId6"/>
          <a:stretch/>
        </p:blipFill>
        <p:spPr>
          <a:xfrm>
            <a:off x="1798560" y="-158760"/>
            <a:ext cx="5272200" cy="2170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"/>
          <p:cNvPicPr/>
          <p:nvPr/>
        </p:nvPicPr>
        <p:blipFill>
          <a:blip r:embed="rId7"/>
          <a:srcRect l="4678" t="0" r="0" b="0"/>
          <a:stretch/>
        </p:blipFill>
        <p:spPr>
          <a:xfrm>
            <a:off x="7500960" y="214200"/>
            <a:ext cx="130968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2" name="Прямоугольник 10" descr=""/>
          <p:cNvPicPr/>
          <p:nvPr/>
        </p:nvPicPr>
        <p:blipFill>
          <a:blip r:embed="rId8"/>
          <a:stretch/>
        </p:blipFill>
        <p:spPr>
          <a:xfrm>
            <a:off x="2017800" y="3054240"/>
            <a:ext cx="5973840" cy="2170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1" descr=""/>
          <p:cNvPicPr/>
          <p:nvPr/>
        </p:nvPicPr>
        <p:blipFill>
          <a:blip r:embed="rId9"/>
          <a:srcRect l="8383" t="1125" r="11581" b="11601"/>
          <a:stretch/>
        </p:blipFill>
        <p:spPr>
          <a:xfrm>
            <a:off x="7215120" y="3429000"/>
            <a:ext cx="157176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4" name="Рисунок 5" descr=""/>
          <p:cNvPicPr/>
          <p:nvPr/>
        </p:nvPicPr>
        <p:blipFill>
          <a:blip r:embed="rId10"/>
          <a:srcRect l="9083" t="0" r="13654" b="8686"/>
          <a:stretch/>
        </p:blipFill>
        <p:spPr>
          <a:xfrm>
            <a:off x="2286000" y="3429000"/>
            <a:ext cx="1357200" cy="17859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5" name="TextBox 12" descr=""/>
          <p:cNvPicPr/>
          <p:nvPr/>
        </p:nvPicPr>
        <p:blipFill>
          <a:blip r:embed="rId11"/>
          <a:stretch/>
        </p:blipFill>
        <p:spPr>
          <a:xfrm>
            <a:off x="-390600" y="1195560"/>
            <a:ext cx="4529160" cy="20476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3" descr=""/>
          <p:cNvPicPr/>
          <p:nvPr/>
        </p:nvPicPr>
        <p:blipFill>
          <a:blip r:embed="rId12"/>
          <a:stretch/>
        </p:blipFill>
        <p:spPr>
          <a:xfrm>
            <a:off x="4322880" y="1195560"/>
            <a:ext cx="4333680" cy="20476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4" descr=""/>
          <p:cNvPicPr/>
          <p:nvPr/>
        </p:nvPicPr>
        <p:blipFill>
          <a:blip r:embed="rId13"/>
          <a:stretch/>
        </p:blipFill>
        <p:spPr>
          <a:xfrm>
            <a:off x="-109440" y="4700520"/>
            <a:ext cx="4297320" cy="204804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5" descr=""/>
          <p:cNvPicPr/>
          <p:nvPr/>
        </p:nvPicPr>
        <p:blipFill>
          <a:blip r:embed="rId14"/>
          <a:stretch/>
        </p:blipFill>
        <p:spPr>
          <a:xfrm>
            <a:off x="4748040" y="4627440"/>
            <a:ext cx="3542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23880" y="1214280"/>
          <a:ext cx="6096240" cy="528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Группа 40"/>
          <p:cNvGrpSpPr/>
          <p:nvPr/>
        </p:nvGrpSpPr>
        <p:grpSpPr>
          <a:xfrm>
            <a:off x="1928520" y="1357200"/>
            <a:ext cx="1214280" cy="1500480"/>
            <a:chOff x="1928520" y="1357200"/>
            <a:chExt cx="1214280" cy="1500480"/>
          </a:xfrm>
        </p:grpSpPr>
        <p:sp>
          <p:nvSpPr>
            <p:cNvPr id="101" name="Трапеция 2"/>
            <p:cNvSpPr/>
            <p:nvPr/>
          </p:nvSpPr>
          <p:spPr>
            <a:xfrm rot="10800000">
              <a:off x="1928520" y="2286000"/>
              <a:ext cx="1214280" cy="57168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ый треугольник 17"/>
            <p:cNvSpPr/>
            <p:nvPr/>
          </p:nvSpPr>
          <p:spPr>
            <a:xfrm>
              <a:off x="2143080" y="135720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Кольцо 22"/>
            <p:cNvSpPr/>
            <p:nvPr/>
          </p:nvSpPr>
          <p:spPr>
            <a:xfrm>
              <a:off x="221436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5">
                  <a:moveTo>
                    <a:pt x="0" y="107158"/>
                  </a:moveTo>
                  <a:lnTo>
                    <a:pt x="0" y="107158"/>
                  </a:lnTo>
                  <a:arcTo wR="107157" hR="107158" stAng="10800000" swAng="5400000"/>
                  <a:lnTo>
                    <a:pt x="107157" y="0"/>
                  </a:lnTo>
                  <a:arcTo wR="107157" hR="107158" stAng="-5400000" swAng="5400000"/>
                  <a:lnTo>
                    <a:pt x="214314" y="107158"/>
                  </a:lnTo>
                  <a:arcTo wR="107157" hR="107158" stAng="0" swAng="5400000"/>
                  <a:lnTo>
                    <a:pt x="107157" y="214316"/>
                  </a:lnTo>
                  <a:arcTo wR="107157" hR="107158" stAng="5400000" swAng="5400000"/>
                  <a:close/>
                  <a:moveTo>
                    <a:pt x="53579" y="107158"/>
                  </a:moveTo>
                  <a:lnTo>
                    <a:pt x="53579" y="107158"/>
                  </a:lnTo>
                  <a:arcTo wR="53579" hR="53579" stAng="10800000" swAng="-5400000"/>
                  <a:lnTo>
                    <a:pt x="107158" y="160737"/>
                  </a:lnTo>
                  <a:arcTo wR="53579" hR="53579" stAng="5400000" swAng="-5400000"/>
                  <a:lnTo>
                    <a:pt x="160737" y="107158"/>
                  </a:lnTo>
                  <a:arcTo wR="53579" hR="53579" stAng="0" swAng="-5400000"/>
                  <a:lnTo>
                    <a:pt x="107158" y="53579"/>
                  </a:lnTo>
                  <a:arcTo wR="53579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44"/>
          <p:cNvGrpSpPr/>
          <p:nvPr/>
        </p:nvGrpSpPr>
        <p:grpSpPr>
          <a:xfrm>
            <a:off x="4071600" y="3143160"/>
            <a:ext cx="1214280" cy="1499760"/>
            <a:chOff x="4071600" y="3143160"/>
            <a:chExt cx="1214280" cy="1499760"/>
          </a:xfrm>
        </p:grpSpPr>
        <p:sp>
          <p:nvSpPr>
            <p:cNvPr id="105" name="Трапеция 8"/>
            <p:cNvSpPr/>
            <p:nvPr/>
          </p:nvSpPr>
          <p:spPr>
            <a:xfrm rot="10800000">
              <a:off x="4071600" y="4071600"/>
              <a:ext cx="1214280" cy="57132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ый треугольник 18"/>
            <p:cNvSpPr/>
            <p:nvPr/>
          </p:nvSpPr>
          <p:spPr>
            <a:xfrm>
              <a:off x="4286160" y="314316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Кольцо 23"/>
            <p:cNvSpPr/>
            <p:nvPr/>
          </p:nvSpPr>
          <p:spPr>
            <a:xfrm>
              <a:off x="457200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3">
                  <a:moveTo>
                    <a:pt x="0" y="107157"/>
                  </a:moveTo>
                  <a:lnTo>
                    <a:pt x="0" y="107157"/>
                  </a:lnTo>
                  <a:arcTo wR="107158" hR="107157" stAng="10800000" swAng="5400000"/>
                  <a:lnTo>
                    <a:pt x="107158" y="0"/>
                  </a:lnTo>
                  <a:arcTo wR="107158" hR="107157" stAng="-5400000" swAng="5400000"/>
                  <a:lnTo>
                    <a:pt x="214316" y="107157"/>
                  </a:lnTo>
                  <a:arcTo wR="107158" hR="107157" stAng="0" swAng="5400000"/>
                  <a:lnTo>
                    <a:pt x="107158" y="214314"/>
                  </a:lnTo>
                  <a:arcTo wR="107158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Кольцо 24"/>
            <p:cNvSpPr/>
            <p:nvPr/>
          </p:nvSpPr>
          <p:spPr>
            <a:xfrm>
              <a:off x="485784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3">
                  <a:moveTo>
                    <a:pt x="0" y="107157"/>
                  </a:moveTo>
                  <a:lnTo>
                    <a:pt x="0" y="107157"/>
                  </a:lnTo>
                  <a:arcTo wR="107158" hR="107157" stAng="10800000" swAng="5400000"/>
                  <a:lnTo>
                    <a:pt x="107158" y="0"/>
                  </a:lnTo>
                  <a:arcTo wR="107158" hR="107157" stAng="-5400000" swAng="5400000"/>
                  <a:lnTo>
                    <a:pt x="214316" y="107157"/>
                  </a:lnTo>
                  <a:arcTo wR="107158" hR="107157" stAng="0" swAng="5400000"/>
                  <a:lnTo>
                    <a:pt x="107158" y="214314"/>
                  </a:lnTo>
                  <a:arcTo wR="107158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Кольцо 25"/>
            <p:cNvSpPr/>
            <p:nvPr/>
          </p:nvSpPr>
          <p:spPr>
            <a:xfrm>
              <a:off x="428616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3">
                  <a:moveTo>
                    <a:pt x="0" y="107157"/>
                  </a:moveTo>
                  <a:lnTo>
                    <a:pt x="0" y="107157"/>
                  </a:lnTo>
                  <a:arcTo wR="107158" hR="107157" stAng="10800000" swAng="5400000"/>
                  <a:lnTo>
                    <a:pt x="107158" y="0"/>
                  </a:lnTo>
                  <a:arcTo wR="107158" hR="107157" stAng="-5400000" swAng="5400000"/>
                  <a:lnTo>
                    <a:pt x="214316" y="107157"/>
                  </a:lnTo>
                  <a:arcTo wR="107158" hR="107157" stAng="0" swAng="5400000"/>
                  <a:lnTo>
                    <a:pt x="107158" y="214314"/>
                  </a:lnTo>
                  <a:arcTo wR="107158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Группа 43"/>
          <p:cNvGrpSpPr/>
          <p:nvPr/>
        </p:nvGrpSpPr>
        <p:grpSpPr>
          <a:xfrm>
            <a:off x="2000160" y="3143160"/>
            <a:ext cx="1214640" cy="1499760"/>
            <a:chOff x="2000160" y="3143160"/>
            <a:chExt cx="1214640" cy="1499760"/>
          </a:xfrm>
        </p:grpSpPr>
        <p:sp>
          <p:nvSpPr>
            <p:cNvPr id="111" name="Трапеция 5"/>
            <p:cNvSpPr/>
            <p:nvPr/>
          </p:nvSpPr>
          <p:spPr>
            <a:xfrm rot="10800000">
              <a:off x="2000160" y="4071600"/>
              <a:ext cx="1214640" cy="571320"/>
            </a:xfrm>
            <a:custGeom>
              <a:avLst/>
              <a:gdLst>
                <a:gd name="textAreaLeft" fmla="*/ 95040 w 1214640"/>
                <a:gd name="textAreaRight" fmla="*/ 1119600 w 121464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ый треугольник 16"/>
            <p:cNvSpPr/>
            <p:nvPr/>
          </p:nvSpPr>
          <p:spPr>
            <a:xfrm>
              <a:off x="2214360" y="314316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Кольцо 26"/>
            <p:cNvSpPr/>
            <p:nvPr/>
          </p:nvSpPr>
          <p:spPr>
            <a:xfrm>
              <a:off x="242892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Кольцо 27"/>
            <p:cNvSpPr/>
            <p:nvPr/>
          </p:nvSpPr>
          <p:spPr>
            <a:xfrm>
              <a:off x="214308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Группа 42"/>
          <p:cNvGrpSpPr/>
          <p:nvPr/>
        </p:nvGrpSpPr>
        <p:grpSpPr>
          <a:xfrm>
            <a:off x="5929200" y="1357200"/>
            <a:ext cx="1214640" cy="1500480"/>
            <a:chOff x="5929200" y="1357200"/>
            <a:chExt cx="1214640" cy="1500480"/>
          </a:xfrm>
        </p:grpSpPr>
        <p:sp>
          <p:nvSpPr>
            <p:cNvPr id="116" name="Трапеция 3"/>
            <p:cNvSpPr/>
            <p:nvPr/>
          </p:nvSpPr>
          <p:spPr>
            <a:xfrm rot="10800000">
              <a:off x="5929200" y="2286000"/>
              <a:ext cx="1214640" cy="571680"/>
            </a:xfrm>
            <a:custGeom>
              <a:avLst/>
              <a:gdLst>
                <a:gd name="textAreaLeft" fmla="*/ 95040 w 1214640"/>
                <a:gd name="textAreaRight" fmla="*/ 1119600 w 1214640"/>
                <a:gd name="textAreaTop" fmla="*/ 4464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оугольный треугольник 15"/>
            <p:cNvSpPr/>
            <p:nvPr/>
          </p:nvSpPr>
          <p:spPr>
            <a:xfrm>
              <a:off x="6143400" y="135720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Кольцо 28"/>
            <p:cNvSpPr/>
            <p:nvPr/>
          </p:nvSpPr>
          <p:spPr>
            <a:xfrm>
              <a:off x="671508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5">
                  <a:moveTo>
                    <a:pt x="0" y="107158"/>
                  </a:moveTo>
                  <a:lnTo>
                    <a:pt x="0" y="107158"/>
                  </a:lnTo>
                  <a:arcTo wR="107158" hR="107158" stAng="10800000" swAng="5400000"/>
                  <a:lnTo>
                    <a:pt x="107158" y="0"/>
                  </a:lnTo>
                  <a:arcTo wR="107158" hR="107158" stAng="-5400000" swAng="5400000"/>
                  <a:lnTo>
                    <a:pt x="214316" y="107158"/>
                  </a:lnTo>
                  <a:arcTo wR="107158" hR="107158" stAng="0" swAng="5400000"/>
                  <a:lnTo>
                    <a:pt x="107158" y="214316"/>
                  </a:lnTo>
                  <a:arcTo wR="107158" hR="107158" stAng="5400000" swAng="5400000"/>
                  <a:close/>
                  <a:moveTo>
                    <a:pt x="53579" y="107158"/>
                  </a:moveTo>
                  <a:lnTo>
                    <a:pt x="53579" y="107158"/>
                  </a:lnTo>
                  <a:arcTo wR="53579" hR="53579" stAng="10800000" swAng="-5400000"/>
                  <a:lnTo>
                    <a:pt x="107158" y="160737"/>
                  </a:lnTo>
                  <a:arcTo wR="53579" hR="53579" stAng="5400000" swAng="-5400000"/>
                  <a:lnTo>
                    <a:pt x="160737" y="107158"/>
                  </a:lnTo>
                  <a:arcTo wR="53579" hR="53579" stAng="0" swAng="-5400000"/>
                  <a:lnTo>
                    <a:pt x="107158" y="53579"/>
                  </a:lnTo>
                  <a:arcTo wR="53579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Кольцо 29"/>
            <p:cNvSpPr/>
            <p:nvPr/>
          </p:nvSpPr>
          <p:spPr>
            <a:xfrm>
              <a:off x="642924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5">
                  <a:moveTo>
                    <a:pt x="0" y="107158"/>
                  </a:moveTo>
                  <a:lnTo>
                    <a:pt x="0" y="107158"/>
                  </a:lnTo>
                  <a:arcTo wR="107158" hR="107158" stAng="10800000" swAng="5400000"/>
                  <a:lnTo>
                    <a:pt x="107158" y="0"/>
                  </a:lnTo>
                  <a:arcTo wR="107158" hR="107158" stAng="-5400000" swAng="5400000"/>
                  <a:lnTo>
                    <a:pt x="214316" y="107158"/>
                  </a:lnTo>
                  <a:arcTo wR="107158" hR="107158" stAng="0" swAng="5400000"/>
                  <a:lnTo>
                    <a:pt x="107158" y="214316"/>
                  </a:lnTo>
                  <a:arcTo wR="107158" hR="107158" stAng="5400000" swAng="5400000"/>
                  <a:close/>
                  <a:moveTo>
                    <a:pt x="53579" y="107158"/>
                  </a:moveTo>
                  <a:lnTo>
                    <a:pt x="53579" y="107158"/>
                  </a:lnTo>
                  <a:arcTo wR="53579" hR="53579" stAng="10800000" swAng="-5400000"/>
                  <a:lnTo>
                    <a:pt x="107158" y="160737"/>
                  </a:lnTo>
                  <a:arcTo wR="53579" hR="53579" stAng="5400000" swAng="-5400000"/>
                  <a:lnTo>
                    <a:pt x="160737" y="107158"/>
                  </a:lnTo>
                  <a:arcTo wR="53579" hR="53579" stAng="0" swAng="-5400000"/>
                  <a:lnTo>
                    <a:pt x="107158" y="53579"/>
                  </a:lnTo>
                  <a:arcTo wR="53579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Кольцо 30"/>
            <p:cNvSpPr/>
            <p:nvPr/>
          </p:nvSpPr>
          <p:spPr>
            <a:xfrm>
              <a:off x="614340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5">
                  <a:moveTo>
                    <a:pt x="0" y="107158"/>
                  </a:moveTo>
                  <a:lnTo>
                    <a:pt x="0" y="107158"/>
                  </a:lnTo>
                  <a:arcTo wR="107158" hR="107158" stAng="10800000" swAng="5400000"/>
                  <a:lnTo>
                    <a:pt x="107158" y="0"/>
                  </a:lnTo>
                  <a:arcTo wR="107158" hR="107158" stAng="-5400000" swAng="5400000"/>
                  <a:lnTo>
                    <a:pt x="214316" y="107158"/>
                  </a:lnTo>
                  <a:arcTo wR="107158" hR="107158" stAng="0" swAng="5400000"/>
                  <a:lnTo>
                    <a:pt x="107158" y="214316"/>
                  </a:lnTo>
                  <a:arcTo wR="107158" hR="107158" stAng="5400000" swAng="5400000"/>
                  <a:close/>
                  <a:moveTo>
                    <a:pt x="53579" y="107158"/>
                  </a:moveTo>
                  <a:lnTo>
                    <a:pt x="53579" y="107158"/>
                  </a:lnTo>
                  <a:arcTo wR="53579" hR="53579" stAng="10800000" swAng="-5400000"/>
                  <a:lnTo>
                    <a:pt x="107158" y="160737"/>
                  </a:lnTo>
                  <a:arcTo wR="53579" hR="53579" stAng="5400000" swAng="-5400000"/>
                  <a:lnTo>
                    <a:pt x="160737" y="107158"/>
                  </a:lnTo>
                  <a:arcTo wR="53579" hR="53579" stAng="0" swAng="-5400000"/>
                  <a:lnTo>
                    <a:pt x="107158" y="53579"/>
                  </a:lnTo>
                  <a:arcTo wR="53579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41"/>
          <p:cNvGrpSpPr/>
          <p:nvPr/>
        </p:nvGrpSpPr>
        <p:grpSpPr>
          <a:xfrm>
            <a:off x="4000320" y="1357200"/>
            <a:ext cx="1214280" cy="1500480"/>
            <a:chOff x="4000320" y="1357200"/>
            <a:chExt cx="1214280" cy="1500480"/>
          </a:xfrm>
        </p:grpSpPr>
        <p:sp>
          <p:nvSpPr>
            <p:cNvPr id="122" name="Трапеция 4"/>
            <p:cNvSpPr/>
            <p:nvPr/>
          </p:nvSpPr>
          <p:spPr>
            <a:xfrm rot="10800000">
              <a:off x="4000320" y="2286000"/>
              <a:ext cx="1214280" cy="57168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ый треугольник 13"/>
            <p:cNvSpPr/>
            <p:nvPr/>
          </p:nvSpPr>
          <p:spPr>
            <a:xfrm>
              <a:off x="4214880" y="135720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Кольцо 31"/>
            <p:cNvSpPr/>
            <p:nvPr/>
          </p:nvSpPr>
          <p:spPr>
            <a:xfrm>
              <a:off x="450072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5">
                  <a:moveTo>
                    <a:pt x="0" y="107158"/>
                  </a:moveTo>
                  <a:lnTo>
                    <a:pt x="0" y="107158"/>
                  </a:lnTo>
                  <a:arcTo wR="107157" hR="107158" stAng="10800000" swAng="5400000"/>
                  <a:lnTo>
                    <a:pt x="107157" y="0"/>
                  </a:lnTo>
                  <a:arcTo wR="107157" hR="107158" stAng="-5400000" swAng="5400000"/>
                  <a:lnTo>
                    <a:pt x="214314" y="107158"/>
                  </a:lnTo>
                  <a:arcTo wR="107157" hR="107158" stAng="0" swAng="5400000"/>
                  <a:lnTo>
                    <a:pt x="107157" y="214316"/>
                  </a:lnTo>
                  <a:arcTo wR="107157" hR="107158" stAng="5400000" swAng="5400000"/>
                  <a:close/>
                  <a:moveTo>
                    <a:pt x="53578" y="107158"/>
                  </a:moveTo>
                  <a:lnTo>
                    <a:pt x="53578" y="107158"/>
                  </a:lnTo>
                  <a:arcTo wR="53578" hR="53579" stAng="10800000" swAng="-5400000"/>
                  <a:lnTo>
                    <a:pt x="107156" y="160737"/>
                  </a:lnTo>
                  <a:arcTo wR="53578" hR="53579" stAng="5400000" swAng="-5400000"/>
                  <a:lnTo>
                    <a:pt x="160734" y="107158"/>
                  </a:lnTo>
                  <a:arcTo wR="53578" hR="53579" stAng="0" swAng="-5400000"/>
                  <a:lnTo>
                    <a:pt x="107156" y="53579"/>
                  </a:lnTo>
                  <a:arcTo wR="53578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Кольцо 32"/>
            <p:cNvSpPr/>
            <p:nvPr/>
          </p:nvSpPr>
          <p:spPr>
            <a:xfrm>
              <a:off x="421488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5">
                  <a:moveTo>
                    <a:pt x="0" y="107158"/>
                  </a:moveTo>
                  <a:lnTo>
                    <a:pt x="0" y="107158"/>
                  </a:lnTo>
                  <a:arcTo wR="107157" hR="107158" stAng="10800000" swAng="5400000"/>
                  <a:lnTo>
                    <a:pt x="107157" y="0"/>
                  </a:lnTo>
                  <a:arcTo wR="107157" hR="107158" stAng="-5400000" swAng="5400000"/>
                  <a:lnTo>
                    <a:pt x="214314" y="107158"/>
                  </a:lnTo>
                  <a:arcTo wR="107157" hR="107158" stAng="0" swAng="5400000"/>
                  <a:lnTo>
                    <a:pt x="107157" y="214316"/>
                  </a:lnTo>
                  <a:arcTo wR="107157" hR="107158" stAng="5400000" swAng="5400000"/>
                  <a:close/>
                  <a:moveTo>
                    <a:pt x="53578" y="107158"/>
                  </a:moveTo>
                  <a:lnTo>
                    <a:pt x="53578" y="107158"/>
                  </a:lnTo>
                  <a:arcTo wR="53578" hR="53579" stAng="10800000" swAng="-5400000"/>
                  <a:lnTo>
                    <a:pt x="107156" y="160737"/>
                  </a:lnTo>
                  <a:arcTo wR="53578" hR="53579" stAng="5400000" swAng="-5400000"/>
                  <a:lnTo>
                    <a:pt x="160734" y="107158"/>
                  </a:lnTo>
                  <a:arcTo wR="53578" hR="53579" stAng="0" swAng="-5400000"/>
                  <a:lnTo>
                    <a:pt x="107156" y="53579"/>
                  </a:lnTo>
                  <a:arcTo wR="53578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48"/>
          <p:cNvGrpSpPr/>
          <p:nvPr/>
        </p:nvGrpSpPr>
        <p:grpSpPr>
          <a:xfrm>
            <a:off x="6072120" y="4857840"/>
            <a:ext cx="1214640" cy="1499760"/>
            <a:chOff x="6072120" y="4857840"/>
            <a:chExt cx="1214640" cy="1499760"/>
          </a:xfrm>
        </p:grpSpPr>
        <p:sp>
          <p:nvSpPr>
            <p:cNvPr id="127" name="Трапеция 10"/>
            <p:cNvSpPr/>
            <p:nvPr/>
          </p:nvSpPr>
          <p:spPr>
            <a:xfrm rot="10800000">
              <a:off x="6072120" y="5786280"/>
              <a:ext cx="1214640" cy="571320"/>
            </a:xfrm>
            <a:custGeom>
              <a:avLst/>
              <a:gdLst>
                <a:gd name="textAreaLeft" fmla="*/ 95040 w 1214640"/>
                <a:gd name="textAreaRight" fmla="*/ 1119600 w 121464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ый треугольник 19"/>
            <p:cNvSpPr/>
            <p:nvPr/>
          </p:nvSpPr>
          <p:spPr>
            <a:xfrm>
              <a:off x="6286320" y="485784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Кольцо 33"/>
            <p:cNvSpPr/>
            <p:nvPr/>
          </p:nvSpPr>
          <p:spPr>
            <a:xfrm>
              <a:off x="650088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Кольцо 34"/>
            <p:cNvSpPr/>
            <p:nvPr/>
          </p:nvSpPr>
          <p:spPr>
            <a:xfrm>
              <a:off x="621504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47"/>
          <p:cNvGrpSpPr/>
          <p:nvPr/>
        </p:nvGrpSpPr>
        <p:grpSpPr>
          <a:xfrm>
            <a:off x="4071600" y="4857840"/>
            <a:ext cx="1214280" cy="1499760"/>
            <a:chOff x="4071600" y="4857840"/>
            <a:chExt cx="1214280" cy="1499760"/>
          </a:xfrm>
        </p:grpSpPr>
        <p:sp>
          <p:nvSpPr>
            <p:cNvPr id="132" name="Трапеция 7"/>
            <p:cNvSpPr/>
            <p:nvPr/>
          </p:nvSpPr>
          <p:spPr>
            <a:xfrm rot="10800000">
              <a:off x="4071600" y="5786280"/>
              <a:ext cx="1214280" cy="57132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оугольный треугольник 14"/>
            <p:cNvSpPr/>
            <p:nvPr/>
          </p:nvSpPr>
          <p:spPr>
            <a:xfrm>
              <a:off x="4286160" y="485784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Кольцо 35"/>
            <p:cNvSpPr/>
            <p:nvPr/>
          </p:nvSpPr>
          <p:spPr>
            <a:xfrm>
              <a:off x="435744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46"/>
          <p:cNvGrpSpPr/>
          <p:nvPr/>
        </p:nvGrpSpPr>
        <p:grpSpPr>
          <a:xfrm>
            <a:off x="1857240" y="4857840"/>
            <a:ext cx="1214640" cy="1499760"/>
            <a:chOff x="1857240" y="4857840"/>
            <a:chExt cx="1214640" cy="1499760"/>
          </a:xfrm>
        </p:grpSpPr>
        <p:sp>
          <p:nvSpPr>
            <p:cNvPr id="136" name="Трапеция 6"/>
            <p:cNvSpPr/>
            <p:nvPr/>
          </p:nvSpPr>
          <p:spPr>
            <a:xfrm rot="10800000">
              <a:off x="1857240" y="5786280"/>
              <a:ext cx="1214640" cy="571320"/>
            </a:xfrm>
            <a:custGeom>
              <a:avLst/>
              <a:gdLst>
                <a:gd name="textAreaLeft" fmla="*/ 95040 w 1214640"/>
                <a:gd name="textAreaRight" fmla="*/ 1119600 w 121464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оугольный треугольник 11"/>
            <p:cNvSpPr/>
            <p:nvPr/>
          </p:nvSpPr>
          <p:spPr>
            <a:xfrm>
              <a:off x="2071440" y="485784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Кольцо 36"/>
            <p:cNvSpPr/>
            <p:nvPr/>
          </p:nvSpPr>
          <p:spPr>
            <a:xfrm>
              <a:off x="264312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8" hR="53578" stAng="10800000" swAng="-5400000"/>
                  <a:lnTo>
                    <a:pt x="107156" y="160735"/>
                  </a:lnTo>
                  <a:arcTo wR="53578" hR="53578" stAng="5400000" swAng="-5400000"/>
                  <a:lnTo>
                    <a:pt x="160734" y="107157"/>
                  </a:lnTo>
                  <a:arcTo wR="53578" hR="53578" stAng="0" swAng="-5400000"/>
                  <a:lnTo>
                    <a:pt x="107156" y="53579"/>
                  </a:lnTo>
                  <a:arcTo wR="53578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Кольцо 37"/>
            <p:cNvSpPr/>
            <p:nvPr/>
          </p:nvSpPr>
          <p:spPr>
            <a:xfrm>
              <a:off x="235728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8" hR="53578" stAng="10800000" swAng="-5400000"/>
                  <a:lnTo>
                    <a:pt x="107156" y="160735"/>
                  </a:lnTo>
                  <a:arcTo wR="53578" hR="53578" stAng="5400000" swAng="-5400000"/>
                  <a:lnTo>
                    <a:pt x="160734" y="107157"/>
                  </a:lnTo>
                  <a:arcTo wR="53578" hR="53578" stAng="0" swAng="-5400000"/>
                  <a:lnTo>
                    <a:pt x="107156" y="53579"/>
                  </a:lnTo>
                  <a:arcTo wR="53578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Кольцо 38"/>
            <p:cNvSpPr/>
            <p:nvPr/>
          </p:nvSpPr>
          <p:spPr>
            <a:xfrm>
              <a:off x="207144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8" hR="53578" stAng="10800000" swAng="-5400000"/>
                  <a:lnTo>
                    <a:pt x="107156" y="160735"/>
                  </a:lnTo>
                  <a:arcTo wR="53578" hR="53578" stAng="5400000" swAng="-5400000"/>
                  <a:lnTo>
                    <a:pt x="160734" y="107157"/>
                  </a:lnTo>
                  <a:arcTo wR="53578" hR="53578" stAng="0" swAng="-5400000"/>
                  <a:lnTo>
                    <a:pt x="107156" y="53579"/>
                  </a:lnTo>
                  <a:arcTo wR="53578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45"/>
          <p:cNvGrpSpPr/>
          <p:nvPr/>
        </p:nvGrpSpPr>
        <p:grpSpPr>
          <a:xfrm>
            <a:off x="6000480" y="3143160"/>
            <a:ext cx="1214280" cy="1499760"/>
            <a:chOff x="6000480" y="3143160"/>
            <a:chExt cx="1214280" cy="1499760"/>
          </a:xfrm>
        </p:grpSpPr>
        <p:sp>
          <p:nvSpPr>
            <p:cNvPr id="142" name="Трапеция 9"/>
            <p:cNvSpPr/>
            <p:nvPr/>
          </p:nvSpPr>
          <p:spPr>
            <a:xfrm rot="10800000">
              <a:off x="6000480" y="4071600"/>
              <a:ext cx="1214280" cy="57132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оугольный треугольник 12"/>
            <p:cNvSpPr/>
            <p:nvPr/>
          </p:nvSpPr>
          <p:spPr>
            <a:xfrm>
              <a:off x="6215040" y="314316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Кольцо 39"/>
            <p:cNvSpPr/>
            <p:nvPr/>
          </p:nvSpPr>
          <p:spPr>
            <a:xfrm>
              <a:off x="621504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3">
                  <a:moveTo>
                    <a:pt x="0" y="107157"/>
                  </a:moveTo>
                  <a:lnTo>
                    <a:pt x="0" y="107157"/>
                  </a:lnTo>
                  <a:arcTo wR="107158" hR="107157" stAng="10800000" swAng="5400000"/>
                  <a:lnTo>
                    <a:pt x="107158" y="0"/>
                  </a:lnTo>
                  <a:arcTo wR="107158" hR="107157" stAng="-5400000" swAng="5400000"/>
                  <a:lnTo>
                    <a:pt x="214316" y="107157"/>
                  </a:lnTo>
                  <a:arcTo wR="107158" hR="107157" stAng="0" swAng="5400000"/>
                  <a:lnTo>
                    <a:pt x="107158" y="214314"/>
                  </a:lnTo>
                  <a:arcTo wR="107158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50"/>
          <p:cNvSpPr/>
          <p:nvPr/>
        </p:nvSpPr>
        <p:spPr>
          <a:xfrm>
            <a:off x="3286080" y="35712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Arial"/>
              </a:rPr>
              <a:t>Найди недостающие кора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Управляющая кнопка: назад 49"/>
          <p:cNvGrpSpPr/>
          <p:nvPr/>
        </p:nvGrpSpPr>
        <p:grpSpPr>
          <a:xfrm>
            <a:off x="365040" y="536400"/>
            <a:ext cx="903240" cy="536760"/>
            <a:chOff x="365040" y="536400"/>
            <a:chExt cx="903240" cy="536760"/>
          </a:xfrm>
        </p:grpSpPr>
        <p:pic>
          <p:nvPicPr>
            <p:cNvPr id="147" name="Управляющая кнопка: назад 49" descr=""/>
            <p:cNvPicPr/>
            <p:nvPr/>
          </p:nvPicPr>
          <p:blipFill>
            <a:blip r:embed="rId2"/>
            <a:stretch/>
          </p:blipFill>
          <p:spPr>
            <a:xfrm>
              <a:off x="365040" y="536400"/>
              <a:ext cx="9032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28760" y="571680"/>
              <a:ext cx="785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6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0a99f255f80c"/>
          <p:cNvPicPr/>
          <p:nvPr/>
        </p:nvPicPr>
        <p:blipFill>
          <a:blip r:embed="rId3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0a99f255f80c"/>
          <p:cNvPicPr/>
          <p:nvPr/>
        </p:nvPicPr>
        <p:blipFill>
          <a:blip r:embed="rId4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0a99f255f80c"/>
          <p:cNvPicPr/>
          <p:nvPr/>
        </p:nvPicPr>
        <p:blipFill>
          <a:blip r:embed="rId5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0a99f255f80c"/>
          <p:cNvPicPr/>
          <p:nvPr/>
        </p:nvPicPr>
        <p:blipFill>
          <a:blip r:embed="rId6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воробей"/>
          <p:cNvPicPr/>
          <p:nvPr/>
        </p:nvPicPr>
        <p:blipFill>
          <a:blip r:embed="rId7"/>
          <a:stretch/>
        </p:blipFill>
        <p:spPr>
          <a:xfrm>
            <a:off x="6804000" y="1125360"/>
            <a:ext cx="1071720" cy="966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воробей"/>
          <p:cNvPicPr/>
          <p:nvPr/>
        </p:nvPicPr>
        <p:blipFill>
          <a:blip r:embed="rId8"/>
          <a:stretch/>
        </p:blipFill>
        <p:spPr>
          <a:xfrm>
            <a:off x="6804000" y="2421000"/>
            <a:ext cx="857160" cy="77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воробей"/>
          <p:cNvPicPr/>
          <p:nvPr/>
        </p:nvPicPr>
        <p:blipFill>
          <a:blip r:embed="rId9"/>
          <a:stretch/>
        </p:blipFill>
        <p:spPr>
          <a:xfrm>
            <a:off x="5580000" y="595476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воробей"/>
          <p:cNvPicPr/>
          <p:nvPr/>
        </p:nvPicPr>
        <p:blipFill>
          <a:blip r:embed="rId10"/>
          <a:stretch/>
        </p:blipFill>
        <p:spPr>
          <a:xfrm>
            <a:off x="4716360" y="1052640"/>
            <a:ext cx="1000080" cy="95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воробей"/>
          <p:cNvPicPr/>
          <p:nvPr/>
        </p:nvPicPr>
        <p:blipFill>
          <a:blip r:embed="rId11"/>
          <a:stretch/>
        </p:blipFill>
        <p:spPr>
          <a:xfrm>
            <a:off x="2124000" y="595476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воробей"/>
          <p:cNvPicPr/>
          <p:nvPr/>
        </p:nvPicPr>
        <p:blipFill>
          <a:blip r:embed="rId12"/>
          <a:stretch/>
        </p:blipFill>
        <p:spPr>
          <a:xfrm>
            <a:off x="6156360" y="2997360"/>
            <a:ext cx="928800" cy="116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воробей"/>
          <p:cNvPicPr/>
          <p:nvPr/>
        </p:nvPicPr>
        <p:blipFill>
          <a:blip r:embed="rId13"/>
          <a:stretch/>
        </p:blipFill>
        <p:spPr>
          <a:xfrm>
            <a:off x="4643280" y="5786280"/>
            <a:ext cx="1000440" cy="1071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Admin\Мои документы\мама\Мои рисунки\анимации\anicat3.gif"/>
          <p:cNvPicPr/>
          <p:nvPr/>
        </p:nvPicPr>
        <p:blipFill>
          <a:blip r:embed="rId14"/>
          <a:stretch/>
        </p:blipFill>
        <p:spPr>
          <a:xfrm flipH="1">
            <a:off x="6983280" y="4365720"/>
            <a:ext cx="2160720" cy="1838160"/>
          </a:xfrm>
          <a:prstGeom prst="rect">
            <a:avLst/>
          </a:prstGeom>
          <a:ln w="0">
            <a:noFill/>
          </a:ln>
        </p:spPr>
      </p:pic>
      <p:pic>
        <p:nvPicPr>
          <p:cNvPr id="163" name="Кольцо 15" descr=""/>
          <p:cNvPicPr/>
          <p:nvPr/>
        </p:nvPicPr>
        <p:blipFill>
          <a:blip r:embed="rId15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64" name="Кольцо 16" descr=""/>
          <p:cNvPicPr/>
          <p:nvPr/>
        </p:nvPicPr>
        <p:blipFill>
          <a:blip r:embed="rId16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65" name="Кольцо 17" descr=""/>
          <p:cNvPicPr/>
          <p:nvPr/>
        </p:nvPicPr>
        <p:blipFill>
          <a:blip r:embed="rId17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-main-pic" descr="Картинка 4 из 818"/>
          <p:cNvPicPr/>
          <p:nvPr/>
        </p:nvPicPr>
        <p:blipFill>
          <a:blip r:embed="rId2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Calibri"/>
                <a:ea typeface="Arial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84807"/>
                </a:solidFill>
                <a:latin typeface="Calibri"/>
                <a:ea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84807"/>
                </a:solidFill>
                <a:latin typeface="Calibri"/>
                <a:ea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84807"/>
                </a:solidFill>
                <a:latin typeface="Calibri"/>
                <a:ea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700"/>
                            </p:stCondLst>
                            <p:childTnLst>
                              <p:par>
                                <p:cTn id="1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900"/>
                            </p:stCondLst>
                            <p:childTnLst>
                              <p:par>
                                <p:cTn id="1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4572000" y="500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айди правиль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14200" y="1117440"/>
          <a:ext cx="4572000" cy="5241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Box 3"/>
          <p:cNvSpPr/>
          <p:nvPr/>
        </p:nvSpPr>
        <p:spPr>
          <a:xfrm>
            <a:off x="357120" y="107172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428760" y="2357280"/>
            <a:ext cx="78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428760" y="364320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142920" y="500076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1571760" y="114300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1643040" y="2357280"/>
            <a:ext cx="6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1571760" y="371484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1714680" y="4929120"/>
            <a:ext cx="64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143920" y="128592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8143920" y="257184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8143920" y="392904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8143920" y="521496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Управляющая кнопка: назад 17"/>
          <p:cNvGrpSpPr/>
          <p:nvPr/>
        </p:nvGrpSpPr>
        <p:grpSpPr>
          <a:xfrm>
            <a:off x="365040" y="603360"/>
            <a:ext cx="762120" cy="542880"/>
            <a:chOff x="365040" y="603360"/>
            <a:chExt cx="762120" cy="542880"/>
          </a:xfrm>
        </p:grpSpPr>
        <p:pic>
          <p:nvPicPr>
            <p:cNvPr id="188" name="Управляющая кнопка: назад 17" descr=""/>
            <p:cNvPicPr/>
            <p:nvPr/>
          </p:nvPicPr>
          <p:blipFill>
            <a:blip r:embed="rId2"/>
            <a:stretch/>
          </p:blipFill>
          <p:spPr>
            <a:xfrm>
              <a:off x="365040" y="603360"/>
              <a:ext cx="762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28760" y="64296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0.00694 L -0.33108 0.15379 E">
                                      <p:cBhvr>
                                        <p:cTn id="20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208 L -0.33108 0.16582 E">
                                      <p:cBhvr>
                                        <p:cTn id="20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046 L -0.33108 0.16721 E">
                                      <p:cBhvr>
                                        <p:cTn id="21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76 0.01156 L -0.34688 -0.60754 E">
                                      <p:cBhvr>
                                        <p:cTn id="21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5572080" y="5000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Что больш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860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2862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Box 6"/>
          <p:cNvSpPr/>
          <p:nvPr/>
        </p:nvSpPr>
        <p:spPr>
          <a:xfrm>
            <a:off x="4214880" y="135720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4429080" y="250020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4572000" y="38577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4500720" y="507204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357120" y="1357200"/>
            <a:ext cx="10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Управляющая кнопка: назад 11"/>
          <p:cNvGrpSpPr/>
          <p:nvPr/>
        </p:nvGrpSpPr>
        <p:grpSpPr>
          <a:xfrm>
            <a:off x="298440" y="749160"/>
            <a:ext cx="755640" cy="463680"/>
            <a:chOff x="298440" y="749160"/>
            <a:chExt cx="755640" cy="463680"/>
          </a:xfrm>
        </p:grpSpPr>
        <p:pic>
          <p:nvPicPr>
            <p:cNvPr id="199" name="Управляющая кнопка: назад 11" descr=""/>
            <p:cNvPicPr/>
            <p:nvPr/>
          </p:nvPicPr>
          <p:blipFill>
            <a:blip r:embed="rId2"/>
            <a:stretch/>
          </p:blipFill>
          <p:spPr>
            <a:xfrm>
              <a:off x="298440" y="749160"/>
              <a:ext cx="7556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57120" y="785880"/>
              <a:ext cx="642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Администратор </cp:lastModifiedBy>
  <dcterms:modified xsi:type="dcterms:W3CDTF">2013-02-01T04:34:25Z</dcterms:modified>
  <cp:revision>37</cp:revision>
  <dc:subject/>
  <dc:title>Слайд 1</dc:title>
</cp:coreProperties>
</file>