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0832-2F04-445D-97BA-F279246422D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83DA-226C-4641-B822-02B9F9E96BFC}"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007142-18F6-4ED6-9796-26233B532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327E9B-8D31-478C-B5C7-D70A6D1D0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C76AB3-A15E-489E-BC1A-E22DA9A9F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5CB82D-D1AA-40B1-846F-A8EF20937D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30846-A9C8-4DA9-9719-B7A45D458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130DA-BF5E-44C1-A4C4-CBFE17CE7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95704-7349-485A-944C-512148250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2F46-ABBD-443D-97AF-0D04EF8AC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45963-4AF6-41D7-88BB-64D6C73BA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DA266-3333-4E60-A451-CCAD1C291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28B89-3860-4908-A91F-E6F4D981F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CCAA15-892D-472B-A740-60AD1AC4A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D164A-DAFB-4D13-B65B-26E6B04CB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CDDA-FC6E-4CB2-8321-CC12A24EC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6FB37-26A2-4343-85CD-C3709F653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F0AD5-B375-4AF7-8ECD-BF7243729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D9A7E-C6BC-45EC-9C21-88AA74B82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665546-4364-466F-9C65-CC2677D96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D5A5BF-2A63-4DE3-87E4-8BEC8B015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AA1A75-B6DE-4F9B-A0E6-57346A196E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9F55C2-BB86-47CD-A7B7-990CB2B32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BF9CAD-C47C-40F8-8C88-F70D31FF2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BFDEEF-C88F-4D18-B315-F6BA62BFB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7BB52-02C5-4822-97F1-C3653D31CF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7405-43F7-4110-BFDC-B93879A1872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1915-743F-48EF-B796-C93A3ECFA1F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1483920"/>
            <a:ext cx="6338880" cy="30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Презентация на тему</a:t>
            </a:r>
            <a:br>
              <a:rPr sz="4000"/>
            </a:br>
            <a:r>
              <a:rPr b="0" lang="ru-RU" sz="4000" spc="-1" strike="noStrike">
                <a:solidFill>
                  <a:srgbClr val="ffffff"/>
                </a:solidFill>
                <a:latin typeface="Arial"/>
              </a:rPr>
              <a:t>«Рефлекторный уровень организации движений»</a:t>
            </a:r>
            <a:endParaRPr b="0" lang="en-US" sz="4000" spc="-1" strike="noStrike">
              <a:solidFill>
                <a:srgbClr val="000000"/>
              </a:solidFill>
              <a:latin typeface="Arial"/>
            </a:endParaRPr>
          </a:p>
        </p:txBody>
      </p:sp>
      <p:sp>
        <p:nvSpPr>
          <p:cNvPr id="114" name="PlaceHolder 2"/>
          <p:cNvSpPr>
            <a:spLocks noGrp="1"/>
          </p:cNvSpPr>
          <p:nvPr>
            <p:ph type="subTitle"/>
          </p:nvPr>
        </p:nvSpPr>
        <p:spPr>
          <a:xfrm>
            <a:off x="1979640" y="4267080"/>
            <a:ext cx="7012080" cy="2330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дготовила логопед Филиппова Т. Н.</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Прямоугольник 1"/>
          <p:cNvSpPr/>
          <p:nvPr/>
        </p:nvSpPr>
        <p:spPr>
          <a:xfrm>
            <a:off x="395280" y="404640"/>
            <a:ext cx="4032360" cy="5884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ea typeface="Calibri"/>
              </a:rPr>
              <a:t>Для тех, у кого дети пропускают этап ползания</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читается, что если ребенок встал, то все - этап ползания он уже пропустил, и на пол его уже никак не затащишь.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Это не совсем верно. При умелом подходе и терпении заставить поползать можно даже уже шагающего малыша. Можно попробовать организовать малышу пространство без опоры. Это не значит, что его надо оттаскивать от диванов и прочей мебели насильно.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0000"/>
                </a:solidFill>
                <a:latin typeface="Arial"/>
                <a:ea typeface="Calibri"/>
              </a:rPr>
              <a:t>Попробуйте завлекать его игрушками и играми на другом конце комнаты, куда предстоит доползти.</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Calibri"/>
              </a:rPr>
              <a:t> </a:t>
            </a:r>
            <a:r>
              <a:rPr b="0" lang="ru-RU" sz="1400" spc="-1" strike="noStrike">
                <a:solidFill>
                  <a:srgbClr val="000000"/>
                </a:solidFill>
                <a:latin typeface="Arial"/>
                <a:ea typeface="Calibri"/>
              </a:rPr>
              <a:t>Если место в квартире не позволяет, то как вариант, можно почаще бывать на природе и брать с собой большой плед. Спускайтесь на пол вместе с малышом как можно чаще. Вообще переместите все свои дела на пол на какое-то время.</a:t>
            </a:r>
            <a:endParaRPr b="0" lang="en-US" sz="1400" spc="-1" strike="noStrike">
              <a:solidFill>
                <a:srgbClr val="000000"/>
              </a:solidFill>
              <a:latin typeface="Comic Sans MS"/>
            </a:endParaRPr>
          </a:p>
        </p:txBody>
      </p:sp>
      <p:pic>
        <p:nvPicPr>
          <p:cNvPr id="127" name="Picture 2" descr=""/>
          <p:cNvPicPr/>
          <p:nvPr/>
        </p:nvPicPr>
        <p:blipFill>
          <a:blip r:embed="rId1"/>
          <a:stretch/>
        </p:blipFill>
        <p:spPr>
          <a:xfrm>
            <a:off x="4859280" y="404640"/>
            <a:ext cx="4105440" cy="50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Полезные виды спорта</a:t>
            </a:r>
            <a:endParaRPr b="0" lang="en-US" sz="2800" spc="-1" strike="noStrike">
              <a:solidFill>
                <a:srgbClr val="000000"/>
              </a:solidFill>
              <a:latin typeface="Arial"/>
            </a:endParaRPr>
          </a:p>
        </p:txBody>
      </p:sp>
      <p:sp>
        <p:nvSpPr>
          <p:cNvPr id="129" name=""/>
          <p:cNvSpPr txBox="1"/>
          <p:nvPr/>
        </p:nvSpPr>
        <p:spPr>
          <a:xfrm>
            <a:off x="395280" y="1220760"/>
            <a:ext cx="8291520" cy="544824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ff"/>
                </a:solidFill>
                <a:latin typeface="Arial"/>
              </a:rPr>
              <a:t>Плавание</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ff"/>
                </a:solidFill>
                <a:latin typeface="Arial"/>
              </a:rPr>
              <a:t>Спортивная ходьб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ff"/>
                </a:solidFill>
                <a:latin typeface="Arial"/>
              </a:rPr>
              <a:t>Лыжи</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не парадоксально, но есть и вредные виды спорта. И перед тем как выбрать для своего ребенка спортивную секцию уместно будет консультация невролога, ортопеда или просто опытного педиатр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е виды спорта как бег, профессиональная борьба, горные лыжи, верховая езда, теннис  имеют ряд особенностей воздействия на позвоночник, которые приводят к негативным последствиям и могут сильно навредить развивающемуся организму.</a:t>
            </a:r>
            <a:endParaRPr b="0" lang="en-US" sz="1800" spc="-1" strike="noStrike">
              <a:solidFill>
                <a:srgbClr val="000000"/>
              </a:solidFill>
              <a:latin typeface="Arial"/>
            </a:endParaRPr>
          </a:p>
        </p:txBody>
      </p:sp>
      <p:pic>
        <p:nvPicPr>
          <p:cNvPr id="130" name="Picture 2" descr=""/>
          <p:cNvPicPr/>
          <p:nvPr/>
        </p:nvPicPr>
        <p:blipFill>
          <a:blip r:embed="rId1"/>
          <a:stretch/>
        </p:blipFill>
        <p:spPr>
          <a:xfrm>
            <a:off x="4932360" y="1220760"/>
            <a:ext cx="3456000" cy="233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Прямоугольник 1"/>
          <p:cNvSpPr/>
          <p:nvPr/>
        </p:nvSpPr>
        <p:spPr>
          <a:xfrm>
            <a:off x="635040" y="3836880"/>
            <a:ext cx="832968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818ff"/>
                </a:solidFill>
                <a:latin typeface="Arial"/>
                <a:ea typeface="Arial"/>
              </a:rPr>
              <a:t> </a:t>
            </a:r>
            <a:r>
              <a:rPr b="0" lang="ru-RU" sz="2800" spc="-1" strike="noStrike">
                <a:solidFill>
                  <a:srgbClr val="1818ff"/>
                </a:solidFill>
                <a:latin typeface="Arial"/>
                <a:ea typeface="Arial"/>
              </a:rPr>
              <a:t>Занимайтесь спортом всей семьей!</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32" name="Picture 3" descr=""/>
          <p:cNvPicPr/>
          <p:nvPr/>
        </p:nvPicPr>
        <p:blipFill>
          <a:blip r:embed="rId1"/>
          <a:stretch/>
        </p:blipFill>
        <p:spPr>
          <a:xfrm>
            <a:off x="1908000" y="1246320"/>
            <a:ext cx="5648400" cy="3574800"/>
          </a:xfrm>
          <a:prstGeom prst="rect">
            <a:avLst/>
          </a:prstGeom>
          <a:ln w="0">
            <a:noFill/>
          </a:ln>
        </p:spPr>
      </p:pic>
      <p:pic>
        <p:nvPicPr>
          <p:cNvPr id="133" name="Picture 4" descr=""/>
          <p:cNvPicPr/>
          <p:nvPr/>
        </p:nvPicPr>
        <p:blipFill>
          <a:blip r:embed="rId2"/>
          <a:stretch/>
        </p:blipFill>
        <p:spPr>
          <a:xfrm>
            <a:off x="2268360" y="476280"/>
            <a:ext cx="4391280" cy="7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20640"/>
            <a:ext cx="8229600" cy="720720"/>
          </a:xfrm>
          <a:prstGeom prst="rect">
            <a:avLst/>
          </a:prstGeom>
          <a:noFill/>
          <a:ln w="0">
            <a:noFill/>
          </a:ln>
        </p:spPr>
        <p:txBody>
          <a:bodyPr anchor="ctr">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ГАТЕЛЬНОЕ РАЗВИТИЕ РЕБЕНКА </a:t>
            </a:r>
            <a:br>
              <a:rPr sz="1800"/>
            </a:br>
            <a:endParaRPr b="0" lang="en-US" sz="1800" spc="-1" strike="noStrike">
              <a:solidFill>
                <a:srgbClr val="000000"/>
              </a:solidFill>
              <a:latin typeface="Arial"/>
            </a:endParaRPr>
          </a:p>
        </p:txBody>
      </p:sp>
      <p:sp>
        <p:nvSpPr>
          <p:cNvPr id="116" name=""/>
          <p:cNvSpPr txBox="1"/>
          <p:nvPr/>
        </p:nvSpPr>
        <p:spPr>
          <a:xfrm>
            <a:off x="457200" y="1196640"/>
            <a:ext cx="8362800" cy="5545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ейчас всё реже и реже можно встретить детей, у которых в младенчестве двигательное развитие проходит в правильной последовательности.</a:t>
            </a:r>
            <a:endParaRPr b="0" lang="en-US" sz="1600" spc="-1" strike="noStrike">
              <a:solidFill>
                <a:srgbClr val="000000"/>
              </a:solidFill>
              <a:latin typeface="Arial"/>
            </a:endParaRPr>
          </a:p>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600" spc="-1" strike="noStrike">
                <a:solidFill>
                  <a:srgbClr val="000000"/>
                </a:solidFill>
                <a:latin typeface="Arial"/>
              </a:rPr>
              <a:t>В норме оно должно быть таким: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 Рождение ребёнка. Ребёнок проходит родовые пут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Ребёнок лежит на спине.</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 Поворачивается на один бок, на другой, на живо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Ползает по-пластунски.</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Поднимает руки, упираетс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 Поднимает голову и охватывает пространств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7. Садитс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 Ползает на четвереньках.</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9. Встаёт, сначала с помощью рук, потом бе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0. Начинает ходить сначала с помощью взрослого, а затем самостоятельн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72"/>
                </a:solidFill>
                <a:latin typeface="Arial"/>
              </a:rPr>
              <a:t>Если ребёнок развивается, не нарушая этой последовательности, то правильно пройденные этапы двигательного развития запускают ряд важнейших рефлексов. Кроме того, позволяют ребёнку без искажений воспринимать пространственную сферу.</a:t>
            </a:r>
            <a:endParaRPr b="0" lang="en-US" sz="1400" spc="-1" strike="noStrike">
              <a:solidFill>
                <a:srgbClr val="000000"/>
              </a:solidFill>
              <a:latin typeface="Arial"/>
            </a:endParaRPr>
          </a:p>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1"/>
          <p:cNvSpPr/>
          <p:nvPr/>
        </p:nvSpPr>
        <p:spPr>
          <a:xfrm>
            <a:off x="324000" y="549360"/>
            <a:ext cx="4679640" cy="521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бёнок осваивает пространство - сначала пространство собственного тела – ползает, двигается. И не только «право-лево, верх-низ», а пространство, как ту среду, которая его окружает. Лёжа на спине, ребёнок видит потолок. Глазами может оценивать горизонталь. Лежит на животе и, поднимая (опуская) взгляд вверх - вниз способен оценивать вертикаль. При этом голова теперь совершает движения изолированно от тела, а не вместе с ним.</a:t>
            </a: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гда ребенок садится, руки у него свободны, и он начинает манипулировать предметами.</a:t>
            </a: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Далее прорыв в освоении пространства - перевороты вокруг своей оси через постепенное вставание на четвереньки к долгожданному перемещению.</a:t>
            </a:r>
            <a:endParaRPr b="0" lang="en-US" sz="1600" spc="-1" strike="noStrike">
              <a:solidFill>
                <a:srgbClr val="000000"/>
              </a:solidFill>
              <a:latin typeface="Comic Sans MS"/>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18" name="Picture 3" descr=""/>
          <p:cNvPicPr/>
          <p:nvPr/>
        </p:nvPicPr>
        <p:blipFill>
          <a:blip r:embed="rId1"/>
          <a:stretch/>
        </p:blipFill>
        <p:spPr>
          <a:xfrm>
            <a:off x="4932360" y="549360"/>
            <a:ext cx="4211640" cy="352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826920" y="3933720"/>
            <a:ext cx="7993080" cy="2301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Ползание, помимо общей стимуляции моторных зон (участков коры, отвечающих за регуляцию движений) также способствует улучшению межполушарного взаимодействия - ведь оно требует согласованного движения перекрестных рук и ног (правая рука - левая нога), которые регулируются противоположными полушариями. Это способствует развитию ассоциативных связей мозга, создает возможность для более полного раскрытия его потенциала.</a:t>
            </a:r>
            <a:endParaRPr b="0" lang="en-US" sz="1800" spc="-1" strike="noStrike">
              <a:solidFill>
                <a:srgbClr val="000000"/>
              </a:solidFill>
              <a:latin typeface="Comic Sans MS"/>
            </a:endParaRPr>
          </a:p>
        </p:txBody>
      </p:sp>
      <p:pic>
        <p:nvPicPr>
          <p:cNvPr id="120" name="Picture 2" descr=""/>
          <p:cNvPicPr/>
          <p:nvPr/>
        </p:nvPicPr>
        <p:blipFill>
          <a:blip r:embed="rId1"/>
          <a:stretch/>
        </p:blipFill>
        <p:spPr>
          <a:xfrm>
            <a:off x="4470480" y="549360"/>
            <a:ext cx="4205160" cy="28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1"/>
          <p:cNvSpPr/>
          <p:nvPr/>
        </p:nvSpPr>
        <p:spPr>
          <a:xfrm>
            <a:off x="395280" y="404640"/>
            <a:ext cx="8424720" cy="5870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Также совершенствуется </a:t>
            </a:r>
            <a:r>
              <a:rPr b="1" i="1" lang="ru-RU" sz="1400" spc="-1" strike="noStrike">
                <a:solidFill>
                  <a:srgbClr val="000000"/>
                </a:solidFill>
                <a:latin typeface="Arial"/>
                <a:ea typeface="Calibri"/>
              </a:rPr>
              <a:t>зрительное восприятие </a:t>
            </a:r>
            <a:r>
              <a:rPr b="0" lang="ru-RU" sz="1400" spc="-1" strike="noStrike">
                <a:solidFill>
                  <a:srgbClr val="000000"/>
                </a:solidFill>
                <a:latin typeface="Arial"/>
                <a:ea typeface="Calibri"/>
              </a:rPr>
              <a:t>- у ребёнка появляется необходимость использовать одновременно оба глаза, и он начинает сводить их вместе. Если же пропустить этот важный этап физического развития, будет пропущен и важный этап развития мозга. Благодаря ползанию развивается </a:t>
            </a:r>
            <a:r>
              <a:rPr b="1" i="1" lang="ru-RU" sz="1400" spc="-1" strike="noStrike">
                <a:solidFill>
                  <a:srgbClr val="000000"/>
                </a:solidFill>
                <a:latin typeface="Arial"/>
                <a:ea typeface="Calibri"/>
              </a:rPr>
              <a:t>тактильная чувствительность</a:t>
            </a:r>
            <a:r>
              <a:rPr b="0" lang="ru-RU" sz="1400" spc="-1" strike="noStrike">
                <a:solidFill>
                  <a:srgbClr val="000000"/>
                </a:solidFill>
                <a:latin typeface="Arial"/>
                <a:ea typeface="Calibri"/>
              </a:rPr>
              <a:t>. С помощью информации от проприорецепторов, формируются пространственные </a:t>
            </a:r>
            <a:r>
              <a:rPr b="1" i="1" lang="ru-RU" sz="1400" spc="-1" strike="noStrike">
                <a:solidFill>
                  <a:srgbClr val="000000"/>
                </a:solidFill>
                <a:latin typeface="Arial"/>
                <a:ea typeface="Calibri"/>
              </a:rPr>
              <a:t>представления о собственном теле </a:t>
            </a:r>
            <a:r>
              <a:rPr b="0" lang="ru-RU" sz="1400" spc="-1" strike="noStrike">
                <a:solidFill>
                  <a:srgbClr val="000000"/>
                </a:solidFill>
                <a:latin typeface="Arial"/>
                <a:ea typeface="Calibri"/>
              </a:rPr>
              <a:t>(схема тела).</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Таким образом последовательно формируются представления о взаимоотношении внешних объектов и тела, и их соотношений между собой. А значит также формируется </a:t>
            </a:r>
            <a:r>
              <a:rPr b="1" i="1" lang="ru-RU" sz="1400" spc="-1" strike="noStrike">
                <a:solidFill>
                  <a:srgbClr val="000000"/>
                </a:solidFill>
                <a:latin typeface="Arial"/>
                <a:ea typeface="Calibri"/>
              </a:rPr>
              <a:t>возможность обозначения</a:t>
            </a:r>
            <a:r>
              <a:rPr b="0" lang="ru-RU" sz="1400" spc="-1" strike="noStrike">
                <a:solidFill>
                  <a:srgbClr val="000000"/>
                </a:solidFill>
                <a:latin typeface="Arial"/>
                <a:ea typeface="Calibri"/>
              </a:rPr>
              <a:t> этих соотношений </a:t>
            </a:r>
            <a:r>
              <a:rPr b="1" i="1" lang="ru-RU" sz="1400" spc="-1" strike="noStrike">
                <a:solidFill>
                  <a:srgbClr val="000000"/>
                </a:solidFill>
                <a:latin typeface="Arial"/>
                <a:ea typeface="Calibri"/>
              </a:rPr>
              <a:t>словами</a:t>
            </a:r>
            <a:r>
              <a:rPr b="0" lang="ru-RU" sz="1400" spc="-1" strike="noStrike">
                <a:solidFill>
                  <a:srgbClr val="000000"/>
                </a:solidFill>
                <a:latin typeface="Arial"/>
                <a:ea typeface="Calibri"/>
              </a:rPr>
              <a:t>, понимание и употребление предлогов и слов, правильное восприятие сложных речевых конструкций - пространственно-временных, причинно-следственных.</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Ориентация в пространстве закладывается, прежде всего, на этапе ползания. Так что благодаря этому способу передвижения, </a:t>
            </a:r>
            <a:r>
              <a:rPr b="1" i="1" lang="ru-RU" sz="1400" spc="-1" strike="noStrike">
                <a:solidFill>
                  <a:srgbClr val="000000"/>
                </a:solidFill>
                <a:latin typeface="Arial"/>
                <a:ea typeface="Calibri"/>
              </a:rPr>
              <a:t>формируются предпосылки </a:t>
            </a:r>
            <a:r>
              <a:rPr b="0" lang="ru-RU" sz="1400" spc="-1" strike="noStrike">
                <a:solidFill>
                  <a:srgbClr val="000000"/>
                </a:solidFill>
                <a:latin typeface="Arial"/>
                <a:ea typeface="Calibri"/>
              </a:rPr>
              <a:t>для </a:t>
            </a:r>
            <a:r>
              <a:rPr b="1" i="1" lang="ru-RU" sz="1400" spc="-1" strike="noStrike">
                <a:solidFill>
                  <a:srgbClr val="000000"/>
                </a:solidFill>
                <a:latin typeface="Arial"/>
                <a:ea typeface="Calibri"/>
              </a:rPr>
              <a:t>освоения грамматики </a:t>
            </a:r>
            <a:r>
              <a:rPr b="0" lang="ru-RU" sz="1400" spc="-1" strike="noStrike">
                <a:solidFill>
                  <a:srgbClr val="000000"/>
                </a:solidFill>
                <a:latin typeface="Arial"/>
                <a:ea typeface="Calibri"/>
              </a:rPr>
              <a:t>родного языка. Ползание также </a:t>
            </a:r>
            <a:r>
              <a:rPr b="1" i="1" lang="ru-RU" sz="1400" spc="-1" strike="noStrike">
                <a:solidFill>
                  <a:srgbClr val="000000"/>
                </a:solidFill>
                <a:latin typeface="Arial"/>
                <a:ea typeface="Calibri"/>
              </a:rPr>
              <a:t>является профилактикой проблем с чтением и письмом</a:t>
            </a:r>
            <a:r>
              <a:rPr b="0" lang="ru-RU" sz="1400" spc="-1" strike="noStrike">
                <a:solidFill>
                  <a:srgbClr val="000000"/>
                </a:solidFill>
                <a:latin typeface="Arial"/>
                <a:ea typeface="Calibri"/>
              </a:rPr>
              <a:t>. Если недостаточно развита координация движений, работа каждого полушария в отдельности и межполушарное взаимодействие, у младшего школьника возможны проблемы при письме (ребенок пишет буквы в их зеркальном отражении). У него будет грязь в тетрадках, плохой почерк. </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Многие дети, имеющие дизлексию и дисграфию, пропустили стадию ползания.</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539640" y="907920"/>
            <a:ext cx="8425080" cy="5297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Если развитие ребёнка происходило с искажением, пространственные связи им были освоены не в полной мере, то и восприятие пространства будет искажено, что ,мы и наблюдаем, к сожалению, у большинства наших детей. </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Начинается это искажение на самом раннем этапе, этапе рождения. А у некоторых детей и внутриутробно. Целые схемы, которые должны были запуститься, не запускаются. Ребёнок долго лежит на спине, не поворачивается. Затем он как-то очень быстро повернулся, сразу сел. Потом через очень короткое время встал. Мало поползал и по-пластунски, и на четвереньках. Получается, что некоторые этапы ребёнок просто не проходит, он их игнорирует. </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Родители радуются, как он всё быстро делает. А у ребёнка при этом имеется тоническое напряжение – гипер- или гипотонус, он ходит на мысочках. </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Ребёнок всё время стремится сбросить это напряжение, но оно сохраняется у него до 8, 9 и даже до 12 лет. А в некоторых случаях и до более позднего возраста.</a:t>
            </a:r>
            <a:endParaRPr b="0" lang="en-US" sz="16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324000" y="404640"/>
            <a:ext cx="8820000" cy="5978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Такой ребёнок очень травматичен. При копировании специально разработанных геометрических фигур, ребёнок также странным образом будет всё искажать. Некоторые рисунки даже невозможно узнать. Например, он может переворачивать рисунок на 90 градусов. Эта же фигура может быть перевёрнута и на 180 градусов. Могут быть слепки из частей фигуры, фрагментарность так называемая хаотичность восприятия. Ребенком может игнорироваться левая сторона поля, часты структурно-топологические ошибки. И если ребёнок так воспринимает, так считывает окружающий мир, так его «видит», то он такой мир искажает.</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Поэтому у такого ребёнка могут быть, например, дисграфии - в 6 -7 лет он пишет → «б», «д», «р» – не в ту сторону. Зная, как ребёнок прошёл своё двигательное развитие, можно предполагать какие проблемы его ждут дальше. И если на это не обращать внимания, возникает целый ряд феноменов. Искажается двигательная сфера - искажается и речевое развитие (речь очень тесно связана с движением - наш мозг устроен таким образом, что речевые и двигательные зоны находятся рядом). Поэтому логопеды очень много работают с пальчиковой гимнастикой так как через движение идёт воздействие и на речевые зоны.</a:t>
            </a:r>
            <a:endParaRPr b="0" lang="en-US" sz="14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Если двигательное развитие искажено, ребёнок может не говорить до 3-х лет, или говорить односложные слова, фразовой речи у него нет. Может быть дизартрия (ребёнок не произносит и половины звуков, говорит непонятно, невнятно - «каша во рту»), что уже нехарактерно для его биологического возраста. Таким образом, можно видеть целый ряд проблем, когда из одного следует другое. Если у ребёнка двигательная сфера дефицитарна, речевая сфера дефицитарна, то и эмоциональная сфера тоже будет страдать. А если ребёнок расторможен – у него могут быть неадекватные отношения со сверстниками, с родителями. Если ребёнок слабый, то это может вызвать гиперопеку со стороны родителей, и ребёнок может стать капризным, и плаксивым. Проблемы будут нарастать, и уже к 9 – 10 годам этот клубок бывает очень сложно распутать.</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1"/>
          <p:cNvSpPr/>
          <p:nvPr/>
        </p:nvSpPr>
        <p:spPr>
          <a:xfrm>
            <a:off x="395280" y="404640"/>
            <a:ext cx="8640720" cy="5709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Существует огромная взаимосвязь между ползанием и возможностью фокусироваться на ближайшей точке. </a:t>
            </a:r>
            <a:r>
              <a:rPr b="0" i="1" lang="ru-RU" sz="1800" spc="-1" strike="noStrike" u="sng">
                <a:solidFill>
                  <a:srgbClr val="000000"/>
                </a:solidFill>
                <a:uFillTx/>
                <a:latin typeface="Arial"/>
                <a:ea typeface="Calibri"/>
              </a:rPr>
              <a:t>Ближнее зрение </a:t>
            </a:r>
            <a:r>
              <a:rPr b="0" lang="ru-RU" sz="1800" spc="-1" strike="noStrike">
                <a:solidFill>
                  <a:srgbClr val="000000"/>
                </a:solidFill>
                <a:latin typeface="Arial"/>
                <a:ea typeface="Calibri"/>
              </a:rPr>
              <a:t>очень важно для развития способностей малыша, именно оно позволяет сфокусировать взгляд на собственных руках, а потому у человека появляется способность творить: писать, лепить, рисовать.</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Помимо этого, во время ползания разрабатываются суставы пальцев и запястий, благодаря чему ребенок значительно лучше впоследствии управляет своими руками, </a:t>
            </a:r>
            <a:r>
              <a:rPr b="1" i="1" lang="ru-RU" sz="1800" spc="-1" strike="noStrike">
                <a:solidFill>
                  <a:srgbClr val="000000"/>
                </a:solidFill>
                <a:latin typeface="Arial"/>
                <a:ea typeface="Calibri"/>
              </a:rPr>
              <a:t>лучше развивается мелкая моторика</a:t>
            </a:r>
            <a:r>
              <a:rPr b="0" lang="ru-RU" sz="1800" spc="-1" strike="noStrike">
                <a:solidFill>
                  <a:srgbClr val="000000"/>
                </a:solidFill>
                <a:latin typeface="Arial"/>
                <a:ea typeface="Calibri"/>
              </a:rPr>
              <a:t>, координация.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Для примера можно привести современные племена, в культуре которых отсутствуют полы, а потому дети не имеют возможности ползать, так как ползать по земле слишком опасно. В этих племенах вырастают прекрасные стрелки, так как у них развито </a:t>
            </a:r>
            <a:r>
              <a:rPr b="0" i="1" lang="ru-RU" sz="1800" spc="-1" strike="noStrike" u="sng">
                <a:solidFill>
                  <a:srgbClr val="000000"/>
                </a:solidFill>
                <a:uFillTx/>
                <a:latin typeface="Arial"/>
                <a:ea typeface="Calibri"/>
              </a:rPr>
              <a:t>дальнее зрение</a:t>
            </a:r>
            <a:r>
              <a:rPr b="0" lang="ru-RU" sz="1800" spc="-1" strike="noStrike">
                <a:solidFill>
                  <a:srgbClr val="000000"/>
                </a:solidFill>
                <a:latin typeface="Arial"/>
                <a:ea typeface="Calibri"/>
              </a:rPr>
              <a:t>, но они совершенно не способны ничего создавать. И, напротив, в любой культуре, где полы присутствовали, будь то Древняя Греция или Древний Рим, Египет, племена Инков, создавались великолепные произведения искусства, существовала письменность, медицина, проводились операции на мозге.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395280" y="404640"/>
            <a:ext cx="8640720" cy="533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Также огромным стимулом к развитию моторики и сенсорных ощущений является ползание по разным поверхностям. Чем больше тактильных ощущений на коньчиках пальцев получит малыш, тем больше способностей он сможет развить.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72"/>
                </a:solidFill>
                <a:latin typeface="Arial"/>
                <a:ea typeface="Calibri"/>
              </a:rPr>
              <a:t>Кстати, мелкая моторика - это не просто способность к письменности и творчеству. Научно доказано, что нервные окончания на кончиках пальцев напрямую связаны с речевым аппаратом ребенка. Поэтому, чем активнее стимулируются ручки малыша, тем лучше он будет говорить.</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Comic Sans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Еще один из моментов, почему ребенок должен обязательно пройти через этап ползания. Ползание - это вид </a:t>
            </a:r>
            <a:r>
              <a:rPr b="1" lang="ru-RU" sz="1800" spc="-1" strike="noStrike">
                <a:solidFill>
                  <a:srgbClr val="000000"/>
                </a:solidFill>
                <a:latin typeface="Arial"/>
                <a:ea typeface="Calibri"/>
              </a:rPr>
              <a:t>перекрестного движения рук и ног</a:t>
            </a:r>
            <a:r>
              <a:rPr b="0" lang="ru-RU" sz="1800" spc="-1" strike="noStrike">
                <a:solidFill>
                  <a:srgbClr val="000000"/>
                </a:solidFill>
                <a:latin typeface="Arial"/>
                <a:ea typeface="Calibri"/>
              </a:rPr>
              <a:t>. Когда мы двигаемся, то за левую часть тела отвечает правая половина мозга, а за правую - левая. При перекрестном движении взаимосвязь между полушариями укрепляется, и, соответственно, развивается мозг в цело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54:54Z</dcterms:created>
  <dc:creator>Recovery</dc:creator>
  <dc:description/>
  <dc:language>en-US</dc:language>
  <cp:lastModifiedBy>Lenovo</cp:lastModifiedBy>
  <dcterms:modified xsi:type="dcterms:W3CDTF">2014-01-29T04:49:31Z</dcterms:modified>
  <cp:revision>55</cp:revision>
  <dc:subject/>
  <dc:title>Презентация на тему «Человеский мозг»</dc:title>
</cp:coreProperties>
</file>