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189-3FEB-43A9-96E0-A96A07063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08E6-75EB-4194-9D96-1417B5DAC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0FA8-D796-4171-B968-2D4275E3A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4CC3-9D85-4A23-8A8C-9A6935785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218-888D-4D1C-9CF8-9AD57E09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6EA-4A58-4B37-A67D-ED14D8C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CB6-B7BA-43F4-94A8-D88BBAC3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A80-F17A-495D-AC87-855BAA1D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DCA5-C8C8-4BAF-BAF9-43C10F47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B617-B5EB-4E3A-A819-E11C73FB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758-F084-4B07-B2AB-4E1B55F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3A9-9116-411C-90FC-6AF1706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650-60A3-4941-9BEC-E4BD4AD9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9D2-F2E4-4A4B-AB38-826900EC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0A9-F85C-4E6C-BA49-F3CC9570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734-FC4D-4FB9-B658-6887C1F1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CF6-8054-44C7-A647-69E8E7A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66BA-412F-4101-8E21-F929AA3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17C0-410D-43F7-B2A4-784E106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15DC-C410-4C85-82F7-3D6574F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99AB-E261-47B7-BDA9-772F51CA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4F5F-529F-4AA3-A9AF-EFDB0154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480B-C5C5-4DE0-9856-C001DF5D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958B-29DF-4AE4-BC2F-42ED0399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FD0F-F9D4-47A3-9126-6E7E937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BFB3-C2EC-4ADB-845F-10EE38F0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3EB-BD3B-4320-A7A9-35DF81F5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8673-EA0B-4BA3-B390-370F94E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F76D-4543-4415-B5DC-EC22A4E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3C05-4587-4742-8620-281B5BF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DD7F-D301-4E53-8C10-ED3DF80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9D05-1F57-43BF-954A-BCC720F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EBFF-6D0B-4D43-9FDF-22C42D45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6310-6DBD-4A58-9EFE-1D81902A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D58B-5762-4869-83E8-C0998C07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10B3-25AA-40E7-B0BE-7796D4DD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BEC9-F1AF-4C51-AA88-0CFFCCE4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AA2-7866-4846-8852-7143C483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CAA87-5710-4B66-BED2-93C57536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4664-66FD-44E0-AB10-8146EB63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9F38-CCBB-402B-B6C1-FACF6FB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2EF6-2056-4ACF-96F1-2DA5D94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7C2B-C335-4A1F-8285-30FC593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388E-F06A-4DFF-93C0-6ACC987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58FD-61A6-4985-A6EF-B45272C8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F076-213D-4B9D-A6AC-0FAF1CB1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CEF7D-BE99-46A7-9FCB-686FAEC3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7D9-35FC-48AC-92E1-05B26F3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6D5-C501-4257-8995-7787B8F1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185-989A-4C88-A616-8C1DD87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837-5323-4BC8-B3E0-8B930BC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8AC-9D2F-4890-91C2-8834686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7B4C-59F8-476E-ABD3-C19180BE75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C18-9225-4D83-8412-88B41F518C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7C8-57D2-46D0-AA8F-BB26211F3B3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78F0-F48E-487A-A38A-5410459A6F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3" descr=""/>
          <p:cNvPicPr/>
          <p:nvPr/>
        </p:nvPicPr>
        <p:blipFill>
          <a:blip r:embed="rId1"/>
          <a:stretch/>
        </p:blipFill>
        <p:spPr>
          <a:xfrm>
            <a:off x="201600" y="171360"/>
            <a:ext cx="92772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Трижды используя данное предложение, составьте сложносочинённое, сложноподчинённое предложения и предложение с однородными членами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214800"/>
            <a:ext cx="8229600" cy="31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Неожиданно набежала тучк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70c0"/>
                </a:solidFill>
                <a:latin typeface="Constantia"/>
              </a:rPr>
              <a:t>Составить схемы предлож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42600"/>
            <a:ext cx="645804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0000"/>
                </a:solidFill>
                <a:latin typeface="Calibri"/>
              </a:rPr>
              <a:t>Шарады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Две ноты, союз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сё вместе игр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 которую люби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грать детвора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 До-ми-но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C:\Documents and Settings\User\Мои документы\Мои рисунки\i[43].jpg"/>
          <p:cNvPicPr/>
          <p:nvPr/>
        </p:nvPicPr>
        <p:blipFill>
          <a:blip r:embed="rId1"/>
          <a:stretch/>
        </p:blipFill>
        <p:spPr>
          <a:xfrm>
            <a:off x="6643800" y="4357800"/>
            <a:ext cx="2253960" cy="167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Documents and Settings\User\Мои документы\Мои рисунки\i[76].jpg"/>
          <p:cNvPicPr/>
          <p:nvPr/>
        </p:nvPicPr>
        <p:blipFill>
          <a:blip r:embed="rId2"/>
          <a:stretch/>
        </p:blipFill>
        <p:spPr>
          <a:xfrm>
            <a:off x="6643800" y="2000160"/>
            <a:ext cx="1906560" cy="1666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User\Мои документы\Мои рисунки\loto.bigthumb[1].jpg"/>
          <p:cNvPicPr/>
          <p:nvPr/>
        </p:nvPicPr>
        <p:blipFill>
          <a:blip r:embed="rId3"/>
          <a:stretch/>
        </p:blipFill>
        <p:spPr>
          <a:xfrm>
            <a:off x="4500720" y="1928880"/>
            <a:ext cx="1361880" cy="18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Documents and Settings\User\Мои документы\Мои рисунки\i[70].jpg"/>
          <p:cNvPicPr/>
          <p:nvPr/>
        </p:nvPicPr>
        <p:blipFill>
          <a:blip r:embed="rId4"/>
          <a:stretch/>
        </p:blipFill>
        <p:spPr>
          <a:xfrm>
            <a:off x="3857760" y="4429080"/>
            <a:ext cx="190476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500120"/>
            <a:ext cx="402912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Союз, пред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 падежная фор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личного местоим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дают плод южноамериканского раст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 А-на-нас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User\Мои документы\Мои рисунки\i[10].jpg"/>
          <p:cNvPicPr/>
          <p:nvPr/>
        </p:nvPicPr>
        <p:blipFill>
          <a:blip r:embed="rId1"/>
          <a:stretch/>
        </p:blipFill>
        <p:spPr>
          <a:xfrm>
            <a:off x="6858000" y="4643280"/>
            <a:ext cx="1928880" cy="1643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Documents and Settings\User\Мои документы\Мои рисунки\i[7].jpg"/>
          <p:cNvPicPr/>
          <p:nvPr/>
        </p:nvPicPr>
        <p:blipFill>
          <a:blip r:embed="rId2"/>
          <a:stretch/>
        </p:blipFill>
        <p:spPr>
          <a:xfrm>
            <a:off x="6929280" y="1643040"/>
            <a:ext cx="1686240" cy="217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User\Мои документы\Мои рисунки\i[1].jpg"/>
          <p:cNvPicPr/>
          <p:nvPr/>
        </p:nvPicPr>
        <p:blipFill>
          <a:blip r:embed="rId3"/>
          <a:stretch/>
        </p:blipFill>
        <p:spPr>
          <a:xfrm>
            <a:off x="4429080" y="1714680"/>
            <a:ext cx="1928880" cy="1571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User\Мои документы\Мои рисунки\i[41].jpg"/>
          <p:cNvPicPr/>
          <p:nvPr/>
        </p:nvPicPr>
        <p:blipFill>
          <a:blip r:embed="rId4"/>
          <a:stretch/>
        </p:blipFill>
        <p:spPr>
          <a:xfrm>
            <a:off x="4786200" y="3643200"/>
            <a:ext cx="1643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4214880" cy="48196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Мой первый слог на дереве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торой мой слог-союз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А в целом я материя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И на костюм гожу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Сук-но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User\Мои документы\Мои рисунки\1[2].jpg"/>
          <p:cNvPicPr/>
          <p:nvPr/>
        </p:nvPicPr>
        <p:blipFill>
          <a:blip r:embed="rId1"/>
          <a:stretch/>
        </p:blipFill>
        <p:spPr>
          <a:xfrm>
            <a:off x="5286240" y="4214880"/>
            <a:ext cx="2928960" cy="1714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User\Мои документы\Мои рисунки\cdocuments_and_settingsserezhamoi_dokumentyimamikvualorganza[1].jpg"/>
          <p:cNvPicPr/>
          <p:nvPr/>
        </p:nvPicPr>
        <p:blipFill>
          <a:blip r:embed="rId2"/>
          <a:stretch/>
        </p:blipFill>
        <p:spPr>
          <a:xfrm>
            <a:off x="6786720" y="1285920"/>
            <a:ext cx="2095200" cy="2085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Documents and Settings\User\Мои документы\Мои рисунки\33069-small[1].jpg"/>
          <p:cNvPicPr/>
          <p:nvPr/>
        </p:nvPicPr>
        <p:blipFill>
          <a:blip r:embed="rId3"/>
          <a:stretch/>
        </p:blipFill>
        <p:spPr>
          <a:xfrm>
            <a:off x="4357800" y="1357200"/>
            <a:ext cx="1785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тавить вместо прочерков подходящие по смыслу союзы. Дать им характеристику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2560" y="2571840"/>
            <a:ext cx="900108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Иди туда,  …</a:t>
            </a: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тебя уважаю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Снаружи поп, …  внутри чёр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Дерево затем и посадили,   …      есть плод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Не мил свет,   …     друга не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Берегись бед,     …     их нет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Мал золотник,  …  доро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714760" y="4344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Найдите и исправьте ошибки в следующих предложениях.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8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яня, не смотря на свою нежную привязанность ко мне, не упускала случая рассказать о моих выход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571680" y="2643120"/>
            <a:ext cx="828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яня,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есмотря н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свою нежную привязанность ко мне, не упускала случая рассказать о моих выходк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85840" y="385776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тоже время я с неописуемым удивлением смотрел на парящий в воздухе остров населеный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55480" y="4813200"/>
            <a:ext cx="85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то же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ремя я с неописуемым удивлением смотрел на парящий в воздухе остров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аселе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н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ый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3" descr=""/>
          <p:cNvPicPr/>
          <p:nvPr/>
        </p:nvPicPr>
        <p:blipFill>
          <a:blip r:embed="rId1"/>
          <a:stretch/>
        </p:blipFill>
        <p:spPr>
          <a:xfrm>
            <a:off x="304920" y="3992400"/>
            <a:ext cx="8485200" cy="15130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357120" y="8571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продолжении пяти дней ветер подня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не ожидано гнал нас в открытое море вселяя в наши душ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тча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285840" y="33577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Благодаря моих товарищей я успешно закончи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357120" y="207180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В продолжени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е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пяти дней ветер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поднявшийся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неожиданно,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гнал нас в открытое море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,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вселяя в наши душ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отча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Пользователь Windows</cp:lastModifiedBy>
  <dcterms:modified xsi:type="dcterms:W3CDTF">2014-01-29T05:46:26Z</dcterms:modified>
  <cp:revision>119</cp:revision>
  <dc:subject/>
  <dc:title>Закрепление  и обобщение  по теме «Союзы и предлоги».</dc:title>
</cp:coreProperties>
</file>