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9965-EBF1-4205-9B57-FA9F58C636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A568-38F0-493B-AED1-BE6E48D432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F6E5-EA9D-42B5-93A3-28450EC704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F851-B333-4161-8B27-A2323B244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1BB-25AC-4E83-ABF4-F928F2AC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47D-9E56-41A0-B128-97CB676E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415-FB96-4E85-92D4-064B571D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702-2889-43D5-ADE9-D130FEDA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8926-3FBC-4133-89B5-B9851796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F88F-AAAC-44C5-BA58-A8B91FCD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5E89-C005-4AD8-AC88-D4A691CD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A083-9315-4869-AB6B-53F04D54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F539-0730-4856-B840-03FD02CF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0116-6C0A-4EE5-916E-A91C7314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6962-37A9-4CAC-B7D5-F28267F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1AD-C029-4007-B755-36706D82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ADD3-A234-41A6-A536-B45CE52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E314-EC4A-4A66-A316-35F747B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D922-6B68-4290-9624-958EE83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7B60-B727-4635-A067-D0CBE9AB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576A-2694-4F7D-91C3-E42107BE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09CF-02F3-48D4-8895-AC2F4D0F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7ECF-9275-4332-818C-094944D6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84A9-7379-49FA-9987-6B1F1B1B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D6F3-7998-4BEB-A1A1-5E9A9509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150C-F0D3-4128-B34C-2179174F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E26-5F2D-4BD3-9B7E-011BD985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ADD9-5AF8-4C23-9368-308BC1EF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423E-DC26-4DB1-8274-F0CAFF3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0045-2510-4028-8764-4E0F80B5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33DB-D326-4A6A-85D3-CC16243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0BA6-2186-4BC3-84CC-BA79F17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F8A1-CD9D-4D62-9CBB-665FE144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173B-A8EF-45E4-8025-701D3BE2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812F-2771-4294-8AFC-79F2B271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7EDD-9FB2-4914-9628-85CD085D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02A0-B2DB-4085-9F7A-5AE6239B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6FC-0C69-4E94-8A8A-37C8B27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1B0A-03D7-4225-8943-B5C90659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CD0A-BB28-4014-AE6D-0C07B6D5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7C7E4-5177-4E39-9B3A-3E32FD6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A1EF4-761D-45ED-9423-9C83F0C7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E9BE-30BC-4D3F-A4DE-95B02C0A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BB5C-978C-4CEF-83E8-994C6304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8E3C-DF84-4A8D-AC50-64EA361F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C3901-81C0-4744-AE19-C538439E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E9D6-973B-4696-821B-6E68BF5B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CE9-1666-46CC-83F2-695382B2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B7F-4C77-45FE-8A7F-1CF57017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57C-E4FB-44E8-B569-4129905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D2C-CC9C-46A8-B6F6-6457A63B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A10-0C48-430A-960C-AEE00557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F8EA-FBEF-49C3-AAEB-C44CF1D64EB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462E-4AF8-47D4-A1D2-40DC9B5364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7880-11BF-4584-B46C-843D456EF9D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EE44-8797-4082-AB38-D1D1CD14DA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3" descr=""/>
          <p:cNvPicPr/>
          <p:nvPr/>
        </p:nvPicPr>
        <p:blipFill>
          <a:blip r:embed="rId1"/>
          <a:stretch/>
        </p:blipFill>
        <p:spPr>
          <a:xfrm>
            <a:off x="201600" y="171360"/>
            <a:ext cx="92772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Трижды используя данное предложение, составьте сложносочинённое, сложноподчинённое предложения и предложение с однородными членами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3214800"/>
            <a:ext cx="8229600" cy="31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Неожиданно набежала тучка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70c0"/>
                </a:solidFill>
                <a:latin typeface="Constantia"/>
              </a:rPr>
              <a:t>Составить схемы предложе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42600"/>
            <a:ext cx="645804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0000"/>
                </a:solidFill>
                <a:latin typeface="Calibri"/>
              </a:rPr>
              <a:t>Шарады.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37148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Две ноты, союз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сё вместе игр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 которую люби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Играть детвора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 До-ми-но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Documents and Settings\User\Мои документы\Мои рисунки\i[43].jpg"/>
          <p:cNvPicPr/>
          <p:nvPr/>
        </p:nvPicPr>
        <p:blipFill>
          <a:blip r:embed="rId1"/>
          <a:stretch/>
        </p:blipFill>
        <p:spPr>
          <a:xfrm>
            <a:off x="6643800" y="4357800"/>
            <a:ext cx="2253960" cy="167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Documents and Settings\User\Мои документы\Мои рисунки\i[76].jpg"/>
          <p:cNvPicPr/>
          <p:nvPr/>
        </p:nvPicPr>
        <p:blipFill>
          <a:blip r:embed="rId2"/>
          <a:stretch/>
        </p:blipFill>
        <p:spPr>
          <a:xfrm>
            <a:off x="6643800" y="2000160"/>
            <a:ext cx="1906560" cy="166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User\Мои документы\Мои рисунки\loto.bigthumb[1].jpg"/>
          <p:cNvPicPr/>
          <p:nvPr/>
        </p:nvPicPr>
        <p:blipFill>
          <a:blip r:embed="rId3"/>
          <a:stretch/>
        </p:blipFill>
        <p:spPr>
          <a:xfrm>
            <a:off x="4500720" y="1928880"/>
            <a:ext cx="1361880" cy="1857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Documents and Settings\User\Мои документы\Мои рисунки\i[70].jpg"/>
          <p:cNvPicPr/>
          <p:nvPr/>
        </p:nvPicPr>
        <p:blipFill>
          <a:blip r:embed="rId4"/>
          <a:stretch/>
        </p:blipFill>
        <p:spPr>
          <a:xfrm>
            <a:off x="3857760" y="4429080"/>
            <a:ext cx="190476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500120"/>
            <a:ext cx="402912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Союз, пред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и падежная форм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личного местоим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дают плод южноамериканского раст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 А-на-нас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User\Мои документы\Мои рисунки\i[10].jpg"/>
          <p:cNvPicPr/>
          <p:nvPr/>
        </p:nvPicPr>
        <p:blipFill>
          <a:blip r:embed="rId1"/>
          <a:stretch/>
        </p:blipFill>
        <p:spPr>
          <a:xfrm>
            <a:off x="6858000" y="4643280"/>
            <a:ext cx="1928880" cy="1643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User\Мои документы\Мои рисунки\i[7].jpg"/>
          <p:cNvPicPr/>
          <p:nvPr/>
        </p:nvPicPr>
        <p:blipFill>
          <a:blip r:embed="rId2"/>
          <a:stretch/>
        </p:blipFill>
        <p:spPr>
          <a:xfrm>
            <a:off x="6929280" y="1643040"/>
            <a:ext cx="1686240" cy="217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Documents and Settings\User\Мои документы\Мои рисунки\i[1].jpg"/>
          <p:cNvPicPr/>
          <p:nvPr/>
        </p:nvPicPr>
        <p:blipFill>
          <a:blip r:embed="rId3"/>
          <a:stretch/>
        </p:blipFill>
        <p:spPr>
          <a:xfrm>
            <a:off x="4429080" y="1714680"/>
            <a:ext cx="1928880" cy="1571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Documents and Settings\User\Мои документы\Мои рисунки\i[41].jpg"/>
          <p:cNvPicPr/>
          <p:nvPr/>
        </p:nvPicPr>
        <p:blipFill>
          <a:blip r:embed="rId4"/>
          <a:stretch/>
        </p:blipFill>
        <p:spPr>
          <a:xfrm>
            <a:off x="4786200" y="3643200"/>
            <a:ext cx="16430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4214880" cy="48196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Мой первый слог на дереве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торой мой слог-союз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А в целом я матери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И на костюм гожу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Сук-но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Documents and Settings\User\Мои документы\Мои рисунки\1[2].jpg"/>
          <p:cNvPicPr/>
          <p:nvPr/>
        </p:nvPicPr>
        <p:blipFill>
          <a:blip r:embed="rId1"/>
          <a:stretch/>
        </p:blipFill>
        <p:spPr>
          <a:xfrm>
            <a:off x="5286240" y="4214880"/>
            <a:ext cx="2928960" cy="1714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User\Мои документы\Мои рисунки\cdocuments_and_settingsserezhamoi_dokumentyimamikvualorganza[1].jpg"/>
          <p:cNvPicPr/>
          <p:nvPr/>
        </p:nvPicPr>
        <p:blipFill>
          <a:blip r:embed="rId2"/>
          <a:stretch/>
        </p:blipFill>
        <p:spPr>
          <a:xfrm>
            <a:off x="6786720" y="1285920"/>
            <a:ext cx="2095200" cy="2085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Documents and Settings\User\Мои документы\Мои рисунки\33069-small[1].jpg"/>
          <p:cNvPicPr/>
          <p:nvPr/>
        </p:nvPicPr>
        <p:blipFill>
          <a:blip r:embed="rId3"/>
          <a:stretch/>
        </p:blipFill>
        <p:spPr>
          <a:xfrm>
            <a:off x="4357800" y="1357200"/>
            <a:ext cx="1785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тавить вместо прочерков подходящие по смыслу союзы. Дать им характеристику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42560" y="2571840"/>
            <a:ext cx="900108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Иди туда,  …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тебя уважают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Снаружи поп, …  внутри чёрт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ерево затем и посадили,   …      есть плоды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Не мил свет,   …     друга не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Берегись бед,     …     их нет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Мал золотник,  …  доро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2714760" y="4344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айдите и исправьте ошибки в следующих предложениях.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8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Няня, не смотря на свою нежную привязанность ко мне, не упускала случая рассказать о моих выход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571680" y="264312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Няня,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есмотря на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свою нежную привязанность ко мне, не упускала случая рассказать о моих выходк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285840" y="385776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 тоже время я с неописуемым удивлением смотрел на парящий в воздухе остров населеный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555480" y="4813200"/>
            <a:ext cx="85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то же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ремя я с неописуемым удивлением смотрел на парящий в воздухе остров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населе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н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ый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3" descr=""/>
          <p:cNvPicPr/>
          <p:nvPr/>
        </p:nvPicPr>
        <p:blipFill>
          <a:blip r:embed="rId1"/>
          <a:stretch/>
        </p:blipFill>
        <p:spPr>
          <a:xfrm>
            <a:off x="304920" y="3992400"/>
            <a:ext cx="8485200" cy="15130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357120" y="8571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 продолжении пяти дней ветер поднявши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не ожидано гнал нас в открытое море вселяя в наши души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отча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285840" y="33577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Благодаря моих товарищей я успешно закончил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5"/>
          <p:cNvSpPr/>
          <p:nvPr/>
        </p:nvSpPr>
        <p:spPr>
          <a:xfrm>
            <a:off x="357120" y="207180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 продолжени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е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пяти дней ветер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поднявшийся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еожиданно,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гнал нас в открытое море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вселяя в наши душ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отча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Пользователь Windows</cp:lastModifiedBy>
  <dcterms:modified xsi:type="dcterms:W3CDTF">2014-01-29T05:46:26Z</dcterms:modified>
  <cp:revision>119</cp:revision>
  <dc:subject/>
  <dc:title>Закрепление  и обобщение  по теме «Союзы и предлоги».</dc:title>
</cp:coreProperties>
</file>