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E32-C08F-48E2-A5DD-E4FF35BC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A93-5B91-4B43-86D3-2948F9F9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930-6D5B-4830-9ACF-F5140BED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9D3-E88B-460E-8671-B5D525C4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231-DF0E-4FD6-976B-D218660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E9F-4CD1-4492-A702-DF0F510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800-52F0-4D95-BF37-95923C7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5AB-52CF-4752-930F-FC235B64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FF7-7D47-48DD-BF7D-A2DDE44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CAF-DD17-40FC-A980-F15E8F7F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B30-4C7E-4B2A-978F-FB22F8C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CA3-FAEF-49AB-AA42-8DD1CE7F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A9B8-0A3B-4ED5-9547-8536B3C07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501336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360" y="486900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 5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ницын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1268280"/>
            <a:ext cx="49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БИО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Цель мониторин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экологического благополуч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тмосферы микрорайона школы по лишай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708280"/>
            <a:ext cx="87138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икрорайон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кружающая с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блюдение, анализ, составление гербария, описание, составление карты загрязнения атмосферы по видовому составу лишайников, определение степени загряз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11280" y="3860640"/>
            <a:ext cx="3889440" cy="947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обнаружить лишайники на стволах деревьев.  Научиться  их различать по внешнему в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90792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Лишайники- индикаторы чистоты атмосферного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421000"/>
            <a:ext cx="4680000" cy="947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Проблема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гут ли расти  лишайники в микрорайоне расположения нашей шко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Тест на чистоту воздух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уч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волы и ветви деревьев, камни, стены домов  пришли к выводу, что тело лишайника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делено на стебель, листья и корень.  Тело лишайника – слоевище (таллом). Форма слоевища разная: накипь, мягкие подушки, бокалы, иголки, грибы, «бороды», «пар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Обнаруженные лишайники разделили  на группы по внешнему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кипные (корков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ов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Накипные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ют слоевище в виде тонкой (гладкой или зернистой, бугорчатой) корочки и очень плотно срастаются с субстратом (корой, камнем, почвой –отделить без повреждения субстрата их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Листоват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ют вид мелких чешуек или пластинок, прикрепляющихся пучками грибных гиф и легко отделяются от субст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3851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На основании определения количества видов лишайников и </a:t>
            </a:r>
            <a:br>
              <a:rPr sz="1800"/>
            </a:b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таблицы</a:t>
            </a:r>
            <a:r>
              <a:rPr b="1" i="1" lang="en-US" sz="1800" spc="-1" strike="noStrike" u="sng">
                <a:solidFill>
                  <a:srgbClr val="99ff99"/>
                </a:solidFill>
                <a:uFillTx/>
                <a:latin typeface="Arial"/>
              </a:rPr>
              <a:t>«Определение класса загрязнения по лишайникам»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воздух в микрорайоне школы имеет слабое загрязнение.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огласно данным степень загрязнения соответствует 2 классу 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i="1" lang="en-US" sz="1800" spc="-1" strike="noStrike" u="sng">
                <a:solidFill>
                  <a:srgbClr val="ffff99"/>
                </a:solidFill>
                <a:uFillTx/>
                <a:latin typeface="Arial"/>
              </a:rPr>
              <a:t>чистый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993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кустист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едне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листоват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ильное загрязн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т накипные лишай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Карта исследования воздуха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bbe0e3"/>
                </a:solidFill>
                <a:uFillTx/>
                <a:latin typeface="Arial"/>
              </a:rPr>
              <a:t>по видовому составу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лишай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3789360"/>
            <a:ext cx="201600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3169440" y="3788280"/>
            <a:ext cx="825480" cy="3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Цве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6400">
            <a:off x="6156360" y="191592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2708280"/>
            <a:ext cx="360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3357720"/>
            <a:ext cx="15843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3995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6659640" y="5516640"/>
            <a:ext cx="574560" cy="539640"/>
          </a:xfrm>
          <a:custGeom>
            <a:avLst/>
            <a:gdLst>
              <a:gd name="textAreaLeft" fmla="*/ 34920 w 574560"/>
              <a:gd name="textAreaRight" fmla="*/ 539640 w 574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97" h="21600">
                <a:moveTo>
                  <a:pt x="11498" y="3837"/>
                </a:moveTo>
                <a:lnTo>
                  <a:pt x="14075" y="6448"/>
                </a:lnTo>
                <a:lnTo>
                  <a:pt x="14075" y="4707"/>
                </a:lnTo>
                <a:lnTo>
                  <a:pt x="15850" y="4707"/>
                </a:lnTo>
                <a:lnTo>
                  <a:pt x="15850" y="8224"/>
                </a:lnTo>
                <a:lnTo>
                  <a:pt x="18461" y="10800"/>
                </a:lnTo>
                <a:lnTo>
                  <a:pt x="16808" y="10800"/>
                </a:lnTo>
                <a:lnTo>
                  <a:pt x="16808" y="17989"/>
                </a:lnTo>
                <a:lnTo>
                  <a:pt x="6189" y="17989"/>
                </a:lnTo>
                <a:lnTo>
                  <a:pt x="6189" y="10800"/>
                </a:lnTo>
                <a:lnTo>
                  <a:pt x="4535" y="10800"/>
                </a:lnTo>
                <a:close/>
              </a:path>
              <a:path fill="darkenLess" w="22997" h="21600">
                <a:moveTo>
                  <a:pt x="14075" y="6448"/>
                </a:moveTo>
                <a:lnTo>
                  <a:pt x="14075" y="4707"/>
                </a:lnTo>
                <a:lnTo>
                  <a:pt x="15850" y="4707"/>
                </a:lnTo>
                <a:lnTo>
                  <a:pt x="15850" y="8224"/>
                </a:lnTo>
                <a:close/>
              </a:path>
              <a:path fill="darkenLess" w="22997" h="21600">
                <a:moveTo>
                  <a:pt x="10576" y="14299"/>
                </a:moveTo>
                <a:lnTo>
                  <a:pt x="12421" y="14299"/>
                </a:lnTo>
                <a:lnTo>
                  <a:pt x="12421" y="17989"/>
                </a:lnTo>
                <a:lnTo>
                  <a:pt x="16808" y="17989"/>
                </a:lnTo>
                <a:lnTo>
                  <a:pt x="16808" y="10800"/>
                </a:lnTo>
                <a:lnTo>
                  <a:pt x="6189" y="10800"/>
                </a:lnTo>
                <a:lnTo>
                  <a:pt x="6189" y="17989"/>
                </a:lnTo>
                <a:lnTo>
                  <a:pt x="1057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2575400">
            <a:off x="7020000" y="3141720"/>
            <a:ext cx="698400" cy="48240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2456000">
            <a:off x="7019640" y="4220640"/>
            <a:ext cx="698400" cy="5540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2349360"/>
            <a:ext cx="2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2847800">
            <a:off x="8183160" y="4519080"/>
            <a:ext cx="831960" cy="4748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508640"/>
            <a:ext cx="432000" cy="57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0108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2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508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3272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653000"/>
            <a:ext cx="730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4797360"/>
            <a:ext cx="71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414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1619280" y="321300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837"/>
                </a:moveTo>
                <a:lnTo>
                  <a:pt x="14922" y="6448"/>
                </a:ln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lnTo>
                  <a:pt x="19309" y="10800"/>
                </a:lnTo>
                <a:lnTo>
                  <a:pt x="17655" y="10800"/>
                </a:lnTo>
                <a:lnTo>
                  <a:pt x="17655" y="17989"/>
                </a:lnTo>
                <a:lnTo>
                  <a:pt x="7037" y="17989"/>
                </a:lnTo>
                <a:lnTo>
                  <a:pt x="7037" y="10800"/>
                </a:lnTo>
                <a:lnTo>
                  <a:pt x="5383" y="10800"/>
                </a:lnTo>
                <a:close/>
              </a:path>
              <a:path fill="darkenLess" w="24692" h="21600">
                <a:moveTo>
                  <a:pt x="14922" y="6448"/>
                </a:moveTo>
                <a:lnTo>
                  <a:pt x="14922" y="4707"/>
                </a:lnTo>
                <a:lnTo>
                  <a:pt x="16698" y="4707"/>
                </a:lnTo>
                <a:lnTo>
                  <a:pt x="16698" y="8224"/>
                </a:lnTo>
                <a:close/>
              </a:path>
              <a:path fill="darkenLess" w="24692" h="21600">
                <a:moveTo>
                  <a:pt x="11424" y="14299"/>
                </a:moveTo>
                <a:lnTo>
                  <a:pt x="13269" y="14299"/>
                </a:lnTo>
                <a:lnTo>
                  <a:pt x="13269" y="17989"/>
                </a:lnTo>
                <a:lnTo>
                  <a:pt x="17655" y="17989"/>
                </a:lnTo>
                <a:lnTo>
                  <a:pt x="17655" y="10800"/>
                </a:lnTo>
                <a:lnTo>
                  <a:pt x="7037" y="10800"/>
                </a:lnTo>
                <a:lnTo>
                  <a:pt x="7037" y="17989"/>
                </a:lnTo>
                <a:lnTo>
                  <a:pt x="114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3429000"/>
            <a:ext cx="432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358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2800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36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36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08720" y="3716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5964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8360" y="414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036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3933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2637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4508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479736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8770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16720" y="2923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877080" y="321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48428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987640" y="26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9640" y="263700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06028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9417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280" y="450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99640" y="450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042560" y="494172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868000" y="3789720"/>
            <a:ext cx="79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Цве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1476360" y="501336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0" h="21600">
                <a:moveTo>
                  <a:pt x="12350" y="3837"/>
                </a:moveTo>
                <a:lnTo>
                  <a:pt x="14926" y="6448"/>
                </a:ln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lnTo>
                  <a:pt x="19313" y="10800"/>
                </a:lnTo>
                <a:lnTo>
                  <a:pt x="17659" y="10800"/>
                </a:lnTo>
                <a:lnTo>
                  <a:pt x="17659" y="17989"/>
                </a:lnTo>
                <a:lnTo>
                  <a:pt x="7041" y="17989"/>
                </a:lnTo>
                <a:lnTo>
                  <a:pt x="7041" y="10800"/>
                </a:lnTo>
                <a:lnTo>
                  <a:pt x="5387" y="10800"/>
                </a:lnTo>
                <a:close/>
              </a:path>
              <a:path fill="darkenLess" w="24700" h="21600">
                <a:moveTo>
                  <a:pt x="14926" y="6448"/>
                </a:move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close/>
              </a:path>
              <a:path fill="darkenLess" w="24700" h="21600">
                <a:moveTo>
                  <a:pt x="11427" y="14299"/>
                </a:moveTo>
                <a:lnTo>
                  <a:pt x="13273" y="14299"/>
                </a:lnTo>
                <a:lnTo>
                  <a:pt x="13273" y="17989"/>
                </a:lnTo>
                <a:lnTo>
                  <a:pt x="17659" y="17989"/>
                </a:lnTo>
                <a:lnTo>
                  <a:pt x="17659" y="10800"/>
                </a:lnTo>
                <a:lnTo>
                  <a:pt x="7041" y="10800"/>
                </a:lnTo>
                <a:lnTo>
                  <a:pt x="7041" y="17989"/>
                </a:lnTo>
                <a:lnTo>
                  <a:pt x="114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3419640" y="299736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13936" y="3837"/>
                </a:moveTo>
                <a:lnTo>
                  <a:pt x="16513" y="6448"/>
                </a:lnTo>
                <a:lnTo>
                  <a:pt x="16513" y="4707"/>
                </a:lnTo>
                <a:lnTo>
                  <a:pt x="18288" y="4707"/>
                </a:lnTo>
                <a:lnTo>
                  <a:pt x="18288" y="8224"/>
                </a:lnTo>
                <a:lnTo>
                  <a:pt x="20899" y="10800"/>
                </a:lnTo>
                <a:lnTo>
                  <a:pt x="19246" y="10800"/>
                </a:lnTo>
                <a:lnTo>
                  <a:pt x="19246" y="17989"/>
                </a:lnTo>
                <a:lnTo>
                  <a:pt x="8627" y="17989"/>
                </a:lnTo>
                <a:lnTo>
                  <a:pt x="8627" y="10800"/>
                </a:lnTo>
                <a:lnTo>
                  <a:pt x="6974" y="10800"/>
                </a:lnTo>
                <a:close/>
              </a:path>
              <a:path fill="darkenLess" w="27873" h="21600">
                <a:moveTo>
                  <a:pt x="16513" y="6448"/>
                </a:moveTo>
                <a:lnTo>
                  <a:pt x="16513" y="4707"/>
                </a:lnTo>
                <a:lnTo>
                  <a:pt x="18288" y="4707"/>
                </a:lnTo>
                <a:lnTo>
                  <a:pt x="18288" y="8224"/>
                </a:lnTo>
                <a:close/>
              </a:path>
              <a:path fill="darkenLess" w="27873" h="21600">
                <a:moveTo>
                  <a:pt x="13014" y="14299"/>
                </a:moveTo>
                <a:lnTo>
                  <a:pt x="14859" y="14299"/>
                </a:lnTo>
                <a:lnTo>
                  <a:pt x="14859" y="17989"/>
                </a:lnTo>
                <a:lnTo>
                  <a:pt x="19246" y="17989"/>
                </a:lnTo>
                <a:lnTo>
                  <a:pt x="19246" y="10800"/>
                </a:lnTo>
                <a:lnTo>
                  <a:pt x="8627" y="10800"/>
                </a:lnTo>
                <a:lnTo>
                  <a:pt x="8627" y="17989"/>
                </a:lnTo>
                <a:lnTo>
                  <a:pt x="1301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4140360" y="27082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7982" y="3837"/>
                </a:moveTo>
                <a:lnTo>
                  <a:pt x="20558" y="6448"/>
                </a:lnTo>
                <a:lnTo>
                  <a:pt x="20558" y="4707"/>
                </a:lnTo>
                <a:lnTo>
                  <a:pt x="22334" y="4707"/>
                </a:lnTo>
                <a:lnTo>
                  <a:pt x="22334" y="8224"/>
                </a:lnTo>
                <a:lnTo>
                  <a:pt x="24945" y="10800"/>
                </a:lnTo>
                <a:lnTo>
                  <a:pt x="23291" y="10800"/>
                </a:lnTo>
                <a:lnTo>
                  <a:pt x="23291" y="17989"/>
                </a:lnTo>
                <a:lnTo>
                  <a:pt x="12673" y="17989"/>
                </a:lnTo>
                <a:lnTo>
                  <a:pt x="12673" y="10800"/>
                </a:lnTo>
                <a:lnTo>
                  <a:pt x="11019" y="10800"/>
                </a:lnTo>
                <a:close/>
              </a:path>
              <a:path fill="darkenLess" w="35964" h="21600">
                <a:moveTo>
                  <a:pt x="20558" y="6448"/>
                </a:moveTo>
                <a:lnTo>
                  <a:pt x="20558" y="4707"/>
                </a:lnTo>
                <a:lnTo>
                  <a:pt x="22334" y="4707"/>
                </a:lnTo>
                <a:lnTo>
                  <a:pt x="22334" y="8224"/>
                </a:lnTo>
                <a:close/>
              </a:path>
              <a:path fill="darkenLess" w="35964" h="21600">
                <a:moveTo>
                  <a:pt x="17059" y="14299"/>
                </a:moveTo>
                <a:lnTo>
                  <a:pt x="18905" y="14299"/>
                </a:lnTo>
                <a:lnTo>
                  <a:pt x="18905" y="17989"/>
                </a:lnTo>
                <a:lnTo>
                  <a:pt x="23291" y="17989"/>
                </a:lnTo>
                <a:lnTo>
                  <a:pt x="23291" y="10800"/>
                </a:lnTo>
                <a:lnTo>
                  <a:pt x="12673" y="10800"/>
                </a:lnTo>
                <a:lnTo>
                  <a:pt x="12673" y="17989"/>
                </a:lnTo>
                <a:lnTo>
                  <a:pt x="1705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479736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7080" y="465300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21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019640" y="2276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924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5553720" y="27345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5003640" y="2708280"/>
            <a:ext cx="649440" cy="433440"/>
          </a:xfrm>
          <a:custGeom>
            <a:avLst/>
            <a:gdLst>
              <a:gd name="textAreaLeft" fmla="*/ 28080 w 649440"/>
              <a:gd name="textAreaRight" fmla="*/ 621360 w 649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355" h="21600">
                <a:moveTo>
                  <a:pt x="0" y="0"/>
                </a:moveTo>
                <a:lnTo>
                  <a:pt x="32355" y="0"/>
                </a:lnTo>
                <a:lnTo>
                  <a:pt x="32355" y="21600"/>
                </a:lnTo>
                <a:lnTo>
                  <a:pt x="0" y="21600"/>
                </a:lnTo>
                <a:close/>
              </a:path>
              <a:path fill="lightenLess" w="32355" h="21600">
                <a:moveTo>
                  <a:pt x="0" y="0"/>
                </a:moveTo>
                <a:lnTo>
                  <a:pt x="32355" y="0"/>
                </a:lnTo>
                <a:lnTo>
                  <a:pt x="30955" y="1400"/>
                </a:lnTo>
                <a:lnTo>
                  <a:pt x="1400" y="1400"/>
                </a:lnTo>
                <a:close/>
              </a:path>
              <a:path fill="darken" w="32355" h="21600">
                <a:moveTo>
                  <a:pt x="32355" y="0"/>
                </a:moveTo>
                <a:lnTo>
                  <a:pt x="32355" y="21600"/>
                </a:lnTo>
                <a:lnTo>
                  <a:pt x="30955" y="20200"/>
                </a:lnTo>
                <a:lnTo>
                  <a:pt x="30955" y="1400"/>
                </a:lnTo>
                <a:close/>
              </a:path>
              <a:path fill="darkenLess" w="32355" h="21600">
                <a:moveTo>
                  <a:pt x="32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5" y="20200"/>
                </a:lnTo>
                <a:close/>
              </a:path>
              <a:path fill="lighten" w="32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5" h="21600">
                <a:moveTo>
                  <a:pt x="16178" y="3837"/>
                </a:moveTo>
                <a:lnTo>
                  <a:pt x="18754" y="6448"/>
                </a:lnTo>
                <a:lnTo>
                  <a:pt x="18754" y="4707"/>
                </a:lnTo>
                <a:lnTo>
                  <a:pt x="20529" y="4707"/>
                </a:lnTo>
                <a:lnTo>
                  <a:pt x="20529" y="8224"/>
                </a:lnTo>
                <a:lnTo>
                  <a:pt x="23141" y="10800"/>
                </a:lnTo>
                <a:lnTo>
                  <a:pt x="21487" y="10800"/>
                </a:lnTo>
                <a:lnTo>
                  <a:pt x="21487" y="17989"/>
                </a:lnTo>
                <a:lnTo>
                  <a:pt x="10868" y="17989"/>
                </a:lnTo>
                <a:lnTo>
                  <a:pt x="10868" y="10800"/>
                </a:lnTo>
                <a:lnTo>
                  <a:pt x="9215" y="10800"/>
                </a:lnTo>
                <a:close/>
              </a:path>
              <a:path fill="darkenLess" w="32355" h="21600">
                <a:moveTo>
                  <a:pt x="18754" y="6448"/>
                </a:moveTo>
                <a:lnTo>
                  <a:pt x="18754" y="4707"/>
                </a:lnTo>
                <a:lnTo>
                  <a:pt x="20529" y="4707"/>
                </a:lnTo>
                <a:lnTo>
                  <a:pt x="20529" y="8224"/>
                </a:lnTo>
                <a:close/>
              </a:path>
              <a:path fill="darkenLess" w="32355" h="21600">
                <a:moveTo>
                  <a:pt x="15255" y="14299"/>
                </a:moveTo>
                <a:lnTo>
                  <a:pt x="17100" y="14299"/>
                </a:lnTo>
                <a:lnTo>
                  <a:pt x="17100" y="17989"/>
                </a:lnTo>
                <a:lnTo>
                  <a:pt x="21487" y="17989"/>
                </a:lnTo>
                <a:lnTo>
                  <a:pt x="21487" y="10800"/>
                </a:lnTo>
                <a:lnTo>
                  <a:pt x="10868" y="10800"/>
                </a:lnTo>
                <a:lnTo>
                  <a:pt x="10868" y="17989"/>
                </a:lnTo>
                <a:lnTo>
                  <a:pt x="1525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6360" y="2565360"/>
            <a:ext cx="115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465800">
            <a:off x="6156720" y="1915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К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5013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71628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4869000"/>
            <a:ext cx="100620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6021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Arial"/>
              </a:rPr>
              <a:t>фиско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6093000"/>
            <a:ext cx="1944720" cy="3682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БЕРЕ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01336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084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окомбин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501336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869000"/>
            <a:ext cx="100620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3860640"/>
            <a:ext cx="1006200" cy="6480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парм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924280"/>
            <a:ext cx="1006560" cy="647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Ксан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Лекан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0" y="1125360"/>
            <a:ext cx="9144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ahoma"/>
              </a:rPr>
              <a:t>Выберите правильные утверждения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– представители царства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– это единый организм, состоящий из гриба и водоросли, живущих в симби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впитывают воду из почвы с помощью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можно встретить в лесу, горах, на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доросли синтезируют органическое вещество, грибы всасывают воду и минераль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ладонии представители накипных лишай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ишайники быстро рас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ловек не использует лишайники в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армелия кустистый лишай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979880"/>
            <a:ext cx="842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авильные ответы –  молодцы! Отлично поработа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ошибка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, но надо быть вниматель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50%  правильных ответов – придется еще раз вернуться к эт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49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я того, чтобы избежать опасности, предлаг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ленение территории школы, ул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ить количество машин с помощью дорожных 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тупления перед друзьями. Родителями на природоохранны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и в защиту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ение уровня экологической грамотности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фактов об экологическом состояни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а и благоустройство леса,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школьных конкурсов, выставок на экологические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3:47:21Z</dcterms:created>
  <dc:creator>галина владимировна</dc:creator>
  <dc:description/>
  <dc:language>en-US</dc:language>
  <cp:lastModifiedBy>Home</cp:lastModifiedBy>
  <dcterms:modified xsi:type="dcterms:W3CDTF">2014-01-30T13:53:24Z</dcterms:modified>
  <cp:revision>23</cp:revision>
  <dc:subject/>
  <dc:title>Слайд 1</dc:title>
</cp:coreProperties>
</file>