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198-A5E8-44A1-8DD8-FEA3CD66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2829-F66B-4002-9261-10835E7E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2FD-43C8-4147-99AF-4FCD519E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E0EB-F5F6-477A-B102-481C6A74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F90-65C4-496A-AA35-220E76BC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51B7-86C8-4C28-AB34-07A932D6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0B2C-C45D-497F-9985-EF2CD8F2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AF81-3DDC-4C8E-B476-985AB2BD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A521-EE41-46FF-ADE2-E57A9080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6F4A-8C2F-45A1-8A2F-FD1BF7C5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0F2C-0182-4A4D-A2A7-D005A395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D27-D458-4A92-9E33-61EEB60A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6CF7-1B87-484F-8EE1-3390EE2D82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16360" y="5013360"/>
            <a:ext cx="38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360" y="4869000"/>
            <a:ext cx="511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ный руководитель 5б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дницына Гал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56000" y="1268280"/>
            <a:ext cx="496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БИОМОНИТОР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Внеуроч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Arial"/>
              </a:rPr>
              <a:t>Цель мониторинг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 экологического благополуч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атмосферы микрорайона школы по лишайни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2708280"/>
            <a:ext cx="87138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едмет исслед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Микрорайон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бъект исслед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Окружающая ср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Методы исслед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Наблюдение, анализ, составление гербария, описание, составление карты загрязнения атмосферы по видовому составу лишайников, определение степени загряз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98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11280" y="3860640"/>
            <a:ext cx="3889440" cy="947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Це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обнаружить лишайники на стволах деревьев.  Научиться  их различать по внешнему ви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56000" y="90792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Лишайники- индикаторы чистоты атмосферного возд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2421000"/>
            <a:ext cx="4680000" cy="9475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Проблема</a:t>
            </a: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огут ли расти  лишайники в микрорайоне расположения нашей школ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ние 1.</a:t>
            </a:r>
            <a:br>
              <a:rPr sz="1800"/>
            </a:b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Тест на чистоту воздух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зучи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волы и ветви деревьев, камни, стены домов  пришли к выводу, что тело лишайника 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зделено на стебель, листья и корень.  Тело лишайника – слоевище (таллом). Форма слоевища разная: накипь, мягкие подушки, бокалы, иголки, грибы, «бороды», «пари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000" spc="-1" strike="noStrike" u="sng">
                <a:solidFill>
                  <a:srgbClr val="ffff99"/>
                </a:solidFill>
                <a:uFillTx/>
                <a:latin typeface="Arial"/>
              </a:rPr>
              <a:t>Обнаруженные лишайники разделили  на группы по внешнему вид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кипные (корков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стова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990000"/>
                </a:solidFill>
                <a:uFillTx/>
                <a:latin typeface="Arial"/>
              </a:rPr>
              <a:t>Накипные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ют слоевище в виде тонкой (гладкой или зернистой, бугорчатой) корочки и очень плотно срастаются с субстратом (корой, камнем, почвой –отделить без повреждения субстрата их нельз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000" spc="-1" strike="noStrike" u="sng">
                <a:solidFill>
                  <a:srgbClr val="990000"/>
                </a:solidFill>
                <a:uFillTx/>
                <a:latin typeface="Arial"/>
              </a:rPr>
              <a:t>Листоват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меют вид мелких чешуек или пластинок, прикрепляющихся пучками грибных гиф и легко отделяются от субст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38512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На основании определения количества видов лишайников и </a:t>
            </a:r>
            <a:br>
              <a:rPr sz="1800"/>
            </a:b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таблицы</a:t>
            </a:r>
            <a:r>
              <a:rPr b="1" i="1" lang="en-US" sz="1800" spc="-1" strike="noStrike" u="sng">
                <a:solidFill>
                  <a:srgbClr val="99ff99"/>
                </a:solidFill>
                <a:uFillTx/>
                <a:latin typeface="Arial"/>
              </a:rPr>
              <a:t>«Определение класса загрязнения по лишайникам»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 воздух в микрорайоне школы имеет слабое загрязнение.</a:t>
            </a:r>
            <a:br>
              <a:rPr sz="1800"/>
            </a:b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Согласно данным степень загрязнения соответствует 2 классу </a:t>
            </a:r>
            <a:br>
              <a:rPr sz="1800"/>
            </a:b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– </a:t>
            </a:r>
            <a:r>
              <a:rPr b="1" i="1" lang="en-US" sz="1800" spc="-1" strike="noStrike" u="sng">
                <a:solidFill>
                  <a:srgbClr val="ffff99"/>
                </a:solidFill>
                <a:uFillTx/>
                <a:latin typeface="Arial"/>
              </a:rPr>
              <a:t>чистый возд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799308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лабое загрязн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чезают кустистые лишай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еднее загрязн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чезают листоватые лишай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ильное загрязн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чезают накипные лишай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3851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660033"/>
                </a:solidFill>
                <a:uFillTx/>
                <a:latin typeface="Arial"/>
              </a:rPr>
              <a:t>Карта исследования воздуха</a:t>
            </a:r>
            <a:r>
              <a:rPr b="1" i="1" lang="en-US" sz="2000" spc="-1" strike="noStrike" u="sng">
                <a:solidFill>
                  <a:srgbClr val="660033"/>
                </a:solidFill>
                <a:uFillTx/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bbe0e3"/>
                </a:solidFill>
                <a:uFillTx/>
                <a:latin typeface="Arial"/>
              </a:rPr>
              <a:t>по видовому составу</a:t>
            </a:r>
            <a:r>
              <a:rPr b="1" i="1" lang="en-US" sz="2000" spc="-1" strike="noStrike" u="sng">
                <a:solidFill>
                  <a:srgbClr val="660033"/>
                </a:solidFill>
                <a:uFillTx/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660033"/>
                </a:solidFill>
                <a:uFillTx/>
                <a:latin typeface="Arial"/>
              </a:rPr>
              <a:t>лишай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51280" y="3789360"/>
            <a:ext cx="201600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3169440" y="3788280"/>
            <a:ext cx="825480" cy="3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Цве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8866400">
            <a:off x="6156360" y="1915920"/>
            <a:ext cx="792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0360" y="2708280"/>
            <a:ext cx="360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48360" y="3357720"/>
            <a:ext cx="1584360" cy="158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firstslide"/>
          </p:cNvPr>
          <p:cNvSpPr/>
          <p:nvPr/>
        </p:nvSpPr>
        <p:spPr>
          <a:xfrm>
            <a:off x="399564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firstslide"/>
          </p:cNvPr>
          <p:cNvSpPr/>
          <p:nvPr/>
        </p:nvSpPr>
        <p:spPr>
          <a:xfrm>
            <a:off x="6659640" y="5516640"/>
            <a:ext cx="574560" cy="539640"/>
          </a:xfrm>
          <a:custGeom>
            <a:avLst/>
            <a:gdLst>
              <a:gd name="textAreaLeft" fmla="*/ 34920 w 574560"/>
              <a:gd name="textAreaRight" fmla="*/ 539640 w 5745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2997" h="21600">
                <a:moveTo>
                  <a:pt x="0" y="0"/>
                </a:moveTo>
                <a:lnTo>
                  <a:pt x="22997" y="0"/>
                </a:lnTo>
                <a:lnTo>
                  <a:pt x="22997" y="21600"/>
                </a:lnTo>
                <a:lnTo>
                  <a:pt x="0" y="21600"/>
                </a:lnTo>
                <a:close/>
              </a:path>
              <a:path fill="lightenLess" w="22997" h="21600">
                <a:moveTo>
                  <a:pt x="0" y="0"/>
                </a:moveTo>
                <a:lnTo>
                  <a:pt x="22997" y="0"/>
                </a:lnTo>
                <a:lnTo>
                  <a:pt x="21597" y="1400"/>
                </a:lnTo>
                <a:lnTo>
                  <a:pt x="1400" y="1400"/>
                </a:lnTo>
                <a:close/>
              </a:path>
              <a:path fill="darken" w="22997" h="21600">
                <a:moveTo>
                  <a:pt x="22997" y="0"/>
                </a:moveTo>
                <a:lnTo>
                  <a:pt x="22997" y="21600"/>
                </a:lnTo>
                <a:lnTo>
                  <a:pt x="21597" y="20200"/>
                </a:lnTo>
                <a:lnTo>
                  <a:pt x="21597" y="1400"/>
                </a:lnTo>
                <a:close/>
              </a:path>
              <a:path fill="darkenLess" w="22997" h="21600">
                <a:moveTo>
                  <a:pt x="22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97" y="20200"/>
                </a:lnTo>
                <a:close/>
              </a:path>
              <a:path fill="lighten" w="22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97" h="21600">
                <a:moveTo>
                  <a:pt x="11498" y="3837"/>
                </a:moveTo>
                <a:lnTo>
                  <a:pt x="14075" y="6448"/>
                </a:lnTo>
                <a:lnTo>
                  <a:pt x="14075" y="4707"/>
                </a:lnTo>
                <a:lnTo>
                  <a:pt x="15850" y="4707"/>
                </a:lnTo>
                <a:lnTo>
                  <a:pt x="15850" y="8224"/>
                </a:lnTo>
                <a:lnTo>
                  <a:pt x="18461" y="10800"/>
                </a:lnTo>
                <a:lnTo>
                  <a:pt x="16808" y="10800"/>
                </a:lnTo>
                <a:lnTo>
                  <a:pt x="16808" y="17989"/>
                </a:lnTo>
                <a:lnTo>
                  <a:pt x="6189" y="17989"/>
                </a:lnTo>
                <a:lnTo>
                  <a:pt x="6189" y="10800"/>
                </a:lnTo>
                <a:lnTo>
                  <a:pt x="4535" y="10800"/>
                </a:lnTo>
                <a:close/>
              </a:path>
              <a:path fill="darkenLess" w="22997" h="21600">
                <a:moveTo>
                  <a:pt x="14075" y="6448"/>
                </a:moveTo>
                <a:lnTo>
                  <a:pt x="14075" y="4707"/>
                </a:lnTo>
                <a:lnTo>
                  <a:pt x="15850" y="4707"/>
                </a:lnTo>
                <a:lnTo>
                  <a:pt x="15850" y="8224"/>
                </a:lnTo>
                <a:close/>
              </a:path>
              <a:path fill="darkenLess" w="22997" h="21600">
                <a:moveTo>
                  <a:pt x="10576" y="14299"/>
                </a:moveTo>
                <a:lnTo>
                  <a:pt x="12421" y="14299"/>
                </a:lnTo>
                <a:lnTo>
                  <a:pt x="12421" y="17989"/>
                </a:lnTo>
                <a:lnTo>
                  <a:pt x="16808" y="17989"/>
                </a:lnTo>
                <a:lnTo>
                  <a:pt x="16808" y="10800"/>
                </a:lnTo>
                <a:lnTo>
                  <a:pt x="6189" y="10800"/>
                </a:lnTo>
                <a:lnTo>
                  <a:pt x="6189" y="17989"/>
                </a:lnTo>
                <a:lnTo>
                  <a:pt x="1057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2575400">
            <a:off x="7020000" y="3141720"/>
            <a:ext cx="698400" cy="48240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2456000">
            <a:off x="7019640" y="4220640"/>
            <a:ext cx="698400" cy="55404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80360" y="2349360"/>
            <a:ext cx="216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2847800">
            <a:off x="8183160" y="4519080"/>
            <a:ext cx="831960" cy="47484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12000" y="4508640"/>
            <a:ext cx="432000" cy="577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10108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2800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85080" y="537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60436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67564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532720" y="530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28000" y="4653000"/>
            <a:ext cx="7308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56720" y="4797360"/>
            <a:ext cx="7128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28000" y="4149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51640" y="479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1619280" y="3213000"/>
            <a:ext cx="1152360" cy="1008000"/>
          </a:xfrm>
          <a:custGeom>
            <a:avLst/>
            <a:gdLst>
              <a:gd name="textAreaLeft" fmla="*/ 65160 w 1152360"/>
              <a:gd name="textAreaRight" fmla="*/ 1087200 w 1152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12346" y="3837"/>
                </a:moveTo>
                <a:lnTo>
                  <a:pt x="14922" y="6448"/>
                </a:lnTo>
                <a:lnTo>
                  <a:pt x="14922" y="4707"/>
                </a:lnTo>
                <a:lnTo>
                  <a:pt x="16698" y="4707"/>
                </a:lnTo>
                <a:lnTo>
                  <a:pt x="16698" y="8224"/>
                </a:lnTo>
                <a:lnTo>
                  <a:pt x="19309" y="10800"/>
                </a:lnTo>
                <a:lnTo>
                  <a:pt x="17655" y="10800"/>
                </a:lnTo>
                <a:lnTo>
                  <a:pt x="17655" y="17989"/>
                </a:lnTo>
                <a:lnTo>
                  <a:pt x="7037" y="17989"/>
                </a:lnTo>
                <a:lnTo>
                  <a:pt x="7037" y="10800"/>
                </a:lnTo>
                <a:lnTo>
                  <a:pt x="5383" y="10800"/>
                </a:lnTo>
                <a:close/>
              </a:path>
              <a:path fill="darkenLess" w="24692" h="21600">
                <a:moveTo>
                  <a:pt x="14922" y="6448"/>
                </a:moveTo>
                <a:lnTo>
                  <a:pt x="14922" y="4707"/>
                </a:lnTo>
                <a:lnTo>
                  <a:pt x="16698" y="4707"/>
                </a:lnTo>
                <a:lnTo>
                  <a:pt x="16698" y="8224"/>
                </a:lnTo>
                <a:close/>
              </a:path>
              <a:path fill="darkenLess" w="24692" h="21600">
                <a:moveTo>
                  <a:pt x="11424" y="14299"/>
                </a:moveTo>
                <a:lnTo>
                  <a:pt x="13269" y="14299"/>
                </a:lnTo>
                <a:lnTo>
                  <a:pt x="13269" y="17989"/>
                </a:lnTo>
                <a:lnTo>
                  <a:pt x="17655" y="17989"/>
                </a:lnTo>
                <a:lnTo>
                  <a:pt x="17655" y="10800"/>
                </a:lnTo>
                <a:lnTo>
                  <a:pt x="7037" y="10800"/>
                </a:lnTo>
                <a:lnTo>
                  <a:pt x="7037" y="17989"/>
                </a:lnTo>
                <a:lnTo>
                  <a:pt x="1142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85080" y="3429000"/>
            <a:ext cx="432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44000" y="3500280"/>
            <a:ext cx="3585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028000" y="39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364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80360" y="364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08720" y="3716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45964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836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88360" y="414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8036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01080" y="39337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0360" y="4941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8764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48000" y="2637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450864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48000" y="479736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87708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516720" y="292392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877080" y="321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48428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987640" y="26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19640" y="2637000"/>
            <a:ext cx="33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516720" y="2060280"/>
            <a:ext cx="576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4800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16360" y="494172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195280" y="4508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899640" y="4508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042560" y="4941720"/>
            <a:ext cx="180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5868000" y="3789720"/>
            <a:ext cx="79236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Цве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1476360" y="5013360"/>
            <a:ext cx="1152720" cy="1008000"/>
          </a:xfrm>
          <a:custGeom>
            <a:avLst/>
            <a:gdLst>
              <a:gd name="textAreaLeft" fmla="*/ 65160 w 1152720"/>
              <a:gd name="textAreaRight" fmla="*/ 1087560 w 115272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4700" h="21600">
                <a:moveTo>
                  <a:pt x="0" y="0"/>
                </a:moveTo>
                <a:lnTo>
                  <a:pt x="24700" y="0"/>
                </a:lnTo>
                <a:lnTo>
                  <a:pt x="24700" y="21600"/>
                </a:lnTo>
                <a:lnTo>
                  <a:pt x="0" y="21600"/>
                </a:lnTo>
                <a:close/>
              </a:path>
              <a:path fill="lightenLess" w="24700" h="21600">
                <a:moveTo>
                  <a:pt x="0" y="0"/>
                </a:moveTo>
                <a:lnTo>
                  <a:pt x="24700" y="0"/>
                </a:lnTo>
                <a:lnTo>
                  <a:pt x="23300" y="1400"/>
                </a:lnTo>
                <a:lnTo>
                  <a:pt x="1400" y="1400"/>
                </a:lnTo>
                <a:close/>
              </a:path>
              <a:path fill="darken" w="24700" h="21600">
                <a:moveTo>
                  <a:pt x="24700" y="0"/>
                </a:moveTo>
                <a:lnTo>
                  <a:pt x="24700" y="21600"/>
                </a:lnTo>
                <a:lnTo>
                  <a:pt x="23300" y="20200"/>
                </a:lnTo>
                <a:lnTo>
                  <a:pt x="23300" y="1400"/>
                </a:lnTo>
                <a:close/>
              </a:path>
              <a:path fill="darkenLess" w="24700" h="21600">
                <a:moveTo>
                  <a:pt x="24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0" y="20200"/>
                </a:lnTo>
                <a:close/>
              </a:path>
              <a:path fill="lighten" w="24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0" h="21600">
                <a:moveTo>
                  <a:pt x="12350" y="3837"/>
                </a:moveTo>
                <a:lnTo>
                  <a:pt x="14926" y="6448"/>
                </a:lnTo>
                <a:lnTo>
                  <a:pt x="14926" y="4707"/>
                </a:lnTo>
                <a:lnTo>
                  <a:pt x="16702" y="4707"/>
                </a:lnTo>
                <a:lnTo>
                  <a:pt x="16702" y="8224"/>
                </a:lnTo>
                <a:lnTo>
                  <a:pt x="19313" y="10800"/>
                </a:lnTo>
                <a:lnTo>
                  <a:pt x="17659" y="10800"/>
                </a:lnTo>
                <a:lnTo>
                  <a:pt x="17659" y="17989"/>
                </a:lnTo>
                <a:lnTo>
                  <a:pt x="7041" y="17989"/>
                </a:lnTo>
                <a:lnTo>
                  <a:pt x="7041" y="10800"/>
                </a:lnTo>
                <a:lnTo>
                  <a:pt x="5387" y="10800"/>
                </a:lnTo>
                <a:close/>
              </a:path>
              <a:path fill="darkenLess" w="24700" h="21600">
                <a:moveTo>
                  <a:pt x="14926" y="6448"/>
                </a:moveTo>
                <a:lnTo>
                  <a:pt x="14926" y="4707"/>
                </a:lnTo>
                <a:lnTo>
                  <a:pt x="16702" y="4707"/>
                </a:lnTo>
                <a:lnTo>
                  <a:pt x="16702" y="8224"/>
                </a:lnTo>
                <a:close/>
              </a:path>
              <a:path fill="darkenLess" w="24700" h="21600">
                <a:moveTo>
                  <a:pt x="11427" y="14299"/>
                </a:moveTo>
                <a:lnTo>
                  <a:pt x="13273" y="14299"/>
                </a:lnTo>
                <a:lnTo>
                  <a:pt x="13273" y="17989"/>
                </a:lnTo>
                <a:lnTo>
                  <a:pt x="17659" y="17989"/>
                </a:lnTo>
                <a:lnTo>
                  <a:pt x="17659" y="10800"/>
                </a:lnTo>
                <a:lnTo>
                  <a:pt x="7041" y="10800"/>
                </a:lnTo>
                <a:lnTo>
                  <a:pt x="7041" y="17989"/>
                </a:lnTo>
                <a:lnTo>
                  <a:pt x="1142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3419640" y="2997360"/>
            <a:ext cx="649080" cy="5029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7873" h="21600">
                <a:moveTo>
                  <a:pt x="0" y="0"/>
                </a:moveTo>
                <a:lnTo>
                  <a:pt x="27873" y="0"/>
                </a:lnTo>
                <a:lnTo>
                  <a:pt x="27873" y="21600"/>
                </a:lnTo>
                <a:lnTo>
                  <a:pt x="0" y="21600"/>
                </a:lnTo>
                <a:close/>
              </a:path>
              <a:path fill="lightenLess" w="27873" h="21600">
                <a:moveTo>
                  <a:pt x="0" y="0"/>
                </a:moveTo>
                <a:lnTo>
                  <a:pt x="27873" y="0"/>
                </a:lnTo>
                <a:lnTo>
                  <a:pt x="26473" y="1400"/>
                </a:lnTo>
                <a:lnTo>
                  <a:pt x="1400" y="1400"/>
                </a:lnTo>
                <a:close/>
              </a:path>
              <a:path fill="darken" w="27873" h="21600">
                <a:moveTo>
                  <a:pt x="27873" y="0"/>
                </a:moveTo>
                <a:lnTo>
                  <a:pt x="27873" y="21600"/>
                </a:lnTo>
                <a:lnTo>
                  <a:pt x="26473" y="20200"/>
                </a:lnTo>
                <a:lnTo>
                  <a:pt x="26473" y="1400"/>
                </a:lnTo>
                <a:close/>
              </a:path>
              <a:path fill="darkenLess" w="27873" h="21600">
                <a:moveTo>
                  <a:pt x="27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73" y="20200"/>
                </a:lnTo>
                <a:close/>
              </a:path>
              <a:path fill="lighten" w="27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73" h="21600">
                <a:moveTo>
                  <a:pt x="13936" y="3837"/>
                </a:moveTo>
                <a:lnTo>
                  <a:pt x="16513" y="6448"/>
                </a:lnTo>
                <a:lnTo>
                  <a:pt x="16513" y="4707"/>
                </a:lnTo>
                <a:lnTo>
                  <a:pt x="18288" y="4707"/>
                </a:lnTo>
                <a:lnTo>
                  <a:pt x="18288" y="8224"/>
                </a:lnTo>
                <a:lnTo>
                  <a:pt x="20899" y="10800"/>
                </a:lnTo>
                <a:lnTo>
                  <a:pt x="19246" y="10800"/>
                </a:lnTo>
                <a:lnTo>
                  <a:pt x="19246" y="17989"/>
                </a:lnTo>
                <a:lnTo>
                  <a:pt x="8627" y="17989"/>
                </a:lnTo>
                <a:lnTo>
                  <a:pt x="8627" y="10800"/>
                </a:lnTo>
                <a:lnTo>
                  <a:pt x="6974" y="10800"/>
                </a:lnTo>
                <a:close/>
              </a:path>
              <a:path fill="darkenLess" w="27873" h="21600">
                <a:moveTo>
                  <a:pt x="16513" y="6448"/>
                </a:moveTo>
                <a:lnTo>
                  <a:pt x="16513" y="4707"/>
                </a:lnTo>
                <a:lnTo>
                  <a:pt x="18288" y="4707"/>
                </a:lnTo>
                <a:lnTo>
                  <a:pt x="18288" y="8224"/>
                </a:lnTo>
                <a:close/>
              </a:path>
              <a:path fill="darkenLess" w="27873" h="21600">
                <a:moveTo>
                  <a:pt x="13014" y="14299"/>
                </a:moveTo>
                <a:lnTo>
                  <a:pt x="14859" y="14299"/>
                </a:lnTo>
                <a:lnTo>
                  <a:pt x="14859" y="17989"/>
                </a:lnTo>
                <a:lnTo>
                  <a:pt x="19246" y="17989"/>
                </a:lnTo>
                <a:lnTo>
                  <a:pt x="19246" y="10800"/>
                </a:lnTo>
                <a:lnTo>
                  <a:pt x="8627" y="10800"/>
                </a:lnTo>
                <a:lnTo>
                  <a:pt x="8627" y="17989"/>
                </a:lnTo>
                <a:lnTo>
                  <a:pt x="1301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4140360" y="270828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7982" y="3837"/>
                </a:moveTo>
                <a:lnTo>
                  <a:pt x="20558" y="6448"/>
                </a:lnTo>
                <a:lnTo>
                  <a:pt x="20558" y="4707"/>
                </a:lnTo>
                <a:lnTo>
                  <a:pt x="22334" y="4707"/>
                </a:lnTo>
                <a:lnTo>
                  <a:pt x="22334" y="8224"/>
                </a:lnTo>
                <a:lnTo>
                  <a:pt x="24945" y="10800"/>
                </a:lnTo>
                <a:lnTo>
                  <a:pt x="23291" y="10800"/>
                </a:lnTo>
                <a:lnTo>
                  <a:pt x="23291" y="17989"/>
                </a:lnTo>
                <a:lnTo>
                  <a:pt x="12673" y="17989"/>
                </a:lnTo>
                <a:lnTo>
                  <a:pt x="12673" y="10800"/>
                </a:lnTo>
                <a:lnTo>
                  <a:pt x="11019" y="10800"/>
                </a:lnTo>
                <a:close/>
              </a:path>
              <a:path fill="darkenLess" w="35964" h="21600">
                <a:moveTo>
                  <a:pt x="20558" y="6448"/>
                </a:moveTo>
                <a:lnTo>
                  <a:pt x="20558" y="4707"/>
                </a:lnTo>
                <a:lnTo>
                  <a:pt x="22334" y="4707"/>
                </a:lnTo>
                <a:lnTo>
                  <a:pt x="22334" y="8224"/>
                </a:lnTo>
                <a:close/>
              </a:path>
              <a:path fill="darkenLess" w="35964" h="21600">
                <a:moveTo>
                  <a:pt x="17059" y="14299"/>
                </a:moveTo>
                <a:lnTo>
                  <a:pt x="18905" y="14299"/>
                </a:lnTo>
                <a:lnTo>
                  <a:pt x="18905" y="17989"/>
                </a:lnTo>
                <a:lnTo>
                  <a:pt x="23291" y="17989"/>
                </a:lnTo>
                <a:lnTo>
                  <a:pt x="23291" y="10800"/>
                </a:lnTo>
                <a:lnTo>
                  <a:pt x="12673" y="10800"/>
                </a:lnTo>
                <a:lnTo>
                  <a:pt x="12673" y="17989"/>
                </a:lnTo>
                <a:lnTo>
                  <a:pt x="1705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72360" y="4797360"/>
            <a:ext cx="1008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77080" y="465300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4360" y="3213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7019640" y="227664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93080" y="29242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5553720" y="2734560"/>
            <a:ext cx="122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Д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5003640" y="2708280"/>
            <a:ext cx="649440" cy="433440"/>
          </a:xfrm>
          <a:custGeom>
            <a:avLst/>
            <a:gdLst>
              <a:gd name="textAreaLeft" fmla="*/ 28080 w 649440"/>
              <a:gd name="textAreaRight" fmla="*/ 621360 w 6494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2355" h="21600">
                <a:moveTo>
                  <a:pt x="0" y="0"/>
                </a:moveTo>
                <a:lnTo>
                  <a:pt x="32355" y="0"/>
                </a:lnTo>
                <a:lnTo>
                  <a:pt x="32355" y="21600"/>
                </a:lnTo>
                <a:lnTo>
                  <a:pt x="0" y="21600"/>
                </a:lnTo>
                <a:close/>
              </a:path>
              <a:path fill="lightenLess" w="32355" h="21600">
                <a:moveTo>
                  <a:pt x="0" y="0"/>
                </a:moveTo>
                <a:lnTo>
                  <a:pt x="32355" y="0"/>
                </a:lnTo>
                <a:lnTo>
                  <a:pt x="30955" y="1400"/>
                </a:lnTo>
                <a:lnTo>
                  <a:pt x="1400" y="1400"/>
                </a:lnTo>
                <a:close/>
              </a:path>
              <a:path fill="darken" w="32355" h="21600">
                <a:moveTo>
                  <a:pt x="32355" y="0"/>
                </a:moveTo>
                <a:lnTo>
                  <a:pt x="32355" y="21600"/>
                </a:lnTo>
                <a:lnTo>
                  <a:pt x="30955" y="20200"/>
                </a:lnTo>
                <a:lnTo>
                  <a:pt x="30955" y="1400"/>
                </a:lnTo>
                <a:close/>
              </a:path>
              <a:path fill="darkenLess" w="32355" h="21600">
                <a:moveTo>
                  <a:pt x="323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5" y="20200"/>
                </a:lnTo>
                <a:close/>
              </a:path>
              <a:path fill="lighten" w="323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5" h="21600">
                <a:moveTo>
                  <a:pt x="16178" y="3837"/>
                </a:moveTo>
                <a:lnTo>
                  <a:pt x="18754" y="6448"/>
                </a:lnTo>
                <a:lnTo>
                  <a:pt x="18754" y="4707"/>
                </a:lnTo>
                <a:lnTo>
                  <a:pt x="20529" y="4707"/>
                </a:lnTo>
                <a:lnTo>
                  <a:pt x="20529" y="8224"/>
                </a:lnTo>
                <a:lnTo>
                  <a:pt x="23141" y="10800"/>
                </a:lnTo>
                <a:lnTo>
                  <a:pt x="21487" y="10800"/>
                </a:lnTo>
                <a:lnTo>
                  <a:pt x="21487" y="17989"/>
                </a:lnTo>
                <a:lnTo>
                  <a:pt x="10868" y="17989"/>
                </a:lnTo>
                <a:lnTo>
                  <a:pt x="10868" y="10800"/>
                </a:lnTo>
                <a:lnTo>
                  <a:pt x="9215" y="10800"/>
                </a:lnTo>
                <a:close/>
              </a:path>
              <a:path fill="darkenLess" w="32355" h="21600">
                <a:moveTo>
                  <a:pt x="18754" y="6448"/>
                </a:moveTo>
                <a:lnTo>
                  <a:pt x="18754" y="4707"/>
                </a:lnTo>
                <a:lnTo>
                  <a:pt x="20529" y="4707"/>
                </a:lnTo>
                <a:lnTo>
                  <a:pt x="20529" y="8224"/>
                </a:lnTo>
                <a:close/>
              </a:path>
              <a:path fill="darkenLess" w="32355" h="21600">
                <a:moveTo>
                  <a:pt x="15255" y="14299"/>
                </a:moveTo>
                <a:lnTo>
                  <a:pt x="17100" y="14299"/>
                </a:lnTo>
                <a:lnTo>
                  <a:pt x="17100" y="17989"/>
                </a:lnTo>
                <a:lnTo>
                  <a:pt x="21487" y="17989"/>
                </a:lnTo>
                <a:lnTo>
                  <a:pt x="21487" y="10800"/>
                </a:lnTo>
                <a:lnTo>
                  <a:pt x="10868" y="10800"/>
                </a:lnTo>
                <a:lnTo>
                  <a:pt x="10868" y="17989"/>
                </a:lnTo>
                <a:lnTo>
                  <a:pt x="1525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96360" y="2565360"/>
            <a:ext cx="115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9465800">
            <a:off x="6156720" y="19159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ИК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5013360"/>
            <a:ext cx="1006560" cy="6476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3716280"/>
            <a:ext cx="1006560" cy="6476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Ксан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Лекан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парм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19640" y="4869000"/>
            <a:ext cx="1006200" cy="6476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1280" y="6021360"/>
            <a:ext cx="1006560" cy="6476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be0e3"/>
                </a:solidFill>
                <a:latin typeface="Arial"/>
              </a:rPr>
              <a:t>Парме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be0e3"/>
                </a:solidFill>
                <a:latin typeface="Arial"/>
              </a:rPr>
              <a:t>фиско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35280" y="6093000"/>
            <a:ext cx="1944720" cy="36828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БЕРЕЖ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48360" y="5013360"/>
            <a:ext cx="1368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508464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лебокомбин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08000" y="5013360"/>
            <a:ext cx="1006560" cy="6476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Ксан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Лекан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парм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4869000"/>
            <a:ext cx="1006200" cy="6476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Ксан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Лекан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парм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93080" y="3860640"/>
            <a:ext cx="1006200" cy="6480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Ксан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Лекан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парм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2924280"/>
            <a:ext cx="1006560" cy="6476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Ксан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Лекан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0" y="1125360"/>
            <a:ext cx="91440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ahoma"/>
              </a:rPr>
              <a:t>Выберите правильные утверждения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ишайники – представители царства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ишайники – это единый организм, состоящий из гриба и водоросли, живущих в симбио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ишайники впитывают воду из почвы с помощью ко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ишайники можно встретить в лесу, горах, на лу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доросли синтезируют органическое вещество, грибы всасывают воду и минеральные ве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ладонии представители накипных лишай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ишайники быстро раст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еловек не использует лишайники в сво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армелия кустистый лишай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4979880"/>
            <a:ext cx="8425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правильные ответы –  молодцы! Отлично поработал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ошибка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о, но надо быть вниматель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50%  правильных ответов – придется еще раз вернуться к этой 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0360" y="5493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Ит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ля того, чтобы избежать опасности, предлаг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зеленение территории школы, ул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граничить количество машин с помощью дорожных зн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тупления перед друзьями. Родителями на природоохранные 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ции в защиту окружающ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ышение уровня экологической грамотности реб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бщение фактов об экологическом состоянии 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щита и благоустройство леса, водоё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ция школьных конкурсов, выставок на экологические 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68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68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6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6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998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13:47:21Z</dcterms:created>
  <dc:creator>галина владимировна</dc:creator>
  <dc:description/>
  <dc:language>en-US</dc:language>
  <cp:lastModifiedBy>Home</cp:lastModifiedBy>
  <dcterms:modified xsi:type="dcterms:W3CDTF">2014-01-30T13:53:24Z</dcterms:modified>
  <cp:revision>23</cp:revision>
  <dc:subject/>
  <dc:title>Слайд 1</dc:title>
</cp:coreProperties>
</file>