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C6B-A4CC-4C28-9F51-95C58435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844-4748-47E0-B40B-CAA2642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FF3-A016-4434-9A17-561E258C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9E9-58BF-42FE-BB5B-BED36E7F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C4B9-41B1-4A5E-AE62-4D8F3576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70C9-55AB-48E1-9BC7-FC157563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3D44-366E-4A08-B9EB-FB8952EC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6F52-F3FB-49EF-B1AC-EE4D410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B5A9-B24A-4909-AD34-8BA849B7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D3C4-EAC0-468F-ADD6-C4C491D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535A-B6A8-49D3-A7D6-8F91980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2E5-71B0-4AE4-816C-7A3817CA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7EC3-AAAC-4DC1-A7BA-0195065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421-B32E-4446-A637-0E7CD658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722E-EC7A-46AD-AC9B-354A0C77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CB57-B2DA-4335-BBCB-843249AD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82A5-2E12-4C0F-B109-7E8BA6E2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C259-10F6-48C3-BE07-A09C811A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7C34-F164-4083-A8C7-73851D6B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3890-3F01-47D7-9BB9-22708E6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A08C-06F4-44FE-988D-B25CBFB1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0564-08BA-4518-B212-291766C8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D1E-B052-4A16-976B-63A8ACDA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CA6C-77AE-478A-A200-645F8BC6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BD89-8A92-484E-858B-5DB9726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3400-61B7-4982-9770-3D21C9A4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58BC-AE9A-4E04-BF88-F55CCC5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C41E-360E-4E14-A05A-88D52B6A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7612-A427-4659-95E4-4FAD73E6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652B-F3E6-48B5-9658-80E1E942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7DD3-3C0C-41C9-A04A-6DA5E407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D4C8-2B83-4E9A-B087-02BB0B2D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81B2-F954-4ED2-86B8-0D87B765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3C8-0958-40BA-AEC8-EF6A5309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BFEE-5C37-42E2-9568-67AE7017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FE9C-E7FA-4F22-8BC0-0754A1A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8AB19-B60A-4490-A2FF-AFE2E64D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0E82D-6458-4A53-B287-CD9DA2EB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3464-59DD-4847-B9D3-DCB9F3BE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333A-A492-48C6-82FD-B552E5C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A7F6-C60B-4495-9290-B07C7E81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248B-0042-4FD8-AE49-A5DBC6A5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6F53-687D-4276-8F61-200CE42A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A60-13E3-4510-9DB8-E55FA89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C61-B483-4011-B1A5-CD8D548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340-2C8E-4FE2-91CB-E1ED0A3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383-0032-40CC-B0EE-0BED02F7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D37-D752-49CF-8BD6-F00EEF3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E40-082D-4CA5-9708-6D58D7FC4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B5B0-53F6-4165-A286-F5D38ED47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BBD-C240-4E55-8E1D-44697E0957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FE74-299C-4B24-8A18-8DA50628186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962160" cy="297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038840" cy="2882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3"/>
          <a:stretch/>
        </p:blipFill>
        <p:spPr>
          <a:xfrm>
            <a:off x="3657600" y="457200"/>
            <a:ext cx="5029200" cy="327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9"/>
          <p:cNvSpPr/>
          <p:nvPr/>
        </p:nvSpPr>
        <p:spPr>
          <a:xfrm>
            <a:off x="4572000" y="152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7620120" y="228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 flipV="1">
            <a:off x="3505320" y="2513520"/>
            <a:ext cx="28191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 flipV="1" rot="10800000">
            <a:off x="3503520" y="2512800"/>
            <a:ext cx="282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параподия (поперечный разрез); Б – головной отдел; 1 – щупальце (антенна); 2 – щупик (пальп); 3 – усики; 4 – глаза; 5 - ще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 flipV="1">
            <a:off x="8153280" y="533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305920" y="3808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 flipH="1">
            <a:off x="6476760" y="83808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6477120" y="10666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248520" y="990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781680" y="1600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6781680" y="16002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6477120" y="2514600"/>
            <a:ext cx="22860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4267080" y="1066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4952880" y="457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4572000" y="762120"/>
            <a:ext cx="1522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457200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4876920" y="228600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1f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1886040" cy="4800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6486480" cy="26575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167652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1414"/>
                </a:solidFill>
                <a:latin typeface="Arial"/>
              </a:rPr>
              <a:t>Вторичная полость тела или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3"/>
          <a:srcRect l="0" t="0" r="46294" b="59083"/>
          <a:stretch/>
        </p:blipFill>
        <p:spPr>
          <a:xfrm>
            <a:off x="1371600" y="3886200"/>
            <a:ext cx="409248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1752480" y="685800"/>
            <a:ext cx="5791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1414"/>
                </a:solidFill>
                <a:latin typeface="Arial"/>
              </a:rPr>
              <a:t>Бионика (англ. bionics) — наука, изучающая принципы строения и функционирования живых организмов для решения инженерных задач: совершенствования и конструирования машин, приборов, строительных конструкций и технологически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бщая характеристика черв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762120"/>
          <a:ext cx="8610840" cy="5870520"/>
        </p:xfrm>
        <a:graphic>
          <a:graphicData uri="http://schemas.openxmlformats.org/drawingml/2006/table">
            <a:tbl>
              <a:tblPr/>
              <a:tblGrid>
                <a:gridCol w="2438640"/>
                <a:gridCol w="6172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Тип Кольчатые че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1. Представ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2. Чис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3. Среда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4. Симмет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5. Форма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6. </a:t>
                      </a:r>
                      <a:r>
                        <a:rPr b="0" lang="ru-RU" sz="16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Пол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7. Сло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8. </a:t>
                      </a:r>
                      <a:r>
                        <a:rPr b="0" lang="ru-RU" sz="1600" spc="-1" strike="noStrike" u="sng">
                          <a:solidFill>
                            <a:srgbClr val="00ccff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Кожно-мускульный ме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9. Тк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61616"/>
                          </a:solidFill>
                          <a:latin typeface="Tahoma"/>
                        </a:rPr>
                        <a:t>10. Системы орг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77"/>
          <p:cNvSpPr/>
          <p:nvPr/>
        </p:nvSpPr>
        <p:spPr>
          <a:xfrm>
            <a:off x="2819520" y="1143000"/>
            <a:ext cx="60958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ласс Многощетинковые (нереида, пескожил, серпу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ласс Малощетинковые (дождевой червь, трубоч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Arial"/>
              </a:rPr>
              <a:t>Класс Пия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2"/>
          <p:cNvSpPr/>
          <p:nvPr/>
        </p:nvSpPr>
        <p:spPr>
          <a:xfrm>
            <a:off x="3124080" y="1828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Около 9 тыс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3"/>
          <p:cNvSpPr/>
          <p:nvPr/>
        </p:nvSpPr>
        <p:spPr>
          <a:xfrm>
            <a:off x="2971800" y="2286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Водная, поч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4"/>
          <p:cNvSpPr/>
          <p:nvPr/>
        </p:nvSpPr>
        <p:spPr>
          <a:xfrm>
            <a:off x="2971800" y="2819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вусторонняя симме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5"/>
          <p:cNvSpPr/>
          <p:nvPr/>
        </p:nvSpPr>
        <p:spPr>
          <a:xfrm>
            <a:off x="2895480" y="3352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Тело вытянутое, состоит из сегментов или ко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7"/>
          <p:cNvSpPr/>
          <p:nvPr/>
        </p:nvSpPr>
        <p:spPr>
          <a:xfrm>
            <a:off x="2895480" y="3886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Вторичная,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2819520" y="44197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3 слоя: эктодерма, мезодерма, энтоде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0"/>
          <p:cNvSpPr/>
          <p:nvPr/>
        </p:nvSpPr>
        <p:spPr>
          <a:xfrm>
            <a:off x="2895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Тонкая кутикула+эпителий+ кольцевые и продольные мыш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2895480" y="5410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4 типа: соединительная, мышечная, эпителиальная, нер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2"/>
          <p:cNvSpPr/>
          <p:nvPr/>
        </p:nvSpPr>
        <p:spPr>
          <a:xfrm>
            <a:off x="2971800" y="5943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Опорно-двигательная, пищеварительная, выделительная, нервная, половая, кровено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36673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0" y="30492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Arial"/>
              </a:rPr>
              <a:t>Схема строение кожно-мускульного м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0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209680" cy="2757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3"/>
          <p:cNvSpPr/>
          <p:nvPr/>
        </p:nvSpPr>
        <p:spPr>
          <a:xfrm rot="5400000">
            <a:off x="6819840" y="2171520"/>
            <a:ext cx="2438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2743200" y="2133720"/>
            <a:ext cx="1066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228600" y="2286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5943600" y="2286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>
            <a:off x="3048120" y="2286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7"/>
          <p:cNvSpPr/>
          <p:nvPr/>
        </p:nvSpPr>
        <p:spPr>
          <a:xfrm>
            <a:off x="4572000" y="2743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8"/>
          <p:cNvSpPr/>
          <p:nvPr/>
        </p:nvSpPr>
        <p:spPr>
          <a:xfrm>
            <a:off x="1752480" y="2743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9"/>
          <p:cNvSpPr/>
          <p:nvPr/>
        </p:nvSpPr>
        <p:spPr>
          <a:xfrm rot="5400000">
            <a:off x="1218960" y="4724280"/>
            <a:ext cx="25146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276720" y="533412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4419720" y="228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7315200" y="228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4"/>
          <p:cNvSpPr/>
          <p:nvPr/>
        </p:nvSpPr>
        <p:spPr>
          <a:xfrm>
            <a:off x="1600200" y="228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739152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6"/>
          <p:cNvSpPr/>
          <p:nvPr/>
        </p:nvSpPr>
        <p:spPr>
          <a:xfrm>
            <a:off x="5943600" y="2743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3124080" y="2743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8"/>
          <p:cNvSpPr/>
          <p:nvPr/>
        </p:nvSpPr>
        <p:spPr>
          <a:xfrm>
            <a:off x="182880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>
            <a:off x="4648320" y="5334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1"/>
          <p:cNvSpPr/>
          <p:nvPr/>
        </p:nvSpPr>
        <p:spPr>
          <a:xfrm>
            <a:off x="228600" y="3049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ы органов и их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2"/>
          <p:cNvSpPr/>
          <p:nvPr/>
        </p:nvSpPr>
        <p:spPr>
          <a:xfrm>
            <a:off x="1676520" y="380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3"/>
          <p:cNvSpPr/>
          <p:nvPr/>
        </p:nvSpPr>
        <p:spPr>
          <a:xfrm>
            <a:off x="2971800" y="228600"/>
            <a:ext cx="160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аляет жидкие вредные для организма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4"/>
          <p:cNvSpPr/>
          <p:nvPr/>
        </p:nvSpPr>
        <p:spPr>
          <a:xfrm>
            <a:off x="4419720" y="380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5"/>
          <p:cNvSpPr/>
          <p:nvPr/>
        </p:nvSpPr>
        <p:spPr>
          <a:xfrm>
            <a:off x="5943600" y="22860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ивает связь организма с окружающей сре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7315200" y="380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7"/>
          <p:cNvSpPr/>
          <p:nvPr/>
        </p:nvSpPr>
        <p:spPr>
          <a:xfrm>
            <a:off x="7467480" y="16765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аривает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739152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9"/>
          <p:cNvSpPr/>
          <p:nvPr/>
        </p:nvSpPr>
        <p:spPr>
          <a:xfrm>
            <a:off x="5943600" y="28195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вует в воспроизведении потом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0"/>
          <p:cNvSpPr/>
          <p:nvPr/>
        </p:nvSpPr>
        <p:spPr>
          <a:xfrm>
            <a:off x="4572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ьное 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1"/>
          <p:cNvSpPr/>
          <p:nvPr/>
        </p:nvSpPr>
        <p:spPr>
          <a:xfrm>
            <a:off x="3124080" y="2819520"/>
            <a:ext cx="152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даляет твердые непереваренные оста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2"/>
          <p:cNvSpPr/>
          <p:nvPr/>
        </p:nvSpPr>
        <p:spPr>
          <a:xfrm>
            <a:off x="1828800" y="28195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жно-мускульный м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3"/>
          <p:cNvSpPr/>
          <p:nvPr/>
        </p:nvSpPr>
        <p:spPr>
          <a:xfrm>
            <a:off x="1828800" y="41911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щита внутренних органов, дви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4"/>
          <p:cNvSpPr/>
          <p:nvPr/>
        </p:nvSpPr>
        <p:spPr>
          <a:xfrm>
            <a:off x="1828800" y="541008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носит кислород и углекислый г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5"/>
          <p:cNvSpPr/>
          <p:nvPr/>
        </p:nvSpPr>
        <p:spPr>
          <a:xfrm>
            <a:off x="3276720" y="54100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6"/>
          <p:cNvSpPr/>
          <p:nvPr/>
        </p:nvSpPr>
        <p:spPr>
          <a:xfrm>
            <a:off x="2209680" y="19051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ООЛОГ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7"/>
          <p:cNvSpPr/>
          <p:nvPr/>
        </p:nvSpPr>
        <p:spPr>
          <a:xfrm>
            <a:off x="304920" y="1752480"/>
            <a:ext cx="7617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8"/>
          <p:cNvSpPr/>
          <p:nvPr/>
        </p:nvSpPr>
        <p:spPr>
          <a:xfrm>
            <a:off x="7238880" y="56386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553080" cy="367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1066680" y="685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Внутреннее строение кольчатого черв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ма синкве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ва прилагательных, раскрывающих характерные признаки явления,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Три глагола, раскрывающ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Фраза, раскрывающая суть явления, усиливающая предыдущие две стро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Вывод, отражающий личное отношение к я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45:17Z</dcterms:created>
  <dc:creator>Администратор</dc:creator>
  <dc:description/>
  <dc:language>en-US</dc:language>
  <cp:lastModifiedBy>DNA7 X86</cp:lastModifiedBy>
  <dcterms:modified xsi:type="dcterms:W3CDTF">2014-01-30T17:40:5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