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F13-74A4-48FF-A1BC-15BDAD93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7C5-A7F1-4679-AB79-68791ABB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529-98D6-44D2-8B49-D9497BEB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0EC-099D-4E7B-AE62-AC8B9936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EB08-9A5B-47D4-B29E-058EB8A3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A508-54FA-465C-B26A-C0B2C867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E654-217B-416B-8867-F505F263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2992-51C7-4A8C-A6BF-789316DD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32C8-0065-42C9-8588-DC552647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CAAB-7DAB-4162-AA26-0E7DC818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5A18-63E4-43AC-8BF3-4F7D67B8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795-ED41-4CBB-B1E0-59043596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5355-9C10-46FC-8B08-4C36B4C9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27AE-D5EB-4719-B042-D59D598B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F405-4C26-4937-95A3-574079F0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6B20-088C-4B77-A19F-FAEE686E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8CE1-2F4F-4D42-A936-32569F0B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E59AC-E7A0-48F5-9813-8A606ECB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87C7E-393C-4B15-B68E-DA58CA38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EAB52-8511-45FD-894D-B1EF8ABE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7C072-23F3-459A-BDDB-41FB0995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FDCE3-E2CB-4359-8BEB-75A0BCAD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F1A-BAAC-4E26-ABF7-313A7423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EA980-E618-43EC-B483-EE3A1054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A03F-B005-48FA-A2EA-2A5B8926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36C25-060C-4392-BAD8-6636FAB0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0194-84CB-45F9-BCD3-97D7E4C5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C5B3-3006-49A5-95EF-A95B4248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E38C8-6071-4157-89A4-E8547C4C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A0D2-45C2-470D-A18A-0E8CDCA8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C3573-F3CA-4491-ADF9-B60BFD04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245628-16C9-4775-9AEE-19D87FE1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FDAFB-1C8A-4008-A67C-A2318BC2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69D-5A87-4ED6-A1DF-FA8A77D6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C992C-E860-432E-844C-0558F768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FF0BD-7C27-459D-B01A-D0A00FA1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97E5B-0B40-46AB-AB83-7A127216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AA3FA-BB57-4846-AF74-CD749AEA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1E274-4695-4AAF-BD54-E21F5372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F55F92-57F2-4AA0-8872-0771865D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90D20F-5339-46A2-937B-3621BDBC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DB1409-4AFF-4790-86E1-AAB2E0AE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567015-446F-45CD-A284-96A8231B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43EF1-F179-4D03-8199-8974BF26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37B-A91C-49EF-9E37-45A17272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DDD8E-D1F3-49D8-8A62-DB019D1B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5740C-3C20-44DA-A013-EB9B1578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1192F-7A87-4E23-8CBD-9F69016E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039EF-3C43-4C2F-AC30-3E79CF55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7AFFA-9406-4D41-BD89-ECBCFDA2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139B9-F96F-4924-A81A-FD0BEBBC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2A5DE-D3AF-4388-B3F3-3788071D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302BA-29EF-4562-A877-D4C97F57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ECDF73-1226-4125-AAF0-DA7DDDEA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990A0-1800-4851-89CE-F80F6927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1A7-C3F0-4EF8-B70B-F84497EE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0E05D-4704-4582-8681-ACED0FB7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6A53F-9720-4C64-B45E-6A65D870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46AB0-27BF-4966-A6FF-0DB17AFA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E2CA5-B836-41EF-B8A9-BEA935BF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EDF0F-9A20-4A55-9AC0-4716FE8E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7AC9F-D634-470B-8BA1-E4C622EE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A13E0-456A-4E0F-89F9-3676DDD1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A0C3D-A63C-45BC-95EE-0A71FEA5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3D086-60F2-48C7-B7DD-08BE7FB6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837F9-D6BE-42C6-AC3A-0DCCF083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8F3-1486-4DCB-A20E-9D0EF17B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83805-A823-408E-B126-D4530320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1A85E-C5EE-4FB7-9FE6-55CC7759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F96B3-9F64-433F-9BBC-09313B55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5CD13-C1B2-4868-9D91-C8F91B2F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B728C-2846-4BFA-8D8F-E75EC2FE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49F54-8BA7-41D7-B17F-31DAAEF8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37B51-8EF5-4F40-A8D4-1547AE13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C7243-ED33-4A96-8041-DDCB1C87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4DDCB-BFAA-4552-818E-22603DB3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D41AF-94AC-4DC9-9F8B-D12AA8E7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E24-6683-4052-9B1A-539FA589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8CE64-1D89-4F30-8FA6-B206408B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550D3-53AC-4CD5-9F03-8C36D80B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6CEE6-D6D8-4F58-BE53-C2564AA4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DE8B2-C9A2-4CD5-902E-163956A3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C7C39-F987-43BC-B50E-2927BABE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EFD-4B8A-4BF3-B307-8C4BC189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31AA-8F9A-4F04-B858-25A4514103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B09A-8AAE-4989-98D3-35E19AA055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294A-1838-4161-B0CB-0B886E279B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7A42-E88C-47C1-9496-810DAB35593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7656-297D-4052-8A68-E45775D798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8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8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9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1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3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4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F817-DAF4-440C-93A8-9B1EE46DAD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7ABC-A294-48B9-8263-B1A8B2875C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2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ahoma"/>
              </a:rPr>
              <a:t>Урок биологии в 7 класс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Тема урока «Общая характеристика Типа Кольчатые черви. Класс Многощетинковые черв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дготовила:   учитель би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МБОУ СОШ №62 г. Тулы Балабанова Т.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1066680" y="1397160"/>
          <a:ext cx="7315200" cy="4668840"/>
        </p:xfrm>
        <a:graphic>
          <a:graphicData uri="http://schemas.openxmlformats.org/drawingml/2006/table">
            <a:tbl>
              <a:tblPr/>
              <a:tblGrid>
                <a:gridCol w="384120"/>
                <a:gridCol w="385920"/>
                <a:gridCol w="384120"/>
                <a:gridCol w="385920"/>
                <a:gridCol w="385560"/>
                <a:gridCol w="385920"/>
                <a:gridCol w="384120"/>
                <a:gridCol w="384120"/>
                <a:gridCol w="385920"/>
                <a:gridCol w="384120"/>
                <a:gridCol w="385560"/>
                <a:gridCol w="384480"/>
                <a:gridCol w="384120"/>
                <a:gridCol w="385560"/>
                <a:gridCol w="385920"/>
                <a:gridCol w="385560"/>
                <a:gridCol w="384480"/>
                <a:gridCol w="385560"/>
                <a:gridCol w="384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438" name="Text Box 1574"/>
          <p:cNvSpPr/>
          <p:nvPr/>
        </p:nvSpPr>
        <p:spPr>
          <a:xfrm>
            <a:off x="838080" y="460440"/>
            <a:ext cx="80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оссворд на тему «Тип Плоские и Круглые черв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577"/>
          <p:cNvSpPr/>
          <p:nvPr/>
        </p:nvSpPr>
        <p:spPr>
          <a:xfrm>
            <a:off x="3420720" y="3048120"/>
            <a:ext cx="49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 К    О   Н    Ч   А    Т    Е    Л   Ь   Н    Ы   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578"/>
          <p:cNvSpPr/>
          <p:nvPr/>
        </p:nvSpPr>
        <p:spPr>
          <a:xfrm>
            <a:off x="1066680" y="41148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И    Ч    Н   И    К  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579"/>
          <p:cNvSpPr/>
          <p:nvPr/>
        </p:nvSpPr>
        <p:spPr>
          <a:xfrm>
            <a:off x="1447920" y="51055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   А    Р   Е    Н    Х    И   М   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580"/>
          <p:cNvSpPr/>
          <p:nvPr/>
        </p:nvSpPr>
        <p:spPr>
          <a:xfrm>
            <a:off x="1828800" y="1447920"/>
            <a:ext cx="30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Е Р В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583"/>
          <p:cNvSpPr/>
          <p:nvPr/>
        </p:nvSpPr>
        <p:spPr>
          <a:xfrm>
            <a:off x="1905120" y="4648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84"/>
          <p:cNvSpPr/>
          <p:nvPr/>
        </p:nvSpPr>
        <p:spPr>
          <a:xfrm>
            <a:off x="182880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587"/>
          <p:cNvSpPr/>
          <p:nvPr/>
        </p:nvSpPr>
        <p:spPr>
          <a:xfrm>
            <a:off x="18288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588"/>
          <p:cNvSpPr/>
          <p:nvPr/>
        </p:nvSpPr>
        <p:spPr>
          <a:xfrm>
            <a:off x="4191120" y="1523880"/>
            <a:ext cx="30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 Е 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589"/>
          <p:cNvSpPr/>
          <p:nvPr/>
        </p:nvSpPr>
        <p:spPr>
          <a:xfrm>
            <a:off x="4191120" y="3505320"/>
            <a:ext cx="22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 Е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590"/>
          <p:cNvSpPr/>
          <p:nvPr/>
        </p:nvSpPr>
        <p:spPr>
          <a:xfrm>
            <a:off x="4191120" y="5638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591"/>
          <p:cNvSpPr/>
          <p:nvPr/>
        </p:nvSpPr>
        <p:spPr>
          <a:xfrm>
            <a:off x="5334120" y="1981080"/>
            <a:ext cx="22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592"/>
          <p:cNvSpPr/>
          <p:nvPr/>
        </p:nvSpPr>
        <p:spPr>
          <a:xfrm>
            <a:off x="5334120" y="3505320"/>
            <a:ext cx="3045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      Н О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593"/>
          <p:cNvSpPr/>
          <p:nvPr/>
        </p:nvSpPr>
        <p:spPr>
          <a:xfrm>
            <a:off x="7238880" y="1523880"/>
            <a:ext cx="22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 Е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94"/>
          <p:cNvSpPr/>
          <p:nvPr/>
        </p:nvSpPr>
        <p:spPr>
          <a:xfrm>
            <a:off x="7238880" y="3505320"/>
            <a:ext cx="228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Ч Н Ы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95"/>
          <p:cNvSpPr/>
          <p:nvPr/>
        </p:nvSpPr>
        <p:spPr>
          <a:xfrm>
            <a:off x="1906560" y="13939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96"/>
          <p:cNvSpPr/>
          <p:nvPr/>
        </p:nvSpPr>
        <p:spPr>
          <a:xfrm>
            <a:off x="685800" y="44956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597"/>
          <p:cNvSpPr/>
          <p:nvPr/>
        </p:nvSpPr>
        <p:spPr>
          <a:xfrm>
            <a:off x="1219320" y="39625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98"/>
          <p:cNvSpPr/>
          <p:nvPr/>
        </p:nvSpPr>
        <p:spPr>
          <a:xfrm>
            <a:off x="1523880" y="5029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599"/>
          <p:cNvSpPr/>
          <p:nvPr/>
        </p:nvSpPr>
        <p:spPr>
          <a:xfrm>
            <a:off x="4191120" y="14479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600"/>
          <p:cNvSpPr/>
          <p:nvPr/>
        </p:nvSpPr>
        <p:spPr>
          <a:xfrm>
            <a:off x="3505320" y="2971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601"/>
          <p:cNvSpPr/>
          <p:nvPr/>
        </p:nvSpPr>
        <p:spPr>
          <a:xfrm>
            <a:off x="5334120" y="19051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602"/>
          <p:cNvSpPr/>
          <p:nvPr/>
        </p:nvSpPr>
        <p:spPr>
          <a:xfrm>
            <a:off x="7238880" y="14479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603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1676160" cy="12621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604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1447920" cy="13762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605" descr=""/>
          <p:cNvPicPr/>
          <p:nvPr/>
        </p:nvPicPr>
        <p:blipFill>
          <a:blip r:embed="rId3"/>
          <a:stretch/>
        </p:blipFill>
        <p:spPr>
          <a:xfrm>
            <a:off x="5791320" y="182880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7"/>
          <p:cNvSpPr/>
          <p:nvPr/>
        </p:nvSpPr>
        <p:spPr>
          <a:xfrm>
            <a:off x="380880" y="304920"/>
            <a:ext cx="769644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Общая характеристика Типа Кольчатые черви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nelida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Класс Многощетинковые черви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ychaeta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8" descr=""/>
          <p:cNvPicPr/>
          <p:nvPr/>
        </p:nvPicPr>
        <p:blipFill>
          <a:blip r:embed="rId1"/>
          <a:stretch/>
        </p:blipFill>
        <p:spPr>
          <a:xfrm>
            <a:off x="3524400" y="3400560"/>
            <a:ext cx="56196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Изучить среду обитания, многообразие и значение в природе кольчатых черв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Изучить внешнее и внутреннее строение многощетинковых черв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Изучить процессы жизнедеятельности многощетинковых черв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8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"/>
          <p:cNvGraphicFramePr/>
          <p:nvPr/>
        </p:nvGraphicFramePr>
        <p:xfrm>
          <a:off x="304920" y="1371600"/>
          <a:ext cx="8686800" cy="4064040"/>
        </p:xfrm>
        <a:graphic>
          <a:graphicData uri="http://schemas.openxmlformats.org/drawingml/2006/table">
            <a:tbl>
              <a:tblPr/>
              <a:tblGrid>
                <a:gridCol w="1800000"/>
                <a:gridCol w="2465640"/>
                <a:gridCol w="2385720"/>
                <a:gridCol w="203544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Многощетинковые или полихеты</a:t>
                      </a:r>
                      <a:r>
                        <a:rPr b="0" lang="ru-RU" sz="20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 (53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Морские обит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Малощетинковые или олигохеты</a:t>
                      </a:r>
                      <a:r>
                        <a:rPr b="0" lang="ru-RU" sz="20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 (3100 видов) Почвенные и пресноводные ж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Пияв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(300 видов) Пресноводные свободноживущие или параз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Пред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вит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Нереида, </a:t>
                      </a:r>
                      <a:r>
                        <a:rPr b="0" lang="ru-RU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пескожил, </a:t>
                      </a:r>
                      <a:r>
                        <a:rPr b="0" lang="ru-RU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серп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Дождевой червь, трубоч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Пияв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Text Box 45"/>
          <p:cNvSpPr/>
          <p:nvPr/>
        </p:nvSpPr>
        <p:spPr>
          <a:xfrm>
            <a:off x="30492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Тип Кольчатые черви (около 9000 вид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2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4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025800" cy="30621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3810240" cy="2719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343400" cy="323028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7"/>
          <p:cNvSpPr/>
          <p:nvPr/>
        </p:nvSpPr>
        <p:spPr>
          <a:xfrm>
            <a:off x="914400" y="5335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НЕРЕИДА или НЕРЕ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5:45:17Z</dcterms:created>
  <dc:creator>Администратор</dc:creator>
  <dc:description/>
  <dc:language>en-US</dc:language>
  <cp:lastModifiedBy>DNA7 X86</cp:lastModifiedBy>
  <dcterms:modified xsi:type="dcterms:W3CDTF">2014-01-30T17:38:46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