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EB49-C016-426E-B52E-8B04DB77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7E8-71F9-4120-BFD0-F6827593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E3F2-1C9E-4CF5-B557-7726BCAA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732A-6375-4F2A-B920-B1C0ECF4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E150-051C-47D4-A02D-3FFA7C6E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86B7-B973-4825-A3D1-E502C947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FD62-EEF9-4CDD-95C8-A73472FD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839B-D3D6-4CB9-B1A1-CAEA6A85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D669-C724-4E54-817D-7E2232E8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7A71-192F-4DCF-BDCE-00765E3A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6103-5DAA-4743-95A2-BC2B77C9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55E-65F9-4EA6-AA84-26B24E61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ED21-9013-427A-BB2F-D33ADD87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11AD-2BD9-4F82-B696-8795EABA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F550-247C-4440-8CF4-DF7A3C92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A078-0176-4625-8409-C4B41A64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B458-7AFE-4BF2-AA49-EF0DD25A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DE65A-6508-4EAA-AA12-3D6FECC4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24F11-90C8-4245-A92C-3AF30BBD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03B5E-70DF-45CA-A71B-D0F6A7E9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A5EBF-DC2A-4678-BFCA-B0C9FEAD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E1C7A-5080-4156-8B58-10D7CD22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7FA-B848-4E21-AA35-17655AD4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368AF-BBE3-41EA-BFE0-2B179D25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8FD5D-4393-48E9-9348-E2431A6B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D3807-7DA0-47BB-98B4-78C9542B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6A36D-7237-461D-998C-25331AEB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8EB43-B531-4A47-891D-21EB2334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4A7BE-8253-4151-8912-FFAA587F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74337-637E-4B10-ACE4-0AF28C22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747422-5138-48E6-B917-CE80B00E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512E87-2757-4BDB-8C11-37A7FF10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907EDC-88EE-4BCA-B362-F635485D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FE6C-B764-4F67-8DB8-A03E71E3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0355DA-6766-429A-902C-09876A35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17FCB8-1DA2-448B-B52D-4B315615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1CD634-91B9-4D40-B134-7B6EBBF4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DEF245-EEE1-4BE1-A258-00B3B082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5F3C00-B530-452F-96C6-722E8515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F90149-5ECD-4928-8CA8-7C7C558B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A5C285-5A0F-40B1-816D-73ECB0D3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A131CF-6355-4178-AA11-4EB92F3B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14975C-E10D-4265-B444-D0F661C3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70AE29-4D1D-4D1B-AF1F-7A57D09B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B28C-8255-4503-98CE-7EBA5A8F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8BA479-4CEF-439A-A7A2-47099159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73B413-05E6-4E9A-9734-74F29AB5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12AE08-ADDA-444E-A434-F9368238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3B6F9-A1C8-4AF7-A491-82F84EDF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DB0777-CE3A-4DD8-882C-7F77C48E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567733-2D48-4262-B4F1-8E3F85EA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3BB4D8-EC5C-4B34-A5D6-A8717E56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2D5F00-FDA8-4AAD-AE5F-1B8C34C7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732749-4797-4814-B2C0-01EBC88E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C35D64-480D-4175-8A87-823C5C65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14D5-2FC5-4601-820E-9B1FEC6F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3CDDF-1708-465F-A3B0-B245E53E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5673F-12AC-466A-9A12-FBFE2FD4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4C55F-4F5A-4E8A-AE57-3539352D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3FF63-2C44-402E-8DED-D83EC831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F38FF-AAED-4072-90C9-C0832AE0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80973-6949-46E6-8137-BF41A316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987DB-D766-42E2-B710-71981CCD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1BD63-F675-42C2-8650-413DEB52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BDAC5-8A23-4219-BDED-3F2D2532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10B6A-6B1D-41AC-ABDA-228E8C04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07B6-B15C-46C7-9CC7-66BABF30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59C01-92D5-4B2D-ACD6-2ABE395D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EAF0A-09F3-4AF4-B0BE-E740676C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1E351-85B4-4DD2-BACD-734C6C74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49383-67BB-447F-8B5F-054D56B5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28FAC-2A04-45F4-85A9-04BE3FA5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DC0F1-8492-493A-B25D-6818890F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D2567-48B7-4E5E-A761-6F6A0DA4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CD6C6-28E9-4D07-AA9C-1787E20B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13E7E-ED6C-44F2-99D1-2EEB3189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AFE22-C230-467C-AF50-42AD507F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938-D848-4383-B9CD-B04AF48C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00E80-A2F0-4C19-9E2D-54A33E57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C8D4D-652C-47D0-BEDF-546E6977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EB3E2-A440-48CB-AFFF-A0B6EADD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D5DAC-004B-4DD7-86A6-7BCD1B5E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C447E-25DE-4F19-BFF6-9C5071CD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16B1-8993-4F74-B5DC-759882EF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5167-FAA4-4F0F-9908-AB930E2AED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60D6-E792-4EDE-A72D-4EB1A3F475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6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8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7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5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986F-4098-4F5F-9875-D08EBAE265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8B6B-57D9-49AC-B536-F444D09C457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66E7-E36F-4947-8787-3EE7D01B01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81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83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95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14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32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4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029C-5018-40AB-9B18-D364A6EAA0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86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87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2DE3-CF1C-485E-82C1-A40B450F3B1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e2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61616"/>
                </a:solidFill>
                <a:latin typeface="Tahoma"/>
              </a:rPr>
              <a:t>Урок биологии в 7 класс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Тема урока «Общая характеристика Типа Кольчатые черви. Класс Многощетинковые черв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Подготовила:   учитель би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МБОУ СОШ №62 г. Тулы Балабанова Т.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1066680" y="1397160"/>
          <a:ext cx="7315200" cy="4668840"/>
        </p:xfrm>
        <a:graphic>
          <a:graphicData uri="http://schemas.openxmlformats.org/drawingml/2006/table">
            <a:tbl>
              <a:tblPr/>
              <a:tblGrid>
                <a:gridCol w="384120"/>
                <a:gridCol w="385920"/>
                <a:gridCol w="384120"/>
                <a:gridCol w="385920"/>
                <a:gridCol w="385560"/>
                <a:gridCol w="385920"/>
                <a:gridCol w="384120"/>
                <a:gridCol w="384120"/>
                <a:gridCol w="385920"/>
                <a:gridCol w="384120"/>
                <a:gridCol w="385560"/>
                <a:gridCol w="384480"/>
                <a:gridCol w="384120"/>
                <a:gridCol w="385560"/>
                <a:gridCol w="385920"/>
                <a:gridCol w="385560"/>
                <a:gridCol w="384480"/>
                <a:gridCol w="385560"/>
                <a:gridCol w="384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sp>
        <p:nvSpPr>
          <p:cNvPr id="438" name="Text Box 1574"/>
          <p:cNvSpPr/>
          <p:nvPr/>
        </p:nvSpPr>
        <p:spPr>
          <a:xfrm>
            <a:off x="838080" y="460440"/>
            <a:ext cx="80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россворд на тему «Тип Плоские и Круглые черв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577"/>
          <p:cNvSpPr/>
          <p:nvPr/>
        </p:nvSpPr>
        <p:spPr>
          <a:xfrm>
            <a:off x="3420720" y="3048120"/>
            <a:ext cx="49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 К    О   Н    Ч   А    Т    Е    Л   Ь   Н    Ы   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578"/>
          <p:cNvSpPr/>
          <p:nvPr/>
        </p:nvSpPr>
        <p:spPr>
          <a:xfrm>
            <a:off x="1066680" y="41148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И    Ч    Н   И    К   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579"/>
          <p:cNvSpPr/>
          <p:nvPr/>
        </p:nvSpPr>
        <p:spPr>
          <a:xfrm>
            <a:off x="1447920" y="51055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   А    Р   Е    Н    Х    И   М   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580"/>
          <p:cNvSpPr/>
          <p:nvPr/>
        </p:nvSpPr>
        <p:spPr>
          <a:xfrm>
            <a:off x="1828800" y="1447920"/>
            <a:ext cx="30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Е Р В 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583"/>
          <p:cNvSpPr/>
          <p:nvPr/>
        </p:nvSpPr>
        <p:spPr>
          <a:xfrm>
            <a:off x="1905120" y="4648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584"/>
          <p:cNvSpPr/>
          <p:nvPr/>
        </p:nvSpPr>
        <p:spPr>
          <a:xfrm>
            <a:off x="182880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587"/>
          <p:cNvSpPr/>
          <p:nvPr/>
        </p:nvSpPr>
        <p:spPr>
          <a:xfrm>
            <a:off x="1828800" y="5638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588"/>
          <p:cNvSpPr/>
          <p:nvPr/>
        </p:nvSpPr>
        <p:spPr>
          <a:xfrm>
            <a:off x="4191120" y="1523880"/>
            <a:ext cx="304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 Е 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589"/>
          <p:cNvSpPr/>
          <p:nvPr/>
        </p:nvSpPr>
        <p:spPr>
          <a:xfrm>
            <a:off x="4191120" y="3505320"/>
            <a:ext cx="228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 Е 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590"/>
          <p:cNvSpPr/>
          <p:nvPr/>
        </p:nvSpPr>
        <p:spPr>
          <a:xfrm>
            <a:off x="4191120" y="56386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591"/>
          <p:cNvSpPr/>
          <p:nvPr/>
        </p:nvSpPr>
        <p:spPr>
          <a:xfrm>
            <a:off x="5334120" y="1981080"/>
            <a:ext cx="22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592"/>
          <p:cNvSpPr/>
          <p:nvPr/>
        </p:nvSpPr>
        <p:spPr>
          <a:xfrm>
            <a:off x="5334120" y="3505320"/>
            <a:ext cx="3045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Ь      Н О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593"/>
          <p:cNvSpPr/>
          <p:nvPr/>
        </p:nvSpPr>
        <p:spPr>
          <a:xfrm>
            <a:off x="7238880" y="1523880"/>
            <a:ext cx="228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 Е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94"/>
          <p:cNvSpPr/>
          <p:nvPr/>
        </p:nvSpPr>
        <p:spPr>
          <a:xfrm>
            <a:off x="7238880" y="3505320"/>
            <a:ext cx="228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Ч Н Ы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595"/>
          <p:cNvSpPr/>
          <p:nvPr/>
        </p:nvSpPr>
        <p:spPr>
          <a:xfrm>
            <a:off x="1906560" y="139392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596"/>
          <p:cNvSpPr/>
          <p:nvPr/>
        </p:nvSpPr>
        <p:spPr>
          <a:xfrm>
            <a:off x="685800" y="44956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597"/>
          <p:cNvSpPr/>
          <p:nvPr/>
        </p:nvSpPr>
        <p:spPr>
          <a:xfrm>
            <a:off x="1219320" y="39625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598"/>
          <p:cNvSpPr/>
          <p:nvPr/>
        </p:nvSpPr>
        <p:spPr>
          <a:xfrm>
            <a:off x="1523880" y="5029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599"/>
          <p:cNvSpPr/>
          <p:nvPr/>
        </p:nvSpPr>
        <p:spPr>
          <a:xfrm>
            <a:off x="4191120" y="14479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600"/>
          <p:cNvSpPr/>
          <p:nvPr/>
        </p:nvSpPr>
        <p:spPr>
          <a:xfrm>
            <a:off x="3505320" y="29718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601"/>
          <p:cNvSpPr/>
          <p:nvPr/>
        </p:nvSpPr>
        <p:spPr>
          <a:xfrm>
            <a:off x="5334120" y="19051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602"/>
          <p:cNvSpPr/>
          <p:nvPr/>
        </p:nvSpPr>
        <p:spPr>
          <a:xfrm>
            <a:off x="7238880" y="14479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603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1676160" cy="12621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604" descr=""/>
          <p:cNvPicPr/>
          <p:nvPr/>
        </p:nvPicPr>
        <p:blipFill>
          <a:blip r:embed="rId2"/>
          <a:stretch/>
        </p:blipFill>
        <p:spPr>
          <a:xfrm>
            <a:off x="5715000" y="4114800"/>
            <a:ext cx="1447920" cy="13762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605" descr=""/>
          <p:cNvPicPr/>
          <p:nvPr/>
        </p:nvPicPr>
        <p:blipFill>
          <a:blip r:embed="rId3"/>
          <a:stretch/>
        </p:blipFill>
        <p:spPr>
          <a:xfrm>
            <a:off x="5791320" y="1828800"/>
            <a:ext cx="137160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7"/>
          <p:cNvSpPr/>
          <p:nvPr/>
        </p:nvSpPr>
        <p:spPr>
          <a:xfrm>
            <a:off x="380880" y="304920"/>
            <a:ext cx="7696440" cy="32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Общая характеристика Типа Кольчатые черви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nelida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Класс Многощетинковые черви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lychaeta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8" descr=""/>
          <p:cNvPicPr/>
          <p:nvPr/>
        </p:nvPicPr>
        <p:blipFill>
          <a:blip r:embed="rId1"/>
          <a:stretch/>
        </p:blipFill>
        <p:spPr>
          <a:xfrm>
            <a:off x="3524400" y="3400560"/>
            <a:ext cx="56196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61616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Изучить среду обитания, многообразие и значение в природе кольчатых черв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Изучить внешнее и внутреннее строение многощетинковых черв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Изучить процессы жизнедеятельности многощетинковых черв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8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"/>
          <p:cNvGraphicFramePr/>
          <p:nvPr/>
        </p:nvGraphicFramePr>
        <p:xfrm>
          <a:off x="304920" y="1371600"/>
          <a:ext cx="8686800" cy="4064040"/>
        </p:xfrm>
        <a:graphic>
          <a:graphicData uri="http://schemas.openxmlformats.org/drawingml/2006/table">
            <a:tbl>
              <a:tblPr/>
              <a:tblGrid>
                <a:gridCol w="1800000"/>
                <a:gridCol w="2465640"/>
                <a:gridCol w="2385720"/>
                <a:gridCol w="203544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Многощетинковые или полихеты</a:t>
                      </a:r>
                      <a:r>
                        <a:rPr b="0" lang="ru-RU" sz="20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 (53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Морские обит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Малощетинковые или олигохеты</a:t>
                      </a:r>
                      <a:r>
                        <a:rPr b="0" lang="ru-RU" sz="20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 (3100 видов) Почвенные и пресноводные жи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Пияв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(300 видов) Пресноводные свободноживущие или парази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Предс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вит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Нереида, </a:t>
                      </a:r>
                      <a:r>
                        <a:rPr b="0" lang="ru-RU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пескожил, </a:t>
                      </a:r>
                      <a:r>
                        <a:rPr b="0" lang="ru-RU" sz="2800" spc="-1" strike="noStrike" u="sng">
                          <a:solidFill>
                            <a:srgbClr val="99ff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серпу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Дождевой червь, трубоч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Пияв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Text Box 45"/>
          <p:cNvSpPr/>
          <p:nvPr/>
        </p:nvSpPr>
        <p:spPr>
          <a:xfrm>
            <a:off x="304920" y="3808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Тип Кольчатые черви (около 9000 вид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2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4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3025800" cy="30621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5" descr=""/>
          <p:cNvPicPr/>
          <p:nvPr/>
        </p:nvPicPr>
        <p:blipFill>
          <a:blip r:embed="rId2"/>
          <a:stretch/>
        </p:blipFill>
        <p:spPr>
          <a:xfrm>
            <a:off x="4495680" y="1219320"/>
            <a:ext cx="3810240" cy="27194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4343400" cy="323028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7"/>
          <p:cNvSpPr/>
          <p:nvPr/>
        </p:nvSpPr>
        <p:spPr>
          <a:xfrm>
            <a:off x="914400" y="5335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НЕРЕИДА или НЕРЕ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5:45:17Z</dcterms:created>
  <dc:creator>Администратор</dc:creator>
  <dc:description/>
  <dc:language>en-US</dc:language>
  <cp:lastModifiedBy>DNA7 X86</cp:lastModifiedBy>
  <dcterms:modified xsi:type="dcterms:W3CDTF">2014-01-30T17:38:46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