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BFA8-1BD9-486B-B34F-6AD96DE21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9320-6DD5-4E45-8BA1-F7D17321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3DB8-4294-46D2-8AF0-37793A98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8214-C095-45C1-BFEE-E1A50E04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E0C3-8AA0-452F-AEA8-1FEDBC7FE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62A0-D731-4E00-895D-C07DE8AF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9D6E-8BFD-4D10-86F4-3DB04DD2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0C0C-2BA6-4911-AA8B-AAD7FB8C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26CE-31F9-4683-BAB1-26AB192F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6882-27ED-419B-813B-1B14441A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F67D-2B57-401A-ABB6-23BE307B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F4ED-F3A6-4DE4-89AE-AB39532C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DCDB-A044-4A8E-A9C8-557DA1C8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DB00-8825-4F0B-98EE-9D640D5A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CC92-8CF9-4D62-B5E4-02FF9461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0C10-4F8D-4015-B06F-805AABF5A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38B6-CA51-4C20-B5B7-FE2289353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CD54-6ABC-43B0-A7DD-6074F740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4E98-9A25-4139-A2D9-72D354F4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50B7-8463-4857-9B3C-C8E82D43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F9D5-DA2E-48FF-A8A9-C8F0F252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09FF-9C52-47B0-BE3D-8D4A307A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7C39-1280-45ED-9C15-3F3C6790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55FB-FC92-4462-A75B-3499140A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67D3-155F-491A-811C-3D294139132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CC3D-B24C-43E2-A37B-9772459E639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Викторина по произведениям Корнея Чуковского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26560" y="3068640"/>
            <a:ext cx="7488360" cy="28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полнила воспитатель группы продлённого дня ГБОУ СОШ №385 Красносельского района г. Санкт-Петербурга  Шавенько Галина Владимиров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хнологии:   познавательная,здоровьесберегающая,игров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Отгадай загадку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Боялись усатог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се, хоть убей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Но справился с ним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далой воробей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221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жаркой Африке живё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 потянет, то толкн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йболита как-то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 разбойников он сп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95640" y="17733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бежали от грязну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шки, ложки и кастрю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щет их она, зовё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в дороге слёзы ль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56000" y="43657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гулялась я по по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купила самова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потом на мне женил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рабрый маленький ком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Отгадай загадк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И зайчиха и волчица -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се бегут к нему лечитьс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3573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то моет чи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же трубоч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32360" y="1628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то как будто гал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глотил мочал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95640" y="3500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ж кто, набравшись си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лнце в небе проглоти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2296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Интернет ресурсы 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. http://bk-detstvo.narod.ru/chukovskyi.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s://ru.wikipedia.org/wiki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.http://www.modernlib.ru/books/chukovskiy_korney_ivanovich/vospominaniya_o_kornee_chukovskom/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Знаешь ли ты сказки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йболи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армал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раденое солнц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ойдоды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уха-Цокотух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елефо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едорино гор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Times New Roman"/>
              </a:rPr>
              <a:t>І-ТУР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спомнить название сказ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11280" y="3141720"/>
            <a:ext cx="2498760" cy="2047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076720" y="2781360"/>
            <a:ext cx="24940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спомнить название сказ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600360" cy="4680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54360" y="1628640"/>
            <a:ext cx="33624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спомнить название сказ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5760" y="1925640"/>
            <a:ext cx="2592360" cy="3967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635280" y="2492280"/>
            <a:ext cx="518328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  <a:ea typeface="Times New Roman"/>
              </a:rPr>
              <a:t>ІІ -ТУР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Как зовут этого героя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                          №2                        №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1584360" cy="2376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373560" y="2349360"/>
            <a:ext cx="2060280" cy="2735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084720" y="2276640"/>
            <a:ext cx="26640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Как их зовут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9152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№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                    №5                       №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2170080" cy="3529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987640" y="1916280"/>
            <a:ext cx="3384720" cy="4105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372360" y="2276640"/>
            <a:ext cx="2333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ІІІ-ТУР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Из какой это сказки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дошёл Медведь тихонько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олканул его легонько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оворю тебе, злодей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ыплюнь солнышко скорей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 не то, гляди, поймаю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полам переломаю, 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удешь ты, невежа, зна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ше солнце воровать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      </a:t>
            </a:r>
            <a:r>
              <a:rPr b="0" lang="en-US" sz="4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Из какой это сказки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друг какой-то старич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ауч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шу Муху в угол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волок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Хочет бедную убит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Цокотуху погубить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4-01-30T16:29:58Z</dcterms:modified>
  <cp:revision>5</cp:revision>
  <dc:subject/>
  <dc:title>Викторина по произведениям Корнея Чуковского</dc:title>
</cp:coreProperties>
</file>