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042-05D6-4BA2-915A-CD77C198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279-DD3A-435B-804D-F8BFD861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346-633B-4988-8773-1DA2EA29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130-A1C7-4C3E-9DA3-4D97BDFF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407-3809-435D-B582-619AA239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9F4C-4D74-4D60-B106-9CA3355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260-8F1E-480D-9E48-DB5EF6C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AC78-D7C3-45C1-A2E2-363A729D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4C71-7C91-41E7-84EB-57E1FAF1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625C-2D0B-4233-8786-1E0B05BD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540-47D5-4506-8C5A-365C953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574-D6B3-4B33-839E-D3807A6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C280-7688-4635-B700-D77705C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C88-CF97-4A75-8BB4-641C1FF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6D10-8368-41EA-8DAC-2FF44662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C80-6C34-478B-AD28-57AB9772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B491-6578-4098-BD15-7552C22A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3CF-8350-4890-8701-E572138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C01-83B9-4884-B6C0-76B328EC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18A-05DD-41E7-A754-BDDFC34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DF3-0755-47CE-9E7B-802E5543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CF2-1C0C-4F09-B87F-CD8D56A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CE7-82E4-4516-8AA4-1730473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45C-CA13-44FC-8DFE-2568A17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B02F-9ACE-4D64-8249-A2B447BCBB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6B2-DFA4-4203-ADBB-404536A20A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Викторина по произведениям Корнея Чуковского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7488360" cy="28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 воспитатель группы продлённого дня ГБОУ СОШ №385 Красносельского района г. Санкт-Петербурга  Шавенько Галина Владимир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и:   познавательная,здоровьесберегающая,игр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тгадай загадк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ялись усат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е, хоть убей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справился с ни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далой воробей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жаркой Африке жи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потянет, то толкн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йболита как-т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разбойников он с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177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жали от грязн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шки, ложки и кастрю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щет их она, зо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 дороге слёзы ль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4365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улялась я по по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упила самов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отом на мне жен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брый маленький 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тгадай загад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 зайчиха и волчица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е бегут к нему лечить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5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моет ч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трубоч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628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как будто гал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лотил мочал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50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ж кто, набравшись с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нце в небе проглот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29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тернет ресурсы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http://bk-detstvo.narod.ru/chukovskyi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ru.wikipedia.org/wiki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http://www.modernlib.ru/books/chukovskiy_korney_ivanovich/vospominaniya_o_kornee_chukovskom/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наешь ли ты сказк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йболи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рма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деное солн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йдоды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ха-Цокотух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орино гор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І-ТУ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помнить название 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498760" cy="2047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2494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спомнить название сказ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468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54360" y="1628640"/>
            <a:ext cx="3362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спомнить название сказ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5760" y="1925640"/>
            <a:ext cx="2592360" cy="396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5280" y="2492280"/>
            <a:ext cx="51832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Times New Roman"/>
              </a:rPr>
              <a:t>ІІ -ТУР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 зовут этого героя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                          №2                        №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73560" y="2349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к их зовут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                   №5                       №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2170080" cy="352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3384720" cy="410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72360" y="2276640"/>
            <a:ext cx="23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ІІІ-ТУР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Из какой это сказки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ошёл Медведь тихонь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лканул его легоньк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ворю тебе, злоде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плюнь солнышко скорей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 не то, гляди, пойма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олам переломаю, 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удешь ты, невежа, зн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ше солнце вороват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   </a:t>
            </a:r>
            <a:r>
              <a:rPr b="0" lang="en-U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Из какой это сказк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друг какой-то стари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у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шу Муху в уго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олок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очет бедную уб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окотуху погуби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30T16:29:58Z</dcterms:modified>
  <cp:revision>5</cp:revision>
  <dc:subject/>
  <dc:title>Викторина по произведениям Корнея Чуковского</dc:title>
</cp:coreProperties>
</file>