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F36-40CB-49EF-9480-BB1DBC77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091-5C24-40CD-A432-20A9AE48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CAE-5861-4502-AB56-7D39897B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126-AF9F-4E1E-8530-5D080045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013-B126-44D3-B207-6143EEF0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03D-E5CD-4616-AC64-FB3AD828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B40-2173-47C2-8F22-E61B31D2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F51-8375-4E04-A225-90E13E1F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3A0-D759-47C1-A47C-4D94AF02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EFF-82EB-4593-AD36-208938B1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9DB-6820-49CD-87ED-06E3A811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BAD-2CE5-44ED-BD2B-8711358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EE77-2184-47FC-89F6-6B3344AC3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662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        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Развитие  эмоциональной  сферы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               старших  до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3860640"/>
            <a:ext cx="410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о-педагогический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уськовой М.А., педагога-психол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БДОУ детского сада «Золуш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Тамб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:\Users\Марина\Desktop\i кар.jpg"/>
          <p:cNvPicPr/>
          <p:nvPr/>
        </p:nvPicPr>
        <p:blipFill>
          <a:blip r:embed="rId1"/>
          <a:stretch/>
        </p:blipFill>
        <p:spPr>
          <a:xfrm>
            <a:off x="6516720" y="40464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Основные направления деятельности 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по реализации проекта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заимодействие с педагогами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C:\Users\Марина\Desktop\ПРОЕКТЫ написать\P1010029.JPG"/>
          <p:cNvPicPr/>
          <p:nvPr/>
        </p:nvPicPr>
        <p:blipFill>
          <a:blip r:embed="rId1"/>
          <a:stretch/>
        </p:blipFill>
        <p:spPr>
          <a:xfrm>
            <a:off x="755640" y="1665360"/>
            <a:ext cx="3672000" cy="251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Марина\Desktop\ПРОЕКТЫ написать\P1060553.JPG"/>
          <p:cNvPicPr/>
          <p:nvPr/>
        </p:nvPicPr>
        <p:blipFill>
          <a:blip r:embed="rId2"/>
          <a:stretch/>
        </p:blipFill>
        <p:spPr>
          <a:xfrm>
            <a:off x="4762440" y="1665360"/>
            <a:ext cx="3816360" cy="230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Марина\Documents\фото сем доу\P1010033.JPG"/>
          <p:cNvPicPr/>
          <p:nvPr/>
        </p:nvPicPr>
        <p:blipFill>
          <a:blip r:embed="rId3"/>
          <a:stretch/>
        </p:blipFill>
        <p:spPr>
          <a:xfrm>
            <a:off x="5003640" y="4292640"/>
            <a:ext cx="355464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Users\Марина\Documents\фото сем доу\Фото2051.jpg"/>
          <p:cNvPicPr/>
          <p:nvPr/>
        </p:nvPicPr>
        <p:blipFill>
          <a:blip r:embed="rId4"/>
          <a:stretch/>
        </p:blipFill>
        <p:spPr>
          <a:xfrm>
            <a:off x="971640" y="4365720"/>
            <a:ext cx="3676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Основные направления деятельности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по реализации проекта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(взаимодействие с родителями)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       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Формы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4" descr=""/>
          <p:cNvPicPr/>
          <p:nvPr/>
        </p:nvPicPr>
        <p:blipFill>
          <a:blip r:embed="rId1"/>
          <a:stretch/>
        </p:blipFill>
        <p:spPr>
          <a:xfrm>
            <a:off x="469800" y="1957320"/>
            <a:ext cx="82296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Результати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755640" y="1341360"/>
            <a:ext cx="7920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у дет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мения использовать мимику и пантомимику для передачи своей эмоции, понимания эмоционального состояния други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афически изображать заданную эмоцию. (ГИПЕРССЫЛКА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азвитие коммуникативной компетенции педагог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интереса родителей  к   эмоциональному миру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проекта в образовательный процесс ДО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1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Контрольный этап (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диагностические исследования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-360" y="1267920"/>
            <a:ext cx="7991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ение особенностей  использования детьми  мимики и пантомими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демонстрации заданной эмоции (автор В.М. Минаева)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ение выразительности реч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(автор В.М. Минаева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Диаграмма 5" descr=""/>
          <p:cNvPicPr/>
          <p:nvPr/>
        </p:nvPicPr>
        <p:blipFill>
          <a:blip r:embed="rId1"/>
          <a:stretch/>
        </p:blipFill>
        <p:spPr>
          <a:xfrm>
            <a:off x="4521240" y="3665520"/>
            <a:ext cx="4494240" cy="2844720"/>
          </a:xfrm>
          <a:prstGeom prst="rect">
            <a:avLst/>
          </a:prstGeom>
          <a:ln w="0">
            <a:noFill/>
          </a:ln>
        </p:spPr>
      </p:pic>
      <p:pic>
        <p:nvPicPr>
          <p:cNvPr id="83" name="Диаграмма 8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4211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   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Диагностические исследова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ение восприятия детьми графического изображения эмо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автор В.М. Минаев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Диаграмма 3" descr=""/>
          <p:cNvPicPr/>
          <p:nvPr/>
        </p:nvPicPr>
        <p:blipFill>
          <a:blip r:embed="rId1"/>
          <a:stretch/>
        </p:blipFill>
        <p:spPr>
          <a:xfrm>
            <a:off x="1476360" y="244152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2278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928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Контрольный этап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(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диагностические исследования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8560" y="836280"/>
            <a:ext cx="8785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кала оценок коммуникационных склонностей воспитателей ДО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) Б.А. Федоришин  (2012 – 2013 ученный год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пень участия родителей в эмоциональном развитии ребёнка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ке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700280"/>
          <a:ext cx="5573520" cy="1828800"/>
        </p:xfrm>
        <a:graphic>
          <a:graphicData uri="http://schemas.openxmlformats.org/drawingml/2006/table">
            <a:tbl>
              <a:tblPr/>
              <a:tblGrid>
                <a:gridCol w="868320"/>
                <a:gridCol w="761760"/>
                <a:gridCol w="1503360"/>
                <a:gridCol w="1155960"/>
                <a:gridCol w="1284120"/>
              </a:tblGrid>
              <a:tr h="630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проя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ча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-0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6- 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же средн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6- 0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66-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6-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33926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Диаграмма 8" descr=""/>
          <p:cNvPicPr/>
          <p:nvPr/>
        </p:nvPicPr>
        <p:blipFill>
          <a:blip r:embed="rId1"/>
          <a:stretch/>
        </p:blipFill>
        <p:spPr>
          <a:xfrm>
            <a:off x="4211640" y="4076640"/>
            <a:ext cx="46735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Вывод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Цель и задачи проекта достигну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Гипотеза о том, 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системы психолого-педагогического сопровождения эмоциональной сферы дошкольников при активном взаимодействии педагогов и родителей помогает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ть у каждого дошкольника навыки эффективного  общ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оциализации полностью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подтвердила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haroni"/>
              </a:rPr>
              <a:t>Перспектив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7991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коррекционно-развивающих занятий с дошкольни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консультативно-просветительской работы  с родителями воспитанников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ьский кл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психологической компетентности педаг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ступление на методическом объединении педагогов-психологов ДОУ г.Тамб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общение опы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ляция опыта на  научно-практических конференция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сайте ДОУ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Информационные ресурс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000" y="980640"/>
            <a:ext cx="8423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тский Л.С. Вопросы детской психологии. Спб.: Союз,199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 познакомимся! Тренинговое развитие и коррекция эмоционального мира дошкольников 4-6 лет /Автор-составитель И.А.Пазухина/ - СПб., 200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ов А.И. Как преодолеть отклонения в поведении ребёнка. - М., 198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ева Н.В., Касаткина Ю.В. Учим детей общению. – Ярославль, 199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юкова С.В., Слободяник Н.П. Удивляюсь, злюсь, боюсь, хвастаюсь и радуюсь. Программа эмоционального развития детей дошкольного и младшего школьного возраста. – М., 20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яжева Н.Л. Радуемся вместе. Развитие эмоционального мира детей. – Екатеринбург, 20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яжева Н.Л. Развитие эмоционального мира детей. Ярославль, 199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аева В.М. Развитие эмоций дошкольников. Занятия, игры. – М., 199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филова М.А. Игротерапия общения, - М., 199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е развитие дошкольника. /Под ред. А.Кошелевой/ - М., 198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– Ты – Мы. Программа социально-эмоционального развития дошкольников. / Сост.: О.Л. Князева / - М., 2005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uchebnikionline.ru/psihologia/dityacha_psihologiya_-_pavelkiv_rv/rozvitok_pochuttiv_doshkilnomu_vitsi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journals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395280" y="549360"/>
            <a:ext cx="8207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новых походов психолого-педагогического сопровождения по развитию эмоциональной сферы в  современных условиях несомненна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актуаль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ество предъявляет к выпускникам дошкольных образовательных учреждений новые требования, ведущие к пересмотру направлений образовательного процесса, определяющих развит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ой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ой и эмоциональной сф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годняшние дошкольники должны обладать высоким уровнем коммуникативных умений и навыков, быть инициативными, любознательными, умением жить среди людей,  отвечать за свои поступки. Огромную роль в этом играет целенаправленное развитие эмоциональной сферы ребё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.С. Выготский считал, что «эмоциональное развитие детей — одно из важнейших направлений профессиональной деятельности педагога. Эмоции являются «центральным звеном» психической жизни человека, и прежде всего ребен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данной компетентности в дошкольном детстве позвол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онимать себя и окружающих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ь успешной личност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1920" y="404280"/>
            <a:ext cx="820908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Цель:</a:t>
            </a:r>
            <a:r>
              <a:rPr b="0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эмоциональной сферы ребенка,                         через организацию психологического сопровождения в ДОУ, способствующего сохранению психического здоровья, эмоциональному благополучию и личностному росту.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213480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 Формировать у детей позитивное отношение к своему «Я», способствовать повышению уверенности в себе и развитию самосто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 Развивать умение понимать собственные эмоциональные состояния и адекватно их выраж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 Учить распознавать чувства других людей и передавать свои, используя  мимику, жесты, выразительные движения и интонацию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 Тренировать способность  к  эмпатии, сопережива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 Обогащать  духовный мир дошкольников.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4360" y="836640"/>
            <a:ext cx="7991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бщение и социализация будут эффективными, если эмоциональная сфера ребенка будет развиваться в соответствии с его возрастными и индивидуально-психологическими особенностями при адекватном восприятии человеческих чувств и проявлении уважительного отношения к ни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картинка вопрос"/>
          <p:cNvPicPr/>
          <p:nvPr/>
        </p:nvPicPr>
        <p:blipFill>
          <a:blip r:embed="rId1"/>
          <a:stretch/>
        </p:blipFill>
        <p:spPr>
          <a:xfrm>
            <a:off x="6732720" y="189000"/>
            <a:ext cx="2087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4040" y="188640"/>
            <a:ext cx="704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Arial"/>
                <a:ea typeface="Arial"/>
              </a:rPr>
              <a:t>Целевые групп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70c0"/>
                </a:solidFill>
                <a:latin typeface="Arial"/>
                <a:ea typeface="Arial"/>
              </a:rPr>
              <a:t>Сроки проведения:</a:t>
            </a:r>
            <a:br>
              <a:rPr sz="37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один год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Облако 12"/>
          <p:cNvGrpSpPr/>
          <p:nvPr/>
        </p:nvGrpSpPr>
        <p:grpSpPr>
          <a:xfrm>
            <a:off x="5815080" y="2395440"/>
            <a:ext cx="3024000" cy="2249640"/>
            <a:chOff x="5815080" y="2395440"/>
            <a:chExt cx="3024000" cy="2249640"/>
          </a:xfrm>
        </p:grpSpPr>
        <p:pic>
          <p:nvPicPr>
            <p:cNvPr id="56" name="Облако 12" descr=""/>
            <p:cNvPicPr/>
            <p:nvPr/>
          </p:nvPicPr>
          <p:blipFill>
            <a:blip r:embed="rId1"/>
            <a:stretch/>
          </p:blipFill>
          <p:spPr>
            <a:xfrm>
              <a:off x="5815080" y="2395440"/>
              <a:ext cx="302400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480" y="2808360"/>
              <a:ext cx="181764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родител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52560" y="2502000"/>
            <a:ext cx="2689200" cy="21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3"/>
          <a:stretch/>
        </p:blipFill>
        <p:spPr>
          <a:xfrm>
            <a:off x="2771640" y="1265400"/>
            <a:ext cx="345600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Ожидаемый результа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эмоциональной чувствительности к окружающ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владение языком эмо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самооценки и уверенности у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активной позиции родителей  к  развитию  эмоциональной сферы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вершенствование коммуникативной компетенции педагог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проекта в образовательный процес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Этапы реализации проек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4" descr=""/>
          <p:cNvPicPr/>
          <p:nvPr/>
        </p:nvPicPr>
        <p:blipFill>
          <a:blip r:embed="rId1"/>
          <a:stretch/>
        </p:blipFill>
        <p:spPr>
          <a:xfrm>
            <a:off x="274680" y="1474920"/>
            <a:ext cx="8643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Основные направления деятельности по реализации проекта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(взаимодействие с детьми)</a:t>
            </a: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Марина\Desktop\ПРОЕКТЫ написать\P1060485.JPG"/>
          <p:cNvPicPr/>
          <p:nvPr/>
        </p:nvPicPr>
        <p:blipFill>
          <a:blip r:embed="rId1"/>
          <a:stretch/>
        </p:blipFill>
        <p:spPr>
          <a:xfrm>
            <a:off x="395280" y="1508040"/>
            <a:ext cx="3816360" cy="266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Марина\Desktop\ПРОЕКТЫ написать\P1060491.JPG"/>
          <p:cNvPicPr/>
          <p:nvPr/>
        </p:nvPicPr>
        <p:blipFill>
          <a:blip r:embed="rId2"/>
          <a:stretch/>
        </p:blipFill>
        <p:spPr>
          <a:xfrm>
            <a:off x="5364000" y="1809720"/>
            <a:ext cx="2808360" cy="2060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Марина\Desktop\ПРОЕКТЫ написать\Фото0163.jpg"/>
          <p:cNvPicPr/>
          <p:nvPr/>
        </p:nvPicPr>
        <p:blipFill>
          <a:blip r:embed="rId3"/>
          <a:stretch/>
        </p:blipFill>
        <p:spPr>
          <a:xfrm>
            <a:off x="4500720" y="4149720"/>
            <a:ext cx="43923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9:28:30Z</dcterms:created>
  <dc:creator>Катенок</dc:creator>
  <dc:description/>
  <dc:language>en-US</dc:language>
  <cp:lastModifiedBy>Марина</cp:lastModifiedBy>
  <dcterms:modified xsi:type="dcterms:W3CDTF">2014-01-30T15:36:10Z</dcterms:modified>
  <cp:revision>106</cp:revision>
  <dc:subject/>
  <dc:title>Презентация PowerPoint</dc:title>
</cp:coreProperties>
</file>