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5.gif" ContentType="image/gif"/>
  <Override PartName="/ppt/media/image14.png" ContentType="image/png"/>
  <Override PartName="/ppt/media/image1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6.gif" ContentType="image/gif"/>
  <Override PartName="/ppt/media/image7.gif" ContentType="image/gif"/>
  <Override PartName="/ppt/media/image9.gif" ContentType="image/gif"/>
  <Override PartName="/ppt/media/image11.png" ContentType="image/png"/>
  <Override PartName="/ppt/media/image1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67F-0811-4F67-9928-99A1403F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046-5650-4698-BD0E-18D2FD26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324DC-AC80-4DB7-860E-4CAF624C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68CBD-6D9E-4302-B71B-325DD60F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E4A7F-1FFC-4D7D-BB19-9261C507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4B75E-226E-4C89-821D-5B793F07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AD12F-2900-4EAD-93A1-EC1F31CC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212EB-2E1D-4EBC-855E-7BC20A1A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385CA-FF95-4F2A-8E6E-C79B5789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95D93-B11F-4DCF-BC85-3903BD71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CEDB6-8196-4172-AEBF-5E02D942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76844-BA27-4173-801D-79B5B089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9C6-19B4-4AFF-A2D1-97F54B0B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E0A38-0A31-438F-9DE8-C05BF63E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9C1B4-C547-48DB-9B1E-172A4713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18C51-22E0-4287-8F12-1DD8BDA9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724C7-E9B5-4D0D-887D-22754650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637BC-3AD5-4F28-9822-5C1FA2E8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7A4C5-378D-4993-B5C9-10797327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5F5B3-5A98-484C-BE03-FA0E8168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9AED3-5A6B-49C0-923C-3BEC8BFC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28B96-0627-465B-B527-CCE4A6C0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B6ED4-B89D-472E-B1A4-B403A228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6F6D-171E-44AE-AB52-45AB9AEF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834C5-474B-4B24-BA25-0BF4B385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C7E4C-DBB3-4F8B-8C52-F65BEC79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564B4-8CAF-48C1-9A24-D054780D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C46C3-6CE4-422C-896C-737BD03D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D2953-AF16-4D49-B587-1137AB5C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47745-34F5-4ED6-ACA7-DAB7C29C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A6448-238F-4417-84A6-6BDB0EA1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44375-BEBB-4A70-87D5-96B09C2A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76962-5767-4FFA-9D5D-13F22E25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BA95A-F947-4438-B3E1-8F3A84AF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A06E-CF0A-44AD-8CF4-D2DF18EC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BA1C6-C197-44F1-8C9C-C393B26B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45740-4032-421C-960C-16A7318F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693D5-0E2C-49FE-B317-7BCB6DA1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FFF3F-4051-41A8-B316-2BCE4B99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B7BEA-32A1-4E10-A1BA-2C48D22E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3F5B7-42C9-44EC-A38F-70EBD356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92D41-034A-432C-B15E-8C4FE2F5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2E337-59A9-4037-9046-EBBEFD0B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CA1E6-491D-4D65-8F3D-B82B4D14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C7E49-AC7F-497F-83FA-E521C353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A3B0-6222-4BBD-9190-C03B4FA3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8226D-EDE6-4165-83FA-12CD5F2D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61FB7-CA1E-42B0-955D-EB8CED1D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42BAB-8B9B-4D26-89BE-67106F56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13CE1-0128-416D-B69D-E60C564D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379F2-8CC8-4B93-B4F1-65C6F85A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0AA86-7987-4010-BC60-53B9CA63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D8F52-A11B-4855-88F1-4A2DB89F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9BBE72-771C-4058-8302-D36938E4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70885-BBF6-4939-B42A-274B27E9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55F9A-1218-494E-883F-EDDCFF04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FBB1-C072-482D-A21C-001FEF25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91F6A-749D-4A7B-86AB-BC75F5EE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D0C726-C5F0-48D3-9DA9-4C9AC211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7AA2B8-8E76-470C-ABF0-045AF228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7E90D-283E-411F-93EB-110D4B6B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D24DF-9E67-4152-AD22-64B83C84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F7744-51D1-4789-8702-F1788D48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D3AD0-9C3B-4CC9-8252-965257BF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951BD1-DD38-4711-A38D-E73AABA2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6A10BA-E109-42AC-8C56-E4B7A9C7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B0059A-A90D-4D19-9A6F-03E1FB8A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FC7A-20C2-412C-BD57-B5CF8339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DB2868-91E5-486B-8ECD-EADC4F24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51ED56-1103-43F3-973E-7A8C69B1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E58F9-E968-4058-8AFF-E10596D9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A24BCC-0B3C-442B-A830-88A91C0D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D33346-7F4E-4734-BC15-4706BDC3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8929F7-3524-48A2-9F36-B8830159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258AFB-8B29-4D0E-B290-4069B804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377380-53A0-472A-B5BC-7D9FE4E2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8C9CE-B367-4BB8-B18D-12489A08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2E2CDA-FA3E-45E8-910C-C6C224D7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4816-EFC5-4B5E-95CB-5D823FDA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70E413-7246-4FBC-B767-1EDF72F9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4FDC65-8521-4E14-8393-1B87F60B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663DB6-3C9F-428F-98DF-74D584F1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083418-E1EA-422F-A35D-92B4005A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23D660-E799-41E8-9DDC-0643183F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3993CB-4FAD-4936-94A1-8CA60910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3DA084-4ECB-47B1-9A24-8E4A3D36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DF3B85-97B3-4F9B-82BB-EDB47CA8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E0F2B4-EBB4-4B43-8BEB-9685424A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A1EF53-B5A8-4843-91E8-AFCBE92C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ACAE-1830-4206-9566-CF241B33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1AA30A-BC7B-41C1-9575-E2D3015A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C5F3A1-84E4-410B-A17F-1964CD08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2C6EEF-790D-4BCF-92BD-6475209C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D0D829-7813-48E9-9465-82909E9D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75C252-65C2-4088-BC8F-A8D1F358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AF6FC2-6871-4320-AE85-253BC83F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0AD6BD-5149-4882-B084-742A354E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D1C899-1F38-40B1-BF30-DC802AEC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655A5F-FBBB-497C-BBAC-BF35A4F2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4B3F94-9651-45EF-8409-222DBA49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276D-4730-41FC-9788-8ECC64CE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ACDD80-161B-4474-A51E-90F53CC2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98E83B-6F5A-428A-97BE-C1A329C5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CDC1EE-E7C5-47E9-A3B4-E09517A9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D5C6AF-D1D3-4FA2-BC7A-D3AA51C6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BDAFC6-BF10-4A46-930E-76156B3D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84900D-9EB7-4448-880A-BECAF196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D26019-C92D-4E84-921F-2EEEB765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2FBD16-8377-401A-A449-B278668E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DACEE4-23EB-43DF-86A1-161E9D29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A95A78-4B9A-4DBE-ADCA-E85F076E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7E1A-3C75-49A3-866E-38599404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22FA-F159-4CF3-ACF9-BBAC3244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9C8DE9-AF4D-4F18-A880-1706CBD6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98D5E4-E23E-4C77-AE12-66739B8F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00FCCC-8E32-4B00-BEE5-35E65BA9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44D551-0D32-439E-A51F-019E0EEF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2C131F-0663-452A-B85C-DB8CA524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2E0D-CAFB-448C-A369-E5158731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6C39-5248-49C1-836C-B876DBD0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B61F-F78B-4168-90D8-E9723B37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337E-3709-4FC6-A7AE-A22F8FAB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DABF9-DB09-45FA-899C-3BE4CE81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AF7F4-14FC-46D3-9E5E-BC45DDC0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B2800-D373-4807-A8B4-1CFCB5D4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274F6-E515-4FFA-A699-A90B4693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8660B-0D2B-4FA7-BF66-7A1032AF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D8A-648F-4339-8E08-D70BD67C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5F132-DF2E-4235-8E2B-65BFE09D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2C2AA-4C1B-4EB8-9BA4-3D4B4A42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D6C90-4895-4FFF-A01E-FFFFB348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ECE8F-59F7-40DA-9CD3-2373F805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58827-A53B-4A2C-BDE5-9651E147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63232-C690-4967-9ADB-EAB123DC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F8F7D-326C-46D9-8BF8-7604595B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A2CD5-D807-4CBE-A536-B7624586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4F2B4-F212-4D95-942E-F5BDC116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7F19D-8446-4D64-8227-94B04FD5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A00-EF91-408B-AE22-456B75F1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BE57E-A2E9-4AAD-AD67-A0888E94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EB528-B8E4-4552-B8B8-FF3E65A8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496BB-C12E-4D0B-B180-3236552A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66ECC-E2E2-4495-BD01-CE026C12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715A9-AB08-4004-905F-20AD2FF1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E3F86-BBE8-4E0C-A19B-58C127D8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3DA08-CA22-4523-B396-1CCF87EF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C7924-2CE0-49C7-BB4E-1F99399E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71E9B-4446-44D0-ADAC-67049579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8D176-4837-4FED-B982-CA7A18B9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C118-4AFB-4202-99DD-4727050D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7BBD8-3C32-4DD7-BA33-A7A8FF3B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5BCAB-4834-44ED-981E-A4D84B00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08251-89BC-438A-98FE-84634116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FB35D-86FA-4257-80C3-0C10F02B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21A84-A70F-4552-B6A0-EAA6A271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6B46E-FB26-488D-B4A9-5B424A42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EFAE8-16C3-42E1-8F0E-C01D0A31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89C04-228C-459A-83EF-34FAB93E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8A530-3386-4F96-9C94-049C6A04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56646-6D8F-4A41-9A33-F1A82134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CDED-A1EC-4A5A-8F8F-E5B99743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9E472-AAFF-4339-9542-85DCCD2D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C4600-2509-4065-82A5-E0181BB2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86195-2E0D-4FF3-B521-80B64D17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4CAEF-3C70-4886-902E-96BCBDBA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DFC4C-E45C-4BFC-8B53-5DF1F7D2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90386-2AB5-4D6B-A4CC-06FF8F62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3B143-5382-4199-8FBF-E2A8FE24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58D06-80BF-4797-8E75-81DBC862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3C7EA-68F4-42D3-86D9-0C5C57E0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B513D-93CA-48B9-AED8-C97773A5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04C-F59F-4CC3-BA40-85AD876B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B6701-9D45-41F8-9278-40DFC390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91F8F-8159-494A-9F73-B0140B7F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6591B-BAD3-43DC-8AB1-D267E898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6E429-74BF-427C-A91B-5BF43E61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85B83-2B10-43AD-8427-B98A732B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C4DA9-2DD4-4E55-B048-2E0D0798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89A1F-A03D-4AD7-B5ED-0CDD39F0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FF625-DA7B-4D90-AD38-BA3AC21C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0B846-8970-4ACA-8A72-1197F225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2574A-80F8-4B12-90D4-26BC8CA3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9647-93F8-4BFE-B854-D5BA3F04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6DDB1-262F-4FB6-9AC3-2306DD40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EAB3C-9167-4091-98D4-96F5577C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546D0-5AC2-4FC8-A7F5-E4902DF4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366F9-EBD6-4531-9E90-99BFB834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6DC27-BC9F-4D39-A26D-B7377994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9312F-E792-452A-8900-51C9D93D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B04F7-1EC7-4E35-AD96-5D729E97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4BEA2-AF28-47CE-9AB4-5C911AE4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1F060-6442-4734-A242-2DD30069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51D89-99CA-49A4-9229-B2A494B7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052-3A86-488B-814D-A9285E87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E1839-B02D-4D3F-89ED-0D8A3BB7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9FAC7-0642-4887-8E1F-B04E763A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B8273-EB44-432C-85C6-3D555294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9D696-777C-42FC-8162-1E62D702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B2925-EDA4-4B61-A728-1B06D84C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66518-851D-446E-82FD-2CA2E297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C5DB0-534F-4338-8374-F0A8128B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03773-36F5-44E6-BB2B-D1383611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D38F3-BFF9-494A-B2D4-53DCB89B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8696A-2A71-4113-A3DF-9DAF9E67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2445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26064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4747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9E3D-13F3-4DB2-91B0-571742E6363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4D5D-A6CB-422D-AAE6-26D14A5201F2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97DB-E760-4E6C-AF1F-8C71405D79F7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0F2D-031B-4F00-A849-8FDCEC8B5093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D180-E0C3-41F7-BB6D-93A689FAC8B5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2B92-DAF6-4D96-981F-B2A8A5D811D3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3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4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5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0656-C8D1-41AF-9EE5-D7CE907BE487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6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7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8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B412-41EC-4EA2-9962-0317840EB5BE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6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2445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26064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4747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c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6AD0-05E3-4326-AB91-FBFFC409CFF5}" type="slidenum">
              <a:rPr b="0" lang="ru-RU" sz="1200" spc="-1" strike="noStrike">
                <a:solidFill>
                  <a:srgbClr val="0000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F01B-6BDA-417F-BB90-3FA545EB85B2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2445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26064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4747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c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A9E1-187E-45A0-8E10-E5A1B9DA5DBA}" type="slidenum">
              <a:rPr b="0" lang="ru-RU" sz="1200" spc="-1" strike="noStrike">
                <a:solidFill>
                  <a:srgbClr val="0000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9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2445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26064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4747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1D59-4864-4AA0-91DE-5A334338813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DB62-616B-480E-A3A0-CCE52000580E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1DFC-FBC7-43FC-8DE3-9C5147935FF0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5091-AAFD-42BB-B2E7-2A677DB3D549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BEE7-64F7-4BEF-9EAF-70CC57DBE788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67ED-9999-482B-B337-1FC063EC7C4F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10" name="WordArt 6"/>
          <p:cNvSpPr txBox="1"/>
          <p:nvPr/>
        </p:nvSpPr>
        <p:spPr>
          <a:xfrm>
            <a:off x="611280" y="1268280"/>
            <a:ext cx="781200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547280" y="765000"/>
            <a:ext cx="6923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40c0c"/>
                </a:solidFill>
                <a:latin typeface="Garamond"/>
              </a:rPr>
              <a:t>Поставьте эти глаголы </a:t>
            </a:r>
            <a:br>
              <a:rPr sz="4200"/>
            </a:br>
            <a:r>
              <a:rPr b="1" lang="ru-RU" sz="4200" spc="-1" strike="noStrike">
                <a:solidFill>
                  <a:srgbClr val="a40c0c"/>
                </a:solidFill>
                <a:latin typeface="Garamond"/>
              </a:rPr>
              <a:t>в форму 3 лица единственного и множественного числа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pic>
        <p:nvPicPr>
          <p:cNvPr id="892" name="Picture 5" descr="d5828bf99d3a4d00359dddbb7b95778c"/>
          <p:cNvPicPr/>
          <p:nvPr/>
        </p:nvPicPr>
        <p:blipFill>
          <a:blip r:embed="rId2"/>
          <a:stretch/>
        </p:blipFill>
        <p:spPr>
          <a:xfrm>
            <a:off x="1835280" y="472428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6" descr="d5828bf99d3a4d00359dddbb7b95778c"/>
          <p:cNvPicPr/>
          <p:nvPr/>
        </p:nvPicPr>
        <p:blipFill>
          <a:blip r:embed="rId3"/>
          <a:stretch/>
        </p:blipFill>
        <p:spPr>
          <a:xfrm>
            <a:off x="1835280" y="566100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7" descr="e294edfc6fd31efe82b3db48fddb2499"/>
          <p:cNvPicPr/>
          <p:nvPr/>
        </p:nvPicPr>
        <p:blipFill>
          <a:blip r:embed="rId4"/>
          <a:stretch/>
        </p:blipFill>
        <p:spPr>
          <a:xfrm>
            <a:off x="2771640" y="566100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8" descr="6aef4b57d0dfa88c16a174bbdc817349"/>
          <p:cNvPicPr/>
          <p:nvPr/>
        </p:nvPicPr>
        <p:blipFill>
          <a:blip r:embed="rId5"/>
          <a:stretch/>
        </p:blipFill>
        <p:spPr>
          <a:xfrm>
            <a:off x="2340000" y="472428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9" descr="6aef4b57d0dfa88c16a174bbdc817349"/>
          <p:cNvPicPr/>
          <p:nvPr/>
        </p:nvPicPr>
        <p:blipFill>
          <a:blip r:embed="rId6"/>
          <a:stretch/>
        </p:blipFill>
        <p:spPr>
          <a:xfrm>
            <a:off x="2268360" y="5661000"/>
            <a:ext cx="571680" cy="47628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10"/>
          <p:cNvSpPr/>
          <p:nvPr/>
        </p:nvSpPr>
        <p:spPr>
          <a:xfrm>
            <a:off x="3132000" y="4581360"/>
            <a:ext cx="3384720" cy="648000"/>
          </a:xfrm>
          <a:prstGeom prst="rect">
            <a:avLst/>
          </a:prstGeom>
          <a:solidFill>
            <a:srgbClr val="faf4f9"/>
          </a:solidFill>
          <a:ln w="9360">
            <a:solidFill>
              <a:srgbClr val="faf4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что делает?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8" name="Rectangle 11"/>
          <p:cNvSpPr/>
          <p:nvPr/>
        </p:nvSpPr>
        <p:spPr>
          <a:xfrm>
            <a:off x="3348000" y="5516640"/>
            <a:ext cx="3384720" cy="647640"/>
          </a:xfrm>
          <a:prstGeom prst="rect">
            <a:avLst/>
          </a:prstGeom>
          <a:solidFill>
            <a:srgbClr val="faf4f9"/>
          </a:solidFill>
          <a:ln w="9360">
            <a:solidFill>
              <a:srgbClr val="faf4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что делают?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9" name="AutoShape 12"/>
          <p:cNvSpPr/>
          <p:nvPr/>
        </p:nvSpPr>
        <p:spPr>
          <a:xfrm>
            <a:off x="824400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7499"/>
                </a:moveTo>
                <a:lnTo>
                  <a:pt x="7301" y="7499"/>
                </a:lnTo>
                <a:lnTo>
                  <a:pt x="7301" y="12835"/>
                </a:lnTo>
                <a:cubicBezTo>
                  <a:pt x="7301" y="13757"/>
                  <a:pt x="8102" y="14488"/>
                  <a:pt x="9138" y="14488"/>
                </a:cubicBezTo>
                <a:lnTo>
                  <a:pt x="10800" y="14488"/>
                </a:lnTo>
                <a:cubicBezTo>
                  <a:pt x="11836" y="14488"/>
                  <a:pt x="12636" y="13757"/>
                  <a:pt x="12636" y="12835"/>
                </a:cubicBezTo>
                <a:lnTo>
                  <a:pt x="12636" y="7499"/>
                </a:lnTo>
                <a:lnTo>
                  <a:pt x="10800" y="7499"/>
                </a:lnTo>
                <a:lnTo>
                  <a:pt x="14308" y="3992"/>
                </a:lnTo>
                <a:lnTo>
                  <a:pt x="17981" y="7499"/>
                </a:lnTo>
                <a:lnTo>
                  <a:pt x="16144" y="7499"/>
                </a:lnTo>
                <a:lnTo>
                  <a:pt x="16144" y="12835"/>
                </a:lnTo>
                <a:cubicBezTo>
                  <a:pt x="16144" y="15602"/>
                  <a:pt x="13568" y="18161"/>
                  <a:pt x="10800" y="18161"/>
                </a:cubicBezTo>
                <a:lnTo>
                  <a:pt x="9138" y="18161"/>
                </a:lnTo>
                <a:cubicBezTo>
                  <a:pt x="6370" y="18161"/>
                  <a:pt x="3794" y="15602"/>
                  <a:pt x="3794" y="12835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85560" y="213840"/>
            <a:ext cx="692316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40c0c"/>
                </a:solidFill>
                <a:latin typeface="Garamond"/>
              </a:rPr>
              <a:t>Ответ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403280" y="1341360"/>
            <a:ext cx="51120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Бежать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он беж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но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они бег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3" name="Rectangle 5"/>
          <p:cNvSpPr/>
          <p:nvPr/>
        </p:nvSpPr>
        <p:spPr>
          <a:xfrm>
            <a:off x="4356000" y="2852640"/>
            <a:ext cx="3888000" cy="576360"/>
          </a:xfrm>
          <a:prstGeom prst="rect">
            <a:avLst/>
          </a:prstGeom>
          <a:solidFill>
            <a:srgbClr val="faf4f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40c0c"/>
                </a:solidFill>
                <a:latin typeface="Arial"/>
              </a:rPr>
              <a:t>окончание 2 спряжения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4" name="Rectangle 6"/>
          <p:cNvSpPr/>
          <p:nvPr/>
        </p:nvSpPr>
        <p:spPr>
          <a:xfrm>
            <a:off x="4357800" y="4286160"/>
            <a:ext cx="3887640" cy="576360"/>
          </a:xfrm>
          <a:prstGeom prst="rect">
            <a:avLst/>
          </a:prstGeom>
          <a:solidFill>
            <a:srgbClr val="faf4f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40c0c"/>
                </a:solidFill>
                <a:latin typeface="Arial"/>
              </a:rPr>
              <a:t>окончание 1 спряжения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7416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С каким подобным лингвистическим явлением мы уже встречались при изучении имени существительного?</a:t>
            </a:r>
            <a:r>
              <a:rPr b="0" lang="ru-RU" sz="4200" spc="-1" strike="noStrike">
                <a:solidFill>
                  <a:srgbClr val="424456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07" name="Rectangle 2"/>
          <p:cNvSpPr/>
          <p:nvPr/>
        </p:nvSpPr>
        <p:spPr>
          <a:xfrm>
            <a:off x="1187280" y="3429000"/>
            <a:ext cx="784872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ff"/>
                </a:solidFill>
                <a:latin typeface="Garamond"/>
              </a:rPr>
              <a:t>Разносклоняемые существительные: десять существительных на </a:t>
            </a: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-мя</a:t>
            </a:r>
            <a:r>
              <a:rPr b="1" lang="ru-RU" sz="4200" spc="-1" strike="noStrike">
                <a:solidFill>
                  <a:srgbClr val="3333ff"/>
                </a:solidFill>
                <a:latin typeface="Garamond"/>
              </a:rPr>
              <a:t> и существительные </a:t>
            </a: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путь</a:t>
            </a:r>
            <a:r>
              <a:rPr b="1" lang="ru-RU" sz="4200" spc="-1" strike="noStrike">
                <a:solidFill>
                  <a:srgbClr val="3333ff"/>
                </a:solidFill>
                <a:latin typeface="Garamond"/>
              </a:rPr>
              <a:t>.</a:t>
            </a:r>
            <a:r>
              <a:rPr b="0" lang="ru-RU" sz="4200" spc="-1" strike="noStrike">
                <a:solidFill>
                  <a:srgbClr val="424456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96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2,12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96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2,12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8101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Как можно назвать глагол </a:t>
            </a:r>
            <a:r>
              <a:rPr b="1" lang="ru-RU" sz="4200" spc="-1" strike="noStrike">
                <a:solidFill>
                  <a:srgbClr val="a40c0c"/>
                </a:solidFill>
                <a:latin typeface="Garamond"/>
              </a:rPr>
              <a:t>бежать</a:t>
            </a: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, если он совмещает окончания </a:t>
            </a:r>
            <a:br>
              <a:rPr sz="4200"/>
            </a:b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1 и 2 спряжения? 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10" name="Rectangle 2"/>
          <p:cNvSpPr/>
          <p:nvPr/>
        </p:nvSpPr>
        <p:spPr>
          <a:xfrm>
            <a:off x="1476360" y="3645000"/>
            <a:ext cx="720108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cc"/>
                </a:solidFill>
                <a:latin typeface="Garamond"/>
              </a:rPr>
              <a:t>РАЗНОСПРЯГАЕМЫМ</a:t>
            </a:r>
            <a:r>
              <a:rPr b="0" lang="ru-RU" sz="3800" spc="-1" strike="noStrike">
                <a:solidFill>
                  <a:srgbClr val="a40c0c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6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12" name="WordArt 6"/>
          <p:cNvSpPr txBox="1"/>
          <p:nvPr/>
        </p:nvSpPr>
        <p:spPr>
          <a:xfrm>
            <a:off x="611280" y="1268280"/>
            <a:ext cx="781200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носпрягаемые глаголы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613080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aramond"/>
              </a:rPr>
              <a:t>Цель:</a:t>
            </a:r>
            <a:r>
              <a:rPr b="0" lang="ru-RU" sz="3800" spc="-1" strike="noStrike">
                <a:solidFill>
                  <a:srgbClr val="424456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198080" y="1087200"/>
            <a:ext cx="794556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развить навыки правописания безударных личных окончаний в глаголах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познакомиться с разноспрягаемыми и особо спрягаемыми глаголами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рассмотреть лексическое значение разноспрягаемых глаголов, расширить словарный запас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028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40c0c"/>
                </a:solidFill>
                <a:latin typeface="Garamond"/>
              </a:rPr>
              <a:t>Изучение нового материал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200" spc="-1" strike="noStrike">
                <a:solidFill>
                  <a:srgbClr val="0000cc"/>
                </a:solidFill>
                <a:latin typeface="Garamond"/>
              </a:rPr>
              <a:t>Откройте учебник (</a:t>
            </a:r>
            <a:r>
              <a:rPr b="0" lang="ru-RU" sz="4200" spc="-1" strike="noStrike">
                <a:solidFill>
                  <a:srgbClr val="0000cc"/>
                </a:solidFill>
                <a:latin typeface="Garamond"/>
                <a:ea typeface="Times New Roman"/>
              </a:rPr>
              <a:t>§ 81</a:t>
            </a:r>
            <a:r>
              <a:rPr b="0" lang="ru-RU" sz="4200" spc="-1" strike="noStrike">
                <a:solidFill>
                  <a:srgbClr val="0000cc"/>
                </a:solidFill>
                <a:latin typeface="Garamond"/>
              </a:rPr>
              <a:t>), рассмотрите таблицу, докажите, что глаголы </a:t>
            </a:r>
            <a:r>
              <a:rPr b="1" lang="ru-RU" sz="4200" spc="-1" strike="noStrike">
                <a:solidFill>
                  <a:srgbClr val="0000cc"/>
                </a:solidFill>
                <a:latin typeface="Garamond"/>
              </a:rPr>
              <a:t>хотеть </a:t>
            </a:r>
            <a:r>
              <a:rPr b="0" lang="ru-RU" sz="4200" spc="-1" strike="noStrike">
                <a:solidFill>
                  <a:srgbClr val="0000cc"/>
                </a:solidFill>
                <a:latin typeface="Garamond"/>
              </a:rPr>
              <a:t>и </a:t>
            </a:r>
            <a:r>
              <a:rPr b="1" lang="ru-RU" sz="4200" spc="-1" strike="noStrike">
                <a:solidFill>
                  <a:srgbClr val="0000cc"/>
                </a:solidFill>
                <a:latin typeface="Garamond"/>
              </a:rPr>
              <a:t>бежать </a:t>
            </a:r>
            <a:r>
              <a:rPr b="0" lang="ru-RU" sz="4200" spc="-1" strike="noStrike">
                <a:solidFill>
                  <a:srgbClr val="0000cc"/>
                </a:solidFill>
                <a:latin typeface="Garamond"/>
              </a:rPr>
              <a:t>являются разноспрягаемыми.</a:t>
            </a: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763280" y="1700280"/>
            <a:ext cx="6923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a40c0c"/>
                </a:solidFill>
                <a:latin typeface="Garamond"/>
              </a:rPr>
              <a:t>Обратите внимание на окончания глаголов </a:t>
            </a:r>
            <a:r>
              <a:rPr b="1" lang="ru-RU" sz="5400" spc="-1" strike="noStrike">
                <a:solidFill>
                  <a:srgbClr val="a40c0c"/>
                </a:solidFill>
                <a:latin typeface="Garamond"/>
              </a:rPr>
              <a:t>есть</a:t>
            </a:r>
            <a:r>
              <a:rPr b="1" lang="ru-RU" sz="3800" spc="-1" strike="noStrike">
                <a:solidFill>
                  <a:srgbClr val="a40c0c"/>
                </a:solidFill>
                <a:latin typeface="Garamond"/>
              </a:rPr>
              <a:t> и </a:t>
            </a:r>
            <a:r>
              <a:rPr b="1" lang="ru-RU" sz="5400" spc="-1" strike="noStrike">
                <a:solidFill>
                  <a:srgbClr val="a40c0c"/>
                </a:solidFill>
                <a:latin typeface="Garamond"/>
              </a:rPr>
              <a:t>дать</a:t>
            </a:r>
            <a:r>
              <a:rPr b="1" lang="ru-RU" sz="3800" spc="-1" strike="noStrike">
                <a:solidFill>
                  <a:srgbClr val="a40c0c"/>
                </a:solidFill>
                <a:latin typeface="Garamond"/>
              </a:rPr>
              <a:t> в единственном числе</a:t>
            </a:r>
            <a:endParaRPr b="0" lang="en-US" sz="3800" spc="-1" strike="noStrike">
              <a:solidFill>
                <a:srgbClr val="42445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58920" y="115920"/>
            <a:ext cx="750096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imes New Roman"/>
              </a:rPr>
              <a:t>Спряжение глаголов </a:t>
            </a:r>
            <a:r>
              <a:rPr b="1" i="1" lang="ru-RU" sz="4000" spc="-1" strike="noStrike">
                <a:solidFill>
                  <a:srgbClr val="a40c0c"/>
                </a:solidFill>
                <a:latin typeface="Times New Roman"/>
              </a:rPr>
              <a:t>есть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</a:rPr>
              <a:t>и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a40c0c"/>
                </a:solidFill>
                <a:latin typeface="Times New Roman"/>
              </a:rPr>
              <a:t>дать</a:t>
            </a:r>
            <a:endParaRPr b="0" lang="en-US" sz="40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58560" y="1125000"/>
            <a:ext cx="7777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я  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0" lang="ru-RU" sz="4700" spc="-1" strike="noStrike">
                <a:solidFill>
                  <a:srgbClr val="0000cc"/>
                </a:solidFill>
                <a:latin typeface="Comic Sans MS"/>
              </a:rPr>
              <a:t>            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да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0" lang="ru-RU" sz="47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ты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шь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             да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шь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он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ст</a:t>
            </a: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            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да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ст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мы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м           да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м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вы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те          да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те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они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я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т             да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у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т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00"/>
                </a:solidFill>
                <a:latin typeface="Comic Sans MS"/>
              </a:rPr>
              <a:t>  </a:t>
            </a:r>
            <a:endParaRPr b="0" lang="en-US" sz="4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332000" y="115560"/>
            <a:ext cx="7416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40c0c"/>
                </a:solidFill>
                <a:latin typeface="Garamond"/>
              </a:rPr>
              <a:t>Являются ли такие окончания типичными для глаголов?</a:t>
            </a:r>
            <a:endParaRPr b="0" lang="en-US" sz="44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403280" y="2707920"/>
            <a:ext cx="735480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акие окончания являются архаическими, устаревшими, поэтому данные глаголы (и образованные от них однокоренные глаголы) называютс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обо спрягаемыми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96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2,12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96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2,12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9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3300"/>
                </a:solidFill>
                <a:latin typeface="Garamond"/>
              </a:rPr>
              <a:t>Кроссворд «Части речи»</a:t>
            </a:r>
            <a:endParaRPr b="0" lang="en-US" sz="38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234000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4" name="Rectangle 4"/>
          <p:cNvSpPr/>
          <p:nvPr/>
        </p:nvSpPr>
        <p:spPr>
          <a:xfrm>
            <a:off x="270036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5" name="Rectangle 5"/>
          <p:cNvSpPr/>
          <p:nvPr/>
        </p:nvSpPr>
        <p:spPr>
          <a:xfrm>
            <a:off x="305928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щ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341964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378000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414036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9" name="Rectangle 9"/>
          <p:cNvSpPr/>
          <p:nvPr/>
        </p:nvSpPr>
        <p:spPr>
          <a:xfrm>
            <a:off x="450072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0" name="Rectangle 10"/>
          <p:cNvSpPr/>
          <p:nvPr/>
        </p:nvSpPr>
        <p:spPr>
          <a:xfrm>
            <a:off x="485928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1" name="Rectangle 11"/>
          <p:cNvSpPr/>
          <p:nvPr/>
        </p:nvSpPr>
        <p:spPr>
          <a:xfrm>
            <a:off x="521964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2" name="Rectangle 12"/>
          <p:cNvSpPr/>
          <p:nvPr/>
        </p:nvSpPr>
        <p:spPr>
          <a:xfrm>
            <a:off x="558000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3" name="Rectangle 13"/>
          <p:cNvSpPr/>
          <p:nvPr/>
        </p:nvSpPr>
        <p:spPr>
          <a:xfrm>
            <a:off x="594036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4" name="Rectangle 14"/>
          <p:cNvSpPr/>
          <p:nvPr/>
        </p:nvSpPr>
        <p:spPr>
          <a:xfrm>
            <a:off x="630072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5" name="Rectangle 15"/>
          <p:cNvSpPr/>
          <p:nvPr/>
        </p:nvSpPr>
        <p:spPr>
          <a:xfrm>
            <a:off x="665964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6" name="Rectangle 16"/>
          <p:cNvSpPr/>
          <p:nvPr/>
        </p:nvSpPr>
        <p:spPr>
          <a:xfrm>
            <a:off x="702000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7" name="Rectangle 17"/>
          <p:cNvSpPr/>
          <p:nvPr/>
        </p:nvSpPr>
        <p:spPr>
          <a:xfrm>
            <a:off x="738036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8" name="Rectangle 18"/>
          <p:cNvSpPr/>
          <p:nvPr/>
        </p:nvSpPr>
        <p:spPr>
          <a:xfrm>
            <a:off x="2340000" y="1916280"/>
            <a:ext cx="358920" cy="3585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9" name="Rectangle 19"/>
          <p:cNvSpPr/>
          <p:nvPr/>
        </p:nvSpPr>
        <p:spPr>
          <a:xfrm>
            <a:off x="2340000" y="22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0" name="Rectangle 20"/>
          <p:cNvSpPr/>
          <p:nvPr/>
        </p:nvSpPr>
        <p:spPr>
          <a:xfrm>
            <a:off x="2340000" y="263700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1" name="Rectangle 21"/>
          <p:cNvSpPr/>
          <p:nvPr/>
        </p:nvSpPr>
        <p:spPr>
          <a:xfrm>
            <a:off x="2340000" y="299736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2" name="Rectangle 22"/>
          <p:cNvSpPr/>
          <p:nvPr/>
        </p:nvSpPr>
        <p:spPr>
          <a:xfrm>
            <a:off x="2340000" y="33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3" name="Rectangle 23"/>
          <p:cNvSpPr/>
          <p:nvPr/>
        </p:nvSpPr>
        <p:spPr>
          <a:xfrm>
            <a:off x="2340000" y="371628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4" name="Rectangle 24"/>
          <p:cNvSpPr/>
          <p:nvPr/>
        </p:nvSpPr>
        <p:spPr>
          <a:xfrm>
            <a:off x="234000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5" name="Rectangle 25"/>
          <p:cNvSpPr/>
          <p:nvPr/>
        </p:nvSpPr>
        <p:spPr>
          <a:xfrm>
            <a:off x="2340000" y="443700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6" name="Rectangle 26"/>
          <p:cNvSpPr/>
          <p:nvPr/>
        </p:nvSpPr>
        <p:spPr>
          <a:xfrm>
            <a:off x="3780000" y="191628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7" name="Rectangle 27"/>
          <p:cNvSpPr/>
          <p:nvPr/>
        </p:nvSpPr>
        <p:spPr>
          <a:xfrm>
            <a:off x="3780000" y="22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8" name="Rectangle 28"/>
          <p:cNvSpPr/>
          <p:nvPr/>
        </p:nvSpPr>
        <p:spPr>
          <a:xfrm>
            <a:off x="3780000" y="263700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9" name="Rectangle 29"/>
          <p:cNvSpPr/>
          <p:nvPr/>
        </p:nvSpPr>
        <p:spPr>
          <a:xfrm>
            <a:off x="3780000" y="299736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0" name="Rectangle 30"/>
          <p:cNvSpPr/>
          <p:nvPr/>
        </p:nvSpPr>
        <p:spPr>
          <a:xfrm>
            <a:off x="3780000" y="33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1" name="Rectangle 31"/>
          <p:cNvSpPr/>
          <p:nvPr/>
        </p:nvSpPr>
        <p:spPr>
          <a:xfrm>
            <a:off x="3780000" y="371628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2" name="Rectangle 32"/>
          <p:cNvSpPr/>
          <p:nvPr/>
        </p:nvSpPr>
        <p:spPr>
          <a:xfrm>
            <a:off x="378000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3" name="Rectangle 33"/>
          <p:cNvSpPr/>
          <p:nvPr/>
        </p:nvSpPr>
        <p:spPr>
          <a:xfrm>
            <a:off x="3780000" y="443700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4" name="Rectangle 34"/>
          <p:cNvSpPr/>
          <p:nvPr/>
        </p:nvSpPr>
        <p:spPr>
          <a:xfrm>
            <a:off x="7740720" y="191628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5" name="Rectangle 35"/>
          <p:cNvSpPr/>
          <p:nvPr/>
        </p:nvSpPr>
        <p:spPr>
          <a:xfrm>
            <a:off x="7740720" y="22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6" name="Rectangle 36"/>
          <p:cNvSpPr/>
          <p:nvPr/>
        </p:nvSpPr>
        <p:spPr>
          <a:xfrm>
            <a:off x="7740720" y="263700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7" name="Rectangle 37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8" name="Rectangle 38"/>
          <p:cNvSpPr/>
          <p:nvPr/>
        </p:nvSpPr>
        <p:spPr>
          <a:xfrm>
            <a:off x="7740720" y="33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9" name="Rectangle 39"/>
          <p:cNvSpPr/>
          <p:nvPr/>
        </p:nvSpPr>
        <p:spPr>
          <a:xfrm>
            <a:off x="7740720" y="371628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0" name="Rectangle 40"/>
          <p:cNvSpPr/>
          <p:nvPr/>
        </p:nvSpPr>
        <p:spPr>
          <a:xfrm>
            <a:off x="774072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1" name="Rectangle 41"/>
          <p:cNvSpPr/>
          <p:nvPr/>
        </p:nvSpPr>
        <p:spPr>
          <a:xfrm>
            <a:off x="7740720" y="443700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2" name="Rectangle 42"/>
          <p:cNvSpPr/>
          <p:nvPr/>
        </p:nvSpPr>
        <p:spPr>
          <a:xfrm>
            <a:off x="7740720" y="479736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3" name="Rectangle 43"/>
          <p:cNvSpPr/>
          <p:nvPr/>
        </p:nvSpPr>
        <p:spPr>
          <a:xfrm>
            <a:off x="7740720" y="51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4" name="Rectangle 44"/>
          <p:cNvSpPr/>
          <p:nvPr/>
        </p:nvSpPr>
        <p:spPr>
          <a:xfrm>
            <a:off x="7740720" y="551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5" name="Rectangle 45"/>
          <p:cNvSpPr/>
          <p:nvPr/>
        </p:nvSpPr>
        <p:spPr>
          <a:xfrm>
            <a:off x="7740720" y="587700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6" name="Rectangle 46"/>
          <p:cNvSpPr/>
          <p:nvPr/>
        </p:nvSpPr>
        <p:spPr>
          <a:xfrm>
            <a:off x="4140360" y="22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7" name="Rectangle 47"/>
          <p:cNvSpPr/>
          <p:nvPr/>
        </p:nvSpPr>
        <p:spPr>
          <a:xfrm>
            <a:off x="4500720" y="22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8" name="Rectangle 48"/>
          <p:cNvSpPr/>
          <p:nvPr/>
        </p:nvSpPr>
        <p:spPr>
          <a:xfrm>
            <a:off x="4859280" y="22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9" name="Rectangle 49"/>
          <p:cNvSpPr/>
          <p:nvPr/>
        </p:nvSpPr>
        <p:spPr>
          <a:xfrm>
            <a:off x="5219640" y="22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0" name="Rectangle 50"/>
          <p:cNvSpPr/>
          <p:nvPr/>
        </p:nvSpPr>
        <p:spPr>
          <a:xfrm>
            <a:off x="4140360" y="299736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1" name="Rectangle 51"/>
          <p:cNvSpPr/>
          <p:nvPr/>
        </p:nvSpPr>
        <p:spPr>
          <a:xfrm>
            <a:off x="3419640" y="22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2" name="Rectangle 52"/>
          <p:cNvSpPr/>
          <p:nvPr/>
        </p:nvSpPr>
        <p:spPr>
          <a:xfrm>
            <a:off x="4500720" y="299736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3" name="Rectangle 53"/>
          <p:cNvSpPr/>
          <p:nvPr/>
        </p:nvSpPr>
        <p:spPr>
          <a:xfrm>
            <a:off x="4859280" y="299736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4" name="Rectangle 54"/>
          <p:cNvSpPr/>
          <p:nvPr/>
        </p:nvSpPr>
        <p:spPr>
          <a:xfrm>
            <a:off x="5219640" y="299736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5" name="Rectangle 55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6" name="Rectangle 56"/>
          <p:cNvSpPr/>
          <p:nvPr/>
        </p:nvSpPr>
        <p:spPr>
          <a:xfrm>
            <a:off x="5940360" y="299736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7" name="Rectangle 57"/>
          <p:cNvSpPr/>
          <p:nvPr/>
        </p:nvSpPr>
        <p:spPr>
          <a:xfrm>
            <a:off x="341964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8" name="Rectangle 58"/>
          <p:cNvSpPr/>
          <p:nvPr/>
        </p:nvSpPr>
        <p:spPr>
          <a:xfrm>
            <a:off x="305928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9" name="Rectangle 59"/>
          <p:cNvSpPr/>
          <p:nvPr/>
        </p:nvSpPr>
        <p:spPr>
          <a:xfrm>
            <a:off x="414036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0" name="Rectangle 60"/>
          <p:cNvSpPr/>
          <p:nvPr/>
        </p:nvSpPr>
        <p:spPr>
          <a:xfrm>
            <a:off x="450072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1" name="Rectangle 61"/>
          <p:cNvSpPr/>
          <p:nvPr/>
        </p:nvSpPr>
        <p:spPr>
          <a:xfrm>
            <a:off x="738036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2" name="Rectangle 62"/>
          <p:cNvSpPr/>
          <p:nvPr/>
        </p:nvSpPr>
        <p:spPr>
          <a:xfrm>
            <a:off x="485928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3" name="Rectangle 63"/>
          <p:cNvSpPr/>
          <p:nvPr/>
        </p:nvSpPr>
        <p:spPr>
          <a:xfrm>
            <a:off x="521964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4" name="Rectangle 64"/>
          <p:cNvSpPr/>
          <p:nvPr/>
        </p:nvSpPr>
        <p:spPr>
          <a:xfrm>
            <a:off x="558000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5" name="Rectangle 65"/>
          <p:cNvSpPr/>
          <p:nvPr/>
        </p:nvSpPr>
        <p:spPr>
          <a:xfrm>
            <a:off x="594036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6" name="Rectangle 66"/>
          <p:cNvSpPr/>
          <p:nvPr/>
        </p:nvSpPr>
        <p:spPr>
          <a:xfrm>
            <a:off x="630072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7" name="Rectangle 67"/>
          <p:cNvSpPr/>
          <p:nvPr/>
        </p:nvSpPr>
        <p:spPr>
          <a:xfrm>
            <a:off x="665964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8" name="Rectangle 68"/>
          <p:cNvSpPr/>
          <p:nvPr/>
        </p:nvSpPr>
        <p:spPr>
          <a:xfrm>
            <a:off x="702000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9" name="Rectangle 69"/>
          <p:cNvSpPr/>
          <p:nvPr/>
        </p:nvSpPr>
        <p:spPr>
          <a:xfrm>
            <a:off x="8101080" y="51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0" name="Rectangle 70"/>
          <p:cNvSpPr/>
          <p:nvPr/>
        </p:nvSpPr>
        <p:spPr>
          <a:xfrm>
            <a:off x="7380360" y="51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1" name="Rectangle 71"/>
          <p:cNvSpPr/>
          <p:nvPr/>
        </p:nvSpPr>
        <p:spPr>
          <a:xfrm>
            <a:off x="7020000" y="51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2" name="Rectangle 72"/>
          <p:cNvSpPr/>
          <p:nvPr/>
        </p:nvSpPr>
        <p:spPr>
          <a:xfrm>
            <a:off x="6659640" y="51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3" name="Rectangle 73"/>
          <p:cNvSpPr/>
          <p:nvPr/>
        </p:nvSpPr>
        <p:spPr>
          <a:xfrm>
            <a:off x="630072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4" name="Rectangle 74"/>
          <p:cNvSpPr/>
          <p:nvPr/>
        </p:nvSpPr>
        <p:spPr>
          <a:xfrm>
            <a:off x="594036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5" name="Rectangle 75"/>
          <p:cNvSpPr/>
          <p:nvPr/>
        </p:nvSpPr>
        <p:spPr>
          <a:xfrm>
            <a:off x="845964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6" name="Rectangle 76"/>
          <p:cNvSpPr/>
          <p:nvPr/>
        </p:nvSpPr>
        <p:spPr>
          <a:xfrm>
            <a:off x="558000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7" name="Rectangle 77"/>
          <p:cNvSpPr/>
          <p:nvPr/>
        </p:nvSpPr>
        <p:spPr>
          <a:xfrm>
            <a:off x="521964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8" name="Rectangle 78"/>
          <p:cNvSpPr/>
          <p:nvPr/>
        </p:nvSpPr>
        <p:spPr>
          <a:xfrm>
            <a:off x="485928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9" name="Rectangle 79"/>
          <p:cNvSpPr/>
          <p:nvPr/>
        </p:nvSpPr>
        <p:spPr>
          <a:xfrm>
            <a:off x="2340000" y="155736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f4f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0" name="Rectangle 80"/>
          <p:cNvSpPr/>
          <p:nvPr/>
        </p:nvSpPr>
        <p:spPr>
          <a:xfrm>
            <a:off x="2340000" y="155736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f4f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1" name="Rectangle 81"/>
          <p:cNvSpPr/>
          <p:nvPr/>
        </p:nvSpPr>
        <p:spPr>
          <a:xfrm>
            <a:off x="324000" y="0"/>
            <a:ext cx="8569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4.</a:t>
            </a:r>
            <a:r>
              <a:rPr b="0" lang="ru-RU" sz="3200" spc="-1" strike="noStrike">
                <a:solidFill>
                  <a:srgbClr val="424456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Отвечает на вопросы что делать? что сделать? и обозначает действие предмет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2" name="Rectangle 82"/>
          <p:cNvSpPr/>
          <p:nvPr/>
        </p:nvSpPr>
        <p:spPr>
          <a:xfrm>
            <a:off x="250920" y="260280"/>
            <a:ext cx="864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Garamond"/>
              </a:rPr>
              <a:t>По горизонтали</a:t>
            </a:r>
            <a:r>
              <a:rPr b="0" lang="ru-RU" sz="4200" spc="-1" strike="noStrike">
                <a:solidFill>
                  <a:srgbClr val="424456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cc3300"/>
                </a:solidFill>
                <a:latin typeface="Garamond"/>
              </a:rPr>
              <a:t>1.</a:t>
            </a:r>
            <a:r>
              <a:rPr b="0" lang="ru-RU" sz="4200" spc="-1" strike="noStrike">
                <a:solidFill>
                  <a:srgbClr val="424456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cc3300"/>
                </a:solidFill>
                <a:latin typeface="Garamond"/>
              </a:rPr>
              <a:t>Часть речи, обозначает предмет.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3" name="Rectangle 83"/>
          <p:cNvSpPr/>
          <p:nvPr/>
        </p:nvSpPr>
        <p:spPr>
          <a:xfrm>
            <a:off x="3419640" y="227664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f4f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4" name="Rectangle 84"/>
          <p:cNvSpPr/>
          <p:nvPr/>
        </p:nvSpPr>
        <p:spPr>
          <a:xfrm>
            <a:off x="503280" y="189000"/>
            <a:ext cx="8640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Garamond"/>
              </a:rPr>
              <a:t>7. Указывает на предмет, признак или количество, не называя их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5" name="Rectangle 85"/>
          <p:cNvSpPr/>
          <p:nvPr/>
        </p:nvSpPr>
        <p:spPr>
          <a:xfrm>
            <a:off x="3780000" y="299736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4f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6" name="Rectangle 86"/>
          <p:cNvSpPr/>
          <p:nvPr/>
        </p:nvSpPr>
        <p:spPr>
          <a:xfrm>
            <a:off x="287280" y="260280"/>
            <a:ext cx="8856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Garamond"/>
              </a:rPr>
              <a:t>5. Часть речи, отвечает на вопросы где? куда?   откуда? как?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7" name="Rectangle 87"/>
          <p:cNvSpPr/>
          <p:nvPr/>
        </p:nvSpPr>
        <p:spPr>
          <a:xfrm>
            <a:off x="3059280" y="407664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4f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8" name="Rectangle 88"/>
          <p:cNvSpPr/>
          <p:nvPr/>
        </p:nvSpPr>
        <p:spPr>
          <a:xfrm>
            <a:off x="324000" y="189000"/>
            <a:ext cx="8640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6. Обозначает признак предмет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9" name="Rectangle 89"/>
          <p:cNvSpPr/>
          <p:nvPr/>
        </p:nvSpPr>
        <p:spPr>
          <a:xfrm>
            <a:off x="395280" y="189000"/>
            <a:ext cx="8640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Garamond"/>
              </a:rPr>
              <a:t>3. Часть речи, которая обозначает число, количество предметов и порядок предметов при счёте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0" name="Rectangle 90"/>
          <p:cNvSpPr/>
          <p:nvPr/>
        </p:nvSpPr>
        <p:spPr>
          <a:xfrm>
            <a:off x="4859280" y="515772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4f9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1" name="Rectangle 91"/>
          <p:cNvSpPr/>
          <p:nvPr/>
        </p:nvSpPr>
        <p:spPr>
          <a:xfrm>
            <a:off x="395280" y="260280"/>
            <a:ext cx="864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Garamond"/>
              </a:rPr>
              <a:t>По вертикали.</a:t>
            </a: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 1. Изменение глагола по лицам и числам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2" name="Rectangle 92"/>
          <p:cNvSpPr/>
          <p:nvPr/>
        </p:nvSpPr>
        <p:spPr>
          <a:xfrm>
            <a:off x="395280" y="260280"/>
            <a:ext cx="864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2. Изменение именной части речи по падежам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3" name="Rectangle 93"/>
          <p:cNvSpPr/>
          <p:nvPr/>
        </p:nvSpPr>
        <p:spPr>
          <a:xfrm>
            <a:off x="3780000" y="155736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4f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4" name="Rectangle 94"/>
          <p:cNvSpPr/>
          <p:nvPr/>
        </p:nvSpPr>
        <p:spPr>
          <a:xfrm>
            <a:off x="7740720" y="1916280"/>
            <a:ext cx="360360" cy="3585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4f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0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1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3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9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6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2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6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500"/>
                            </p:stCondLst>
                            <p:childTnLst>
                              <p:par>
                                <p:cTn id="46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1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Picture 2" descr=""/>
          <p:cNvPicPr/>
          <p:nvPr/>
        </p:nvPicPr>
        <p:blipFill>
          <a:blip r:embed="rId1"/>
          <a:stretch/>
        </p:blipFill>
        <p:spPr>
          <a:xfrm>
            <a:off x="-111240" y="-158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763280" y="1700280"/>
            <a:ext cx="69231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a40c0c"/>
              </a:solidFill>
              <a:latin typeface="Garamond"/>
            </a:endParaRPr>
          </a:p>
        </p:txBody>
      </p:sp>
      <p:sp>
        <p:nvSpPr>
          <p:cNvPr id="928" name="Овал 1"/>
          <p:cNvSpPr/>
          <p:nvPr/>
        </p:nvSpPr>
        <p:spPr>
          <a:xfrm>
            <a:off x="3949560" y="2262240"/>
            <a:ext cx="2081520" cy="1743120"/>
          </a:xfrm>
          <a:prstGeom prst="ellipse">
            <a:avLst/>
          </a:prstGeom>
          <a:solidFill>
            <a:srgbClr val="effff7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Разноспрягаемые глаголы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9" name="Овал 2"/>
          <p:cNvSpPr/>
          <p:nvPr/>
        </p:nvSpPr>
        <p:spPr>
          <a:xfrm>
            <a:off x="6443640" y="2550960"/>
            <a:ext cx="1584360" cy="1160640"/>
          </a:xfrm>
          <a:prstGeom prst="ellipse">
            <a:avLst/>
          </a:prstGeom>
          <a:solidFill>
            <a:srgbClr val="effff7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особо спрягаемые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0" name="Овал 3"/>
          <p:cNvSpPr/>
          <p:nvPr/>
        </p:nvSpPr>
        <p:spPr>
          <a:xfrm>
            <a:off x="1959120" y="2600280"/>
            <a:ext cx="1584360" cy="1152720"/>
          </a:xfrm>
          <a:prstGeom prst="ellipse">
            <a:avLst/>
          </a:prstGeom>
          <a:solidFill>
            <a:srgbClr val="effff7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с оконч.  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I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II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31" name="Прямоугольник 8" descr=""/>
          <p:cNvPicPr/>
          <p:nvPr/>
        </p:nvPicPr>
        <p:blipFill>
          <a:blip r:embed="rId2"/>
          <a:stretch/>
        </p:blipFill>
        <p:spPr>
          <a:xfrm>
            <a:off x="7040520" y="4290840"/>
            <a:ext cx="2043000" cy="927360"/>
          </a:xfrm>
          <a:prstGeom prst="rect">
            <a:avLst/>
          </a:prstGeom>
          <a:ln w="0">
            <a:noFill/>
          </a:ln>
        </p:spPr>
      </p:pic>
      <p:pic>
        <p:nvPicPr>
          <p:cNvPr id="932" name="Прямоугольник 9" descr=""/>
          <p:cNvPicPr/>
          <p:nvPr/>
        </p:nvPicPr>
        <p:blipFill>
          <a:blip r:embed="rId3"/>
          <a:stretch/>
        </p:blipFill>
        <p:spPr>
          <a:xfrm>
            <a:off x="7070760" y="1011240"/>
            <a:ext cx="1994040" cy="927000"/>
          </a:xfrm>
          <a:prstGeom prst="rect">
            <a:avLst/>
          </a:prstGeom>
          <a:ln w="0">
            <a:noFill/>
          </a:ln>
        </p:spPr>
      </p:pic>
      <p:pic>
        <p:nvPicPr>
          <p:cNvPr id="933" name="Прямоугольник 10" descr=""/>
          <p:cNvPicPr/>
          <p:nvPr/>
        </p:nvPicPr>
        <p:blipFill>
          <a:blip r:embed="rId4"/>
          <a:stretch/>
        </p:blipFill>
        <p:spPr>
          <a:xfrm>
            <a:off x="878040" y="1042920"/>
            <a:ext cx="2584440" cy="925560"/>
          </a:xfrm>
          <a:prstGeom prst="rect">
            <a:avLst/>
          </a:prstGeom>
          <a:ln w="0">
            <a:noFill/>
          </a:ln>
        </p:spPr>
      </p:pic>
      <p:pic>
        <p:nvPicPr>
          <p:cNvPr id="934" name="Прямоугольник 11" descr=""/>
          <p:cNvPicPr/>
          <p:nvPr/>
        </p:nvPicPr>
        <p:blipFill>
          <a:blip r:embed="rId5"/>
          <a:stretch/>
        </p:blipFill>
        <p:spPr>
          <a:xfrm>
            <a:off x="738360" y="4432320"/>
            <a:ext cx="2743200" cy="925560"/>
          </a:xfrm>
          <a:prstGeom prst="rect">
            <a:avLst/>
          </a:prstGeom>
          <a:ln w="0">
            <a:noFill/>
          </a:ln>
        </p:spPr>
      </p:pic>
      <p:sp>
        <p:nvSpPr>
          <p:cNvPr id="935" name="Стрелка вниз 6"/>
          <p:cNvSpPr/>
          <p:nvPr/>
        </p:nvSpPr>
        <p:spPr>
          <a:xfrm rot="1455000">
            <a:off x="2339640" y="3738600"/>
            <a:ext cx="280800" cy="692280"/>
          </a:xfrm>
          <a:prstGeom prst="downArrow">
            <a:avLst>
              <a:gd name="adj1" fmla="val 50000"/>
              <a:gd name="adj2" fmla="val 50107"/>
            </a:avLst>
          </a:prstGeom>
          <a:solidFill>
            <a:srgbClr val="4747ff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6" name="Стрелка вправо 13"/>
          <p:cNvSpPr/>
          <p:nvPr/>
        </p:nvSpPr>
        <p:spPr>
          <a:xfrm rot="14265600">
            <a:off x="2026800" y="2185200"/>
            <a:ext cx="652680" cy="30348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747ff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7" name="Стрелка вправо 14"/>
          <p:cNvSpPr/>
          <p:nvPr/>
        </p:nvSpPr>
        <p:spPr>
          <a:xfrm rot="10800000">
            <a:off x="3543480" y="2991960"/>
            <a:ext cx="406080" cy="282600"/>
          </a:xfrm>
          <a:prstGeom prst="rightArrow">
            <a:avLst>
              <a:gd name="adj1" fmla="val 50000"/>
              <a:gd name="adj2" fmla="val 50073"/>
            </a:avLst>
          </a:prstGeom>
          <a:solidFill>
            <a:srgbClr val="4747ff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8" name="Стрелка вправо 15"/>
          <p:cNvSpPr/>
          <p:nvPr/>
        </p:nvSpPr>
        <p:spPr>
          <a:xfrm>
            <a:off x="6031080" y="3056040"/>
            <a:ext cx="431640" cy="261720"/>
          </a:xfrm>
          <a:prstGeom prst="rightArrow">
            <a:avLst>
              <a:gd name="adj1" fmla="val 50000"/>
              <a:gd name="adj2" fmla="val 50233"/>
            </a:avLst>
          </a:prstGeom>
          <a:solidFill>
            <a:srgbClr val="4747ff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9" name="Стрелка вправо 16"/>
          <p:cNvSpPr/>
          <p:nvPr/>
        </p:nvSpPr>
        <p:spPr>
          <a:xfrm rot="18397800">
            <a:off x="7419600" y="2118960"/>
            <a:ext cx="685800" cy="2854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747ff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0" name="Стрелка вправо 17"/>
          <p:cNvSpPr/>
          <p:nvPr/>
        </p:nvSpPr>
        <p:spPr>
          <a:xfrm rot="3216600">
            <a:off x="7585560" y="3794760"/>
            <a:ext cx="736920" cy="287280"/>
          </a:xfrm>
          <a:prstGeom prst="rightArrow">
            <a:avLst>
              <a:gd name="adj1" fmla="val 50000"/>
              <a:gd name="adj2" fmla="val 49926"/>
            </a:avLst>
          </a:prstGeom>
          <a:solidFill>
            <a:srgbClr val="4747ff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9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Picture 2" descr="танцы"/>
          <p:cNvPicPr/>
          <p:nvPr/>
        </p:nvPicPr>
        <p:blipFill>
          <a:blip r:embed="rId1"/>
          <a:stretch/>
        </p:blipFill>
        <p:spPr>
          <a:xfrm>
            <a:off x="1547640" y="2309760"/>
            <a:ext cx="6337440" cy="438624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Физминутка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416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40c0c"/>
                </a:solidFill>
                <a:latin typeface="Garamond"/>
              </a:rPr>
              <a:t>Прочитайте глаголы. Как они называются?</a:t>
            </a:r>
            <a:endParaRPr b="0" lang="en-US" sz="3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116000" y="1125000"/>
            <a:ext cx="7354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хотеть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желать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стремиться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жаждать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мечтать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хотеться                  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1896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инонимы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9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9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547280" y="1413000"/>
            <a:ext cx="6923160" cy="11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933200" y="2999880"/>
            <a:ext cx="7210440" cy="31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4747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Подобрать пословицы с раноспрягаемыми глаголами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4747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§ 81, упражнение 474. 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692316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Вывод. Рефлексия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Напишите </a:t>
            </a: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синквейн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 на тему 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lvl="1" marL="457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cc"/>
                </a:solidFill>
                <a:uFillTx/>
                <a:latin typeface="Arial"/>
              </a:rPr>
              <a:t>«Разноспрягаемые глаголы»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186920" y="764640"/>
            <a:ext cx="772668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cc3300"/>
                </a:solidFill>
                <a:latin typeface="Garamond"/>
              </a:rPr>
              <a:t>«Четвёртый лишний»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1619280" y="2205000"/>
            <a:ext cx="2879640" cy="8636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Рисовать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1692360" y="3284640"/>
            <a:ext cx="2879640" cy="8636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Молчать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9" name="Rectangle 8"/>
          <p:cNvSpPr/>
          <p:nvPr/>
        </p:nvSpPr>
        <p:spPr>
          <a:xfrm>
            <a:off x="5580000" y="2205000"/>
            <a:ext cx="2879640" cy="8636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давать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5580000" y="3284640"/>
            <a:ext cx="2879640" cy="8636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акрывать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1" name="AutoShape 10"/>
          <p:cNvSpPr/>
          <p:nvPr/>
        </p:nvSpPr>
        <p:spPr>
          <a:xfrm>
            <a:off x="1692360" y="4653000"/>
            <a:ext cx="2232000" cy="503280"/>
          </a:xfrm>
          <a:prstGeom prst="foldedCorner">
            <a:avLst>
              <a:gd name="adj" fmla="val 12500"/>
            </a:avLst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одсказка 1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2" name="AutoShape 10"/>
          <p:cNvSpPr/>
          <p:nvPr/>
        </p:nvSpPr>
        <p:spPr>
          <a:xfrm>
            <a:off x="5867280" y="4869000"/>
            <a:ext cx="2089440" cy="792000"/>
          </a:xfrm>
          <a:prstGeom prst="octagon">
            <a:avLst>
              <a:gd name="adj" fmla="val 29287"/>
            </a:avLst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f4f9"/>
                </a:solidFill>
                <a:latin typeface="Arial"/>
              </a:rPr>
              <a:t>Отве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3" name="AutoShape 15"/>
          <p:cNvSpPr/>
          <p:nvPr/>
        </p:nvSpPr>
        <p:spPr>
          <a:xfrm>
            <a:off x="1763640" y="5661000"/>
            <a:ext cx="2087640" cy="647640"/>
          </a:xfrm>
          <a:custGeom>
            <a:avLst/>
            <a:gdLst>
              <a:gd name="textAreaLeft" fmla="*/ 41760 w 2087640"/>
              <a:gd name="textAreaRight" fmla="*/ 2045880 w 208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9600" h="21600">
                <a:moveTo>
                  <a:pt x="0" y="0"/>
                </a:moveTo>
                <a:lnTo>
                  <a:pt x="69600" y="0"/>
                </a:lnTo>
                <a:lnTo>
                  <a:pt x="69600" y="21600"/>
                </a:lnTo>
                <a:lnTo>
                  <a:pt x="0" y="21600"/>
                </a:lnTo>
                <a:close/>
              </a:path>
              <a:path fill="lightenLess" w="69600" h="21600">
                <a:moveTo>
                  <a:pt x="0" y="0"/>
                </a:moveTo>
                <a:lnTo>
                  <a:pt x="69600" y="0"/>
                </a:lnTo>
                <a:lnTo>
                  <a:pt x="68200" y="1400"/>
                </a:lnTo>
                <a:lnTo>
                  <a:pt x="1400" y="1400"/>
                </a:lnTo>
                <a:close/>
              </a:path>
              <a:path fill="darken" w="69600" h="21600">
                <a:moveTo>
                  <a:pt x="69600" y="0"/>
                </a:moveTo>
                <a:lnTo>
                  <a:pt x="69600" y="21600"/>
                </a:lnTo>
                <a:lnTo>
                  <a:pt x="68200" y="20200"/>
                </a:lnTo>
                <a:lnTo>
                  <a:pt x="68200" y="1400"/>
                </a:lnTo>
                <a:close/>
              </a:path>
              <a:path fill="darkenLess" w="69600" h="21600">
                <a:moveTo>
                  <a:pt x="69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200" y="20200"/>
                </a:lnTo>
                <a:close/>
              </a:path>
              <a:path fill="lighten" w="69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одсказка 2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1"/>
          <p:cNvSpPr>
            <a:spLocks noGrp="1"/>
          </p:cNvSpPr>
          <p:nvPr>
            <p:ph/>
          </p:nvPr>
        </p:nvSpPr>
        <p:spPr>
          <a:xfrm>
            <a:off x="1258560" y="2349360"/>
            <a:ext cx="7705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Обратите внимание на спряжение глаголов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16" name="Picture 5" descr="p79_2_clr"/>
          <p:cNvPicPr/>
          <p:nvPr/>
        </p:nvPicPr>
        <p:blipFill>
          <a:blip r:embed="rId2"/>
          <a:stretch/>
        </p:blipFill>
        <p:spPr>
          <a:xfrm>
            <a:off x="6300720" y="5013360"/>
            <a:ext cx="522360" cy="104472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6" descr="p79_1_clr"/>
          <p:cNvPicPr/>
          <p:nvPr/>
        </p:nvPicPr>
        <p:blipFill>
          <a:blip r:embed="rId3"/>
          <a:stretch/>
        </p:blipFill>
        <p:spPr>
          <a:xfrm>
            <a:off x="3203640" y="476280"/>
            <a:ext cx="317520" cy="1079640"/>
          </a:xfrm>
          <a:prstGeom prst="rect">
            <a:avLst/>
          </a:prstGeom>
          <a:ln w="0">
            <a:noFill/>
          </a:ln>
        </p:spPr>
      </p:pic>
      <p:sp>
        <p:nvSpPr>
          <p:cNvPr id="818" name="AutoShape 4"/>
          <p:cNvSpPr/>
          <p:nvPr/>
        </p:nvSpPr>
        <p:spPr>
          <a:xfrm>
            <a:off x="867564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7675"/>
                </a:moveTo>
                <a:lnTo>
                  <a:pt x="7301" y="7675"/>
                </a:lnTo>
                <a:lnTo>
                  <a:pt x="7301" y="13010"/>
                </a:lnTo>
                <a:cubicBezTo>
                  <a:pt x="7301" y="13933"/>
                  <a:pt x="8102" y="14664"/>
                  <a:pt x="9138" y="14664"/>
                </a:cubicBezTo>
                <a:lnTo>
                  <a:pt x="10800" y="14664"/>
                </a:lnTo>
                <a:cubicBezTo>
                  <a:pt x="11836" y="14664"/>
                  <a:pt x="12636" y="13933"/>
                  <a:pt x="12636" y="13010"/>
                </a:cubicBezTo>
                <a:lnTo>
                  <a:pt x="12636" y="7675"/>
                </a:lnTo>
                <a:lnTo>
                  <a:pt x="10800" y="7675"/>
                </a:lnTo>
                <a:lnTo>
                  <a:pt x="14308" y="4167"/>
                </a:lnTo>
                <a:lnTo>
                  <a:pt x="17981" y="7675"/>
                </a:lnTo>
                <a:lnTo>
                  <a:pt x="16144" y="7675"/>
                </a:lnTo>
                <a:lnTo>
                  <a:pt x="16144" y="13010"/>
                </a:lnTo>
                <a:cubicBezTo>
                  <a:pt x="16144" y="15778"/>
                  <a:pt x="13568" y="18337"/>
                  <a:pt x="10800" y="18337"/>
                </a:cubicBezTo>
                <a:lnTo>
                  <a:pt x="9138" y="18337"/>
                </a:lnTo>
                <a:cubicBezTo>
                  <a:pt x="6370" y="18337"/>
                  <a:pt x="3794" y="15778"/>
                  <a:pt x="3794" y="13010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7058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Спряжение </a:t>
            </a:r>
            <a:r>
              <a:rPr b="0" i="1" lang="ru-RU" sz="2400" spc="-1" strike="noStrike">
                <a:solidFill>
                  <a:srgbClr val="424456"/>
                </a:solidFill>
                <a:latin typeface="Arial"/>
              </a:rPr>
              <a:t>— это изменение глаголов по лицам и числам в настоящем и будущем времени.</a:t>
            </a:r>
            <a:r>
              <a:rPr b="0" lang="ru-RU" sz="3800" spc="-1" strike="noStrike">
                <a:solidFill>
                  <a:srgbClr val="424456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042920" y="981000"/>
            <a:ext cx="8353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ыделяют два типа спряжения. Глаголы первого 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торого спряжения различаются личными окончаниями.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187280" y="1916280"/>
          <a:ext cx="7694640" cy="4176720"/>
        </p:xfrm>
        <a:graphic>
          <a:graphicData uri="http://schemas.openxmlformats.org/drawingml/2006/table">
            <a:tbl>
              <a:tblPr/>
              <a:tblGrid>
                <a:gridCol w="1368720"/>
                <a:gridCol w="1439640"/>
                <a:gridCol w="2505240"/>
                <a:gridCol w="23810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Число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ицо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Глаголы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спряжения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Глаголы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спряжения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539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Единст-венное число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ю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лю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54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ы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шь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шь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72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н, она, оно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539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Множест-венное число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ы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ы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е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е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ни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ю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3" name="Rectangle 81"/>
          <p:cNvSpPr/>
          <p:nvPr/>
        </p:nvSpPr>
        <p:spPr>
          <a:xfrm>
            <a:off x="5214960" y="2786040"/>
            <a:ext cx="358920" cy="2890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4" name="Rectangle 83"/>
          <p:cNvSpPr/>
          <p:nvPr/>
        </p:nvSpPr>
        <p:spPr>
          <a:xfrm>
            <a:off x="5214960" y="3286080"/>
            <a:ext cx="576360" cy="2890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5" name="Rectangle 84"/>
          <p:cNvSpPr/>
          <p:nvPr/>
        </p:nvSpPr>
        <p:spPr>
          <a:xfrm>
            <a:off x="7596360" y="3284640"/>
            <a:ext cx="574560" cy="28872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6" name="Rectangle 85"/>
          <p:cNvSpPr/>
          <p:nvPr/>
        </p:nvSpPr>
        <p:spPr>
          <a:xfrm>
            <a:off x="7596360" y="5157720"/>
            <a:ext cx="50292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7" name="Rectangle 86"/>
          <p:cNvSpPr/>
          <p:nvPr/>
        </p:nvSpPr>
        <p:spPr>
          <a:xfrm>
            <a:off x="5214960" y="5143680"/>
            <a:ext cx="50328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8" name="Rectangle 87"/>
          <p:cNvSpPr/>
          <p:nvPr/>
        </p:nvSpPr>
        <p:spPr>
          <a:xfrm>
            <a:off x="5214960" y="3857760"/>
            <a:ext cx="35892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9" name="Rectangle 88"/>
          <p:cNvSpPr/>
          <p:nvPr/>
        </p:nvSpPr>
        <p:spPr>
          <a:xfrm>
            <a:off x="5214960" y="4572000"/>
            <a:ext cx="35892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0" name="Rectangle 89"/>
          <p:cNvSpPr/>
          <p:nvPr/>
        </p:nvSpPr>
        <p:spPr>
          <a:xfrm>
            <a:off x="5214960" y="5643720"/>
            <a:ext cx="43020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1" name="Rectangle 90"/>
          <p:cNvSpPr/>
          <p:nvPr/>
        </p:nvSpPr>
        <p:spPr>
          <a:xfrm>
            <a:off x="7596360" y="3860640"/>
            <a:ext cx="358560" cy="28764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2" name="Rectangle 91"/>
          <p:cNvSpPr/>
          <p:nvPr/>
        </p:nvSpPr>
        <p:spPr>
          <a:xfrm>
            <a:off x="7596360" y="4581360"/>
            <a:ext cx="431640" cy="28764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3" name="Rectangle 92"/>
          <p:cNvSpPr/>
          <p:nvPr/>
        </p:nvSpPr>
        <p:spPr>
          <a:xfrm>
            <a:off x="7596360" y="5661000"/>
            <a:ext cx="35856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4" name="AutoShape 93"/>
          <p:cNvSpPr/>
          <p:nvPr/>
        </p:nvSpPr>
        <p:spPr>
          <a:xfrm>
            <a:off x="853272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5" y="13751"/>
                  <a:pt x="12645" y="12828"/>
                </a:cubicBezTo>
                <a:lnTo>
                  <a:pt x="12645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5" name="Rectangle 81"/>
          <p:cNvSpPr/>
          <p:nvPr/>
        </p:nvSpPr>
        <p:spPr>
          <a:xfrm>
            <a:off x="7812000" y="2781360"/>
            <a:ext cx="358920" cy="28872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258560" y="836640"/>
            <a:ext cx="7488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Вспомните, 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как определяем</a:t>
            </a:r>
            <a:r>
              <a:rPr b="0" lang="ru-RU" sz="4800" spc="-1" strike="noStrike">
                <a:solidFill>
                  <a:srgbClr val="424456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спряжение</a:t>
            </a:r>
            <a:br>
              <a:rPr sz="4800"/>
            </a:br>
            <a:endParaRPr b="0" lang="en-US" sz="48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838" name="AutoShape 4"/>
          <p:cNvSpPr/>
          <p:nvPr/>
        </p:nvSpPr>
        <p:spPr>
          <a:xfrm>
            <a:off x="845964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7675"/>
                </a:moveTo>
                <a:lnTo>
                  <a:pt x="7301" y="7675"/>
                </a:lnTo>
                <a:lnTo>
                  <a:pt x="7301" y="13010"/>
                </a:lnTo>
                <a:cubicBezTo>
                  <a:pt x="7301" y="13933"/>
                  <a:pt x="8102" y="14664"/>
                  <a:pt x="9138" y="14664"/>
                </a:cubicBezTo>
                <a:lnTo>
                  <a:pt x="10800" y="14664"/>
                </a:lnTo>
                <a:cubicBezTo>
                  <a:pt x="11836" y="14664"/>
                  <a:pt x="12636" y="13933"/>
                  <a:pt x="12636" y="13010"/>
                </a:cubicBezTo>
                <a:lnTo>
                  <a:pt x="12636" y="7675"/>
                </a:lnTo>
                <a:lnTo>
                  <a:pt x="10800" y="7675"/>
                </a:lnTo>
                <a:lnTo>
                  <a:pt x="14308" y="4167"/>
                </a:lnTo>
                <a:lnTo>
                  <a:pt x="17981" y="7675"/>
                </a:lnTo>
                <a:lnTo>
                  <a:pt x="16144" y="7675"/>
                </a:lnTo>
                <a:lnTo>
                  <a:pt x="16144" y="13010"/>
                </a:lnTo>
                <a:cubicBezTo>
                  <a:pt x="16144" y="15778"/>
                  <a:pt x="13568" y="18337"/>
                  <a:pt x="10800" y="18337"/>
                </a:cubicBezTo>
                <a:lnTo>
                  <a:pt x="9138" y="18337"/>
                </a:lnTo>
                <a:cubicBezTo>
                  <a:pt x="6370" y="18337"/>
                  <a:pt x="3794" y="15778"/>
                  <a:pt x="3794" y="13010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0" name="AutoShape 29"/>
          <p:cNvSpPr/>
          <p:nvPr/>
        </p:nvSpPr>
        <p:spPr>
          <a:xfrm>
            <a:off x="7740720" y="5445000"/>
            <a:ext cx="144360" cy="432000"/>
          </a:xfrm>
          <a:prstGeom prst="downArrow">
            <a:avLst>
              <a:gd name="adj1" fmla="val 38685"/>
              <a:gd name="adj2" fmla="val 84912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1" name="AutoShape 29"/>
          <p:cNvSpPr/>
          <p:nvPr/>
        </p:nvSpPr>
        <p:spPr>
          <a:xfrm rot="18559800">
            <a:off x="7163640" y="4725360"/>
            <a:ext cx="142560" cy="430200"/>
          </a:xfrm>
          <a:prstGeom prst="downArrow">
            <a:avLst>
              <a:gd name="adj1" fmla="val 50000"/>
              <a:gd name="adj2" fmla="val 75442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2" name="AutoShape 29"/>
          <p:cNvSpPr/>
          <p:nvPr/>
        </p:nvSpPr>
        <p:spPr>
          <a:xfrm rot="3168000">
            <a:off x="4862520" y="4650840"/>
            <a:ext cx="177840" cy="470160"/>
          </a:xfrm>
          <a:prstGeom prst="downArrow">
            <a:avLst>
              <a:gd name="adj1" fmla="val 50000"/>
              <a:gd name="adj2" fmla="val 66093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43904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Garamond"/>
              </a:rPr>
              <a:t>Алгоритм определения спряжения глаголов</a:t>
            </a:r>
            <a:endParaRPr b="0" lang="en-US" sz="28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844" name="Rectangle 4"/>
          <p:cNvSpPr/>
          <p:nvPr/>
        </p:nvSpPr>
        <p:spPr>
          <a:xfrm>
            <a:off x="1692360" y="692280"/>
            <a:ext cx="5329080" cy="4330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Личное окончание глагола ударное?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5" name="Rectangle 6"/>
          <p:cNvSpPr/>
          <p:nvPr/>
        </p:nvSpPr>
        <p:spPr>
          <a:xfrm>
            <a:off x="1763640" y="1268280"/>
            <a:ext cx="504720" cy="360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6" name="Rectangle 7"/>
          <p:cNvSpPr/>
          <p:nvPr/>
        </p:nvSpPr>
        <p:spPr>
          <a:xfrm>
            <a:off x="6877080" y="1413000"/>
            <a:ext cx="576360" cy="360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7" name="Rectangle 8"/>
          <p:cNvSpPr/>
          <p:nvPr/>
        </p:nvSpPr>
        <p:spPr>
          <a:xfrm>
            <a:off x="108000" y="1844640"/>
            <a:ext cx="4500360" cy="576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пределяем по гласной в окончании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8" name="AutoShape 9"/>
          <p:cNvSpPr/>
          <p:nvPr/>
        </p:nvSpPr>
        <p:spPr>
          <a:xfrm>
            <a:off x="179280" y="2708280"/>
            <a:ext cx="1297080" cy="1655640"/>
          </a:xfrm>
          <a:custGeom>
            <a:avLst/>
            <a:gdLst>
              <a:gd name="textAreaLeft" fmla="*/ 0 w 1297080"/>
              <a:gd name="textAreaRight" fmla="*/ 909720 w 1297080"/>
              <a:gd name="textAreaTop" fmla="*/ 68760 h 1655640"/>
              <a:gd name="textAreaBottom" fmla="*/ 158688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9" name="Rectangle 11"/>
          <p:cNvSpPr/>
          <p:nvPr/>
        </p:nvSpPr>
        <p:spPr>
          <a:xfrm>
            <a:off x="395280" y="314172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0" name="Rectangle 12"/>
          <p:cNvSpPr/>
          <p:nvPr/>
        </p:nvSpPr>
        <p:spPr>
          <a:xfrm>
            <a:off x="395280" y="285264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1" name="Rectangle 13"/>
          <p:cNvSpPr/>
          <p:nvPr/>
        </p:nvSpPr>
        <p:spPr>
          <a:xfrm>
            <a:off x="395280" y="342900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2" name="Rectangle 14"/>
          <p:cNvSpPr/>
          <p:nvPr/>
        </p:nvSpPr>
        <p:spPr>
          <a:xfrm>
            <a:off x="395280" y="371628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3" name="Rectangle 15"/>
          <p:cNvSpPr/>
          <p:nvPr/>
        </p:nvSpPr>
        <p:spPr>
          <a:xfrm>
            <a:off x="395280" y="400536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/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4" name="Rectangle 16"/>
          <p:cNvSpPr/>
          <p:nvPr/>
        </p:nvSpPr>
        <p:spPr>
          <a:xfrm>
            <a:off x="324000" y="479736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5" name="Rectangle 17"/>
          <p:cNvSpPr/>
          <p:nvPr/>
        </p:nvSpPr>
        <p:spPr>
          <a:xfrm>
            <a:off x="324000" y="450864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6" name="Rectangle 18"/>
          <p:cNvSpPr/>
          <p:nvPr/>
        </p:nvSpPr>
        <p:spPr>
          <a:xfrm>
            <a:off x="324000" y="5084640"/>
            <a:ext cx="792000" cy="2876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7" name="Rectangle 19"/>
          <p:cNvSpPr/>
          <p:nvPr/>
        </p:nvSpPr>
        <p:spPr>
          <a:xfrm>
            <a:off x="324000" y="537372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8" name="Rectangle 20"/>
          <p:cNvSpPr/>
          <p:nvPr/>
        </p:nvSpPr>
        <p:spPr>
          <a:xfrm>
            <a:off x="324000" y="566100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/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9" name="AutoShape 22"/>
          <p:cNvSpPr/>
          <p:nvPr/>
        </p:nvSpPr>
        <p:spPr>
          <a:xfrm>
            <a:off x="179280" y="4437000"/>
            <a:ext cx="1224000" cy="1728720"/>
          </a:xfrm>
          <a:custGeom>
            <a:avLst/>
            <a:gdLst>
              <a:gd name="textAreaLeft" fmla="*/ 0 w 1224000"/>
              <a:gd name="textAreaRight" fmla="*/ 858600 w 1224000"/>
              <a:gd name="textAreaTop" fmla="*/ 72000 h 1728720"/>
              <a:gd name="textAreaBottom" fmla="*/ 1656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1979640" y="3068640"/>
            <a:ext cx="1008000" cy="792000"/>
          </a:xfrm>
          <a:prstGeom prst="rect">
            <a:avLst/>
          </a:prstGeom>
          <a:solidFill>
            <a:srgbClr val="ffd9ff"/>
          </a:solidFill>
          <a:ln w="9360">
            <a:solidFill>
              <a:srgbClr val="ff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спр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1" name="AutoShape 25"/>
          <p:cNvSpPr/>
          <p:nvPr/>
        </p:nvSpPr>
        <p:spPr>
          <a:xfrm rot="3943800">
            <a:off x="2302920" y="101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a40c0c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2" name="AutoShape 27"/>
          <p:cNvSpPr/>
          <p:nvPr/>
        </p:nvSpPr>
        <p:spPr>
          <a:xfrm rot="16200000">
            <a:off x="1691280" y="3284640"/>
            <a:ext cx="144360" cy="432000"/>
          </a:xfrm>
          <a:prstGeom prst="downArrow">
            <a:avLst>
              <a:gd name="adj1" fmla="val 29630"/>
              <a:gd name="adj2" fmla="val 74037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3" name="AutoShape 28"/>
          <p:cNvSpPr/>
          <p:nvPr/>
        </p:nvSpPr>
        <p:spPr>
          <a:xfrm rot="18550200">
            <a:off x="6767280" y="101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4" name="AutoShape 29"/>
          <p:cNvSpPr/>
          <p:nvPr/>
        </p:nvSpPr>
        <p:spPr>
          <a:xfrm>
            <a:off x="6939000" y="1843200"/>
            <a:ext cx="225360" cy="433440"/>
          </a:xfrm>
          <a:prstGeom prst="downArrow">
            <a:avLst>
              <a:gd name="adj1" fmla="val 50000"/>
              <a:gd name="adj2" fmla="val 48083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5" name="AutoShape 30"/>
          <p:cNvSpPr/>
          <p:nvPr/>
        </p:nvSpPr>
        <p:spPr>
          <a:xfrm flipH="1" rot="16318800">
            <a:off x="1598400" y="5029560"/>
            <a:ext cx="108000" cy="503280"/>
          </a:xfrm>
          <a:prstGeom prst="downArrow">
            <a:avLst>
              <a:gd name="adj1" fmla="val 50000"/>
              <a:gd name="adj2" fmla="val 116500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6" name="AutoShape 31"/>
          <p:cNvSpPr/>
          <p:nvPr/>
        </p:nvSpPr>
        <p:spPr>
          <a:xfrm rot="614400">
            <a:off x="891720" y="2421000"/>
            <a:ext cx="216000" cy="358560"/>
          </a:xfrm>
          <a:prstGeom prst="downArrow">
            <a:avLst>
              <a:gd name="adj1" fmla="val 50000"/>
              <a:gd name="adj2" fmla="val 41500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7" name="Rectangle 32"/>
          <p:cNvSpPr/>
          <p:nvPr/>
        </p:nvSpPr>
        <p:spPr>
          <a:xfrm>
            <a:off x="3635280" y="3357720"/>
            <a:ext cx="5508720" cy="14414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на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ть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(кроме брить и стелить) +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нать, держать, дышать, обидеть,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лышать, видеть, ненавидеть,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висеть, терпеть, вертеть, смотреть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8" name="AutoShape 33"/>
          <p:cNvSpPr/>
          <p:nvPr/>
        </p:nvSpPr>
        <p:spPr>
          <a:xfrm>
            <a:off x="8532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8481"/>
                </a:moveTo>
                <a:lnTo>
                  <a:pt x="7301" y="8481"/>
                </a:lnTo>
                <a:lnTo>
                  <a:pt x="7301" y="13816"/>
                </a:lnTo>
                <a:cubicBezTo>
                  <a:pt x="7301" y="14739"/>
                  <a:pt x="8102" y="15470"/>
                  <a:pt x="9138" y="15470"/>
                </a:cubicBezTo>
                <a:lnTo>
                  <a:pt x="10800" y="15470"/>
                </a:lnTo>
                <a:cubicBezTo>
                  <a:pt x="11836" y="15470"/>
                  <a:pt x="12636" y="14739"/>
                  <a:pt x="12636" y="13816"/>
                </a:cubicBezTo>
                <a:lnTo>
                  <a:pt x="12636" y="8481"/>
                </a:lnTo>
                <a:lnTo>
                  <a:pt x="10800" y="8481"/>
                </a:lnTo>
                <a:lnTo>
                  <a:pt x="14308" y="4973"/>
                </a:lnTo>
                <a:lnTo>
                  <a:pt x="17981" y="8481"/>
                </a:lnTo>
                <a:lnTo>
                  <a:pt x="16144" y="8481"/>
                </a:lnTo>
                <a:lnTo>
                  <a:pt x="16144" y="13816"/>
                </a:lnTo>
                <a:cubicBezTo>
                  <a:pt x="16144" y="16584"/>
                  <a:pt x="13568" y="19143"/>
                  <a:pt x="10800" y="19143"/>
                </a:cubicBezTo>
                <a:lnTo>
                  <a:pt x="9138" y="19143"/>
                </a:lnTo>
                <a:cubicBezTo>
                  <a:pt x="6370" y="19143"/>
                  <a:pt x="3794" y="16584"/>
                  <a:pt x="3794" y="13816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9" name="AutoShape 25"/>
          <p:cNvSpPr/>
          <p:nvPr/>
        </p:nvSpPr>
        <p:spPr>
          <a:xfrm>
            <a:off x="1908000" y="1628640"/>
            <a:ext cx="142920" cy="287640"/>
          </a:xfrm>
          <a:prstGeom prst="downArrow">
            <a:avLst>
              <a:gd name="adj1" fmla="val 50000"/>
              <a:gd name="adj2" fmla="val 50315"/>
            </a:avLst>
          </a:prstGeom>
          <a:solidFill>
            <a:srgbClr val="a40c0c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0" name="AutoShape 29"/>
          <p:cNvSpPr/>
          <p:nvPr/>
        </p:nvSpPr>
        <p:spPr>
          <a:xfrm flipH="1" rot="16800">
            <a:off x="6947280" y="2923920"/>
            <a:ext cx="160560" cy="4014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1" name="Rectangle 33"/>
          <p:cNvSpPr/>
          <p:nvPr/>
        </p:nvSpPr>
        <p:spPr>
          <a:xfrm>
            <a:off x="4211640" y="5157720"/>
            <a:ext cx="792000" cy="433440"/>
          </a:xfrm>
          <a:prstGeom prst="rect">
            <a:avLst/>
          </a:prstGeom>
          <a:solidFill>
            <a:srgbClr val="ffe7f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2" name="Rectangle 34"/>
          <p:cNvSpPr/>
          <p:nvPr/>
        </p:nvSpPr>
        <p:spPr>
          <a:xfrm>
            <a:off x="7451640" y="5013360"/>
            <a:ext cx="792360" cy="433440"/>
          </a:xfrm>
          <a:prstGeom prst="rect">
            <a:avLst/>
          </a:prstGeom>
          <a:solidFill>
            <a:srgbClr val="ffe7f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3" name="AutoShape 29"/>
          <p:cNvSpPr/>
          <p:nvPr/>
        </p:nvSpPr>
        <p:spPr>
          <a:xfrm>
            <a:off x="4572000" y="5589720"/>
            <a:ext cx="144360" cy="301320"/>
          </a:xfrm>
          <a:prstGeom prst="downArrow">
            <a:avLst>
              <a:gd name="adj1" fmla="val 50000"/>
              <a:gd name="adj2" fmla="val 52182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4" name="Rectangle 24"/>
          <p:cNvSpPr/>
          <p:nvPr/>
        </p:nvSpPr>
        <p:spPr>
          <a:xfrm>
            <a:off x="2124000" y="5084640"/>
            <a:ext cx="1008000" cy="792360"/>
          </a:xfrm>
          <a:prstGeom prst="rect">
            <a:avLst/>
          </a:prstGeom>
          <a:solidFill>
            <a:srgbClr val="ffd9ff"/>
          </a:solidFill>
          <a:ln w="9360">
            <a:solidFill>
              <a:srgbClr val="ff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спр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5" name="Rectangle 5"/>
          <p:cNvSpPr/>
          <p:nvPr/>
        </p:nvSpPr>
        <p:spPr>
          <a:xfrm>
            <a:off x="3995640" y="2349360"/>
            <a:ext cx="5004000" cy="576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тавим глагол в неопределённую форму,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пределяем по гласной в суффиксе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6" name="Rectangle 39"/>
          <p:cNvSpPr/>
          <p:nvPr/>
        </p:nvSpPr>
        <p:spPr>
          <a:xfrm>
            <a:off x="4211640" y="6021360"/>
            <a:ext cx="1008000" cy="576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пр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7" name="Rectangle 40"/>
          <p:cNvSpPr/>
          <p:nvPr/>
        </p:nvSpPr>
        <p:spPr>
          <a:xfrm>
            <a:off x="7308720" y="6021360"/>
            <a:ext cx="1008360" cy="576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спр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0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6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6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6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6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6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6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47280" y="277920"/>
            <a:ext cx="713916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c3300"/>
                </a:solidFill>
                <a:latin typeface="Garamond"/>
              </a:rPr>
              <a:t>Ответ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258560" y="159984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олчать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– 2 спряжение, определяем по окончанию, которое в этом слове под ударением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Молч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м, молч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шь, молч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те, молч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т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Рисовать, отдавать, накрывать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– 1 спряжение, определяем по суффиксу неопределённой формы глагол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1" name="AutoShape 4"/>
          <p:cNvSpPr/>
          <p:nvPr/>
        </p:nvSpPr>
        <p:spPr>
          <a:xfrm>
            <a:off x="867564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7675"/>
                </a:moveTo>
                <a:lnTo>
                  <a:pt x="7301" y="7675"/>
                </a:lnTo>
                <a:lnTo>
                  <a:pt x="7301" y="13010"/>
                </a:lnTo>
                <a:cubicBezTo>
                  <a:pt x="7301" y="13933"/>
                  <a:pt x="8102" y="14664"/>
                  <a:pt x="9138" y="14664"/>
                </a:cubicBezTo>
                <a:lnTo>
                  <a:pt x="10800" y="14664"/>
                </a:lnTo>
                <a:cubicBezTo>
                  <a:pt x="11836" y="14664"/>
                  <a:pt x="12636" y="13933"/>
                  <a:pt x="12636" y="13010"/>
                </a:cubicBezTo>
                <a:lnTo>
                  <a:pt x="12636" y="7675"/>
                </a:lnTo>
                <a:lnTo>
                  <a:pt x="10800" y="7675"/>
                </a:lnTo>
                <a:lnTo>
                  <a:pt x="14308" y="4167"/>
                </a:lnTo>
                <a:lnTo>
                  <a:pt x="17981" y="7675"/>
                </a:lnTo>
                <a:lnTo>
                  <a:pt x="16144" y="7675"/>
                </a:lnTo>
                <a:lnTo>
                  <a:pt x="16144" y="13010"/>
                </a:lnTo>
                <a:cubicBezTo>
                  <a:pt x="16144" y="15778"/>
                  <a:pt x="13568" y="18337"/>
                  <a:pt x="10800" y="18337"/>
                </a:cubicBezTo>
                <a:lnTo>
                  <a:pt x="9138" y="18337"/>
                </a:lnTo>
                <a:cubicBezTo>
                  <a:pt x="6370" y="18337"/>
                  <a:pt x="3794" y="15778"/>
                  <a:pt x="3794" y="13010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692000" y="277920"/>
            <a:ext cx="69944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c3300"/>
                </a:solidFill>
                <a:latin typeface="Garamond"/>
              </a:rPr>
              <a:t>«Четвёртый лишний»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884" name="AutoShape 5"/>
          <p:cNvSpPr/>
          <p:nvPr/>
        </p:nvSpPr>
        <p:spPr>
          <a:xfrm>
            <a:off x="1763640" y="1700280"/>
            <a:ext cx="2808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ff"/>
              </a:gs>
              <a:gs pos="100000">
                <a:srgbClr val="f4e8f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Молчат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5" name="AutoShape 9"/>
          <p:cNvSpPr/>
          <p:nvPr/>
        </p:nvSpPr>
        <p:spPr>
          <a:xfrm>
            <a:off x="1692360" y="3213000"/>
            <a:ext cx="2808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ff"/>
              </a:gs>
              <a:gs pos="100000">
                <a:srgbClr val="f4e8f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Бежат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6" name="AutoShape 10"/>
          <p:cNvSpPr/>
          <p:nvPr/>
        </p:nvSpPr>
        <p:spPr>
          <a:xfrm>
            <a:off x="5724360" y="3213000"/>
            <a:ext cx="2808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ff"/>
              </a:gs>
              <a:gs pos="100000">
                <a:srgbClr val="f4e8f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орчат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7" name="AutoShape 11"/>
          <p:cNvSpPr/>
          <p:nvPr/>
        </p:nvSpPr>
        <p:spPr>
          <a:xfrm>
            <a:off x="5724360" y="1700280"/>
            <a:ext cx="2808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ff"/>
              </a:gs>
              <a:gs pos="100000">
                <a:srgbClr val="f4e8f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Кричат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8" name="Rectangle 12"/>
          <p:cNvSpPr/>
          <p:nvPr/>
        </p:nvSpPr>
        <p:spPr>
          <a:xfrm>
            <a:off x="1692360" y="4869000"/>
            <a:ext cx="2374920" cy="79200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f4f9"/>
                </a:solidFill>
                <a:latin typeface="Arial"/>
              </a:rPr>
              <a:t>Подсказка</a:t>
            </a:r>
            <a:r>
              <a:rPr b="0" lang="ru-RU" sz="2400" spc="-1" strike="noStrike">
                <a:solidFill>
                  <a:srgbClr val="faf4f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9" name="AutoShape 13"/>
          <p:cNvSpPr/>
          <p:nvPr/>
        </p:nvSpPr>
        <p:spPr>
          <a:xfrm>
            <a:off x="5580000" y="4869000"/>
            <a:ext cx="2879640" cy="792000"/>
          </a:xfrm>
          <a:prstGeom prst="hexagon">
            <a:avLst>
              <a:gd name="adj" fmla="val 90898"/>
              <a:gd name="vf" fmla="val 115470"/>
            </a:avLst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f4f9"/>
                </a:solidFill>
                <a:latin typeface="Arial"/>
              </a:rPr>
              <a:t>Отве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03:48:08Z</dcterms:created>
  <dc:creator>123</dc:creator>
  <dc:description/>
  <dc:language>en-US</dc:language>
  <cp:lastModifiedBy>Римма</cp:lastModifiedBy>
  <dcterms:modified xsi:type="dcterms:W3CDTF">2013-06-11T09:10:35Z</dcterms:modified>
  <cp:revision>58</cp:revision>
  <dc:subject/>
  <dc:title>Разноспрягаемые глаголы</dc:title>
</cp:coreProperties>
</file>