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5.gif" ContentType="image/gif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7.gif" ContentType="image/gif"/>
  <Override PartName="/ppt/media/image9.gif" ContentType="image/gif"/>
  <Override PartName="/ppt/media/image11.png" ContentType="image/png"/>
  <Override PartName="/ppt/media/image1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E90-539A-4CB5-891B-6DB15B42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DD0-E94D-484B-B6C6-9850476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2F204-AF6C-4599-A884-466E84A6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44309-1166-4929-ABFD-B87853AD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9178A-BD5E-4E32-B3D1-21850BF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A27E-1448-4E00-9E31-BC14754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BA9F9-418E-4EC9-8EC8-041ACA0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00608-94B3-4702-A0F7-99C0779D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87995-AFB7-4BA5-BCAA-F7019505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F43E2-4E74-4515-84B9-2E70E181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79296-D6EB-4E75-9DAF-CF34C45A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D1DAD-873F-49CA-8589-2805BF63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814-30E1-45B0-9FE8-458AD63F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3D0C8-6D0C-4EBD-9234-5693A65E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F0ACD-1E89-46E5-9DE8-D5CD4BBD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DBE6C-84DE-41B2-BFAA-7F9E7FD6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D3D6B-C5A4-4A37-8561-28694E4C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E2CF6-F31F-4F44-A1CB-507743E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80DE4-7784-48B6-8D5C-7DFA176B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33EAA-F853-485D-8883-E4C0A6D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FB6D8-8C0C-4BB1-BA6E-AE3D933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FD31D-0577-4050-953C-514B867D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DA8A0-849F-4B1D-9B9F-6799A376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BDD-BC91-4BB9-BB95-3BD186ED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C01D8-9E7E-4F9E-A014-1C9E3F98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DC909-641B-4E6C-A344-2CCD3FE6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884A0-894C-49F1-813E-A6863A12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00EA1-47D7-4DE4-B0A5-4BC3663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D808-5E75-428D-8625-AD479BC1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02C28-8C0D-405F-8438-3953C8E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8D60A-4B75-417C-A3BA-AC69A527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5446A-86B1-4296-8455-55D8BBE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422AD-3331-4EAD-BEC9-23397B7F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7030A-D84F-487D-909E-CB03A4A4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2F2-09F6-4970-90F7-9736C650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F4316-4EB0-473B-95D9-6414F6B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B64A4-7F24-40DB-877C-CDEDDDDB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CB250-93D3-468F-A20F-B6DA416A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CC9B0-7B62-409E-80AE-49D6CF27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8E13A-3839-4669-B262-880DE738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4D6ED-4BBE-44E7-B58C-881479C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69D5C-B17A-4F83-8C2F-CB9CB42A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333CA-4C07-49C2-A8FD-A6E5D29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63ECC-E818-4587-AC79-43E299DC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54312-0CD8-448C-8A2E-079D27C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F41-CB36-47B3-BC09-466E92B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288F4-E5A0-4449-BC7D-942A3DD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B0908-BB58-4800-BC0F-EC485ABF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4464A-947D-4DB0-B81C-3FD806E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CBD31-B14F-4CA5-8C46-1E2D66BE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0DBCA-8109-42FB-8A6C-B744CC6D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C515F-B5A8-488C-87F9-4B1C7586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A17EC-BC3B-4DC1-885F-78D6C3F9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52E23-06B2-420D-A3CF-A786272A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70ABF-2600-442F-950E-EBD231A5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3557F-8838-4BB5-99EC-18FE7E3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88AF-D0EC-430F-970E-99A16346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C61E3-F7FD-4F5A-BED2-9458C630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3489B-CF4C-4591-9D0D-CF9E75A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EF285-48A1-480D-8CE2-3F65025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10D6C-4E20-43A8-8936-34C4A68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500AA-2FDB-4971-A6ED-0F568036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AFBBA-7AB5-487F-A588-8707255F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6534F-6EC5-49AA-86E3-7C7D0CC9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D4A44A-CBA9-4510-9F84-F25063FB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838DD-5057-499A-B1F6-36ADDD0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B9728-8F3F-425E-8E1C-AC838EE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591-A9A4-4AD2-BFEB-0F7A5C61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8F6F4-9FA7-4FE1-A27A-26B6004C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C77C8-4B64-4CF6-8122-495CB4C3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DC265-381B-4040-846A-14D8C4DE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26F02-554E-4482-BB07-08EA0CDB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DC97C-CBD0-44BC-907D-68D8E4A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D67F2-0F0F-4509-B31F-F5D9CEA3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08223-9B31-4017-A145-837EBA9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BCE15-8AA1-408F-8590-10CCFC97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F194B-0916-4113-9A75-C396F087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997D3-D418-4756-87F6-60405086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10E2-B7C6-4F2D-B3EA-965BF6F0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1CE93-3320-4CFA-B631-BAAB3D4A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06327-07CE-4FE1-AE29-EBEC8239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2046D-FF73-42BF-8564-2219F677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30F87-C801-4E48-BE50-E05B9338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07C37-BE0B-4841-9A68-C96BE8A4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C021A-DB10-415A-9918-3A9F105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01ADF-7236-4B60-9C01-8FE847B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1ACB5-5AF8-4683-8FF4-D000D73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37582-AF01-4F8D-98C4-A2C48C72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65A27-BAE4-4A6A-9098-B9B123D0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CA41-E1C1-48B1-B466-AC46F140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9DF66-546F-496A-BD4A-A795E43D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1C9F2-83FE-46D6-9A0A-E4ABA1B7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E1BB8-A281-4E4F-8C0E-4EC9FEB2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610D5-DEA4-46EF-BB78-8A361DB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5570B-E72E-40C6-A7F7-E3481FE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E96F5-596E-4279-B947-2DC6AA62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B1818-6B76-4C68-8BF9-470A841D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1C3CC-74DE-41A7-92C0-510FFADA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F7A10-437E-4D8C-96CC-3DB761F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E124E-FADA-44EC-A3DF-D010D94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052F-B9EE-4CBA-A61E-695FBDB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D9FB6-A49F-4328-A059-F98D1B9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05D3DE-D220-4B10-B585-9F49BEE6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4CA45-A09E-4A96-B4A6-016EAD87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41371-1FCE-4C78-9118-1577A021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92E62-F14D-437A-9E5F-B82133C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CD0E4-D0AA-4722-AF92-F68F3EC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46542-8F0B-45A1-A102-C177F11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D7D0D-85C1-48CB-BE09-C40AEC2F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83796-FA95-4736-AD23-02779E2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1EAE3-4E40-4CF3-906F-77732BC9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479-A3C0-4BAC-ABFD-0C4BC59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1BA6-9794-41D2-B5A4-944E8529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F914F-D6B3-4475-866C-33D0D4CF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2CB83-D7D1-404C-847C-997A7CED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1C85F-C0FD-4D9D-BC38-7FBDE07A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D38CA-A21F-4A8F-B351-250E4439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2069F-BF2B-4578-8C54-5F207FFA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EDFB-B06B-45CE-AE29-844EE9E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3644-97F3-428F-B792-7EC163FF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37D-A651-4006-AB64-F3EC352E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72B0-743D-4948-8C46-717BA565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BE51-5D24-4FC8-AC11-680C3439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C588-5E56-4090-81A4-9B6861BB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C8DC-1BD2-492E-95FE-09EC1BD5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5C20-B06B-44E6-AF38-E5D7FC4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7420-8B03-4D8F-81AA-8DDF897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BFB-DC11-446B-ABBF-9E7E4E6E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0C1C-182A-456C-9620-9F34F66C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90A3-0283-44A3-AF67-9052976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46B3-F308-4D43-A4B4-CC92A1D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3A8D-A8D5-4A2C-BA78-1C4874C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CF51-854C-4BFC-BFA2-995DE2F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1BFD-7FD3-4CE1-92EC-2BC2B276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C029-F715-4053-950C-4736B74C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9C1E-4976-4543-9B44-840F40FA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94EC-C39B-4CA2-9AB3-CD9A58D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68EE-D2CA-443F-8602-25AF191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3CC-FEBC-43B1-9216-83AD7314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9402-99A9-45E4-8AAE-826DE880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FEC2-17AF-44E8-A1CF-66F9D24D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666D-42DB-4CD2-A872-E34D5D1A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2BCD-B698-4B84-8E87-55C8292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BA8C-32F9-424B-AA45-0337379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F1CF-AFE6-4E3C-9F11-D9A0913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233DA-E265-41B4-AB94-47076FA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B4C0-6A29-4198-A4A8-297BA417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3CE2-6C2A-4627-863D-C71FE3C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67B7-01DD-451F-91E5-377CBDDB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BB4-E893-44A0-8073-9E4F7D8E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19FF6-0464-4FFF-B84C-D543C486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CFC8-12EE-4396-9C0D-406607AC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AD12-ABCE-4F86-8E54-BCF2063C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0F11-7109-4CFB-B338-3EE37D7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B36F-7AD7-4165-BA9E-93B4C45B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DEF6-0D5D-4824-AA8E-1D3EAE5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97F9B-4096-4F94-BB60-2074C1C3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671F-9E4B-453F-B283-01E4EB4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F1C4D-7471-406F-B3BC-C5793120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F0E7-941C-4A83-A5D8-C4CD2B0A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B5D-CA5F-44A5-953E-85BCEB0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DD5E-38E6-4011-83AC-595BC965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1D86-CBC1-441C-B14B-0DF923A1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051A-F47B-450A-96E9-1303DE86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89AF-847F-4A68-B5F5-78615A0F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52F4-1197-403E-9AAD-1CDEDBC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7AC2-E1A5-43E0-91D4-F477F56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13CFB-E0C6-42C2-91E3-FCAE4E7B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7EBA-0A26-4B55-9BF2-ADD25A0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95FD1-5024-46A0-9C6B-F5A8CDE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FE2E-FE04-4444-A4F1-75CCA219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4A0-C280-42AB-81AD-6A06D36A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9D45-1129-4057-A6DC-863AC80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4B60-B178-45FC-A04D-7CB5E7B1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70A8-DF3A-45EF-87B2-72391241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3A8F-74E3-4B47-9F8C-4AF0CEE0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9F1C-E7DC-4621-A5EC-C87753F8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F436A-BE20-49DF-A30C-3F9C974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E3DE-39F0-4E4E-A860-3A0022DC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71BA-0B90-49F6-88EF-CBF949A4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2CCE-DFB1-416C-A405-5A628F84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8E6F-9420-4A6E-BCD4-FE5C7A0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B6D-DEA4-4B2E-AA7A-1060EEA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C872-105C-42C1-BF21-A283982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45D0-7285-4AC0-952A-A817CCD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1A6DD-FF84-4E61-B682-F49D444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F908-A430-4FC9-BAD3-AF55D6F8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0C2C-9BBB-4C9A-9CC0-3AE71E47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E90B-B296-4933-BDC1-A50EEB3E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88F3-D0C0-4D19-8BB6-B77338F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54085-D2AF-4E31-B003-D1D954E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154F-DCE0-4E05-B223-45B10E2C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0CBB-D1BA-4633-99F8-0739BB07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A90-E5C2-4BBB-AA33-24B442D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3AF5E-724E-42B4-8A01-864604BF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B3392-AEEC-41CA-8681-9B1FFD2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387B-B739-449E-B816-07AAC2B6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A031-8162-4E5D-B616-A9E3CF1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5376A-FAD7-454E-B873-A60F9AA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B2674-5C7A-4CA5-ACCB-547318FC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A86A0-FD72-43CB-BBDC-18C2596F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CFD5A-1994-47F9-98A0-6BA3E3A4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DBCDF-7792-468D-9137-CE26EC0B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73777-ABEE-4B15-8118-9DF0DF2D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A2F9-CF9B-4A28-9FEF-8714CC0494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F4A0-BB1A-4A12-A445-F28EC047AEC7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141D-BBA4-4D09-B546-9D01AC99377F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42BE-B324-4067-96C0-F9C107501A16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409-A59D-4468-B8C1-EC8EA943D383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8C98-69B0-4A21-96EA-2D57C36C3C79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F19B-A836-454D-B982-AB03CCD1A1D6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0D6-6358-4CE9-A357-A1EE26D37558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6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c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DA2-7BA4-4F4E-A994-097BB4D2E7D8}" type="slidenum">
              <a:rPr b="0" lang="ru-RU" sz="1200" spc="-1" strike="noStrike">
                <a:solidFill>
                  <a:srgbClr val="0000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A7B-B6EF-40A6-A96F-B0EF14448E3C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c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BBA9-8F68-4393-83B5-463D0239F09B}" type="slidenum">
              <a:rPr b="0" lang="ru-RU" sz="1200" spc="-1" strike="noStrike">
                <a:solidFill>
                  <a:srgbClr val="0000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47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24456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26064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26064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4747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8748-B3D2-42B7-B5C1-6AADD53D95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3FB-6D46-4ACE-A728-D6C4F4104117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B00-5E53-44CC-BF23-B1EF7EB40668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49F6-33E4-4167-AF86-DA9ADAE6DACE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BDE3-93D5-41E7-BDF1-82DE2DDFEF7A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5A4-DA1D-4A96-A8D2-C45F342219B7}" type="slidenum">
              <a:rPr b="0" lang="ru-RU" sz="1000" spc="-1" strike="noStrike">
                <a:solidFill>
                  <a:srgbClr val="33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0" name="WordArt 6"/>
          <p:cNvSpPr txBox="1"/>
          <p:nvPr/>
        </p:nvSpPr>
        <p:spPr>
          <a:xfrm>
            <a:off x="611280" y="1268280"/>
            <a:ext cx="7812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547280" y="76500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Поставьте эти глаголы </a:t>
            </a:r>
            <a:br>
              <a:rPr sz="4200"/>
            </a:b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в форму 3 лица единственного и множественного числа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pic>
        <p:nvPicPr>
          <p:cNvPr id="892" name="Picture 5" descr="d5828bf99d3a4d00359dddbb7b95778c"/>
          <p:cNvPicPr/>
          <p:nvPr/>
        </p:nvPicPr>
        <p:blipFill>
          <a:blip r:embed="rId2"/>
          <a:stretch/>
        </p:blipFill>
        <p:spPr>
          <a:xfrm>
            <a:off x="183528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6" descr="d5828bf99d3a4d00359dddbb7b95778c"/>
          <p:cNvPicPr/>
          <p:nvPr/>
        </p:nvPicPr>
        <p:blipFill>
          <a:blip r:embed="rId3"/>
          <a:stretch/>
        </p:blipFill>
        <p:spPr>
          <a:xfrm>
            <a:off x="1835280" y="56610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7" descr="e294edfc6fd31efe82b3db48fddb2499"/>
          <p:cNvPicPr/>
          <p:nvPr/>
        </p:nvPicPr>
        <p:blipFill>
          <a:blip r:embed="rId4"/>
          <a:stretch/>
        </p:blipFill>
        <p:spPr>
          <a:xfrm>
            <a:off x="2771640" y="566100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8" descr="6aef4b57d0dfa88c16a174bbdc817349"/>
          <p:cNvPicPr/>
          <p:nvPr/>
        </p:nvPicPr>
        <p:blipFill>
          <a:blip r:embed="rId5"/>
          <a:stretch/>
        </p:blipFill>
        <p:spPr>
          <a:xfrm>
            <a:off x="2340000" y="47242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" descr="6aef4b57d0dfa88c16a174bbdc817349"/>
          <p:cNvPicPr/>
          <p:nvPr/>
        </p:nvPicPr>
        <p:blipFill>
          <a:blip r:embed="rId6"/>
          <a:stretch/>
        </p:blipFill>
        <p:spPr>
          <a:xfrm>
            <a:off x="2268360" y="5661000"/>
            <a:ext cx="571680" cy="4762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0"/>
          <p:cNvSpPr/>
          <p:nvPr/>
        </p:nvSpPr>
        <p:spPr>
          <a:xfrm>
            <a:off x="3132000" y="4581360"/>
            <a:ext cx="3384720" cy="64800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е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8" name="Rectangle 11"/>
          <p:cNvSpPr/>
          <p:nvPr/>
        </p:nvSpPr>
        <p:spPr>
          <a:xfrm>
            <a:off x="3348000" y="5516640"/>
            <a:ext cx="3384720" cy="647640"/>
          </a:xfrm>
          <a:prstGeom prst="rect">
            <a:avLst/>
          </a:prstGeom>
          <a:solidFill>
            <a:srgbClr val="faf4f9"/>
          </a:solidFill>
          <a:ln w="9360">
            <a:solidFill>
              <a:srgbClr val="faf4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что делают?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9" name="AutoShape 12"/>
          <p:cNvSpPr/>
          <p:nvPr/>
        </p:nvSpPr>
        <p:spPr>
          <a:xfrm>
            <a:off x="824400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85560" y="21384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51120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 беж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но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ни бег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4356000" y="2852640"/>
            <a:ext cx="388800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2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4357800" y="4286160"/>
            <a:ext cx="3887640" cy="576360"/>
          </a:xfrm>
          <a:prstGeom prst="rect">
            <a:avLst/>
          </a:prstGeom>
          <a:solidFill>
            <a:srgbClr val="faf4f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c0c"/>
                </a:solidFill>
                <a:latin typeface="Arial"/>
              </a:rPr>
              <a:t>окончание 1 спряжени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416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С каким подобным лингвистическим явлением мы уже встречались при изучении имени существительного?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07" name="Rectangle 2"/>
          <p:cNvSpPr/>
          <p:nvPr/>
        </p:nvSpPr>
        <p:spPr>
          <a:xfrm>
            <a:off x="1187280" y="3429000"/>
            <a:ext cx="7848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Разносклоняемые существительные: десять существительных на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-мя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 и существительные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путь</a:t>
            </a:r>
            <a:r>
              <a:rPr b="1" lang="ru-RU" sz="4200" spc="-1" strike="noStrike">
                <a:solidFill>
                  <a:srgbClr val="3333ff"/>
                </a:solidFill>
                <a:latin typeface="Garamond"/>
              </a:rPr>
              <a:t>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8101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Как можно назвать глагол </a:t>
            </a:r>
            <a:r>
              <a:rPr b="1" lang="ru-RU" sz="4200" spc="-1" strike="noStrike">
                <a:solidFill>
                  <a:srgbClr val="a40c0c"/>
                </a:solidFill>
                <a:latin typeface="Garamond"/>
              </a:rPr>
              <a:t>бежать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, если он совмещает окончания </a:t>
            </a:r>
            <a:br>
              <a:rPr sz="4200"/>
            </a:b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1 и 2 спряжения?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10" name="Rectangle 2"/>
          <p:cNvSpPr/>
          <p:nvPr/>
        </p:nvSpPr>
        <p:spPr>
          <a:xfrm>
            <a:off x="1476360" y="3645000"/>
            <a:ext cx="720108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cc"/>
                </a:solidFill>
                <a:latin typeface="Garamond"/>
              </a:rPr>
              <a:t>РАЗНОСПРЯГАЕМЫМ</a:t>
            </a:r>
            <a:r>
              <a:rPr b="0" lang="ru-RU" sz="38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12" name="WordArt 6"/>
          <p:cNvSpPr txBox="1"/>
          <p:nvPr/>
        </p:nvSpPr>
        <p:spPr>
          <a:xfrm>
            <a:off x="611280" y="1268280"/>
            <a:ext cx="7812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носпрягаемые глаголы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1308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Цель: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98080" y="1087200"/>
            <a:ext cx="794556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звить навыки правописания безударных личных окончаний в глаголах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знакомиться с разноспрягаемыми и особо спрягаемыми глаголами;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47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ассмотреть лексическое значение разноспрягаемых глаголов, расширить словарный запас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40c0c"/>
                </a:solidFill>
                <a:latin typeface="Garamond"/>
              </a:rPr>
              <a:t>Изучение нового материал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Откройте учебник (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  <a:ea typeface="Times New Roman"/>
              </a:rPr>
              <a:t>§ 81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), рассмотрите таблицу, докажите, что глаголы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хоте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и </a:t>
            </a:r>
            <a:r>
              <a:rPr b="1" lang="ru-RU" sz="4200" spc="-1" strike="noStrike">
                <a:solidFill>
                  <a:srgbClr val="0000cc"/>
                </a:solidFill>
                <a:latin typeface="Garamond"/>
              </a:rPr>
              <a:t>бежать </a:t>
            </a:r>
            <a:r>
              <a:rPr b="0" lang="ru-RU" sz="4200" spc="-1" strike="noStrike">
                <a:solidFill>
                  <a:srgbClr val="0000cc"/>
                </a:solidFill>
                <a:latin typeface="Garamond"/>
              </a:rPr>
              <a:t>являются разноспрягаемыми.</a:t>
            </a: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763280" y="170028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Обратите внимание на окончания глаголов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ес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и </a:t>
            </a:r>
            <a:r>
              <a:rPr b="1" lang="ru-RU" sz="5400" spc="-1" strike="noStrike">
                <a:solidFill>
                  <a:srgbClr val="a40c0c"/>
                </a:solidFill>
                <a:latin typeface="Garamond"/>
              </a:rPr>
              <a:t>дать</a:t>
            </a:r>
            <a:r>
              <a:rPr b="1" lang="ru-RU" sz="3800" spc="-1" strike="noStrike">
                <a:solidFill>
                  <a:srgbClr val="a40c0c"/>
                </a:solidFill>
                <a:latin typeface="Garamond"/>
              </a:rPr>
              <a:t> в единственном числе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5009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Спряжение глаголов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есть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и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a40c0c"/>
                </a:solidFill>
                <a:latin typeface="Times New Roman"/>
              </a:rPr>
              <a:t>дать</a:t>
            </a:r>
            <a:endParaRPr b="0" lang="en-US" sz="40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77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я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0000cc"/>
                </a:solidFill>
                <a:latin typeface="Comic Sans MS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4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т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             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шь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да</a:t>
            </a:r>
            <a:r>
              <a:rPr b="0" lang="ru-RU" sz="4700" spc="-1" strike="noStrike">
                <a:solidFill>
                  <a:srgbClr val="ff0000"/>
                </a:solidFill>
                <a:latin typeface="Comic Sans MS"/>
              </a:rPr>
              <a:t>с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мы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м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вы  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е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cc"/>
                </a:solidFill>
                <a:latin typeface="Arial"/>
              </a:rPr>
              <a:t>они  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е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я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             дад</a:t>
            </a:r>
            <a:r>
              <a:rPr b="0" lang="ru-RU" sz="4700" spc="-1" strike="noStrike">
                <a:solidFill>
                  <a:srgbClr val="cc0000"/>
                </a:solidFill>
                <a:latin typeface="Comic Sans MS"/>
              </a:rPr>
              <a:t>у</a:t>
            </a:r>
            <a:r>
              <a:rPr b="0" lang="ru-RU" sz="4700" spc="-1" strike="noStrike">
                <a:solidFill>
                  <a:srgbClr val="006600"/>
                </a:solidFill>
                <a:latin typeface="Comic Sans MS"/>
              </a:rPr>
              <a:t>т</a:t>
            </a:r>
            <a:endParaRPr b="0" lang="en-US" sz="47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00"/>
                </a:solidFill>
                <a:latin typeface="Comic Sans MS"/>
              </a:rPr>
              <a:t>  </a:t>
            </a: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40c0c"/>
                </a:solidFill>
                <a:latin typeface="Garamond"/>
              </a:rPr>
              <a:t>Являются ли такие окончания типичными для глаголов?</a:t>
            </a:r>
            <a:endParaRPr b="0" lang="en-US" sz="44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403280" y="2707920"/>
            <a:ext cx="73548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Такие окончания являются архаическими, устаревшими, поэтому данные глаголы (и образованные от них однокоренные глаголы) называю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обо спрягаемым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96,50)"/>
                                          </p:val>
                                        </p:tav>
                                        <p:tav tm="50000">
                                          <p:val>
                                            <p:strVal val="rgb(12,12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9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Garamond"/>
              </a:rPr>
              <a:t>Кроссворд «Части речи»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234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270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305928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1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378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414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450072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485928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521964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558000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594036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6300720" y="1557360"/>
            <a:ext cx="35892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65964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6" name="Rectangle 16"/>
          <p:cNvSpPr/>
          <p:nvPr/>
        </p:nvSpPr>
        <p:spPr>
          <a:xfrm>
            <a:off x="702000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7380360" y="1557360"/>
            <a:ext cx="358560" cy="35892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8" name="Rectangle 18"/>
          <p:cNvSpPr/>
          <p:nvPr/>
        </p:nvSpPr>
        <p:spPr>
          <a:xfrm>
            <a:off x="2340000" y="1916280"/>
            <a:ext cx="358920" cy="3585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9" name="Rectangle 19"/>
          <p:cNvSpPr/>
          <p:nvPr/>
        </p:nvSpPr>
        <p:spPr>
          <a:xfrm>
            <a:off x="234000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0" name="Rectangle 20"/>
          <p:cNvSpPr/>
          <p:nvPr/>
        </p:nvSpPr>
        <p:spPr>
          <a:xfrm>
            <a:off x="2340000" y="26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1" name="Rectangle 21"/>
          <p:cNvSpPr/>
          <p:nvPr/>
        </p:nvSpPr>
        <p:spPr>
          <a:xfrm>
            <a:off x="234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2" name="Rectangle 22"/>
          <p:cNvSpPr/>
          <p:nvPr/>
        </p:nvSpPr>
        <p:spPr>
          <a:xfrm>
            <a:off x="2340000" y="33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2340000" y="371628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234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2340000" y="443700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378000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7" name="Rectangle 27"/>
          <p:cNvSpPr/>
          <p:nvPr/>
        </p:nvSpPr>
        <p:spPr>
          <a:xfrm>
            <a:off x="378000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8" name="Rectangle 28"/>
          <p:cNvSpPr/>
          <p:nvPr/>
        </p:nvSpPr>
        <p:spPr>
          <a:xfrm>
            <a:off x="378000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9" name="Rectangle 29"/>
          <p:cNvSpPr/>
          <p:nvPr/>
        </p:nvSpPr>
        <p:spPr>
          <a:xfrm>
            <a:off x="378000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0" name="Rectangle 30"/>
          <p:cNvSpPr/>
          <p:nvPr/>
        </p:nvSpPr>
        <p:spPr>
          <a:xfrm>
            <a:off x="378000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1" name="Rectangle 31"/>
          <p:cNvSpPr/>
          <p:nvPr/>
        </p:nvSpPr>
        <p:spPr>
          <a:xfrm>
            <a:off x="378000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2" name="Rectangle 32"/>
          <p:cNvSpPr/>
          <p:nvPr/>
        </p:nvSpPr>
        <p:spPr>
          <a:xfrm>
            <a:off x="378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3" name="Rectangle 33"/>
          <p:cNvSpPr/>
          <p:nvPr/>
        </p:nvSpPr>
        <p:spPr>
          <a:xfrm>
            <a:off x="378000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4" name="Rectangle 34"/>
          <p:cNvSpPr/>
          <p:nvPr/>
        </p:nvSpPr>
        <p:spPr>
          <a:xfrm>
            <a:off x="7740720" y="19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5" name="Rectangle 35"/>
          <p:cNvSpPr/>
          <p:nvPr/>
        </p:nvSpPr>
        <p:spPr>
          <a:xfrm>
            <a:off x="774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6" name="Rectangle 36"/>
          <p:cNvSpPr/>
          <p:nvPr/>
        </p:nvSpPr>
        <p:spPr>
          <a:xfrm>
            <a:off x="7740720" y="26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7" name="Rectangle 37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8" name="Rectangle 38"/>
          <p:cNvSpPr/>
          <p:nvPr/>
        </p:nvSpPr>
        <p:spPr>
          <a:xfrm>
            <a:off x="7740720" y="33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9" name="Rectangle 39"/>
          <p:cNvSpPr/>
          <p:nvPr/>
        </p:nvSpPr>
        <p:spPr>
          <a:xfrm>
            <a:off x="7740720" y="371628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0" name="Rectangle 40"/>
          <p:cNvSpPr/>
          <p:nvPr/>
        </p:nvSpPr>
        <p:spPr>
          <a:xfrm>
            <a:off x="774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1" name="Rectangle 41"/>
          <p:cNvSpPr/>
          <p:nvPr/>
        </p:nvSpPr>
        <p:spPr>
          <a:xfrm>
            <a:off x="7740720" y="443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2" name="Rectangle 42"/>
          <p:cNvSpPr/>
          <p:nvPr/>
        </p:nvSpPr>
        <p:spPr>
          <a:xfrm>
            <a:off x="7740720" y="47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3" name="Rectangle 43"/>
          <p:cNvSpPr/>
          <p:nvPr/>
        </p:nvSpPr>
        <p:spPr>
          <a:xfrm>
            <a:off x="774072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4" name="Rectangle 44"/>
          <p:cNvSpPr/>
          <p:nvPr/>
        </p:nvSpPr>
        <p:spPr>
          <a:xfrm>
            <a:off x="7740720" y="551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5" name="Rectangle 45"/>
          <p:cNvSpPr/>
          <p:nvPr/>
        </p:nvSpPr>
        <p:spPr>
          <a:xfrm>
            <a:off x="7740720" y="587700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6" name="Rectangle 46"/>
          <p:cNvSpPr/>
          <p:nvPr/>
        </p:nvSpPr>
        <p:spPr>
          <a:xfrm>
            <a:off x="414036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7" name="Rectangle 47"/>
          <p:cNvSpPr/>
          <p:nvPr/>
        </p:nvSpPr>
        <p:spPr>
          <a:xfrm>
            <a:off x="450072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8" name="Rectangle 48"/>
          <p:cNvSpPr/>
          <p:nvPr/>
        </p:nvSpPr>
        <p:spPr>
          <a:xfrm>
            <a:off x="485928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9" name="Rectangle 49"/>
          <p:cNvSpPr/>
          <p:nvPr/>
        </p:nvSpPr>
        <p:spPr>
          <a:xfrm>
            <a:off x="5219640" y="22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0" name="Rectangle 50"/>
          <p:cNvSpPr/>
          <p:nvPr/>
        </p:nvSpPr>
        <p:spPr>
          <a:xfrm>
            <a:off x="414036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1" name="Rectangle 51"/>
          <p:cNvSpPr/>
          <p:nvPr/>
        </p:nvSpPr>
        <p:spPr>
          <a:xfrm>
            <a:off x="3419640" y="22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2" name="Rectangle 52"/>
          <p:cNvSpPr/>
          <p:nvPr/>
        </p:nvSpPr>
        <p:spPr>
          <a:xfrm>
            <a:off x="4500720" y="299736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3" name="Rectangle 53"/>
          <p:cNvSpPr/>
          <p:nvPr/>
        </p:nvSpPr>
        <p:spPr>
          <a:xfrm>
            <a:off x="485928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4" name="Rectangle 54"/>
          <p:cNvSpPr/>
          <p:nvPr/>
        </p:nvSpPr>
        <p:spPr>
          <a:xfrm>
            <a:off x="521964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5" name="Rectangle 55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6" name="Rectangle 56"/>
          <p:cNvSpPr/>
          <p:nvPr/>
        </p:nvSpPr>
        <p:spPr>
          <a:xfrm>
            <a:off x="5940360" y="299736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7" name="Rectangle 57"/>
          <p:cNvSpPr/>
          <p:nvPr/>
        </p:nvSpPr>
        <p:spPr>
          <a:xfrm>
            <a:off x="341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8" name="Rectangle 58"/>
          <p:cNvSpPr/>
          <p:nvPr/>
        </p:nvSpPr>
        <p:spPr>
          <a:xfrm>
            <a:off x="305928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9" name="Rectangle 59"/>
          <p:cNvSpPr/>
          <p:nvPr/>
        </p:nvSpPr>
        <p:spPr>
          <a:xfrm>
            <a:off x="414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0" name="Rectangle 60"/>
          <p:cNvSpPr/>
          <p:nvPr/>
        </p:nvSpPr>
        <p:spPr>
          <a:xfrm>
            <a:off x="450072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1" name="Rectangle 61"/>
          <p:cNvSpPr/>
          <p:nvPr/>
        </p:nvSpPr>
        <p:spPr>
          <a:xfrm>
            <a:off x="738036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2" name="Rectangle 62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3" name="Rectangle 63"/>
          <p:cNvSpPr/>
          <p:nvPr/>
        </p:nvSpPr>
        <p:spPr>
          <a:xfrm>
            <a:off x="521964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4" name="Rectangle 64"/>
          <p:cNvSpPr/>
          <p:nvPr/>
        </p:nvSpPr>
        <p:spPr>
          <a:xfrm>
            <a:off x="558000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5" name="Rectangle 65"/>
          <p:cNvSpPr/>
          <p:nvPr/>
        </p:nvSpPr>
        <p:spPr>
          <a:xfrm>
            <a:off x="594036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6" name="Rectangle 66"/>
          <p:cNvSpPr/>
          <p:nvPr/>
        </p:nvSpPr>
        <p:spPr>
          <a:xfrm>
            <a:off x="6300720" y="407664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7" name="Rectangle 67"/>
          <p:cNvSpPr/>
          <p:nvPr/>
        </p:nvSpPr>
        <p:spPr>
          <a:xfrm>
            <a:off x="665964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8" name="Rectangle 68"/>
          <p:cNvSpPr/>
          <p:nvPr/>
        </p:nvSpPr>
        <p:spPr>
          <a:xfrm>
            <a:off x="7020000" y="407664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9" name="Rectangle 69"/>
          <p:cNvSpPr/>
          <p:nvPr/>
        </p:nvSpPr>
        <p:spPr>
          <a:xfrm>
            <a:off x="810108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0" name="Rectangle 70"/>
          <p:cNvSpPr/>
          <p:nvPr/>
        </p:nvSpPr>
        <p:spPr>
          <a:xfrm>
            <a:off x="738036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1" name="Rectangle 71"/>
          <p:cNvSpPr/>
          <p:nvPr/>
        </p:nvSpPr>
        <p:spPr>
          <a:xfrm>
            <a:off x="702000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2" name="Rectangle 72"/>
          <p:cNvSpPr/>
          <p:nvPr/>
        </p:nvSpPr>
        <p:spPr>
          <a:xfrm>
            <a:off x="6659640" y="5157720"/>
            <a:ext cx="35856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3" name="Rectangle 73"/>
          <p:cNvSpPr/>
          <p:nvPr/>
        </p:nvSpPr>
        <p:spPr>
          <a:xfrm>
            <a:off x="630072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4" name="Rectangle 74"/>
          <p:cNvSpPr/>
          <p:nvPr/>
        </p:nvSpPr>
        <p:spPr>
          <a:xfrm>
            <a:off x="594036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5" name="Rectangle 75"/>
          <p:cNvSpPr/>
          <p:nvPr/>
        </p:nvSpPr>
        <p:spPr>
          <a:xfrm>
            <a:off x="845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6" name="Rectangle 76"/>
          <p:cNvSpPr/>
          <p:nvPr/>
        </p:nvSpPr>
        <p:spPr>
          <a:xfrm>
            <a:off x="558000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521964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8" name="Rectangle 78"/>
          <p:cNvSpPr/>
          <p:nvPr/>
        </p:nvSpPr>
        <p:spPr>
          <a:xfrm>
            <a:off x="4859280" y="5157720"/>
            <a:ext cx="358920" cy="360360"/>
          </a:xfrm>
          <a:prstGeom prst="rect">
            <a:avLst/>
          </a:prstGeom>
          <a:solidFill>
            <a:srgbClr val="faf4f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9" name="Rectangle 79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0" name="Rectangle 80"/>
          <p:cNvSpPr/>
          <p:nvPr/>
        </p:nvSpPr>
        <p:spPr>
          <a:xfrm>
            <a:off x="234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1" name="Rectangle 81"/>
          <p:cNvSpPr/>
          <p:nvPr/>
        </p:nvSpPr>
        <p:spPr>
          <a:xfrm>
            <a:off x="324000" y="0"/>
            <a:ext cx="856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4.</a:t>
            </a:r>
            <a:r>
              <a:rPr b="0" lang="ru-RU" sz="3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Отвечает на вопросы что делать? что сделать? и обозначает действие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2" name="Rectangle 82"/>
          <p:cNvSpPr/>
          <p:nvPr/>
        </p:nvSpPr>
        <p:spPr>
          <a:xfrm>
            <a:off x="25092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о горизонтали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1.</a:t>
            </a:r>
            <a:r>
              <a:rPr b="0" lang="ru-RU" sz="4200" spc="-1" strike="noStrike">
                <a:solidFill>
                  <a:srgbClr val="424456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cc3300"/>
                </a:solidFill>
                <a:latin typeface="Garamond"/>
              </a:rPr>
              <a:t>Часть речи, обозначает предмет.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3" name="Rectangle 83"/>
          <p:cNvSpPr/>
          <p:nvPr/>
        </p:nvSpPr>
        <p:spPr>
          <a:xfrm>
            <a:off x="3419640" y="22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f4f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4" name="Rectangle 84"/>
          <p:cNvSpPr/>
          <p:nvPr/>
        </p:nvSpPr>
        <p:spPr>
          <a:xfrm>
            <a:off x="503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Garamond"/>
              </a:rPr>
              <a:t>7. Указывает на предмет, признак или количество, не называя их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5" name="Rectangle 85"/>
          <p:cNvSpPr/>
          <p:nvPr/>
        </p:nvSpPr>
        <p:spPr>
          <a:xfrm>
            <a:off x="3780000" y="299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6" name="Rectangle 86"/>
          <p:cNvSpPr/>
          <p:nvPr/>
        </p:nvSpPr>
        <p:spPr>
          <a:xfrm>
            <a:off x="287280" y="260280"/>
            <a:ext cx="8856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5. Часть речи, отвечает на вопросы где? куда?   откуда? как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7" name="Rectangle 87"/>
          <p:cNvSpPr/>
          <p:nvPr/>
        </p:nvSpPr>
        <p:spPr>
          <a:xfrm>
            <a:off x="3059280" y="407664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8" name="Rectangle 88"/>
          <p:cNvSpPr/>
          <p:nvPr/>
        </p:nvSpPr>
        <p:spPr>
          <a:xfrm>
            <a:off x="32400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6. Обозначает признак предмет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9" name="Rectangle 89"/>
          <p:cNvSpPr/>
          <p:nvPr/>
        </p:nvSpPr>
        <p:spPr>
          <a:xfrm>
            <a:off x="395280" y="189000"/>
            <a:ext cx="864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3. Часть речи, которая обозначает число, количество предметов и порядок предметов при счёте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0" name="Rectangle 90"/>
          <p:cNvSpPr/>
          <p:nvPr/>
        </p:nvSpPr>
        <p:spPr>
          <a:xfrm>
            <a:off x="4859280" y="515772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1" name="Rectangle 91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Garamond"/>
              </a:rPr>
              <a:t>По вертикали.</a:t>
            </a: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 1. Изменение глагола по лицам и числ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2" name="Rectangle 92"/>
          <p:cNvSpPr/>
          <p:nvPr/>
        </p:nvSpPr>
        <p:spPr>
          <a:xfrm>
            <a:off x="395280" y="260280"/>
            <a:ext cx="864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aramond"/>
              </a:rPr>
              <a:t>2. Изменение именной части речи по падежа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3" name="Rectangle 93"/>
          <p:cNvSpPr/>
          <p:nvPr/>
        </p:nvSpPr>
        <p:spPr>
          <a:xfrm>
            <a:off x="3780000" y="1557360"/>
            <a:ext cx="360360" cy="3603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4" name="Rectangle 94"/>
          <p:cNvSpPr/>
          <p:nvPr/>
        </p:nvSpPr>
        <p:spPr>
          <a:xfrm>
            <a:off x="7740720" y="1916280"/>
            <a:ext cx="360360" cy="35856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f4f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0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6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1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-111240" y="-158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63280" y="1700280"/>
            <a:ext cx="692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a40c0c"/>
              </a:solidFill>
              <a:latin typeface="Garamond"/>
            </a:endParaRPr>
          </a:p>
        </p:txBody>
      </p:sp>
      <p:sp>
        <p:nvSpPr>
          <p:cNvPr id="928" name="Овал 1"/>
          <p:cNvSpPr/>
          <p:nvPr/>
        </p:nvSpPr>
        <p:spPr>
          <a:xfrm>
            <a:off x="3949560" y="2262240"/>
            <a:ext cx="2081520" cy="1743120"/>
          </a:xfrm>
          <a:prstGeom prst="ellipse">
            <a:avLst/>
          </a:prstGeom>
          <a:solidFill>
            <a:srgbClr val="effff7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зноспрягаемые глаголы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9" name="Овал 2"/>
          <p:cNvSpPr/>
          <p:nvPr/>
        </p:nvSpPr>
        <p:spPr>
          <a:xfrm>
            <a:off x="6443640" y="2550960"/>
            <a:ext cx="1584360" cy="1160640"/>
          </a:xfrm>
          <a:prstGeom prst="ellipse">
            <a:avLst/>
          </a:prstGeom>
          <a:solidFill>
            <a:srgbClr val="effff7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собо спрягаемы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0" name="Овал 3"/>
          <p:cNvSpPr/>
          <p:nvPr/>
        </p:nvSpPr>
        <p:spPr>
          <a:xfrm>
            <a:off x="1959120" y="2600280"/>
            <a:ext cx="1584360" cy="1152720"/>
          </a:xfrm>
          <a:prstGeom prst="ellipse">
            <a:avLst/>
          </a:prstGeom>
          <a:solidFill>
            <a:srgbClr val="effff7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 оконч. 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пр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31" name="Прямоугольник 8" descr=""/>
          <p:cNvPicPr/>
          <p:nvPr/>
        </p:nvPicPr>
        <p:blipFill>
          <a:blip r:embed="rId2"/>
          <a:stretch/>
        </p:blipFill>
        <p:spPr>
          <a:xfrm>
            <a:off x="7040520" y="4290840"/>
            <a:ext cx="2043000" cy="927360"/>
          </a:xfrm>
          <a:prstGeom prst="rect">
            <a:avLst/>
          </a:prstGeom>
          <a:ln w="0">
            <a:noFill/>
          </a:ln>
        </p:spPr>
      </p:pic>
      <p:pic>
        <p:nvPicPr>
          <p:cNvPr id="932" name="Прямоугольник 9" descr=""/>
          <p:cNvPicPr/>
          <p:nvPr/>
        </p:nvPicPr>
        <p:blipFill>
          <a:blip r:embed="rId3"/>
          <a:stretch/>
        </p:blipFill>
        <p:spPr>
          <a:xfrm>
            <a:off x="7070760" y="1011240"/>
            <a:ext cx="1994040" cy="927000"/>
          </a:xfrm>
          <a:prstGeom prst="rect">
            <a:avLst/>
          </a:prstGeom>
          <a:ln w="0">
            <a:noFill/>
          </a:ln>
        </p:spPr>
      </p:pic>
      <p:pic>
        <p:nvPicPr>
          <p:cNvPr id="933" name="Прямоугольник 10" descr=""/>
          <p:cNvPicPr/>
          <p:nvPr/>
        </p:nvPicPr>
        <p:blipFill>
          <a:blip r:embed="rId4"/>
          <a:stretch/>
        </p:blipFill>
        <p:spPr>
          <a:xfrm>
            <a:off x="878040" y="1042920"/>
            <a:ext cx="2584440" cy="925560"/>
          </a:xfrm>
          <a:prstGeom prst="rect">
            <a:avLst/>
          </a:prstGeom>
          <a:ln w="0">
            <a:noFill/>
          </a:ln>
        </p:spPr>
      </p:pic>
      <p:pic>
        <p:nvPicPr>
          <p:cNvPr id="934" name="Прямоугольник 11" descr=""/>
          <p:cNvPicPr/>
          <p:nvPr/>
        </p:nvPicPr>
        <p:blipFill>
          <a:blip r:embed="rId5"/>
          <a:stretch/>
        </p:blipFill>
        <p:spPr>
          <a:xfrm>
            <a:off x="738360" y="4432320"/>
            <a:ext cx="2743200" cy="925560"/>
          </a:xfrm>
          <a:prstGeom prst="rect">
            <a:avLst/>
          </a:prstGeom>
          <a:ln w="0">
            <a:noFill/>
          </a:ln>
        </p:spPr>
      </p:pic>
      <p:sp>
        <p:nvSpPr>
          <p:cNvPr id="935" name="Стрелка вниз 6"/>
          <p:cNvSpPr/>
          <p:nvPr/>
        </p:nvSpPr>
        <p:spPr>
          <a:xfrm rot="1455000">
            <a:off x="2339640" y="3738600"/>
            <a:ext cx="280800" cy="692280"/>
          </a:xfrm>
          <a:prstGeom prst="downArrow">
            <a:avLst>
              <a:gd name="adj1" fmla="val 50000"/>
              <a:gd name="adj2" fmla="val 50107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6" name="Стрелка вправо 13"/>
          <p:cNvSpPr/>
          <p:nvPr/>
        </p:nvSpPr>
        <p:spPr>
          <a:xfrm rot="14265600">
            <a:off x="2026800" y="2185200"/>
            <a:ext cx="652680" cy="303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7" name="Стрелка вправо 14"/>
          <p:cNvSpPr/>
          <p:nvPr/>
        </p:nvSpPr>
        <p:spPr>
          <a:xfrm rot="10800000">
            <a:off x="3543480" y="2991960"/>
            <a:ext cx="406080" cy="282600"/>
          </a:xfrm>
          <a:prstGeom prst="rightArrow">
            <a:avLst>
              <a:gd name="adj1" fmla="val 50000"/>
              <a:gd name="adj2" fmla="val 50073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8" name="Стрелка вправо 15"/>
          <p:cNvSpPr/>
          <p:nvPr/>
        </p:nvSpPr>
        <p:spPr>
          <a:xfrm>
            <a:off x="6031080" y="3056040"/>
            <a:ext cx="431640" cy="261720"/>
          </a:xfrm>
          <a:prstGeom prst="rightArrow">
            <a:avLst>
              <a:gd name="adj1" fmla="val 50000"/>
              <a:gd name="adj2" fmla="val 50233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9" name="Стрелка вправо 16"/>
          <p:cNvSpPr/>
          <p:nvPr/>
        </p:nvSpPr>
        <p:spPr>
          <a:xfrm rot="18397800">
            <a:off x="7419600" y="2118960"/>
            <a:ext cx="685800" cy="285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0" name="Стрелка вправо 17"/>
          <p:cNvSpPr/>
          <p:nvPr/>
        </p:nvSpPr>
        <p:spPr>
          <a:xfrm rot="3216600">
            <a:off x="7585560" y="3794760"/>
            <a:ext cx="736920" cy="28728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4747ff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танцы"/>
          <p:cNvPicPr/>
          <p:nvPr/>
        </p:nvPicPr>
        <p:blipFill>
          <a:blip r:embed="rId1"/>
          <a:stretch/>
        </p:blipFill>
        <p:spPr>
          <a:xfrm>
            <a:off x="1547640" y="2309760"/>
            <a:ext cx="6337440" cy="438624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Arial Black"/>
              </a:rPr>
              <a:t>Физминутка</a:t>
            </a:r>
            <a:endParaRPr b="0" lang="en-US" sz="4000" spc="-1" strike="noStrike">
              <a:solidFill>
                <a:srgbClr val="800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40c0c"/>
                </a:solidFill>
                <a:latin typeface="Garamond"/>
              </a:rPr>
              <a:t>Прочитайте глаголы. Как они называются?</a:t>
            </a:r>
            <a:endParaRPr b="0" lang="en-US" sz="3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354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хоте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жел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стремиться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жажд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мечтать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хотеться                 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547280" y="1413000"/>
            <a:ext cx="6923160" cy="11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33200" y="2999880"/>
            <a:ext cx="721044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Подобрать пословицы с раноспрягаемыми глаголами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4747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§ 81, упражнение 474. 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231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Garamond"/>
              </a:rPr>
              <a:t>Вывод. Рефлексия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Напишите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синквейн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на тему 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cc"/>
                </a:solidFill>
                <a:uFillTx/>
                <a:latin typeface="Arial"/>
              </a:rPr>
              <a:t>«Разноспрягаемые глаголы»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72668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61928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исо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169236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5580000" y="220500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да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5580000" y="3284640"/>
            <a:ext cx="2879640" cy="863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крыват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1" name="AutoShape 10"/>
          <p:cNvSpPr/>
          <p:nvPr/>
        </p:nvSpPr>
        <p:spPr>
          <a:xfrm>
            <a:off x="1692360" y="4653000"/>
            <a:ext cx="2232000" cy="503280"/>
          </a:xfrm>
          <a:prstGeom prst="foldedCorner">
            <a:avLst>
              <a:gd name="adj" fmla="val 12500"/>
            </a:avLst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1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2" name="AutoShape 10"/>
          <p:cNvSpPr/>
          <p:nvPr/>
        </p:nvSpPr>
        <p:spPr>
          <a:xfrm>
            <a:off x="5867280" y="4869000"/>
            <a:ext cx="2089440" cy="792000"/>
          </a:xfrm>
          <a:prstGeom prst="octagon">
            <a:avLst>
              <a:gd name="adj" fmla="val 29287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3" name="AutoShape 15"/>
          <p:cNvSpPr/>
          <p:nvPr/>
        </p:nvSpPr>
        <p:spPr>
          <a:xfrm>
            <a:off x="1763640" y="5661000"/>
            <a:ext cx="2087640" cy="647640"/>
          </a:xfrm>
          <a:custGeom>
            <a:avLst/>
            <a:gdLst>
              <a:gd name="textAreaLeft" fmla="*/ 41760 w 2087640"/>
              <a:gd name="textAreaRight" fmla="*/ 2045880 w 208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9600" h="21600">
                <a:moveTo>
                  <a:pt x="0" y="0"/>
                </a:moveTo>
                <a:lnTo>
                  <a:pt x="69600" y="0"/>
                </a:lnTo>
                <a:lnTo>
                  <a:pt x="69600" y="21600"/>
                </a:lnTo>
                <a:lnTo>
                  <a:pt x="0" y="21600"/>
                </a:lnTo>
                <a:close/>
              </a:path>
              <a:path fill="lightenLess" w="69600" h="21600">
                <a:moveTo>
                  <a:pt x="0" y="0"/>
                </a:moveTo>
                <a:lnTo>
                  <a:pt x="69600" y="0"/>
                </a:lnTo>
                <a:lnTo>
                  <a:pt x="68200" y="1400"/>
                </a:lnTo>
                <a:lnTo>
                  <a:pt x="1400" y="1400"/>
                </a:lnTo>
                <a:close/>
              </a:path>
              <a:path fill="darken" w="69600" h="21600">
                <a:moveTo>
                  <a:pt x="69600" y="0"/>
                </a:moveTo>
                <a:lnTo>
                  <a:pt x="69600" y="21600"/>
                </a:lnTo>
                <a:lnTo>
                  <a:pt x="68200" y="20200"/>
                </a:lnTo>
                <a:lnTo>
                  <a:pt x="68200" y="1400"/>
                </a:lnTo>
                <a:close/>
              </a:path>
              <a:path fill="darkenLess" w="69600" h="21600">
                <a:moveTo>
                  <a:pt x="69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200" y="20200"/>
                </a:lnTo>
                <a:close/>
              </a:path>
              <a:path fill="lighten" w="69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дсказка 2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258560" y="2349360"/>
            <a:ext cx="7705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братите внимание на спряжение глаголов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16" name="Picture 5" descr="p79_2_clr"/>
          <p:cNvPicPr/>
          <p:nvPr/>
        </p:nvPicPr>
        <p:blipFill>
          <a:blip r:embed="rId2"/>
          <a:stretch/>
        </p:blipFill>
        <p:spPr>
          <a:xfrm>
            <a:off x="6300720" y="5013360"/>
            <a:ext cx="522360" cy="104472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p79_1_clr"/>
          <p:cNvPicPr/>
          <p:nvPr/>
        </p:nvPicPr>
        <p:blipFill>
          <a:blip r:embed="rId3"/>
          <a:stretch/>
        </p:blipFill>
        <p:spPr>
          <a:xfrm>
            <a:off x="3203640" y="476280"/>
            <a:ext cx="317520" cy="107964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705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Спряжение </a:t>
            </a:r>
            <a:r>
              <a:rPr b="0" i="1" lang="ru-RU" sz="2400" spc="-1" strike="noStrike">
                <a:solidFill>
                  <a:srgbClr val="424456"/>
                </a:solidFill>
                <a:latin typeface="Arial"/>
              </a:rPr>
              <a:t>— это изменение глаголов по лицам и числам в настоящем и будущем времени.</a:t>
            </a:r>
            <a:r>
              <a:rPr b="0" lang="ru-RU" sz="3800" spc="-1" strike="noStrike">
                <a:solidFill>
                  <a:srgbClr val="424456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8353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ыделяют два типа спряжения. Глаголы первого и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торого спряжения различаются личными окончаниями.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187280" y="1916280"/>
          <a:ext cx="7694640" cy="4176720"/>
        </p:xfrm>
        <a:graphic>
          <a:graphicData uri="http://schemas.openxmlformats.org/drawingml/2006/table">
            <a:tbl>
              <a:tblPr/>
              <a:tblGrid>
                <a:gridCol w="1368720"/>
                <a:gridCol w="1439640"/>
                <a:gridCol w="2505240"/>
                <a:gridCol w="23810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Глаголы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пряжения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Един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лю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шь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, она, оно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3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ножест-венное число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5760">
                      <a:solidFill>
                        <a:srgbClr val="0000cc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(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ни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ума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576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люб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576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3" name="Rectangle 81"/>
          <p:cNvSpPr/>
          <p:nvPr/>
        </p:nvSpPr>
        <p:spPr>
          <a:xfrm>
            <a:off x="5214960" y="2786040"/>
            <a:ext cx="35892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4" name="Rectangle 83"/>
          <p:cNvSpPr/>
          <p:nvPr/>
        </p:nvSpPr>
        <p:spPr>
          <a:xfrm>
            <a:off x="5214960" y="3286080"/>
            <a:ext cx="576360" cy="2890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5" name="Rectangle 84"/>
          <p:cNvSpPr/>
          <p:nvPr/>
        </p:nvSpPr>
        <p:spPr>
          <a:xfrm>
            <a:off x="7596360" y="3284640"/>
            <a:ext cx="57456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6" name="Rectangle 85"/>
          <p:cNvSpPr/>
          <p:nvPr/>
        </p:nvSpPr>
        <p:spPr>
          <a:xfrm>
            <a:off x="7596360" y="5157720"/>
            <a:ext cx="502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7" name="Rectangle 86"/>
          <p:cNvSpPr/>
          <p:nvPr/>
        </p:nvSpPr>
        <p:spPr>
          <a:xfrm>
            <a:off x="5214960" y="5143680"/>
            <a:ext cx="50328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8" name="Rectangle 87"/>
          <p:cNvSpPr/>
          <p:nvPr/>
        </p:nvSpPr>
        <p:spPr>
          <a:xfrm>
            <a:off x="5214960" y="385776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9" name="Rectangle 88"/>
          <p:cNvSpPr/>
          <p:nvPr/>
        </p:nvSpPr>
        <p:spPr>
          <a:xfrm>
            <a:off x="5214960" y="4572000"/>
            <a:ext cx="35892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0" name="Rectangle 89"/>
          <p:cNvSpPr/>
          <p:nvPr/>
        </p:nvSpPr>
        <p:spPr>
          <a:xfrm>
            <a:off x="5214960" y="5643720"/>
            <a:ext cx="43020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1" name="Rectangle 90"/>
          <p:cNvSpPr/>
          <p:nvPr/>
        </p:nvSpPr>
        <p:spPr>
          <a:xfrm>
            <a:off x="7596360" y="3860640"/>
            <a:ext cx="35856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2" name="Rectangle 91"/>
          <p:cNvSpPr/>
          <p:nvPr/>
        </p:nvSpPr>
        <p:spPr>
          <a:xfrm>
            <a:off x="7596360" y="4581360"/>
            <a:ext cx="431640" cy="28764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3" name="Rectangle 92"/>
          <p:cNvSpPr/>
          <p:nvPr/>
        </p:nvSpPr>
        <p:spPr>
          <a:xfrm>
            <a:off x="7596360" y="5661000"/>
            <a:ext cx="358560" cy="28728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4" name="AutoShape 93"/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5" name="Rectangle 81"/>
          <p:cNvSpPr/>
          <p:nvPr/>
        </p:nvSpPr>
        <p:spPr>
          <a:xfrm>
            <a:off x="7812000" y="2781360"/>
            <a:ext cx="358920" cy="288720"/>
          </a:xfrm>
          <a:prstGeom prst="rect">
            <a:avLst/>
          </a:prstGeom>
          <a:noFill/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48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Вспомните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к определяем</a:t>
            </a:r>
            <a:r>
              <a:rPr b="0" lang="ru-RU" sz="48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спряжение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38" name="AutoShape 4"/>
          <p:cNvSpPr/>
          <p:nvPr/>
        </p:nvSpPr>
        <p:spPr>
          <a:xfrm>
            <a:off x="8459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AutoShape 29"/>
          <p:cNvSpPr/>
          <p:nvPr/>
        </p:nvSpPr>
        <p:spPr>
          <a:xfrm>
            <a:off x="7740720" y="5445000"/>
            <a:ext cx="144360" cy="432000"/>
          </a:xfrm>
          <a:prstGeom prst="downArrow">
            <a:avLst>
              <a:gd name="adj1" fmla="val 38685"/>
              <a:gd name="adj2" fmla="val 8491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1" name="AutoShape 29"/>
          <p:cNvSpPr/>
          <p:nvPr/>
        </p:nvSpPr>
        <p:spPr>
          <a:xfrm rot="18559800">
            <a:off x="7163640" y="4725360"/>
            <a:ext cx="142560" cy="430200"/>
          </a:xfrm>
          <a:prstGeom prst="downArrow">
            <a:avLst>
              <a:gd name="adj1" fmla="val 50000"/>
              <a:gd name="adj2" fmla="val 7544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2" name="AutoShape 29"/>
          <p:cNvSpPr/>
          <p:nvPr/>
        </p:nvSpPr>
        <p:spPr>
          <a:xfrm rot="3168000">
            <a:off x="4862520" y="4650840"/>
            <a:ext cx="177840" cy="470160"/>
          </a:xfrm>
          <a:prstGeom prst="downArrow">
            <a:avLst>
              <a:gd name="adj1" fmla="val 50000"/>
              <a:gd name="adj2" fmla="val 6609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4390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Garamond"/>
              </a:rPr>
              <a:t>Алгоритм определения спряжения глаголов</a:t>
            </a:r>
            <a:endParaRPr b="0" lang="en-US" sz="28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1692360" y="692280"/>
            <a:ext cx="5329080" cy="4330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Личное окончание глагола ударное?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1763640" y="1268280"/>
            <a:ext cx="50472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6877080" y="1413000"/>
            <a:ext cx="576360" cy="360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108000" y="1844640"/>
            <a:ext cx="4500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окончани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8" name="AutoShape 9"/>
          <p:cNvSpPr/>
          <p:nvPr/>
        </p:nvSpPr>
        <p:spPr>
          <a:xfrm>
            <a:off x="179280" y="2708280"/>
            <a:ext cx="1297080" cy="1655640"/>
          </a:xfrm>
          <a:custGeom>
            <a:avLst/>
            <a:gdLst>
              <a:gd name="textAreaLeft" fmla="*/ 0 w 1297080"/>
              <a:gd name="textAreaRight" fmla="*/ 909720 w 1297080"/>
              <a:gd name="textAreaTop" fmla="*/ 68760 h 1655640"/>
              <a:gd name="textAreaBottom" fmla="*/ 1586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395280" y="3141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395280" y="2852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395280" y="3429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395280" y="371628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3" name="Rectangle 15"/>
          <p:cNvSpPr/>
          <p:nvPr/>
        </p:nvSpPr>
        <p:spPr>
          <a:xfrm>
            <a:off x="395280" y="4005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4" name="Rectangle 16"/>
          <p:cNvSpPr/>
          <p:nvPr/>
        </p:nvSpPr>
        <p:spPr>
          <a:xfrm>
            <a:off x="324000" y="479736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5" name="Rectangle 17"/>
          <p:cNvSpPr/>
          <p:nvPr/>
        </p:nvSpPr>
        <p:spPr>
          <a:xfrm>
            <a:off x="324000" y="450864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6" name="Rectangle 18"/>
          <p:cNvSpPr/>
          <p:nvPr/>
        </p:nvSpPr>
        <p:spPr>
          <a:xfrm>
            <a:off x="324000" y="5084640"/>
            <a:ext cx="792000" cy="2876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7" name="Rectangle 19"/>
          <p:cNvSpPr/>
          <p:nvPr/>
        </p:nvSpPr>
        <p:spPr>
          <a:xfrm>
            <a:off x="324000" y="537372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8" name="Rectangle 20"/>
          <p:cNvSpPr/>
          <p:nvPr/>
        </p:nvSpPr>
        <p:spPr>
          <a:xfrm>
            <a:off x="324000" y="5661000"/>
            <a:ext cx="792000" cy="28728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/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9" name="AutoShape 22"/>
          <p:cNvSpPr/>
          <p:nvPr/>
        </p:nvSpPr>
        <p:spPr>
          <a:xfrm>
            <a:off x="179280" y="4437000"/>
            <a:ext cx="1224000" cy="1728720"/>
          </a:xfrm>
          <a:custGeom>
            <a:avLst/>
            <a:gdLst>
              <a:gd name="textAreaLeft" fmla="*/ 0 w 1224000"/>
              <a:gd name="textAreaRight" fmla="*/ 858600 w 122400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1979640" y="3068640"/>
            <a:ext cx="1008000" cy="79200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1" name="AutoShape 25"/>
          <p:cNvSpPr/>
          <p:nvPr/>
        </p:nvSpPr>
        <p:spPr>
          <a:xfrm rot="3943800">
            <a:off x="230292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2" name="AutoShape 27"/>
          <p:cNvSpPr/>
          <p:nvPr/>
        </p:nvSpPr>
        <p:spPr>
          <a:xfrm rot="16200000">
            <a:off x="1691280" y="3284640"/>
            <a:ext cx="144360" cy="432000"/>
          </a:xfrm>
          <a:prstGeom prst="downArrow">
            <a:avLst>
              <a:gd name="adj1" fmla="val 29630"/>
              <a:gd name="adj2" fmla="val 74037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3" name="AutoShape 28"/>
          <p:cNvSpPr/>
          <p:nvPr/>
        </p:nvSpPr>
        <p:spPr>
          <a:xfrm rot="18550200">
            <a:off x="6767280" y="101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4" name="AutoShape 29"/>
          <p:cNvSpPr/>
          <p:nvPr/>
        </p:nvSpPr>
        <p:spPr>
          <a:xfrm>
            <a:off x="6939000" y="1843200"/>
            <a:ext cx="225360" cy="433440"/>
          </a:xfrm>
          <a:prstGeom prst="downArrow">
            <a:avLst>
              <a:gd name="adj1" fmla="val 50000"/>
              <a:gd name="adj2" fmla="val 48083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5" name="AutoShape 30"/>
          <p:cNvSpPr/>
          <p:nvPr/>
        </p:nvSpPr>
        <p:spPr>
          <a:xfrm flipH="1" rot="16318800">
            <a:off x="1598400" y="5029560"/>
            <a:ext cx="108000" cy="503280"/>
          </a:xfrm>
          <a:prstGeom prst="downArrow">
            <a:avLst>
              <a:gd name="adj1" fmla="val 50000"/>
              <a:gd name="adj2" fmla="val 116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6" name="AutoShape 31"/>
          <p:cNvSpPr/>
          <p:nvPr/>
        </p:nvSpPr>
        <p:spPr>
          <a:xfrm rot="614400">
            <a:off x="891720" y="242100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7" name="Rectangle 32"/>
          <p:cNvSpPr/>
          <p:nvPr/>
        </p:nvSpPr>
        <p:spPr>
          <a:xfrm>
            <a:off x="3635280" y="3357720"/>
            <a:ext cx="5508720" cy="144144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(кроме брить и стелить) +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нать, держать, дышать, об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ышать, видеть, ненавидеть,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висеть, терпеть, вертеть, смотреть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8" name="AutoShape 33"/>
          <p:cNvSpPr/>
          <p:nvPr/>
        </p:nvSpPr>
        <p:spPr>
          <a:xfrm>
            <a:off x="8532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8481"/>
                </a:moveTo>
                <a:lnTo>
                  <a:pt x="7301" y="8481"/>
                </a:lnTo>
                <a:lnTo>
                  <a:pt x="7301" y="13816"/>
                </a:lnTo>
                <a:cubicBezTo>
                  <a:pt x="7301" y="14739"/>
                  <a:pt x="8102" y="15470"/>
                  <a:pt x="9138" y="15470"/>
                </a:cubicBezTo>
                <a:lnTo>
                  <a:pt x="10800" y="15470"/>
                </a:lnTo>
                <a:cubicBezTo>
                  <a:pt x="11836" y="15470"/>
                  <a:pt x="12636" y="14739"/>
                  <a:pt x="12636" y="13816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3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6"/>
                </a:lnTo>
                <a:cubicBezTo>
                  <a:pt x="16144" y="16584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4"/>
                  <a:pt x="3794" y="13816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9" name="AutoShape 25"/>
          <p:cNvSpPr/>
          <p:nvPr/>
        </p:nvSpPr>
        <p:spPr>
          <a:xfrm>
            <a:off x="1908000" y="1628640"/>
            <a:ext cx="142920" cy="287640"/>
          </a:xfrm>
          <a:prstGeom prst="downArrow">
            <a:avLst>
              <a:gd name="adj1" fmla="val 50000"/>
              <a:gd name="adj2" fmla="val 50315"/>
            </a:avLst>
          </a:prstGeom>
          <a:solidFill>
            <a:srgbClr val="a40c0c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0" name="AutoShape 29"/>
          <p:cNvSpPr/>
          <p:nvPr/>
        </p:nvSpPr>
        <p:spPr>
          <a:xfrm flipH="1" rot="16800">
            <a:off x="6947280" y="2923920"/>
            <a:ext cx="160560" cy="4014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1" name="Rectangle 33"/>
          <p:cNvSpPr/>
          <p:nvPr/>
        </p:nvSpPr>
        <p:spPr>
          <a:xfrm>
            <a:off x="4211640" y="5157720"/>
            <a:ext cx="79200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2" name="Rectangle 34"/>
          <p:cNvSpPr/>
          <p:nvPr/>
        </p:nvSpPr>
        <p:spPr>
          <a:xfrm>
            <a:off x="7451640" y="5013360"/>
            <a:ext cx="792360" cy="433440"/>
          </a:xfrm>
          <a:prstGeom prst="rect">
            <a:avLst/>
          </a:prstGeom>
          <a:solidFill>
            <a:srgbClr val="ffe7f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3" name="AutoShape 29"/>
          <p:cNvSpPr/>
          <p:nvPr/>
        </p:nvSpPr>
        <p:spPr>
          <a:xfrm>
            <a:off x="4572000" y="5589720"/>
            <a:ext cx="144360" cy="301320"/>
          </a:xfrm>
          <a:prstGeom prst="downArrow">
            <a:avLst>
              <a:gd name="adj1" fmla="val 50000"/>
              <a:gd name="adj2" fmla="val 52182"/>
            </a:avLst>
          </a:prstGeom>
          <a:solidFill>
            <a:srgbClr val="a40c0c"/>
          </a:solidFill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4" name="Rectangle 24"/>
          <p:cNvSpPr/>
          <p:nvPr/>
        </p:nvSpPr>
        <p:spPr>
          <a:xfrm>
            <a:off x="2124000" y="5084640"/>
            <a:ext cx="1008000" cy="792360"/>
          </a:xfrm>
          <a:prstGeom prst="rect">
            <a:avLst/>
          </a:prstGeom>
          <a:solidFill>
            <a:srgbClr val="ffd9ff"/>
          </a:solidFill>
          <a:ln w="9360">
            <a:solidFill>
              <a:srgbClr val="ff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3995640" y="2349360"/>
            <a:ext cx="5004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тавим глагол в неопределённую форму,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пределяем по гласной в суффиксе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6" name="Rectangle 39"/>
          <p:cNvSpPr/>
          <p:nvPr/>
        </p:nvSpPr>
        <p:spPr>
          <a:xfrm>
            <a:off x="4211640" y="6021360"/>
            <a:ext cx="100800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7" name="Rectangle 40"/>
          <p:cNvSpPr/>
          <p:nvPr/>
        </p:nvSpPr>
        <p:spPr>
          <a:xfrm>
            <a:off x="7308720" y="6021360"/>
            <a:ext cx="1008360" cy="576360"/>
          </a:xfrm>
          <a:prstGeom prst="rect">
            <a:avLst/>
          </a:prstGeom>
          <a:solidFill>
            <a:srgbClr val="ffd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спр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47280" y="277920"/>
            <a:ext cx="7139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Ответ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58560" y="159984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лч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2 спряжение, определяем по окончанию, которое в этом слове под ударением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шь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е, молч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.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исовать, отдавать, накрыв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– 1 спряжение, определяем по суффиксу неопределённой формы глагол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8675640" y="623736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474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3300"/>
                </a:solidFill>
                <a:latin typeface="Garamond"/>
              </a:rPr>
              <a:t>«Четвёртый лишний»</a:t>
            </a:r>
            <a:endParaRPr b="0" lang="en-US" sz="4200" spc="-1" strike="noStrike">
              <a:solidFill>
                <a:srgbClr val="424456"/>
              </a:solidFill>
              <a:latin typeface="Garamond"/>
            </a:endParaRPr>
          </a:p>
        </p:txBody>
      </p:sp>
      <p:sp>
        <p:nvSpPr>
          <p:cNvPr id="884" name="AutoShape 5"/>
          <p:cNvSpPr/>
          <p:nvPr/>
        </p:nvSpPr>
        <p:spPr>
          <a:xfrm>
            <a:off x="176364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5" name="AutoShape 9"/>
          <p:cNvSpPr/>
          <p:nvPr/>
        </p:nvSpPr>
        <p:spPr>
          <a:xfrm>
            <a:off x="1692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Беж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6" name="AutoShape 10"/>
          <p:cNvSpPr/>
          <p:nvPr/>
        </p:nvSpPr>
        <p:spPr>
          <a:xfrm>
            <a:off x="5724360" y="321300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ор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5724360" y="1700280"/>
            <a:ext cx="2808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ff"/>
              </a:gs>
              <a:gs pos="100000">
                <a:srgbClr val="f4e8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8" name="Rectangle 12"/>
          <p:cNvSpPr/>
          <p:nvPr/>
        </p:nvSpPr>
        <p:spPr>
          <a:xfrm>
            <a:off x="1692360" y="4869000"/>
            <a:ext cx="2374920" cy="792000"/>
          </a:xfrm>
          <a:prstGeom prst="rect">
            <a:avLst/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f4f9"/>
                </a:solidFill>
                <a:latin typeface="Arial"/>
              </a:rPr>
              <a:t>Подсказка</a:t>
            </a:r>
            <a:r>
              <a:rPr b="0" lang="ru-RU" sz="2400" spc="-1" strike="noStrike">
                <a:solidFill>
                  <a:srgbClr val="faf4f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9" name="AutoShape 13"/>
          <p:cNvSpPr/>
          <p:nvPr/>
        </p:nvSpPr>
        <p:spPr>
          <a:xfrm>
            <a:off x="5580000" y="4869000"/>
            <a:ext cx="2879640" cy="792000"/>
          </a:xfrm>
          <a:prstGeom prst="hexagon">
            <a:avLst>
              <a:gd name="adj" fmla="val 90898"/>
              <a:gd name="vf" fmla="val 115470"/>
            </a:avLst>
          </a:prstGeom>
          <a:solidFill>
            <a:srgbClr val="4747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af4f9"/>
                </a:solidFill>
                <a:latin typeface="Arial"/>
              </a:rPr>
              <a:t>Отве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3:48:08Z</dcterms:created>
  <dc:creator>123</dc:creator>
  <dc:description/>
  <dc:language>en-US</dc:language>
  <cp:lastModifiedBy>Римма</cp:lastModifiedBy>
  <dcterms:modified xsi:type="dcterms:W3CDTF">2013-06-11T09:10:35Z</dcterms:modified>
  <cp:revision>58</cp:revision>
  <dc:subject/>
  <dc:title>Разноспрягаемые глаголы</dc:title>
</cp:coreProperties>
</file>