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gif" ContentType="image/gif"/>
  <Override PartName="/ppt/media/image11.jpeg" ContentType="image/jpeg"/>
  <Override PartName="/ppt/media/image3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A39-36BD-4647-9389-0B9EA26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DEA-1D9F-44BA-B1DA-BD0FB60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F61-E0A9-44A3-AE68-BFB2DBD2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6792-330C-4E81-A534-AA406960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6A51-624F-450E-9EF4-28316A97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3FC-3031-43D9-90D1-975CA92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7E22-7CB1-4A38-9154-F8320108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D2B0-FA1A-4114-9CB4-FE67785A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C9CB-D373-4679-859B-CEE274C3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93BF-F068-48BD-A09A-FEA145C7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8EC0-C568-44D2-A627-56302A0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B1E-8547-4191-957B-3A6398FE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8A92-8DE5-4D9C-B613-8528154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AAC-C120-495A-B251-D52566F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7CA-49F4-43C6-90E4-8E63A921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B575-0FA9-4474-B45C-B3D60B0E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0D9F-91D4-4C9A-80A5-B686CD32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691B-4EB0-418A-9D43-B0A8E4E2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1BE8-AA0A-4248-9226-AD5142FD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D78E-564F-452E-A12B-251CBA36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C933-2812-493E-AE9B-6C2319A6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43E9-A5C7-445C-8E19-C9CD3D0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23F-389B-45C6-B66C-71530EDA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627A-5B53-4A48-91DA-F1DD7C10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2A24-2838-4A2B-8CA7-94F344B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F790-6599-49A5-A3F8-EDA7C31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C55B-DA01-484F-BD02-721BCB8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A393-53A9-4182-B192-EB9995E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19CF6-081A-400E-A879-2CC1652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3F3F-C038-4406-993F-A1328759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415BB-9491-4ACF-AF3E-D9D74A45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9819-2EAC-48D6-B190-9F3AEE76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0BA5-A2B0-4DB6-8493-2982E01E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D87-1873-4C94-8F27-9FA56FE2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C3F7-6C48-458D-8180-08612E67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6F27-4AAB-474F-B715-E85EC2E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BFC9-D6E2-43A5-91E4-09F71CE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C0A2-A399-4F11-A986-462F24B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B80D-8FA6-4D79-B724-662BD94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163C-FB9C-458F-8C49-6FC3D90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EB48-6C54-486A-8B44-731759B6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711B-AC72-4872-B2F7-0C0A8767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1BB3-16F0-47AC-A6A7-15C509C2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472F7-CCAD-423E-9F66-C2C190FD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C2F-6486-45E7-850D-E23DE3D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00E7A-CE18-4A5C-9D89-55A79F9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A223-72E7-474E-B84A-A9C7F7B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B3ED-C26A-4D5E-AC3A-90BC243B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268E-515D-44ED-8E0F-3F30513E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C4E18-D409-42A2-8BDF-CF78CA7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9EFBE-282B-45D8-BF21-F2AF025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5B61-833E-49C7-BAE0-3A9FAE3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692B-5795-480E-81C5-F94F967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9C76-D26E-4A11-9585-C7607D5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10783-1FAC-4B23-8F17-59147F9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2DA-5685-457D-8DD8-CD310A8B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8378-C7AD-4E32-8367-D9708AD3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FE3B-524A-4A1D-8186-302018E2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60CB-BBB4-467B-BF8C-99EADDA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7E44-3275-4B93-97AE-9D46E87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393F-0AD5-4ADB-B4E4-68C9B21C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624C-C1AB-4DCF-A943-6E5E116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12A2-2A11-4D1D-8C92-238278A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D2A39-D037-47AC-81E6-C9187CB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3F63-8AC7-4BCE-81F2-101E4654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BBBD-592E-4B68-B5EC-3C78284D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4E6-F117-4DC5-A423-9470E99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1F763-A7D9-4154-B1EB-661A8E3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E077E-A911-47BD-8858-2B56954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034E-898C-4258-8376-CB5EC254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9CC5-9FA7-4254-9406-E0CAC5F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3068-C82C-490D-B34E-E5273CE8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CD66-0D77-43EC-A816-8A94393B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FEE6D-3439-4275-B680-B2A2FE27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28C34-4025-4D7E-89C7-48804AB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BB65-7362-44F3-89D7-37C2249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CB98-AE6D-4A61-851D-8156827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35D-E56C-4CDE-914D-6FC4C73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9A39-BC20-427C-9CBC-B2B6342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069DC-67FC-443A-9A82-46846F5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7D01-CFAF-40BF-89A7-811394C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E98F-61EF-4A92-90A1-D7AEF58E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D157-6C1B-4AD3-B495-8A1A1DF4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92C-F8A1-4B4C-AB22-9921463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AC1-2EDE-4E8C-84BA-7944DB7445BB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98F6-4AD2-4143-B6DA-ED4CD21A40F7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ED0-0E89-46D2-8D5D-070064A02F8E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60A-3244-4E61-A4E8-CDB4EAB6CF17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CACB-666A-4BF0-8266-4B8AE603CDE4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B25-B9D3-489D-86B0-A6991D05BAD3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94640" y="1217520"/>
              <a:ext cx="50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72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94640" y="1282320"/>
              <a:ext cx="50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46920" y="1370160"/>
              <a:ext cx="51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723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46920" y="1434960"/>
              <a:ext cx="51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99520" y="1473120"/>
              <a:ext cx="50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72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99520" y="1537920"/>
              <a:ext cx="50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8FD-2C19-4910-BF04-4269DAFA0DA2}" type="slidenum"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9.png"/><Relationship Id="rId3" Type="http://schemas.openxmlformats.org/officeDocument/2006/relationships/image" Target="../media/image3.gif"/><Relationship Id="rId4" Type="http://schemas.openxmlformats.org/officeDocument/2006/relationships/image" Target="../media/image50.gif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-396720" y="0"/>
            <a:ext cx="9947160" cy="7543800"/>
          </a:xfrm>
          <a:prstGeom prst="rect">
            <a:avLst/>
          </a:prstGeom>
          <a:ln w="0">
            <a:noFill/>
          </a:ln>
        </p:spPr>
      </p:pic>
      <p:pic>
        <p:nvPicPr>
          <p:cNvPr id="369" name="TextBox 3" descr=""/>
          <p:cNvPicPr/>
          <p:nvPr/>
        </p:nvPicPr>
        <p:blipFill>
          <a:blip r:embed="rId2"/>
          <a:stretch/>
        </p:blipFill>
        <p:spPr>
          <a:xfrm>
            <a:off x="-274680" y="5048280"/>
            <a:ext cx="10333080" cy="19494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5580000" y="314172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втор Манейло С.Б., учитель физики МБОУ Заларинская СОШ №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Рисунок 5" descr="MM900288906[1].gif"/>
          <p:cNvPicPr/>
          <p:nvPr/>
        </p:nvPicPr>
        <p:blipFill>
          <a:blip r:embed="rId3"/>
          <a:stretch/>
        </p:blipFill>
        <p:spPr>
          <a:xfrm rot="5400000">
            <a:off x="82800" y="1508400"/>
            <a:ext cx="484956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rebuchet MS"/>
              </a:rPr>
              <a:t>Реактивное движение на транспорте</a:t>
            </a:r>
            <a:endParaRPr b="0" lang="en-US" sz="36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19" name="Рисунок 4" descr="information_items_51043.jpg"/>
          <p:cNvPicPr/>
          <p:nvPr/>
        </p:nvPicPr>
        <p:blipFill>
          <a:blip r:embed="rId1"/>
          <a:stretch/>
        </p:blipFill>
        <p:spPr>
          <a:xfrm>
            <a:off x="1476360" y="4076640"/>
            <a:ext cx="6824520" cy="2637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0" name="Рисунок 5" descr="poezd_05.jpg"/>
          <p:cNvPicPr/>
          <p:nvPr/>
        </p:nvPicPr>
        <p:blipFill>
          <a:blip r:embed="rId2"/>
          <a:stretch/>
        </p:blipFill>
        <p:spPr>
          <a:xfrm>
            <a:off x="611280" y="1341360"/>
            <a:ext cx="3816360" cy="2590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1" name="Рисунок 6" descr="b3dhc2lhLnJ1L2ZpbGVhZG1pbi9maWxlcy9BbGJ1bXMvSXJrdXRza0F2aWF6YXZvZC9SZWFrdGl2bnlpLXNhbW9sam90LWFtZmliaWphLUJFLTIwMC5qcGc_X19pZD0xMzcwOA==.jpg"/>
          <p:cNvPicPr/>
          <p:nvPr/>
        </p:nvPicPr>
        <p:blipFill>
          <a:blip r:embed="rId3"/>
          <a:stretch/>
        </p:blipFill>
        <p:spPr>
          <a:xfrm>
            <a:off x="4643280" y="1341360"/>
            <a:ext cx="4249800" cy="2592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705960" y="333000"/>
            <a:ext cx="8156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на в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24" name="Содержимое 3" descr="audi-trimaran-yacht-concept-3.jpg"/>
          <p:cNvPicPr/>
          <p:nvPr/>
        </p:nvPicPr>
        <p:blipFill>
          <a:blip r:embed="rId1"/>
          <a:stretch/>
        </p:blipFill>
        <p:spPr>
          <a:xfrm>
            <a:off x="755640" y="1413000"/>
            <a:ext cx="3600360" cy="2519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5" name="Рисунок 4" descr="g89_b.jpg"/>
          <p:cNvPicPr/>
          <p:nvPr/>
        </p:nvPicPr>
        <p:blipFill>
          <a:blip r:embed="rId2"/>
          <a:stretch/>
        </p:blipFill>
        <p:spPr>
          <a:xfrm>
            <a:off x="4643280" y="1413000"/>
            <a:ext cx="4104000" cy="2519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26" name="Рисунок 5" descr="prod-6365-4aee094c3c30f.jpg"/>
          <p:cNvPicPr/>
          <p:nvPr/>
        </p:nvPicPr>
        <p:blipFill>
          <a:blip r:embed="rId3"/>
          <a:stretch/>
        </p:blipFill>
        <p:spPr>
          <a:xfrm>
            <a:off x="971640" y="4076640"/>
            <a:ext cx="7619760" cy="2548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ые игруш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29" name="Содержимое 3" descr="957_2902.jpeg"/>
          <p:cNvPicPr/>
          <p:nvPr/>
        </p:nvPicPr>
        <p:blipFill>
          <a:blip r:embed="rId1"/>
          <a:stretch/>
        </p:blipFill>
        <p:spPr>
          <a:xfrm>
            <a:off x="5148360" y="1484280"/>
            <a:ext cx="3529080" cy="2160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30" name="Рисунок 4" descr="LC54049.jpg"/>
          <p:cNvPicPr/>
          <p:nvPr/>
        </p:nvPicPr>
        <p:blipFill>
          <a:blip r:embed="rId2"/>
          <a:stretch/>
        </p:blipFill>
        <p:spPr>
          <a:xfrm>
            <a:off x="1116000" y="1484280"/>
            <a:ext cx="3527280" cy="2160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31" name="Рисунок 5" descr="revell-maquette-avion-64014-model-set-alpha-jet-patrouille-de-france-1-14.jpg"/>
          <p:cNvPicPr/>
          <p:nvPr/>
        </p:nvPicPr>
        <p:blipFill>
          <a:blip r:embed="rId3"/>
          <a:stretch/>
        </p:blipFill>
        <p:spPr>
          <a:xfrm>
            <a:off x="1476360" y="4076640"/>
            <a:ext cx="6667560" cy="2548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32" name="Управляющая кнопка: назад 6"/>
          <p:cNvSpPr/>
          <p:nvPr/>
        </p:nvSpPr>
        <p:spPr>
          <a:xfrm>
            <a:off x="8388360" y="616572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9205" y="10800"/>
                </a:moveTo>
                <a:lnTo>
                  <a:pt x="23218" y="3794"/>
                </a:lnTo>
                <a:lnTo>
                  <a:pt x="2321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1368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3000"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чему для космических полетов применяются только реактивные летательные аппараты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во назначение ракет – носителей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е строение имеет ракета – носитель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в принцип действия ракеты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Втора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3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3564000" y="5229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01080" y="5732640"/>
            <a:ext cx="431640" cy="4330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080"/>
              <a:gd name="textAreaBottom" fmla="*/ 405360 h 43308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  <a:path fill="darken" w="21600" h="21672">
                <a:moveTo>
                  <a:pt x="3794" y="3830"/>
                </a:moveTo>
                <a:lnTo>
                  <a:pt x="17806" y="10836"/>
                </a:lnTo>
                <a:lnTo>
                  <a:pt x="3794" y="17842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539640" y="1351080"/>
            <a:ext cx="4896000" cy="17906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74000"/>
          </a:bodyPr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о старта ракеты сумма импульсов ракеты и газа равна нулю: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m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р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р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m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г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ffffff"/>
                </a:solidFill>
                <a:latin typeface="Calibri"/>
                <a:ea typeface="Calibri"/>
              </a:rPr>
              <a:t>г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= 0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Строение и скорость ракеты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39" name="Picture 4" descr="img7"/>
          <p:cNvPicPr/>
          <p:nvPr/>
        </p:nvPicPr>
        <p:blipFill>
          <a:blip r:embed="rId1"/>
          <a:stretch/>
        </p:blipFill>
        <p:spPr>
          <a:xfrm>
            <a:off x="5651640" y="1557360"/>
            <a:ext cx="3200400" cy="51055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cxnSp>
        <p:nvCxnSpPr>
          <p:cNvPr id="440" name="Прямая со стрелкой 5"/>
          <p:cNvCxnSpPr/>
          <p:nvPr/>
        </p:nvCxnSpPr>
        <p:spPr>
          <a:xfrm flipV="1">
            <a:off x="8027640" y="1412640"/>
            <a:ext cx="1080" cy="721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41" name="Прямая со стрелкой 9"/>
          <p:cNvCxnSpPr/>
          <p:nvPr/>
        </p:nvCxnSpPr>
        <p:spPr>
          <a:xfrm>
            <a:off x="8027640" y="5589360"/>
            <a:ext cx="1080" cy="7196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2" name="Прямоугольник 6"/>
          <p:cNvSpPr/>
          <p:nvPr/>
        </p:nvSpPr>
        <p:spPr>
          <a:xfrm>
            <a:off x="1835280" y="6858000"/>
            <a:ext cx="1706400" cy="1494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3" name="Прямая со стрелкой 10"/>
          <p:cNvCxnSpPr/>
          <p:nvPr/>
        </p:nvCxnSpPr>
        <p:spPr>
          <a:xfrm flipV="1">
            <a:off x="5866920" y="1844280"/>
            <a:ext cx="1080" cy="4393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44" name="TextBox 16"/>
          <p:cNvSpPr/>
          <p:nvPr/>
        </p:nvSpPr>
        <p:spPr>
          <a:xfrm>
            <a:off x="587088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17"/>
          <p:cNvSpPr/>
          <p:nvPr/>
        </p:nvSpPr>
        <p:spPr>
          <a:xfrm>
            <a:off x="7248240" y="155736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c00000"/>
                </a:solidFill>
                <a:latin typeface="Calibri"/>
                <a:ea typeface="Calibri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6" name="Прямая со стрелкой 19"/>
          <p:cNvCxnSpPr/>
          <p:nvPr/>
        </p:nvCxnSpPr>
        <p:spPr>
          <a:xfrm>
            <a:off x="7308360" y="1628280"/>
            <a:ext cx="2883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7" name="Прямоугольник 22"/>
          <p:cNvSpPr/>
          <p:nvPr/>
        </p:nvSpPr>
        <p:spPr>
          <a:xfrm>
            <a:off x="7390800" y="5950080"/>
            <a:ext cx="55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V</a:t>
            </a:r>
            <a:r>
              <a:rPr b="1" i="1" lang="ru-RU" sz="2800" spc="-1" strike="noStrike" baseline="-25000">
                <a:solidFill>
                  <a:srgbClr val="c00000"/>
                </a:solidFill>
                <a:latin typeface="Calibri"/>
                <a:ea typeface="Calibri"/>
              </a:rPr>
              <a:t>г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8" name="Прямая со стрелкой 24"/>
          <p:cNvCxnSpPr/>
          <p:nvPr/>
        </p:nvCxnSpPr>
        <p:spPr>
          <a:xfrm>
            <a:off x="7451280" y="5949720"/>
            <a:ext cx="361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49" name="TextBox 14"/>
          <p:cNvSpPr/>
          <p:nvPr/>
        </p:nvSpPr>
        <p:spPr>
          <a:xfrm>
            <a:off x="684360" y="2924280"/>
            <a:ext cx="453528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старта ракеты импульс системы должен сохраниться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Отсюда находим скорость рак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5"/>
          <p:cNvSpPr/>
          <p:nvPr/>
        </p:nvSpPr>
        <p:spPr>
          <a:xfrm>
            <a:off x="1752120" y="5661000"/>
            <a:ext cx="239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г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г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3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17"/>
          <p:cNvSpPr/>
          <p:nvPr/>
        </p:nvSpPr>
        <p:spPr>
          <a:xfrm>
            <a:off x="1476360" y="5516640"/>
            <a:ext cx="2951280" cy="115236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Управляющая кнопка: назад 18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Рисунок 5" descr="MM900288906[1].gif"/>
          <p:cNvPicPr/>
          <p:nvPr/>
        </p:nvPicPr>
        <p:blipFill>
          <a:blip r:embed="rId2"/>
          <a:stretch/>
        </p:blipFill>
        <p:spPr>
          <a:xfrm rot="5400000">
            <a:off x="3671640" y="3031920"/>
            <a:ext cx="6985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818676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1000"/>
          </a:bodyPr>
          <a:p>
            <a:pPr marL="1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В чем заключается преимущество многоступенчатых ракет перед одноступенчатыми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ак осуществляется посадка космического корабля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то выдвинул идею использования ракет для космических полетов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ем эта идея была развита и реализована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1656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Что бы было, если бы не было реактивного движения?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Треть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5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5219640" y="285264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Управляющая кнопка: далее 7"/>
          <p:cNvSpPr/>
          <p:nvPr/>
        </p:nvSpPr>
        <p:spPr>
          <a:xfrm>
            <a:off x="6012000" y="472428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3839"/>
                </a:moveTo>
                <a:lnTo>
                  <a:pt x="17806" y="10845"/>
                </a:lnTo>
                <a:lnTo>
                  <a:pt x="3794" y="17851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далее 8"/>
          <p:cNvSpPr/>
          <p:nvPr/>
        </p:nvSpPr>
        <p:spPr>
          <a:xfrm>
            <a:off x="8748720" y="5300640"/>
            <a:ext cx="395280" cy="432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2000"/>
              <a:gd name="textAreaBottom" fmla="*/ 406440 h 43200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4796"/>
                </a:moveTo>
                <a:lnTo>
                  <a:pt x="17806" y="11802"/>
                </a:lnTo>
                <a:lnTo>
                  <a:pt x="3794" y="18809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Управляющая кнопка: далее 10"/>
          <p:cNvSpPr/>
          <p:nvPr/>
        </p:nvSpPr>
        <p:spPr>
          <a:xfrm>
            <a:off x="579600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3803"/>
                </a:moveTo>
                <a:lnTo>
                  <a:pt x="17806" y="10809"/>
                </a:lnTo>
                <a:lnTo>
                  <a:pt x="3794" y="17815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06320" y="1267920"/>
            <a:ext cx="4081680" cy="25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звивают большие скорост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54000"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дназначены для дальних полетов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Многоступенчатые ракеты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62" name="Picture 5" descr="19"/>
          <p:cNvPicPr/>
          <p:nvPr/>
        </p:nvPicPr>
        <p:blipFill>
          <a:blip r:embed="rId1"/>
          <a:stretch/>
        </p:blipFill>
        <p:spPr>
          <a:xfrm>
            <a:off x="5003640" y="1628640"/>
            <a:ext cx="3888000" cy="496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63" name="TextBox 4"/>
          <p:cNvSpPr/>
          <p:nvPr/>
        </p:nvSpPr>
        <p:spPr>
          <a:xfrm>
            <a:off x="395280" y="36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4" descr="180px-Proton-K-Zarya"/>
          <p:cNvPicPr/>
          <p:nvPr/>
        </p:nvPicPr>
        <p:blipFill>
          <a:blip r:embed="rId2"/>
          <a:stretch/>
        </p:blipFill>
        <p:spPr>
          <a:xfrm>
            <a:off x="826920" y="2997360"/>
            <a:ext cx="2808360" cy="3860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95280" y="1351080"/>
            <a:ext cx="42480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Из истории развития космонавти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68" name="Прямоугольник 3"/>
          <p:cNvSpPr/>
          <p:nvPr/>
        </p:nvSpPr>
        <p:spPr>
          <a:xfrm>
            <a:off x="3132000" y="1413000"/>
            <a:ext cx="5688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волюционер-народоволец Н.И.Кибальчич ( 1853 – 1881) разработал в 1881 году, находясь в тюрьме, проект реактивного летательного аппар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Рисунок 4" descr="a8a11e3bedbbf2402c12.jpg"/>
          <p:cNvPicPr/>
          <p:nvPr/>
        </p:nvPicPr>
        <p:blipFill>
          <a:blip r:embed="rId1"/>
          <a:stretch/>
        </p:blipFill>
        <p:spPr>
          <a:xfrm>
            <a:off x="395280" y="1341360"/>
            <a:ext cx="2521080" cy="2808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70" name="Рисунок 3" descr="38246737_Cialkovskyi.jpg"/>
          <p:cNvPicPr/>
          <p:nvPr/>
        </p:nvPicPr>
        <p:blipFill>
          <a:blip r:embed="rId2"/>
          <a:stretch/>
        </p:blipFill>
        <p:spPr>
          <a:xfrm>
            <a:off x="6084720" y="3573360"/>
            <a:ext cx="2808360" cy="31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71" name="TextBox 6"/>
          <p:cNvSpPr/>
          <p:nvPr/>
        </p:nvSpPr>
        <p:spPr>
          <a:xfrm>
            <a:off x="468360" y="443700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я использования ракет для космических полетов была предложена в начале 20 в. учителем физики из г. Калуга К.Э.Циолковским (1857 – 193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Управляющая кнопка: назад 8"/>
          <p:cNvSpPr/>
          <p:nvPr/>
        </p:nvSpPr>
        <p:spPr>
          <a:xfrm>
            <a:off x="550872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10800"/>
                </a:moveTo>
                <a:lnTo>
                  <a:pt x="20437" y="3794"/>
                </a:lnTo>
                <a:lnTo>
                  <a:pt x="20437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4008600" cy="15112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дея К.Э Циолковского была осуществлена советскими учеными под руководством С.П.Королева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b0f0"/>
                </a:solidFill>
                <a:latin typeface="Trebuchet MS"/>
              </a:rPr>
              <a:t>Из истории развития космонавтики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75" name="Рисунок 3" descr="0007-010-My-s-blagodarnostju-dolzhny-pomnit-imena-ljudej-Otkryvshikh-novuju-sferu.jpg"/>
          <p:cNvPicPr/>
          <p:nvPr/>
        </p:nvPicPr>
        <p:blipFill>
          <a:blip r:embed="rId1"/>
          <a:stretch/>
        </p:blipFill>
        <p:spPr>
          <a:xfrm>
            <a:off x="4788000" y="3141720"/>
            <a:ext cx="4105080" cy="31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76" name="Рисунок 4" descr="image03_big.jpg"/>
          <p:cNvPicPr/>
          <p:nvPr/>
        </p:nvPicPr>
        <p:blipFill>
          <a:blip r:embed="rId2"/>
          <a:stretch/>
        </p:blipFill>
        <p:spPr>
          <a:xfrm>
            <a:off x="5651640" y="1341360"/>
            <a:ext cx="2665440" cy="172728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826920" y="2781360"/>
            <a:ext cx="36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 с помощью ракеты был запущен в СССР 4 октября 1957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755640" y="427212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м человеком, который совершил полет в космос, был Ю.А.Гагарин. 12 апреля 1961 г. он облетел земной шар на корабле – спутнике «Восто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4902840" y="63817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 и С. П. Корол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rebuchet MS"/>
              </a:rPr>
              <a:t>М.К.Янгель (1911-1971)</a:t>
            </a:r>
            <a:endParaRPr b="0" lang="en-US" sz="32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82" name="Содержимое 3" descr="61164600.jpg"/>
          <p:cNvPicPr/>
          <p:nvPr/>
        </p:nvPicPr>
        <p:blipFill>
          <a:blip r:embed="rId1"/>
          <a:stretch/>
        </p:blipFill>
        <p:spPr>
          <a:xfrm>
            <a:off x="4427640" y="1341360"/>
            <a:ext cx="4048200" cy="2727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3" name="Рисунок 4" descr="20841.jpg"/>
          <p:cNvPicPr/>
          <p:nvPr/>
        </p:nvPicPr>
        <p:blipFill>
          <a:blip r:embed="rId2"/>
          <a:stretch/>
        </p:blipFill>
        <p:spPr>
          <a:xfrm>
            <a:off x="900000" y="404640"/>
            <a:ext cx="2667240" cy="3472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84" name="TextBox 4"/>
          <p:cNvSpPr/>
          <p:nvPr/>
        </p:nvSpPr>
        <p:spPr>
          <a:xfrm>
            <a:off x="395280" y="422100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.К.Янгель - наш земляк, проживавший до 15 – летнего возраста в д.Зырянова Нижне-Илимского района Иркутской област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н – соратник С.П.Королева - генерального конструктора ракетнокосмических систем. Наша страна обязана ему созданием ракетоносителя «Космос». Его именем названы улицы в Москве и Железногорске – Илимском, пик на Памире, кратер на видимой стороне Лу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980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33000"/>
          </a:bodyPr>
          <a:p>
            <a:pPr marL="17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чему воздушный шарик движется противоположно струе выходящего из него воздуха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ое движение называют реактивным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риведите примеры реактивного движения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>
              <a:spcBef>
                <a:spcPts val="700"/>
              </a:spcBef>
              <a:buClr>
                <a:srgbClr val="eeece1"/>
              </a:buClr>
              <a:buSzPct val="95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Как движется кальмар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17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Первая остановка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7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4067280" y="414972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далее 5">
            <a:hlinkClick r:id="rId1" action="ppaction://hlinksldjump"/>
          </p:cNvPr>
          <p:cNvSpPr/>
          <p:nvPr/>
        </p:nvSpPr>
        <p:spPr>
          <a:xfrm>
            <a:off x="3851280" y="5157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3794"/>
                </a:moveTo>
                <a:lnTo>
                  <a:pt x="17842" y="10800"/>
                </a:lnTo>
                <a:lnTo>
                  <a:pt x="382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алее 6">
            <a:hlinkClick r:id="rId2" action="ppaction://hlinksldjump"/>
          </p:cNvPr>
          <p:cNvSpPr/>
          <p:nvPr/>
        </p:nvSpPr>
        <p:spPr>
          <a:xfrm>
            <a:off x="6227640" y="580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Король ракетостроения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87" name="Содержимое 6" descr="808222a382ae1dfad01f0396b57.jpg"/>
          <p:cNvPicPr/>
          <p:nvPr/>
        </p:nvPicPr>
        <p:blipFill>
          <a:blip r:embed="rId1"/>
          <a:stretch/>
        </p:blipFill>
        <p:spPr>
          <a:xfrm>
            <a:off x="539640" y="1341360"/>
            <a:ext cx="3456000" cy="45975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8" name="Рисунок 5" descr="Rn_kosmos.jpg"/>
          <p:cNvPicPr/>
          <p:nvPr/>
        </p:nvPicPr>
        <p:blipFill>
          <a:blip r:embed="rId2"/>
          <a:stretch/>
        </p:blipFill>
        <p:spPr>
          <a:xfrm>
            <a:off x="4140360" y="1341360"/>
            <a:ext cx="1439640" cy="460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89" name="Рисунок 5" descr="Pamyatnik-MK-Yangelyu.jpg"/>
          <p:cNvPicPr/>
          <p:nvPr/>
        </p:nvPicPr>
        <p:blipFill>
          <a:blip r:embed="rId3"/>
          <a:stretch/>
        </p:blipFill>
        <p:spPr>
          <a:xfrm>
            <a:off x="5796000" y="1341360"/>
            <a:ext cx="3097080" cy="460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90" name="Управляющая кнопка: назад 6"/>
          <p:cNvSpPr/>
          <p:nvPr/>
        </p:nvSpPr>
        <p:spPr>
          <a:xfrm>
            <a:off x="8317080" y="6426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4" h="21600">
                <a:moveTo>
                  <a:pt x="13676" y="10800"/>
                </a:moveTo>
                <a:lnTo>
                  <a:pt x="27688" y="3794"/>
                </a:lnTo>
                <a:lnTo>
                  <a:pt x="27688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1267920" y="616572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К.Янг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акеты покоряют космос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94" name="Содержимое 4" descr="1286628611_20-raketa-nositel-yenergiya.jpg"/>
          <p:cNvPicPr/>
          <p:nvPr/>
        </p:nvPicPr>
        <p:blipFill>
          <a:blip r:embed="rId1"/>
          <a:stretch/>
        </p:blipFill>
        <p:spPr>
          <a:xfrm>
            <a:off x="324000" y="1268280"/>
            <a:ext cx="3162240" cy="48974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95" name="Рисунок 6" descr="Rn_kosmos.jpg"/>
          <p:cNvPicPr/>
          <p:nvPr/>
        </p:nvPicPr>
        <p:blipFill>
          <a:blip r:embed="rId2"/>
          <a:stretch/>
        </p:blipFill>
        <p:spPr>
          <a:xfrm>
            <a:off x="6443640" y="1341360"/>
            <a:ext cx="2525760" cy="48974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96" name="TextBox 7"/>
          <p:cNvSpPr/>
          <p:nvPr/>
        </p:nvSpPr>
        <p:spPr>
          <a:xfrm>
            <a:off x="3492360" y="1484280"/>
            <a:ext cx="295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тличие от других транспортных средств ракета может двигаться , не взаимодействуя ни с какими другими телами, кроме продуктов сгорания содержащегося в ней самой топл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ракеты используются для запуска ИСЗ и космических кораблей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Написать синквейн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498" name="Прямая соединительная линия 4"/>
          <p:cNvSpPr/>
          <p:nvPr/>
        </p:nvSpPr>
        <p:spPr>
          <a:xfrm>
            <a:off x="5003640" y="1341360"/>
            <a:ext cx="0" cy="1584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7"/>
          <p:cNvSpPr/>
          <p:nvPr/>
        </p:nvSpPr>
        <p:spPr>
          <a:xfrm>
            <a:off x="1988280" y="148428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638100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9"/>
          <p:cNvSpPr/>
          <p:nvPr/>
        </p:nvSpPr>
        <p:spPr>
          <a:xfrm>
            <a:off x="900000" y="2421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: «Раке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0"/>
          <p:cNvSpPr/>
          <p:nvPr/>
        </p:nvSpPr>
        <p:spPr>
          <a:xfrm>
            <a:off x="5508720" y="2060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: «Реактивное движ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3059280" y="2997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напис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9"/>
          <p:cNvSpPr/>
          <p:nvPr/>
        </p:nvSpPr>
        <p:spPr>
          <a:xfrm>
            <a:off x="3348000" y="3500280"/>
            <a:ext cx="3527640" cy="64944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(сущетвитель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оугольник 11"/>
          <p:cNvSpPr/>
          <p:nvPr/>
        </p:nvSpPr>
        <p:spPr>
          <a:xfrm>
            <a:off x="5508720" y="4221000"/>
            <a:ext cx="2376360" cy="50328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изн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прилагатель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оугольник 12"/>
          <p:cNvSpPr/>
          <p:nvPr/>
        </p:nvSpPr>
        <p:spPr>
          <a:xfrm>
            <a:off x="2484360" y="4869000"/>
            <a:ext cx="136692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13"/>
          <p:cNvSpPr/>
          <p:nvPr/>
        </p:nvSpPr>
        <p:spPr>
          <a:xfrm>
            <a:off x="4356000" y="4869000"/>
            <a:ext cx="144000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14"/>
          <p:cNvSpPr/>
          <p:nvPr/>
        </p:nvSpPr>
        <p:spPr>
          <a:xfrm>
            <a:off x="2340000" y="4221000"/>
            <a:ext cx="2448000" cy="50328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изн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прилагательно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16"/>
          <p:cNvSpPr/>
          <p:nvPr/>
        </p:nvSpPr>
        <p:spPr>
          <a:xfrm>
            <a:off x="6372360" y="4869000"/>
            <a:ext cx="1368360" cy="57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(глаго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17"/>
          <p:cNvSpPr/>
          <p:nvPr/>
        </p:nvSpPr>
        <p:spPr>
          <a:xfrm>
            <a:off x="900000" y="5661000"/>
            <a:ext cx="7775640" cy="43200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едложение – характеристика темы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18"/>
          <p:cNvSpPr/>
          <p:nvPr/>
        </p:nvSpPr>
        <p:spPr>
          <a:xfrm>
            <a:off x="3635280" y="6237360"/>
            <a:ext cx="2665440" cy="431640"/>
          </a:xfrm>
          <a:prstGeom prst="rect">
            <a:avLst/>
          </a:prstGeom>
          <a:solidFill>
            <a:srgbClr val="4f81bd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лово -  резю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7" descr=""/>
          <p:cNvPicPr/>
          <p:nvPr/>
        </p:nvPicPr>
        <p:blipFill>
          <a:blip r:embed="rId1"/>
          <a:stretch/>
        </p:blipFill>
        <p:spPr>
          <a:xfrm>
            <a:off x="-401760" y="-343080"/>
            <a:ext cx="9947520" cy="7544160"/>
          </a:xfrm>
          <a:prstGeom prst="rect">
            <a:avLst/>
          </a:prstGeom>
          <a:ln w="0">
            <a:noFill/>
          </a:ln>
        </p:spPr>
      </p:pic>
      <p:sp>
        <p:nvSpPr>
          <p:cNvPr id="513" name="TextBox 2"/>
          <p:cNvSpPr/>
          <p:nvPr/>
        </p:nvSpPr>
        <p:spPr>
          <a:xfrm>
            <a:off x="324000" y="2205000"/>
            <a:ext cx="64087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Прямоугольник 3" descr=""/>
          <p:cNvPicPr/>
          <p:nvPr/>
        </p:nvPicPr>
        <p:blipFill>
          <a:blip r:embed="rId2"/>
          <a:stretch/>
        </p:blipFill>
        <p:spPr>
          <a:xfrm>
            <a:off x="298440" y="1920960"/>
            <a:ext cx="7827840" cy="197460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4" descr="MM900288906[1].gif"/>
          <p:cNvPicPr/>
          <p:nvPr/>
        </p:nvPicPr>
        <p:blipFill>
          <a:blip r:embed="rId3"/>
          <a:stretch/>
        </p:blipFill>
        <p:spPr>
          <a:xfrm>
            <a:off x="6335640" y="0"/>
            <a:ext cx="3205080" cy="2133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I:\космонавтика\47_a7.gif"/>
          <p:cNvPicPr/>
          <p:nvPr/>
        </p:nvPicPr>
        <p:blipFill>
          <a:blip r:embed="rId4"/>
          <a:stretch/>
        </p:blipFill>
        <p:spPr>
          <a:xfrm>
            <a:off x="611280" y="3786120"/>
            <a:ext cx="2143080" cy="30718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6"/>
          <p:cNvSpPr/>
          <p:nvPr/>
        </p:nvSpPr>
        <p:spPr>
          <a:xfrm>
            <a:off x="4859280" y="4653000"/>
            <a:ext cx="46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§ 22, Упр. 21 №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ELPHRG01.wav" descr=""/>
          <p:cNvPicPr/>
          <p:nvPr/>
        </p:nvPicPr>
        <p:blipFill>
          <a:blip r:embed="rId5"/>
          <a:stretch/>
        </p:blipFill>
        <p:spPr>
          <a:xfrm>
            <a:off x="457200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j0214098.wav" descr=""/>
          <p:cNvPicPr/>
          <p:nvPr/>
        </p:nvPicPr>
        <p:blipFill>
          <a:blip r:embed="rId6"/>
          <a:stretch/>
        </p:blipFill>
        <p:spPr>
          <a:xfrm>
            <a:off x="1187280" y="2492280"/>
            <a:ext cx="513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992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745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1"/>
          <a:stretch/>
        </p:blipFill>
        <p:spPr>
          <a:xfrm>
            <a:off x="-401760" y="-343080"/>
            <a:ext cx="9947520" cy="75441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2"/>
          <p:cNvSpPr/>
          <p:nvPr/>
        </p:nvSpPr>
        <p:spPr>
          <a:xfrm>
            <a:off x="250920" y="692280"/>
            <a:ext cx="868032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Творческо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готовить презентации по тема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в приро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в техн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активное движение на защите Отеч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 развития космонавт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К.Янг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06320" y="1699920"/>
            <a:ext cx="7826400" cy="28083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Движение, возникающее при отделении от тела с какой-либо скоростью некоторой его части, называется </a:t>
            </a: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реактивным движением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79" name="Picture 5" descr="BA39A8CB"/>
          <p:cNvPicPr/>
          <p:nvPr/>
        </p:nvPicPr>
        <p:blipFill>
          <a:blip r:embed="rId1"/>
          <a:stretch/>
        </p:blipFill>
        <p:spPr>
          <a:xfrm>
            <a:off x="900000" y="4797360"/>
            <a:ext cx="7488360" cy="1440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380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3851280" y="6426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360" y="5013000"/>
            <a:ext cx="4751280" cy="5763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1000"/>
          </a:bodyPr>
          <a:p>
            <a:pPr marL="32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гнерово колесо – это первая гидравлическая турбина, основанная на реактивном действии вытекающей воды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Сегнерово колесо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468360" y="393372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бретено немецко - венгерским физиком Иоганном Зегнером в 175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Documents and Settings\Slushatel-4-1\Мои документы\KozlovaEA\12д.gif"/>
          <p:cNvPicPr/>
          <p:nvPr/>
        </p:nvPicPr>
        <p:blipFill>
          <a:blip r:embed="rId1"/>
          <a:stretch/>
        </p:blipFill>
        <p:spPr>
          <a:xfrm>
            <a:off x="5292720" y="1413000"/>
            <a:ext cx="3382920" cy="3887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85" name="Рисунок 5" descr="file_1090.jpg"/>
          <p:cNvPicPr/>
          <p:nvPr/>
        </p:nvPicPr>
        <p:blipFill>
          <a:blip r:embed="rId2"/>
          <a:stretch/>
        </p:blipFill>
        <p:spPr>
          <a:xfrm>
            <a:off x="539640" y="260280"/>
            <a:ext cx="3384720" cy="3529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386" name="Рисунок 6" descr="DOC000297231.jpg"/>
          <p:cNvPicPr/>
          <p:nvPr/>
        </p:nvPicPr>
        <p:blipFill>
          <a:blip r:embed="rId3"/>
          <a:stretch/>
        </p:blipFill>
        <p:spPr>
          <a:xfrm>
            <a:off x="6012000" y="5508720"/>
            <a:ext cx="2232000" cy="1160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прир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89" name="Содержимое 3" descr="0012-011-Dvizhenie-meduzy-reaktivnoe.jpg"/>
          <p:cNvPicPr/>
          <p:nvPr/>
        </p:nvPicPr>
        <p:blipFill>
          <a:blip r:embed="rId1"/>
          <a:stretch/>
        </p:blipFill>
        <p:spPr>
          <a:xfrm>
            <a:off x="1187280" y="1341360"/>
            <a:ext cx="2951280" cy="28083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25b01d847c99.jpg"/>
          <p:cNvPicPr/>
          <p:nvPr/>
        </p:nvPicPr>
        <p:blipFill>
          <a:blip r:embed="rId2"/>
          <a:stretch/>
        </p:blipFill>
        <p:spPr>
          <a:xfrm>
            <a:off x="4932360" y="1341360"/>
            <a:ext cx="3887640" cy="3189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33a485276b6f.jpg"/>
          <p:cNvPicPr/>
          <p:nvPr/>
        </p:nvPicPr>
        <p:blipFill>
          <a:blip r:embed="rId3"/>
          <a:stretch/>
        </p:blipFill>
        <p:spPr>
          <a:xfrm>
            <a:off x="1187280" y="4292640"/>
            <a:ext cx="2953080" cy="23763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6" descr="f689248b1cbc.jpg"/>
          <p:cNvPicPr/>
          <p:nvPr/>
        </p:nvPicPr>
        <p:blipFill>
          <a:blip r:embed="rId4"/>
          <a:stretch/>
        </p:blipFill>
        <p:spPr>
          <a:xfrm>
            <a:off x="5364000" y="4581360"/>
            <a:ext cx="3335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природ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395" name="Содержимое 3" descr="3927603labgi0l1241660100.jpg"/>
          <p:cNvPicPr/>
          <p:nvPr/>
        </p:nvPicPr>
        <p:blipFill>
          <a:blip r:embed="rId1"/>
          <a:stretch/>
        </p:blipFill>
        <p:spPr>
          <a:xfrm>
            <a:off x="971640" y="134136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7932412zdg.jpg"/>
          <p:cNvPicPr/>
          <p:nvPr/>
        </p:nvPicPr>
        <p:blipFill>
          <a:blip r:embed="rId2"/>
          <a:stretch/>
        </p:blipFill>
        <p:spPr>
          <a:xfrm>
            <a:off x="4788000" y="1341360"/>
            <a:ext cx="3960720" cy="259236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824353083.png"/>
          <p:cNvPicPr/>
          <p:nvPr/>
        </p:nvPicPr>
        <p:blipFill>
          <a:blip r:embed="rId3"/>
          <a:stretch/>
        </p:blipFill>
        <p:spPr>
          <a:xfrm>
            <a:off x="539640" y="4149720"/>
            <a:ext cx="4608720" cy="24480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img3.jpg"/>
          <p:cNvPicPr/>
          <p:nvPr/>
        </p:nvPicPr>
        <p:blipFill>
          <a:blip r:embed="rId4"/>
          <a:stretch/>
        </p:blipFill>
        <p:spPr>
          <a:xfrm>
            <a:off x="5292720" y="4005360"/>
            <a:ext cx="3600360" cy="2663640"/>
          </a:xfrm>
          <a:prstGeom prst="rect">
            <a:avLst/>
          </a:prstGeom>
          <a:ln w="0">
            <a:noFill/>
          </a:ln>
        </p:spPr>
      </p:pic>
      <p:sp>
        <p:nvSpPr>
          <p:cNvPr id="399" name="Управляющая кнопка: далее 8"/>
          <p:cNvSpPr/>
          <p:nvPr/>
        </p:nvSpPr>
        <p:spPr>
          <a:xfrm>
            <a:off x="8424720" y="6237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1" h="21600">
                <a:moveTo>
                  <a:pt x="5509" y="3794"/>
                </a:moveTo>
                <a:lnTo>
                  <a:pt x="19522" y="10800"/>
                </a:lnTo>
                <a:lnTo>
                  <a:pt x="5509" y="17806"/>
                </a:lnTo>
                <a:close/>
              </a:path>
            </a:pathLst>
          </a:cu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rebuchet MS"/>
              </a:rPr>
              <a:t>Реактивное движение в растительном мире</a:t>
            </a:r>
            <a:endParaRPr b="0" lang="en-US" sz="2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02" name="Picture 4" descr="image001"/>
          <p:cNvPicPr/>
          <p:nvPr/>
        </p:nvPicPr>
        <p:blipFill>
          <a:blip r:embed="rId1"/>
          <a:stretch/>
        </p:blipFill>
        <p:spPr>
          <a:xfrm>
            <a:off x="5724360" y="1341360"/>
            <a:ext cx="3168720" cy="3456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3" name="Picture 4" descr="Бешеный огурец"/>
          <p:cNvPicPr/>
          <p:nvPr/>
        </p:nvPicPr>
        <p:blipFill>
          <a:blip r:embed="rId2"/>
          <a:stretch/>
        </p:blipFill>
        <p:spPr>
          <a:xfrm>
            <a:off x="900000" y="1413000"/>
            <a:ext cx="3240360" cy="49687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4" name="Picture 2" descr="http://class-fizika.narod.ru/9_class/19/2.jpg"/>
          <p:cNvPicPr/>
          <p:nvPr/>
        </p:nvPicPr>
        <p:blipFill>
          <a:blip r:embed="rId3"/>
          <a:stretch/>
        </p:blipFill>
        <p:spPr>
          <a:xfrm>
            <a:off x="4427640" y="3429000"/>
            <a:ext cx="2506680" cy="315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05" name="TextBox 6"/>
          <p:cNvSpPr/>
          <p:nvPr/>
        </p:nvSpPr>
        <p:spPr>
          <a:xfrm>
            <a:off x="7164360" y="551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шеный» огу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b0f0"/>
                </a:solidFill>
                <a:latin typeface="Trebuchet MS"/>
              </a:rPr>
              <a:t>Реактивное движение в технике</a:t>
            </a:r>
            <a:endParaRPr b="0" lang="en-US" sz="38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08" name="Содержимое 3" descr="5109_html_7c9a468d.png"/>
          <p:cNvPicPr/>
          <p:nvPr/>
        </p:nvPicPr>
        <p:blipFill>
          <a:blip r:embed="rId1"/>
          <a:stretch/>
        </p:blipFill>
        <p:spPr>
          <a:xfrm>
            <a:off x="971640" y="1341360"/>
            <a:ext cx="3527280" cy="2087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09" name="Рисунок 4" descr="1289571853_samolety_49.jpg"/>
          <p:cNvPicPr/>
          <p:nvPr/>
        </p:nvPicPr>
        <p:blipFill>
          <a:blip r:embed="rId2"/>
          <a:stretch/>
        </p:blipFill>
        <p:spPr>
          <a:xfrm>
            <a:off x="826920" y="3933720"/>
            <a:ext cx="3816360" cy="2664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0" name="Рисунок 5" descr="10fbbfdc9dbeb8805a99aba543c1bda6_full.jpg"/>
          <p:cNvPicPr/>
          <p:nvPr/>
        </p:nvPicPr>
        <p:blipFill>
          <a:blip r:embed="rId3"/>
          <a:stretch/>
        </p:blipFill>
        <p:spPr>
          <a:xfrm>
            <a:off x="5076720" y="1341360"/>
            <a:ext cx="3716280" cy="27147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1" name="Рисунок 6" descr="moonrider-flying%20motorcycle%20concept-fly-with-a%20jet-powered-%20engine-to-fly-1.jpg"/>
          <p:cNvPicPr/>
          <p:nvPr/>
        </p:nvPicPr>
        <p:blipFill>
          <a:blip r:embed="rId4"/>
          <a:stretch/>
        </p:blipFill>
        <p:spPr>
          <a:xfrm>
            <a:off x="5148360" y="4221000"/>
            <a:ext cx="3313080" cy="251964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05960" y="404280"/>
            <a:ext cx="815652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rebuchet MS"/>
              </a:rPr>
              <a:t>Реактивное движение на защите Отечества</a:t>
            </a:r>
            <a:endParaRPr b="0" lang="en-US" sz="3200" spc="-1" strike="noStrike">
              <a:solidFill>
                <a:srgbClr val="f4f1da"/>
              </a:solidFill>
              <a:latin typeface="Trebuchet MS"/>
            </a:endParaRPr>
          </a:p>
        </p:txBody>
      </p:sp>
      <p:pic>
        <p:nvPicPr>
          <p:cNvPr id="414" name="Содержимое 3" descr="grad_1.jpg"/>
          <p:cNvPicPr/>
          <p:nvPr/>
        </p:nvPicPr>
        <p:blipFill>
          <a:blip r:embed="rId1"/>
          <a:stretch/>
        </p:blipFill>
        <p:spPr>
          <a:xfrm>
            <a:off x="4788000" y="1341360"/>
            <a:ext cx="4105080" cy="2448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5" name="Рисунок 4" descr="katyusha24wz.jpg"/>
          <p:cNvPicPr/>
          <p:nvPr/>
        </p:nvPicPr>
        <p:blipFill>
          <a:blip r:embed="rId2"/>
          <a:stretch/>
        </p:blipFill>
        <p:spPr>
          <a:xfrm>
            <a:off x="539640" y="1341360"/>
            <a:ext cx="4133880" cy="2448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416" name="Рисунок 5" descr="urag.jpg"/>
          <p:cNvPicPr/>
          <p:nvPr/>
        </p:nvPicPr>
        <p:blipFill>
          <a:blip r:embed="rId3"/>
          <a:stretch/>
        </p:blipFill>
        <p:spPr>
          <a:xfrm>
            <a:off x="826920" y="4076640"/>
            <a:ext cx="7921800" cy="259236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8:31:47Z</dcterms:created>
  <dc:creator>www</dc:creator>
  <dc:description/>
  <dc:language>en-US</dc:language>
  <cp:lastModifiedBy>www</cp:lastModifiedBy>
  <dcterms:modified xsi:type="dcterms:W3CDTF">2014-01-29T11:18:49Z</dcterms:modified>
  <cp:revision>104</cp:revision>
  <dc:subject/>
  <dc:title>Слайд 1</dc:title>
</cp:coreProperties>
</file>