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gif" ContentType="image/gif"/>
  <Override PartName="/ppt/media/image11.jpeg" ContentType="image/jpeg"/>
  <Override PartName="/ppt/media/image3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019-ABE6-4CD7-A144-4EB71F9A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C5B-6F71-403D-92C4-371FA9F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1BC-5EB8-4275-BD88-E2D4D0B4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040-0C32-4EC8-B3CE-154E4C4E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56A3-5050-4587-831E-0D1A454A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0594-0DE2-4107-B9E2-F92F9A8B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E53-3AAA-49DF-A10F-2A17A16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3D95-12B8-4E23-AB5F-F7ADE38C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A26E-9F7F-4A29-A4D0-D8C69F4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0AA4-9223-4271-87C2-B469BCE4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016E-5A21-4198-95F4-4F73F39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87D-1303-4BA4-9A65-57AC14F9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4F8-1A08-4757-AA40-F6BE866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E75E-02BD-48D6-99EB-06897A4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E527-B664-427F-A78D-4613A4F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0D75-63DB-4B04-9251-BD6DE52A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E454-71F1-4954-A0BE-3D3B81CB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3A89-9F29-46B3-90D7-DDB6ADD3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7D62-30F6-422E-BA0F-9074044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63C3-905B-421D-A4C6-5F2C9094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E41A-F5B7-429A-A796-EADB64F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3680-39AC-4EE1-B447-08D9A86C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4A6-CBA0-4D5A-9A0A-D550442B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23F6-4463-458F-B475-E9E4BAAA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BF92-0C0A-472E-88F4-FCD821DD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EF98-7D42-408B-A7A9-8CD5A0B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A30D-E081-4866-860A-C083C91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DC20-844F-4A4C-BCDE-6AD9AF0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98A4-F25F-413E-8B51-0B37544E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163B-CA9B-4517-A1D7-6C868F00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0AF1-14FE-4EFE-8924-574218E2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E17D-E35D-477B-8096-B44D93A3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FC2C-9853-4E36-B377-6493DB5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254-6AAE-441F-806C-A79A7A2D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2633-6C52-41E3-8D25-EAAF9A1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8DE7-E85E-47F8-BF4D-B395AD5F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B485-9A24-40DD-929F-3EB2A7C0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2FD0-3608-4B35-8E18-5B70DB7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DC7D5-F118-452C-A2E8-F48B67A2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BDCF-7BC4-4E32-80EA-1D5C0FC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57C5-1C7F-4A5D-AF6B-0B39CA5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293B-010C-449B-ABA0-B75697C3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27D9-3FE5-4122-944B-42DE0397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9EFA-9A1D-4F69-8919-3CFA40BC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E3B-18B5-43B2-A3D7-90404CC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0FC0-EC65-4828-9A11-40C95C2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671E-FA0C-4CEC-B593-AA54BD8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5221-B260-4716-8F3C-27734E7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309D-C6B6-4F91-9E2A-153C4DEF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AC6F-B301-48A9-89E8-3B2973F7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9D3A-A5A1-4159-B960-017B5C7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D4FE-1FA4-4DB3-A7D7-0CCAB56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CE44-D26F-46AF-B1E9-0F97307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DCDE-43EF-4630-9105-5EB9F50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3C9A-325D-4685-9F97-8FE45552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713-C405-47D1-90EB-EF516F9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D567-6106-4AA9-B83A-86D80FF5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B295-87A4-482E-9127-C6FB402A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29A7-5900-4B19-8B6B-B1E35C9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1F28-E201-414C-ABFD-1A650DD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E7EC-8386-47F2-B227-368D20D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661D2-A376-4A0D-812F-B830ED6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68CB-EA33-4EC4-A1DC-E7EE2E8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8377-5AE0-4148-8902-4DD0A9B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0AC95-46CC-414A-834F-FC11416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8E4B-A19F-47A3-A2C1-C736D88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76C-E2DC-4345-9FAF-E0449F0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7C467-E6CD-4A43-A8EA-486C447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21ED-08CE-4717-8E2E-E6B97C4A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370B-0120-481D-B5E6-5126536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B509B-F956-41F6-84EC-3224EBE8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AE84-BEEA-4186-98F2-C09B8F5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1761-BE34-4D18-8133-6B5525F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94AB-8FF5-43F7-A75E-2A12F513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DC5D-612D-4808-A2C3-387F72F6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3228-F1D9-46CA-A1CC-E338534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F4DB9-7522-4915-A4BC-6E78C11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3A6-63D5-4E00-ABC9-E3052B2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6261-2D6E-46D5-AF0F-C8B3458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03BE-0069-492B-9498-EE82E31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672B4-2BE2-4AB9-A5F9-4A9B721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3DF8-4028-4712-9CA7-AFF1A1E7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7030-6325-499E-B8AA-1BB84389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BFB-2C38-43E4-8633-B6BAF69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E0B3-185B-4D97-A6E5-2FF41867FD71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428-88FB-4D21-8FC9-D519AA528123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CA7-B130-4746-8C5B-70BE4FFD6A6D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21D-A301-4A4B-9767-DBCE6561D6B8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EED-C8C8-4632-96DE-EB21120D308A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2BC-5D66-4E35-8CAA-B247BBAEF1C2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94640" y="1217520"/>
              <a:ext cx="50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72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94640" y="1282320"/>
              <a:ext cx="50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46920" y="1370160"/>
              <a:ext cx="51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723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46920" y="1434960"/>
              <a:ext cx="51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99520" y="1473120"/>
              <a:ext cx="50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72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99520" y="1537920"/>
              <a:ext cx="50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681-76ED-47E4-8D63-CA999D35FE41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9.png"/><Relationship Id="rId3" Type="http://schemas.openxmlformats.org/officeDocument/2006/relationships/image" Target="../media/image3.gif"/><Relationship Id="rId4" Type="http://schemas.openxmlformats.org/officeDocument/2006/relationships/image" Target="../media/image50.gif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-396720" y="0"/>
            <a:ext cx="9947160" cy="7543800"/>
          </a:xfrm>
          <a:prstGeom prst="rect">
            <a:avLst/>
          </a:prstGeom>
          <a:ln w="0">
            <a:noFill/>
          </a:ln>
        </p:spPr>
      </p:pic>
      <p:pic>
        <p:nvPicPr>
          <p:cNvPr id="369" name="TextBox 3" descr=""/>
          <p:cNvPicPr/>
          <p:nvPr/>
        </p:nvPicPr>
        <p:blipFill>
          <a:blip r:embed="rId2"/>
          <a:stretch/>
        </p:blipFill>
        <p:spPr>
          <a:xfrm>
            <a:off x="-274680" y="5048280"/>
            <a:ext cx="10333080" cy="19494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5580000" y="314172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втор Манейло С.Б., учитель физики МБОУ Заларинская СОШ №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Рисунок 5" descr="MM900288906[1].gif"/>
          <p:cNvPicPr/>
          <p:nvPr/>
        </p:nvPicPr>
        <p:blipFill>
          <a:blip r:embed="rId3"/>
          <a:stretch/>
        </p:blipFill>
        <p:spPr>
          <a:xfrm rot="5400000">
            <a:off x="82800" y="1508400"/>
            <a:ext cx="48495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rebuchet MS"/>
              </a:rPr>
              <a:t>Реактивное движение на транспорте</a:t>
            </a:r>
            <a:endParaRPr b="0" lang="en-US" sz="36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19" name="Рисунок 4" descr="information_items_51043.jpg"/>
          <p:cNvPicPr/>
          <p:nvPr/>
        </p:nvPicPr>
        <p:blipFill>
          <a:blip r:embed="rId1"/>
          <a:stretch/>
        </p:blipFill>
        <p:spPr>
          <a:xfrm>
            <a:off x="1476360" y="4076640"/>
            <a:ext cx="6824520" cy="2637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0" name="Рисунок 5" descr="poezd_05.jpg"/>
          <p:cNvPicPr/>
          <p:nvPr/>
        </p:nvPicPr>
        <p:blipFill>
          <a:blip r:embed="rId2"/>
          <a:stretch/>
        </p:blipFill>
        <p:spPr>
          <a:xfrm>
            <a:off x="611280" y="1341360"/>
            <a:ext cx="3816360" cy="2590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1" name="Рисунок 6" descr="b3dhc2lhLnJ1L2ZpbGVhZG1pbi9maWxlcy9BbGJ1bXMvSXJrdXRza0F2aWF6YXZvZC9SZWFrdGl2bnlpLXNhbW9sam90LWFtZmliaWphLUJFLTIwMC5qcGc_X19pZD0xMzcwOA==.jpg"/>
          <p:cNvPicPr/>
          <p:nvPr/>
        </p:nvPicPr>
        <p:blipFill>
          <a:blip r:embed="rId3"/>
          <a:stretch/>
        </p:blipFill>
        <p:spPr>
          <a:xfrm>
            <a:off x="4643280" y="1341360"/>
            <a:ext cx="4249800" cy="2592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705960" y="333000"/>
            <a:ext cx="8156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на в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24" name="Содержимое 3" descr="audi-trimaran-yacht-concept-3.jpg"/>
          <p:cNvPicPr/>
          <p:nvPr/>
        </p:nvPicPr>
        <p:blipFill>
          <a:blip r:embed="rId1"/>
          <a:stretch/>
        </p:blipFill>
        <p:spPr>
          <a:xfrm>
            <a:off x="755640" y="1413000"/>
            <a:ext cx="3600360" cy="2519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5" name="Рисунок 4" descr="g89_b.jpg"/>
          <p:cNvPicPr/>
          <p:nvPr/>
        </p:nvPicPr>
        <p:blipFill>
          <a:blip r:embed="rId2"/>
          <a:stretch/>
        </p:blipFill>
        <p:spPr>
          <a:xfrm>
            <a:off x="4643280" y="1413000"/>
            <a:ext cx="4104000" cy="2519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6" name="Рисунок 5" descr="prod-6365-4aee094c3c30f.jpg"/>
          <p:cNvPicPr/>
          <p:nvPr/>
        </p:nvPicPr>
        <p:blipFill>
          <a:blip r:embed="rId3"/>
          <a:stretch/>
        </p:blipFill>
        <p:spPr>
          <a:xfrm>
            <a:off x="971640" y="4076640"/>
            <a:ext cx="7619760" cy="2548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ые игруш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29" name="Содержимое 3" descr="957_2902.jpeg"/>
          <p:cNvPicPr/>
          <p:nvPr/>
        </p:nvPicPr>
        <p:blipFill>
          <a:blip r:embed="rId1"/>
          <a:stretch/>
        </p:blipFill>
        <p:spPr>
          <a:xfrm>
            <a:off x="5148360" y="1484280"/>
            <a:ext cx="3529080" cy="2160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30" name="Рисунок 4" descr="LC54049.jpg"/>
          <p:cNvPicPr/>
          <p:nvPr/>
        </p:nvPicPr>
        <p:blipFill>
          <a:blip r:embed="rId2"/>
          <a:stretch/>
        </p:blipFill>
        <p:spPr>
          <a:xfrm>
            <a:off x="1116000" y="1484280"/>
            <a:ext cx="3527280" cy="2160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31" name="Рисунок 5" descr="revell-maquette-avion-64014-model-set-alpha-jet-patrouille-de-france-1-14.jpg"/>
          <p:cNvPicPr/>
          <p:nvPr/>
        </p:nvPicPr>
        <p:blipFill>
          <a:blip r:embed="rId3"/>
          <a:stretch/>
        </p:blipFill>
        <p:spPr>
          <a:xfrm>
            <a:off x="1476360" y="4076640"/>
            <a:ext cx="6667560" cy="2548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32" name="Управляющая кнопка: назад 6"/>
          <p:cNvSpPr/>
          <p:nvPr/>
        </p:nvSpPr>
        <p:spPr>
          <a:xfrm>
            <a:off x="8388360" y="616572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10800"/>
                </a:moveTo>
                <a:lnTo>
                  <a:pt x="23218" y="3794"/>
                </a:lnTo>
                <a:lnTo>
                  <a:pt x="2321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3000"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чему для космических полетов применяются только реактивные летательные аппараты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во назначение ракет – носителей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е строение имеет ракета – носитель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в принцип действия ракеты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Втора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3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3564000" y="5229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01080" y="5732640"/>
            <a:ext cx="431640" cy="433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080"/>
              <a:gd name="textAreaBottom" fmla="*/ 405360 h 43308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3830"/>
                </a:moveTo>
                <a:lnTo>
                  <a:pt x="17806" y="10836"/>
                </a:lnTo>
                <a:lnTo>
                  <a:pt x="3794" y="17842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539640" y="1351080"/>
            <a:ext cx="4896000" cy="17906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74000"/>
          </a:bodyPr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о старта ракеты сумма импульсов ракеты и газа равна нулю: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m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р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р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m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г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г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= 0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Строение и скорость ракеты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39" name="Picture 4" descr="img7"/>
          <p:cNvPicPr/>
          <p:nvPr/>
        </p:nvPicPr>
        <p:blipFill>
          <a:blip r:embed="rId1"/>
          <a:stretch/>
        </p:blipFill>
        <p:spPr>
          <a:xfrm>
            <a:off x="5651640" y="1557360"/>
            <a:ext cx="3200400" cy="51055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cxnSp>
        <p:nvCxnSpPr>
          <p:cNvPr id="440" name="Прямая со стрелкой 5"/>
          <p:cNvCxnSpPr/>
          <p:nvPr/>
        </p:nvCxnSpPr>
        <p:spPr>
          <a:xfrm flipV="1">
            <a:off x="8027640" y="1412640"/>
            <a:ext cx="1080" cy="721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41" name="Прямая со стрелкой 9"/>
          <p:cNvCxnSpPr/>
          <p:nvPr/>
        </p:nvCxnSpPr>
        <p:spPr>
          <a:xfrm>
            <a:off x="8027640" y="5589360"/>
            <a:ext cx="1080" cy="7196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2" name="Прямоугольник 6"/>
          <p:cNvSpPr/>
          <p:nvPr/>
        </p:nvSpPr>
        <p:spPr>
          <a:xfrm>
            <a:off x="1835280" y="6858000"/>
            <a:ext cx="1706400" cy="149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Прямая со стрелкой 10"/>
          <p:cNvCxnSpPr/>
          <p:nvPr/>
        </p:nvCxnSpPr>
        <p:spPr>
          <a:xfrm flipV="1">
            <a:off x="5866920" y="1844280"/>
            <a:ext cx="1080" cy="4393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44" name="TextBox 16"/>
          <p:cNvSpPr/>
          <p:nvPr/>
        </p:nvSpPr>
        <p:spPr>
          <a:xfrm>
            <a:off x="587088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17"/>
          <p:cNvSpPr/>
          <p:nvPr/>
        </p:nvSpPr>
        <p:spPr>
          <a:xfrm>
            <a:off x="7248240" y="155736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c00000"/>
                </a:solidFill>
                <a:latin typeface="Calibri"/>
                <a:ea typeface="Calibri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6" name="Прямая со стрелкой 19"/>
          <p:cNvCxnSpPr/>
          <p:nvPr/>
        </p:nvCxnSpPr>
        <p:spPr>
          <a:xfrm>
            <a:off x="7308360" y="1628280"/>
            <a:ext cx="2883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7" name="Прямоугольник 22"/>
          <p:cNvSpPr/>
          <p:nvPr/>
        </p:nvSpPr>
        <p:spPr>
          <a:xfrm>
            <a:off x="7390800" y="5950080"/>
            <a:ext cx="55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c00000"/>
                </a:solidFill>
                <a:latin typeface="Calibri"/>
                <a:ea typeface="Calibri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8" name="Прямая со стрелкой 24"/>
          <p:cNvCxnSpPr/>
          <p:nvPr/>
        </p:nvCxnSpPr>
        <p:spPr>
          <a:xfrm>
            <a:off x="7451280" y="5949720"/>
            <a:ext cx="361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9" name="TextBox 14"/>
          <p:cNvSpPr/>
          <p:nvPr/>
        </p:nvSpPr>
        <p:spPr>
          <a:xfrm>
            <a:off x="684360" y="2924280"/>
            <a:ext cx="4535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старта ракеты импульс системы должен сохраниться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Отсюда находим скорость рак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5"/>
          <p:cNvSpPr/>
          <p:nvPr/>
        </p:nvSpPr>
        <p:spPr>
          <a:xfrm>
            <a:off x="1752120" y="5661000"/>
            <a:ext cx="239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г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17"/>
          <p:cNvSpPr/>
          <p:nvPr/>
        </p:nvSpPr>
        <p:spPr>
          <a:xfrm>
            <a:off x="1476360" y="5516640"/>
            <a:ext cx="2951280" cy="115236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Управляющая кнопка: назад 18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Рисунок 5" descr="MM900288906[1].gif"/>
          <p:cNvPicPr/>
          <p:nvPr/>
        </p:nvPicPr>
        <p:blipFill>
          <a:blip r:embed="rId2"/>
          <a:stretch/>
        </p:blipFill>
        <p:spPr>
          <a:xfrm rot="5400000">
            <a:off x="3671640" y="3031920"/>
            <a:ext cx="6985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818676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1000"/>
          </a:bodyPr>
          <a:p>
            <a:pPr marL="1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В чем заключается преимущество многоступенчатых ракет перед одноступенчатыми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ак осуществляется посадка космического корабля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то выдвинул идею использования ракет для космических полетов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ем эта идея была развита и реализована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Что бы было, если бы не было реактивного движения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Треть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5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5219640" y="2852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Управляющая кнопка: далее 7"/>
          <p:cNvSpPr/>
          <p:nvPr/>
        </p:nvSpPr>
        <p:spPr>
          <a:xfrm>
            <a:off x="6012000" y="472428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3839"/>
                </a:moveTo>
                <a:lnTo>
                  <a:pt x="17806" y="10845"/>
                </a:lnTo>
                <a:lnTo>
                  <a:pt x="3794" y="17851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далее 8"/>
          <p:cNvSpPr/>
          <p:nvPr/>
        </p:nvSpPr>
        <p:spPr>
          <a:xfrm>
            <a:off x="8748720" y="5300640"/>
            <a:ext cx="395280" cy="432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2000"/>
              <a:gd name="textAreaBottom" fmla="*/ 406440 h 43200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4796"/>
                </a:moveTo>
                <a:lnTo>
                  <a:pt x="17806" y="11802"/>
                </a:lnTo>
                <a:lnTo>
                  <a:pt x="3794" y="1880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Управляющая кнопка: далее 10"/>
          <p:cNvSpPr/>
          <p:nvPr/>
        </p:nvSpPr>
        <p:spPr>
          <a:xfrm>
            <a:off x="5796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06320" y="1267920"/>
            <a:ext cx="4081680" cy="25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звивают большие скорост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4000"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дназначены для дальних полетов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Многоступенчатые ракеты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62" name="Picture 5" descr="19"/>
          <p:cNvPicPr/>
          <p:nvPr/>
        </p:nvPicPr>
        <p:blipFill>
          <a:blip r:embed="rId1"/>
          <a:stretch/>
        </p:blipFill>
        <p:spPr>
          <a:xfrm>
            <a:off x="5003640" y="1628640"/>
            <a:ext cx="3888000" cy="496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63" name="TextBox 4"/>
          <p:cNvSpPr/>
          <p:nvPr/>
        </p:nvSpPr>
        <p:spPr>
          <a:xfrm>
            <a:off x="395280" y="36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4" descr="180px-Proton-K-Zarya"/>
          <p:cNvPicPr/>
          <p:nvPr/>
        </p:nvPicPr>
        <p:blipFill>
          <a:blip r:embed="rId2"/>
          <a:stretch/>
        </p:blipFill>
        <p:spPr>
          <a:xfrm>
            <a:off x="826920" y="2997360"/>
            <a:ext cx="2808360" cy="3860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95280" y="1351080"/>
            <a:ext cx="4248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Из истории развития космонавти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68" name="Прямоугольник 3"/>
          <p:cNvSpPr/>
          <p:nvPr/>
        </p:nvSpPr>
        <p:spPr>
          <a:xfrm>
            <a:off x="3132000" y="1413000"/>
            <a:ext cx="5688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волюционер-народоволец Н.И.Кибальчич ( 1853 – 1881) разработал в 1881 году, находясь в тюрьме, проект реактивного летательного аппар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Рисунок 4" descr="a8a11e3bedbbf2402c12.jpg"/>
          <p:cNvPicPr/>
          <p:nvPr/>
        </p:nvPicPr>
        <p:blipFill>
          <a:blip r:embed="rId1"/>
          <a:stretch/>
        </p:blipFill>
        <p:spPr>
          <a:xfrm>
            <a:off x="395280" y="1341360"/>
            <a:ext cx="2521080" cy="2808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70" name="Рисунок 3" descr="38246737_Cialkovskyi.jpg"/>
          <p:cNvPicPr/>
          <p:nvPr/>
        </p:nvPicPr>
        <p:blipFill>
          <a:blip r:embed="rId2"/>
          <a:stretch/>
        </p:blipFill>
        <p:spPr>
          <a:xfrm>
            <a:off x="6084720" y="3573360"/>
            <a:ext cx="2808360" cy="31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71" name="TextBox 6"/>
          <p:cNvSpPr/>
          <p:nvPr/>
        </p:nvSpPr>
        <p:spPr>
          <a:xfrm>
            <a:off x="468360" y="443700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я использования ракет для космических полетов была предложена в начале 20 в. учителем физики из г. Калуга К.Э.Циолковским (1857 – 193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Управляющая кнопка: назад 8"/>
          <p:cNvSpPr/>
          <p:nvPr/>
        </p:nvSpPr>
        <p:spPr>
          <a:xfrm>
            <a:off x="550872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10800"/>
                </a:moveTo>
                <a:lnTo>
                  <a:pt x="20437" y="3794"/>
                </a:lnTo>
                <a:lnTo>
                  <a:pt x="2043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4008600" cy="15112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дея К.Э Циолковского была осуществлена советскими учеными под руководством С.П.Королева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Из истории развития космонавти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75" name="Рисунок 3" descr="0007-010-My-s-blagodarnostju-dolzhny-pomnit-imena-ljudej-Otkryvshikh-novuju-sferu.jpg"/>
          <p:cNvPicPr/>
          <p:nvPr/>
        </p:nvPicPr>
        <p:blipFill>
          <a:blip r:embed="rId1"/>
          <a:stretch/>
        </p:blipFill>
        <p:spPr>
          <a:xfrm>
            <a:off x="4788000" y="3141720"/>
            <a:ext cx="4105080" cy="31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76" name="Рисунок 4" descr="image03_big.jpg"/>
          <p:cNvPicPr/>
          <p:nvPr/>
        </p:nvPicPr>
        <p:blipFill>
          <a:blip r:embed="rId2"/>
          <a:stretch/>
        </p:blipFill>
        <p:spPr>
          <a:xfrm>
            <a:off x="5651640" y="1341360"/>
            <a:ext cx="2665440" cy="172728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826920" y="2781360"/>
            <a:ext cx="36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 с помощью ракеты был запущен в СССР 4 октября 195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755640" y="427212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м человеком, который совершил полет в космос, был Ю.А.Гагарин. 12 апреля 1961 г. он облетел земной шар на корабле – спутнике «Восто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4902840" y="63817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 и С. П. Корол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rebuchet MS"/>
              </a:rPr>
              <a:t>М.К.Янгель (1911-1971)</a:t>
            </a:r>
            <a:endParaRPr b="0" lang="en-US" sz="32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82" name="Содержимое 3" descr="61164600.jpg"/>
          <p:cNvPicPr/>
          <p:nvPr/>
        </p:nvPicPr>
        <p:blipFill>
          <a:blip r:embed="rId1"/>
          <a:stretch/>
        </p:blipFill>
        <p:spPr>
          <a:xfrm>
            <a:off x="4427640" y="1341360"/>
            <a:ext cx="4048200" cy="2727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3" name="Рисунок 4" descr="20841.jpg"/>
          <p:cNvPicPr/>
          <p:nvPr/>
        </p:nvPicPr>
        <p:blipFill>
          <a:blip r:embed="rId2"/>
          <a:stretch/>
        </p:blipFill>
        <p:spPr>
          <a:xfrm>
            <a:off x="900000" y="404640"/>
            <a:ext cx="2667240" cy="3472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84" name="TextBox 4"/>
          <p:cNvSpPr/>
          <p:nvPr/>
        </p:nvSpPr>
        <p:spPr>
          <a:xfrm>
            <a:off x="395280" y="422100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.К.Янгель - наш земляк, проживавший до 15 – летнего возраста в д.Зырянова Нижне-Илимского района Иркутской област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н – соратник С.П.Королева - генерального конструктора ракетнокосмических систем. Наша страна обязана ему созданием ракетоносителя «Космос». Его именем названы улицы в Москве и Железногорске – Илимском, пик на Памире, кратер на видимой стороне Лу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980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3000"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чему воздушный шарик движется противоположно струе выходящего из него воздуха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е движение называют реактивным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риведите примеры реактивного движения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 движется кальмар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Перва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7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4067280" y="414972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далее 5">
            <a:hlinkClick r:id="rId1" action="ppaction://hlinksldjump"/>
          </p:cNvPr>
          <p:cNvSpPr/>
          <p:nvPr/>
        </p:nvSpPr>
        <p:spPr>
          <a:xfrm>
            <a:off x="3851280" y="5157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3794"/>
                </a:moveTo>
                <a:lnTo>
                  <a:pt x="17842" y="10800"/>
                </a:lnTo>
                <a:lnTo>
                  <a:pt x="382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алее 6">
            <a:hlinkClick r:id="rId2" action="ppaction://hlinksldjump"/>
          </p:cNvPr>
          <p:cNvSpPr/>
          <p:nvPr/>
        </p:nvSpPr>
        <p:spPr>
          <a:xfrm>
            <a:off x="6227640" y="580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Король ракетостроения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87" name="Содержимое 6" descr="808222a382ae1dfad01f0396b57.jpg"/>
          <p:cNvPicPr/>
          <p:nvPr/>
        </p:nvPicPr>
        <p:blipFill>
          <a:blip r:embed="rId1"/>
          <a:stretch/>
        </p:blipFill>
        <p:spPr>
          <a:xfrm>
            <a:off x="539640" y="1341360"/>
            <a:ext cx="3456000" cy="45975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8" name="Рисунок 5" descr="Rn_kosmos.jpg"/>
          <p:cNvPicPr/>
          <p:nvPr/>
        </p:nvPicPr>
        <p:blipFill>
          <a:blip r:embed="rId2"/>
          <a:stretch/>
        </p:blipFill>
        <p:spPr>
          <a:xfrm>
            <a:off x="4140360" y="1341360"/>
            <a:ext cx="1439640" cy="460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9" name="Рисунок 5" descr="Pamyatnik-MK-Yangelyu.jpg"/>
          <p:cNvPicPr/>
          <p:nvPr/>
        </p:nvPicPr>
        <p:blipFill>
          <a:blip r:embed="rId3"/>
          <a:stretch/>
        </p:blipFill>
        <p:spPr>
          <a:xfrm>
            <a:off x="5796000" y="1341360"/>
            <a:ext cx="3097080" cy="460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90" name="Управляющая кнопка: назад 6"/>
          <p:cNvSpPr/>
          <p:nvPr/>
        </p:nvSpPr>
        <p:spPr>
          <a:xfrm>
            <a:off x="8317080" y="6426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4" h="21600">
                <a:moveTo>
                  <a:pt x="13676" y="10800"/>
                </a:moveTo>
                <a:lnTo>
                  <a:pt x="27688" y="3794"/>
                </a:lnTo>
                <a:lnTo>
                  <a:pt x="2768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1267920" y="6165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К.Янг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акеты покоряют космос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94" name="Содержимое 4" descr="1286628611_20-raketa-nositel-yenergiya.jpg"/>
          <p:cNvPicPr/>
          <p:nvPr/>
        </p:nvPicPr>
        <p:blipFill>
          <a:blip r:embed="rId1"/>
          <a:stretch/>
        </p:blipFill>
        <p:spPr>
          <a:xfrm>
            <a:off x="324000" y="1268280"/>
            <a:ext cx="3162240" cy="48974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95" name="Рисунок 6" descr="Rn_kosmos.jpg"/>
          <p:cNvPicPr/>
          <p:nvPr/>
        </p:nvPicPr>
        <p:blipFill>
          <a:blip r:embed="rId2"/>
          <a:stretch/>
        </p:blipFill>
        <p:spPr>
          <a:xfrm>
            <a:off x="6443640" y="1341360"/>
            <a:ext cx="2525760" cy="48974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96" name="TextBox 7"/>
          <p:cNvSpPr/>
          <p:nvPr/>
        </p:nvSpPr>
        <p:spPr>
          <a:xfrm>
            <a:off x="3492360" y="1484280"/>
            <a:ext cx="295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тличие от других транспортных средств ракета может двигаться , не взаимодействуя ни с какими другими телами, кроме продуктов сгорания содержащегося в ней самой топ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ракеты используются для запуска ИСЗ и космических кораб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Написать синквейн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98" name="Прямая соединительная линия 4"/>
          <p:cNvSpPr/>
          <p:nvPr/>
        </p:nvSpPr>
        <p:spPr>
          <a:xfrm>
            <a:off x="5003640" y="1341360"/>
            <a:ext cx="0" cy="1584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7"/>
          <p:cNvSpPr/>
          <p:nvPr/>
        </p:nvSpPr>
        <p:spPr>
          <a:xfrm>
            <a:off x="1988280" y="148428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638100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9"/>
          <p:cNvSpPr/>
          <p:nvPr/>
        </p:nvSpPr>
        <p:spPr>
          <a:xfrm>
            <a:off x="900000" y="2421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: «Рак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0"/>
          <p:cNvSpPr/>
          <p:nvPr/>
        </p:nvSpPr>
        <p:spPr>
          <a:xfrm>
            <a:off x="5508720" y="2060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: «Реактивное движ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3059280" y="2997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напис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3348000" y="3500280"/>
            <a:ext cx="3527640" cy="64944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(сущетвитель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11"/>
          <p:cNvSpPr/>
          <p:nvPr/>
        </p:nvSpPr>
        <p:spPr>
          <a:xfrm>
            <a:off x="5508720" y="4221000"/>
            <a:ext cx="2376360" cy="50328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изн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прилагатель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12"/>
          <p:cNvSpPr/>
          <p:nvPr/>
        </p:nvSpPr>
        <p:spPr>
          <a:xfrm>
            <a:off x="2484360" y="4869000"/>
            <a:ext cx="136692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4356000" y="4869000"/>
            <a:ext cx="144000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14"/>
          <p:cNvSpPr/>
          <p:nvPr/>
        </p:nvSpPr>
        <p:spPr>
          <a:xfrm>
            <a:off x="2340000" y="4221000"/>
            <a:ext cx="2448000" cy="50328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изн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прилагатель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16"/>
          <p:cNvSpPr/>
          <p:nvPr/>
        </p:nvSpPr>
        <p:spPr>
          <a:xfrm>
            <a:off x="6372360" y="4869000"/>
            <a:ext cx="136836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17"/>
          <p:cNvSpPr/>
          <p:nvPr/>
        </p:nvSpPr>
        <p:spPr>
          <a:xfrm>
            <a:off x="900000" y="5661000"/>
            <a:ext cx="7775640" cy="43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едложение – характеристика темы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18"/>
          <p:cNvSpPr/>
          <p:nvPr/>
        </p:nvSpPr>
        <p:spPr>
          <a:xfrm>
            <a:off x="3635280" y="6237360"/>
            <a:ext cx="2665440" cy="43164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лово -  резю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"/>
          <p:cNvPicPr/>
          <p:nvPr/>
        </p:nvPicPr>
        <p:blipFill>
          <a:blip r:embed="rId1"/>
          <a:stretch/>
        </p:blipFill>
        <p:spPr>
          <a:xfrm>
            <a:off x="-401760" y="-343080"/>
            <a:ext cx="9947520" cy="7544160"/>
          </a:xfrm>
          <a:prstGeom prst="rect">
            <a:avLst/>
          </a:prstGeom>
          <a:ln w="0">
            <a:noFill/>
          </a:ln>
        </p:spPr>
      </p:pic>
      <p:sp>
        <p:nvSpPr>
          <p:cNvPr id="513" name="TextBox 2"/>
          <p:cNvSpPr/>
          <p:nvPr/>
        </p:nvSpPr>
        <p:spPr>
          <a:xfrm>
            <a:off x="324000" y="2205000"/>
            <a:ext cx="6408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Прямоугольник 3" descr=""/>
          <p:cNvPicPr/>
          <p:nvPr/>
        </p:nvPicPr>
        <p:blipFill>
          <a:blip r:embed="rId2"/>
          <a:stretch/>
        </p:blipFill>
        <p:spPr>
          <a:xfrm>
            <a:off x="298440" y="1920960"/>
            <a:ext cx="7827840" cy="197460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4" descr="MM900288906[1].gif"/>
          <p:cNvPicPr/>
          <p:nvPr/>
        </p:nvPicPr>
        <p:blipFill>
          <a:blip r:embed="rId3"/>
          <a:stretch/>
        </p:blipFill>
        <p:spPr>
          <a:xfrm>
            <a:off x="6335640" y="0"/>
            <a:ext cx="3205080" cy="213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I:\космонавтика\47_a7.gif"/>
          <p:cNvPicPr/>
          <p:nvPr/>
        </p:nvPicPr>
        <p:blipFill>
          <a:blip r:embed="rId4"/>
          <a:stretch/>
        </p:blipFill>
        <p:spPr>
          <a:xfrm>
            <a:off x="611280" y="3786120"/>
            <a:ext cx="2143080" cy="30718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6"/>
          <p:cNvSpPr/>
          <p:nvPr/>
        </p:nvSpPr>
        <p:spPr>
          <a:xfrm>
            <a:off x="4859280" y="4653000"/>
            <a:ext cx="46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 22, Упр. 21 №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ELPHRG01.wav" descr=""/>
          <p:cNvPicPr/>
          <p:nvPr/>
        </p:nvPicPr>
        <p:blipFill>
          <a:blip r:embed="rId5"/>
          <a:stretch/>
        </p:blipFill>
        <p:spPr>
          <a:xfrm>
            <a:off x="457200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j0214098.wav" descr=""/>
          <p:cNvPicPr/>
          <p:nvPr/>
        </p:nvPicPr>
        <p:blipFill>
          <a:blip r:embed="rId6"/>
          <a:stretch/>
        </p:blipFill>
        <p:spPr>
          <a:xfrm>
            <a:off x="1187280" y="2492280"/>
            <a:ext cx="513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992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745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1"/>
          <a:stretch/>
        </p:blipFill>
        <p:spPr>
          <a:xfrm>
            <a:off x="-401760" y="-343080"/>
            <a:ext cx="9947520" cy="75441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250920" y="692280"/>
            <a:ext cx="868032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Творческо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готовить презентации по тема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в приро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в техн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на защите Отеч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 развития космонавт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К.Янг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06320" y="1699920"/>
            <a:ext cx="7826400" cy="28083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Движение, возникающее при отделении от тела с какой-либо скоростью некоторой его части, называется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еактивным движением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79" name="Picture 5" descr="BA39A8CB"/>
          <p:cNvPicPr/>
          <p:nvPr/>
        </p:nvPicPr>
        <p:blipFill>
          <a:blip r:embed="rId1"/>
          <a:stretch/>
        </p:blipFill>
        <p:spPr>
          <a:xfrm>
            <a:off x="900000" y="4797360"/>
            <a:ext cx="7488360" cy="1440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38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51280" y="6426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360" y="5013000"/>
            <a:ext cx="4751280" cy="5763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1000"/>
          </a:bodyPr>
          <a:p>
            <a:pPr marL="3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гнерово колесо – это первая гидравлическая турбина, основанная на реактивном действии вытекающей воды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Сегнерово колесо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468360" y="393372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бретено немецко - венгерским физиком Иоганном Зегнером в 175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Documents and Settings\Slushatel-4-1\Мои документы\KozlovaEA\12д.gif"/>
          <p:cNvPicPr/>
          <p:nvPr/>
        </p:nvPicPr>
        <p:blipFill>
          <a:blip r:embed="rId1"/>
          <a:stretch/>
        </p:blipFill>
        <p:spPr>
          <a:xfrm>
            <a:off x="5292720" y="1413000"/>
            <a:ext cx="3382920" cy="3887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85" name="Рисунок 5" descr="file_1090.jpg"/>
          <p:cNvPicPr/>
          <p:nvPr/>
        </p:nvPicPr>
        <p:blipFill>
          <a:blip r:embed="rId2"/>
          <a:stretch/>
        </p:blipFill>
        <p:spPr>
          <a:xfrm>
            <a:off x="539640" y="260280"/>
            <a:ext cx="3384720" cy="352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86" name="Рисунок 6" descr="DOC000297231.jpg"/>
          <p:cNvPicPr/>
          <p:nvPr/>
        </p:nvPicPr>
        <p:blipFill>
          <a:blip r:embed="rId3"/>
          <a:stretch/>
        </p:blipFill>
        <p:spPr>
          <a:xfrm>
            <a:off x="6012000" y="5508720"/>
            <a:ext cx="2232000" cy="1160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прир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89" name="Содержимое 3" descr="0012-011-Dvizhenie-meduzy-reaktivnoe.jpg"/>
          <p:cNvPicPr/>
          <p:nvPr/>
        </p:nvPicPr>
        <p:blipFill>
          <a:blip r:embed="rId1"/>
          <a:stretch/>
        </p:blipFill>
        <p:spPr>
          <a:xfrm>
            <a:off x="1187280" y="1341360"/>
            <a:ext cx="2951280" cy="28083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25b01d847c99.jpg"/>
          <p:cNvPicPr/>
          <p:nvPr/>
        </p:nvPicPr>
        <p:blipFill>
          <a:blip r:embed="rId2"/>
          <a:stretch/>
        </p:blipFill>
        <p:spPr>
          <a:xfrm>
            <a:off x="4932360" y="1341360"/>
            <a:ext cx="3887640" cy="3189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33a485276b6f.jpg"/>
          <p:cNvPicPr/>
          <p:nvPr/>
        </p:nvPicPr>
        <p:blipFill>
          <a:blip r:embed="rId3"/>
          <a:stretch/>
        </p:blipFill>
        <p:spPr>
          <a:xfrm>
            <a:off x="1187280" y="4292640"/>
            <a:ext cx="2953080" cy="23763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6" descr="f689248b1cbc.jpg"/>
          <p:cNvPicPr/>
          <p:nvPr/>
        </p:nvPicPr>
        <p:blipFill>
          <a:blip r:embed="rId4"/>
          <a:stretch/>
        </p:blipFill>
        <p:spPr>
          <a:xfrm>
            <a:off x="5364000" y="4581360"/>
            <a:ext cx="3335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прир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95" name="Содержимое 3" descr="3927603labgi0l1241660100.jpg"/>
          <p:cNvPicPr/>
          <p:nvPr/>
        </p:nvPicPr>
        <p:blipFill>
          <a:blip r:embed="rId1"/>
          <a:stretch/>
        </p:blipFill>
        <p:spPr>
          <a:xfrm>
            <a:off x="971640" y="134136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7932412zdg.jpg"/>
          <p:cNvPicPr/>
          <p:nvPr/>
        </p:nvPicPr>
        <p:blipFill>
          <a:blip r:embed="rId2"/>
          <a:stretch/>
        </p:blipFill>
        <p:spPr>
          <a:xfrm>
            <a:off x="4788000" y="1341360"/>
            <a:ext cx="3960720" cy="25923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824353083.png"/>
          <p:cNvPicPr/>
          <p:nvPr/>
        </p:nvPicPr>
        <p:blipFill>
          <a:blip r:embed="rId3"/>
          <a:stretch/>
        </p:blipFill>
        <p:spPr>
          <a:xfrm>
            <a:off x="539640" y="4149720"/>
            <a:ext cx="4608720" cy="24480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img3.jpg"/>
          <p:cNvPicPr/>
          <p:nvPr/>
        </p:nvPicPr>
        <p:blipFill>
          <a:blip r:embed="rId4"/>
          <a:stretch/>
        </p:blipFill>
        <p:spPr>
          <a:xfrm>
            <a:off x="5292720" y="4005360"/>
            <a:ext cx="3600360" cy="2663640"/>
          </a:xfrm>
          <a:prstGeom prst="rect">
            <a:avLst/>
          </a:prstGeom>
          <a:ln w="0">
            <a:noFill/>
          </a:ln>
        </p:spPr>
      </p:pic>
      <p:sp>
        <p:nvSpPr>
          <p:cNvPr id="399" name="Управляющая кнопка: далее 8"/>
          <p:cNvSpPr/>
          <p:nvPr/>
        </p:nvSpPr>
        <p:spPr>
          <a:xfrm>
            <a:off x="842472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3794"/>
                </a:moveTo>
                <a:lnTo>
                  <a:pt x="19522" y="10800"/>
                </a:lnTo>
                <a:lnTo>
                  <a:pt x="550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rebuchet MS"/>
              </a:rPr>
              <a:t>Реактивное движение в растительном мире</a:t>
            </a:r>
            <a:endParaRPr b="0" lang="en-US" sz="2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02" name="Picture 4" descr="image001"/>
          <p:cNvPicPr/>
          <p:nvPr/>
        </p:nvPicPr>
        <p:blipFill>
          <a:blip r:embed="rId1"/>
          <a:stretch/>
        </p:blipFill>
        <p:spPr>
          <a:xfrm>
            <a:off x="5724360" y="1341360"/>
            <a:ext cx="3168720" cy="3456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3" name="Picture 4" descr="Бешеный огурец"/>
          <p:cNvPicPr/>
          <p:nvPr/>
        </p:nvPicPr>
        <p:blipFill>
          <a:blip r:embed="rId2"/>
          <a:stretch/>
        </p:blipFill>
        <p:spPr>
          <a:xfrm>
            <a:off x="900000" y="1413000"/>
            <a:ext cx="3240360" cy="49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4" name="Picture 2" descr="http://class-fizika.narod.ru/9_class/19/2.jpg"/>
          <p:cNvPicPr/>
          <p:nvPr/>
        </p:nvPicPr>
        <p:blipFill>
          <a:blip r:embed="rId3"/>
          <a:stretch/>
        </p:blipFill>
        <p:spPr>
          <a:xfrm>
            <a:off x="4427640" y="3429000"/>
            <a:ext cx="2506680" cy="315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05" name="TextBox 6"/>
          <p:cNvSpPr/>
          <p:nvPr/>
        </p:nvSpPr>
        <p:spPr>
          <a:xfrm>
            <a:off x="7164360" y="551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шеный» огу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техник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08" name="Содержимое 3" descr="5109_html_7c9a468d.png"/>
          <p:cNvPicPr/>
          <p:nvPr/>
        </p:nvPicPr>
        <p:blipFill>
          <a:blip r:embed="rId1"/>
          <a:stretch/>
        </p:blipFill>
        <p:spPr>
          <a:xfrm>
            <a:off x="971640" y="1341360"/>
            <a:ext cx="3527280" cy="2087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9" name="Рисунок 4" descr="1289571853_samolety_49.jpg"/>
          <p:cNvPicPr/>
          <p:nvPr/>
        </p:nvPicPr>
        <p:blipFill>
          <a:blip r:embed="rId2"/>
          <a:stretch/>
        </p:blipFill>
        <p:spPr>
          <a:xfrm>
            <a:off x="826920" y="3933720"/>
            <a:ext cx="3816360" cy="2664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0" name="Рисунок 5" descr="10fbbfdc9dbeb8805a99aba543c1bda6_full.jpg"/>
          <p:cNvPicPr/>
          <p:nvPr/>
        </p:nvPicPr>
        <p:blipFill>
          <a:blip r:embed="rId3"/>
          <a:stretch/>
        </p:blipFill>
        <p:spPr>
          <a:xfrm>
            <a:off x="5076720" y="1341360"/>
            <a:ext cx="3716280" cy="27147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1" name="Рисунок 6" descr="moonrider-flying%20motorcycle%20concept-fly-with-a%20jet-powered-%20engine-to-fly-1.jpg"/>
          <p:cNvPicPr/>
          <p:nvPr/>
        </p:nvPicPr>
        <p:blipFill>
          <a:blip r:embed="rId4"/>
          <a:stretch/>
        </p:blipFill>
        <p:spPr>
          <a:xfrm>
            <a:off x="5148360" y="4221000"/>
            <a:ext cx="3313080" cy="2519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05960" y="404280"/>
            <a:ext cx="81565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rebuchet MS"/>
              </a:rPr>
              <a:t>Реактивное движение на защите Отечества</a:t>
            </a:r>
            <a:endParaRPr b="0" lang="en-US" sz="32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14" name="Содержимое 3" descr="grad_1.jpg"/>
          <p:cNvPicPr/>
          <p:nvPr/>
        </p:nvPicPr>
        <p:blipFill>
          <a:blip r:embed="rId1"/>
          <a:stretch/>
        </p:blipFill>
        <p:spPr>
          <a:xfrm>
            <a:off x="4788000" y="1341360"/>
            <a:ext cx="4105080" cy="2448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5" name="Рисунок 4" descr="katyusha24wz.jpg"/>
          <p:cNvPicPr/>
          <p:nvPr/>
        </p:nvPicPr>
        <p:blipFill>
          <a:blip r:embed="rId2"/>
          <a:stretch/>
        </p:blipFill>
        <p:spPr>
          <a:xfrm>
            <a:off x="539640" y="1341360"/>
            <a:ext cx="4133880" cy="2448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6" name="Рисунок 5" descr="urag.jpg"/>
          <p:cNvPicPr/>
          <p:nvPr/>
        </p:nvPicPr>
        <p:blipFill>
          <a:blip r:embed="rId3"/>
          <a:stretch/>
        </p:blipFill>
        <p:spPr>
          <a:xfrm>
            <a:off x="826920" y="4076640"/>
            <a:ext cx="7921800" cy="2592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1:47Z</dcterms:created>
  <dc:creator>www</dc:creator>
  <dc:description/>
  <dc:language>en-US</dc:language>
  <cp:lastModifiedBy>www</cp:lastModifiedBy>
  <dcterms:modified xsi:type="dcterms:W3CDTF">2014-01-29T11:18:49Z</dcterms:modified>
  <cp:revision>104</cp:revision>
  <dc:subject/>
  <dc:title>Слайд 1</dc:title>
</cp:coreProperties>
</file>