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7BCB-84F4-4562-8434-7285C84F6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6AE4-FE25-475D-AB1A-EDEDC320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4AAC-6880-43CB-9C8D-56C233A8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74F5-EC7A-422D-8E58-D503411C1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9A0F-BA79-4864-896A-C731AAC6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5D3A-71BA-477F-AB91-C60080BF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85F5-A719-4A0F-AA8A-A1A11933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94FB-FAA5-4D61-917A-A1E1E66E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266E-0EF1-4F1A-9EED-6A407E92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B931-C371-4219-BA70-D4EA1C66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6403-2139-4DDA-9332-890BB981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96CE-68F4-4261-BF70-C195B8B6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9285-19C2-442A-814E-5E4E55EA40C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24" descr=""/>
          <p:cNvPicPr/>
          <p:nvPr/>
        </p:nvPicPr>
        <p:blipFill>
          <a:blip r:embed="rId1"/>
          <a:stretch/>
        </p:blipFill>
        <p:spPr>
          <a:xfrm>
            <a:off x="-12600" y="865080"/>
            <a:ext cx="9253440" cy="2853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6643800" y="55720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214720" y="3929040"/>
            <a:ext cx="66434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итель русского языка  МКС(К)ОУ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узедеевская специальна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коррекционная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школа – интерна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II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ида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сина Ольга Павловна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Diagram 7"/>
          <p:cNvGrpSpPr/>
          <p:nvPr/>
        </p:nvGrpSpPr>
        <p:grpSpPr>
          <a:xfrm>
            <a:off x="2044800" y="388800"/>
            <a:ext cx="4981320" cy="4500720"/>
            <a:chOff x="2044800" y="388800"/>
            <a:chExt cx="4981320" cy="4500720"/>
          </a:xfrm>
        </p:grpSpPr>
        <p:sp>
          <p:nvSpPr>
            <p:cNvPr id="78" name="_s3076"/>
            <p:cNvSpPr/>
            <p:nvPr/>
          </p:nvSpPr>
          <p:spPr>
            <a:xfrm flipV="1">
              <a:off x="4535640" y="1773000"/>
              <a:ext cx="0" cy="693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_s3077"/>
            <p:cNvSpPr/>
            <p:nvPr/>
          </p:nvSpPr>
          <p:spPr>
            <a:xfrm>
              <a:off x="3843360" y="388800"/>
              <a:ext cx="1384200" cy="13845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Средний род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оно мое)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_s3078"/>
            <p:cNvSpPr/>
            <p:nvPr/>
          </p:nvSpPr>
          <p:spPr>
            <a:xfrm>
              <a:off x="5133960" y="3505320"/>
              <a:ext cx="601560" cy="345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_s3079"/>
            <p:cNvSpPr/>
            <p:nvPr/>
          </p:nvSpPr>
          <p:spPr>
            <a:xfrm>
              <a:off x="5641920" y="3505320"/>
              <a:ext cx="1384200" cy="13842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Женский род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она моя)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_s3080"/>
            <p:cNvSpPr/>
            <p:nvPr/>
          </p:nvSpPr>
          <p:spPr>
            <a:xfrm flipH="1">
              <a:off x="3335040" y="3503520"/>
              <a:ext cx="600120" cy="347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_s3081"/>
            <p:cNvSpPr/>
            <p:nvPr/>
          </p:nvSpPr>
          <p:spPr>
            <a:xfrm>
              <a:off x="2044800" y="3505320"/>
              <a:ext cx="1384200" cy="13842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Мужской род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он мой)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_s3082"/>
            <p:cNvSpPr/>
            <p:nvPr/>
          </p:nvSpPr>
          <p:spPr>
            <a:xfrm>
              <a:off x="3843360" y="2467080"/>
              <a:ext cx="1384200" cy="13842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ff"/>
                  </a:solidFill>
                  <a:latin typeface="Times New Roman"/>
                </a:rPr>
                <a:t>.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WordArt 26"/>
          <p:cNvSpPr txBox="1"/>
          <p:nvPr/>
        </p:nvSpPr>
        <p:spPr>
          <a:xfrm>
            <a:off x="3708360" y="2924280"/>
            <a:ext cx="1685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мя сущ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ff"/>
                </a:solidFill>
                <a:latin typeface="Arial"/>
              </a:rPr>
              <a:t>Вопросы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- О какой части речи говорилось на урок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- Какие имена существительные пишутся с заглавной букв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- Какого рода бывают существительны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- Как пишутся имена существительные с шипящей на конц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850"/>
                            </p:stCondLst>
                            <p:childTnLst>
                              <p:par>
                                <p:cTn id="29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850"/>
                            </p:stCondLst>
                            <p:childTnLst>
                              <p:par>
                                <p:cTn id="30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850"/>
                            </p:stCondLst>
                            <p:childTnLst>
                              <p:par>
                                <p:cTn id="30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850"/>
                            </p:stCondLst>
                            <p:childTnLst>
                              <p:par>
                                <p:cTn id="31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23749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аждом ряду есть слово, которое относится к другой части речи, его нужно вычеркнуть, оставить только имена существительны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02040" y="1676520"/>
          <a:ext cx="5840280" cy="4422600"/>
        </p:xfrm>
        <a:graphic>
          <a:graphicData uri="http://schemas.openxmlformats.org/drawingml/2006/table">
            <a:tbl>
              <a:tblPr/>
              <a:tblGrid>
                <a:gridCol w="1460520"/>
                <a:gridCol w="1460520"/>
                <a:gridCol w="1458720"/>
                <a:gridCol w="1460520"/>
              </a:tblGrid>
              <a:tr h="110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ки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лов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ти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ук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ть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шк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стрюля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рел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рач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се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ый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и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ль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к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ук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ми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р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пуст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кус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ый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WordArt 42"/>
          <p:cNvSpPr txBox="1"/>
          <p:nvPr/>
        </p:nvSpPr>
        <p:spPr>
          <a:xfrm>
            <a:off x="179280" y="692280"/>
            <a:ext cx="8810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ния к теме: «Имена существительные»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0"/>
                            </p:stCondLst>
                            <p:childTnLst>
                              <p:par>
                                <p:cTn id="3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Из каждого слова возьмите только первый слог, сложите их по порядку и запишите зашифрованное сло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пределите род имен существительн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лина, робот, газон – ДОРО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ожай, чириканье, тельняш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локо, недотрога, тарел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роль, ромашка, ва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аня, работа, банк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WordArt 4"/>
          <p:cNvSpPr txBox="1"/>
          <p:nvPr/>
        </p:nvSpPr>
        <p:spPr>
          <a:xfrm>
            <a:off x="1187280" y="404640"/>
            <a:ext cx="678204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Зашифрованные слова»</a:t>
            </a:r>
            <a:endParaRPr b="1" lang="en-US" sz="4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1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ть сладкое слово – конфет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ть быстрое слово – ракет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ть кислое слово – лимон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ть слово с окошком – вагон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ть слово колючее – еж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ть слово промокшее – дождь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ть слово зеленое – ел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ть слово упрямое – це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WordArt 4"/>
          <p:cNvSpPr txBox="1"/>
          <p:nvPr/>
        </p:nvSpPr>
        <p:spPr>
          <a:xfrm>
            <a:off x="1258920" y="476280"/>
            <a:ext cx="6343560" cy="10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тихотворение на память.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просили Лежебокин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а ну- ка расскажи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 что так ненавидишь ты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 любишь падежи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авным -давно все школьники их знают назубо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х за два года выучить лишь ты один не смог. Ответил он рассерженно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в том не моя вина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усть им сперва ученые изменят име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едь я падеж Творительный нарочно не учу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рудиться, а тем более творить я не хоч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акой падеж, как Дательный, я с детства не терплю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авать, делиться чем –нибудь с друзьями не любл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00720" y="1628640"/>
            <a:ext cx="419400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едложный ненавижу 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Чтоб не учить урок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ходится выдумывать                       какой-нибудь предло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 на падеж Винительный                               и вовсе я сердит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ец во всякой шалости                                всегда меня вини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да, переделка, кажется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ерьезная нуж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 сам бы смог бы новы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думать имена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давно придумал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зятельный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язнительный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жательный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убительный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нительный  и, наконец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стительный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WordArt 7"/>
          <p:cNvSpPr txBox="1"/>
          <p:nvPr/>
        </p:nvSpPr>
        <p:spPr>
          <a:xfrm>
            <a:off x="1763640" y="476280"/>
            <a:ext cx="5616720" cy="97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Ленительный падеж</a:t>
            </a:r>
            <a:endParaRPr b="1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.п – кто? что?              - им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. п - кого? чего?           -  родите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. п - кому? чему?         -  дал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 п - кого? что?             -  Винн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. п - кем? чем?             - топтыж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. п - о ком? о чем?       - прозва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WordArt 6"/>
          <p:cNvSpPr txBox="1"/>
          <p:nvPr/>
        </p:nvSpPr>
        <p:spPr>
          <a:xfrm>
            <a:off x="3203640" y="549360"/>
            <a:ext cx="278136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адежи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 некоторые фразы, которые вы видите пролезла коварная Перепутаница.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роде бы все слова на месте – смысл не тот. Найдите ошибки и исправьте их. Определите падеж существительн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имой в саду расцвели яблон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альчик стеклом разбил мяч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амолет сюда, чтобы помочь людя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WordArt 4"/>
          <p:cNvSpPr txBox="1"/>
          <p:nvPr/>
        </p:nvSpPr>
        <p:spPr>
          <a:xfrm>
            <a:off x="1979640" y="620640"/>
            <a:ext cx="5334120" cy="8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«Лови Перепутаницу»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0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2500"/>
                            </p:stCondLst>
                            <p:childTnLst>
                              <p:par>
                                <p:cTn id="7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Organization Chart 30"/>
          <p:cNvGrpSpPr/>
          <p:nvPr/>
        </p:nvGrpSpPr>
        <p:grpSpPr>
          <a:xfrm>
            <a:off x="250920" y="189000"/>
            <a:ext cx="8496000" cy="5830560"/>
            <a:chOff x="250920" y="189000"/>
            <a:chExt cx="8496000" cy="5830560"/>
          </a:xfrm>
        </p:grpSpPr>
        <p:cxnSp>
          <p:nvCxnSpPr>
            <p:cNvPr id="111" name="_s4100"/>
            <p:cNvCxnSpPr>
              <a:stCxn id="112" idx="0"/>
              <a:endCxn id="113" idx="2"/>
            </p:cNvCxnSpPr>
            <p:nvPr/>
          </p:nvCxnSpPr>
          <p:spPr>
            <a:xfrm flipV="1" rot="16200000">
              <a:off x="5402160" y="1616400"/>
              <a:ext cx="1166760" cy="29743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4101"/>
            <p:cNvCxnSpPr>
              <a:stCxn id="115" idx="0"/>
              <a:endCxn id="113" idx="2"/>
            </p:cNvCxnSpPr>
            <p:nvPr/>
          </p:nvCxnSpPr>
          <p:spPr>
            <a:xfrm flipV="1">
              <a:off x="4498560" y="2520360"/>
              <a:ext cx="3240" cy="1166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4102"/>
            <p:cNvCxnSpPr>
              <a:stCxn id="117" idx="0"/>
              <a:endCxn id="113" idx="2"/>
            </p:cNvCxnSpPr>
            <p:nvPr/>
          </p:nvCxnSpPr>
          <p:spPr>
            <a:xfrm flipH="1" flipV="1" rot="5400000">
              <a:off x="2428920" y="1616760"/>
              <a:ext cx="1166760" cy="29743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3" name="_s4103"/>
            <p:cNvSpPr/>
            <p:nvPr/>
          </p:nvSpPr>
          <p:spPr>
            <a:xfrm>
              <a:off x="3224520" y="189000"/>
              <a:ext cx="2548800" cy="23320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 u="sng">
                  <a:solidFill>
                    <a:srgbClr val="ffffff"/>
                  </a:solidFill>
                  <a:uFillTx/>
                  <a:latin typeface="Arial"/>
                </a:rPr>
                <a:t>Склонение имен </a:t>
              </a:r>
              <a:endParaRPr b="1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 u="sng">
                  <a:solidFill>
                    <a:srgbClr val="ffffff"/>
                  </a:solidFill>
                  <a:uFillTx/>
                  <a:latin typeface="Arial"/>
                </a:rPr>
                <a:t>существительных</a:t>
              </a:r>
              <a:endParaRPr b="1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4104"/>
            <p:cNvSpPr/>
            <p:nvPr/>
          </p:nvSpPr>
          <p:spPr>
            <a:xfrm>
              <a:off x="250920" y="3687480"/>
              <a:ext cx="2548800" cy="23320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4d4d4d"/>
                  </a:solidFill>
                  <a:latin typeface="Arial"/>
                </a:rPr>
                <a:t>1 скл.</a:t>
              </a:r>
              <a:endParaRPr b="1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4d4d4d"/>
                  </a:solidFill>
                  <a:latin typeface="Arial"/>
                </a:rPr>
                <a:t>М.р      Ж.р.</a:t>
              </a:r>
              <a:endParaRPr b="1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4d4d4d"/>
                  </a:solidFill>
                  <a:latin typeface="Arial"/>
                </a:rPr>
                <a:t>-а, -я</a:t>
              </a:r>
              <a:endParaRPr b="1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4105"/>
            <p:cNvSpPr/>
            <p:nvPr/>
          </p:nvSpPr>
          <p:spPr>
            <a:xfrm>
              <a:off x="3224520" y="3687480"/>
              <a:ext cx="2548800" cy="23320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4d4d4d"/>
                  </a:solidFill>
                  <a:latin typeface="Arial"/>
                </a:rPr>
                <a:t>2 скл.</a:t>
              </a:r>
              <a:endParaRPr b="1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4d4d4d"/>
                  </a:solidFill>
                  <a:latin typeface="Arial"/>
                </a:rPr>
                <a:t>М.р.    Ср.р.</a:t>
              </a:r>
              <a:endParaRPr b="1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4d4d4d"/>
                  </a:solidFill>
                  <a:latin typeface="Arial"/>
                </a:rPr>
                <a:t>Согл, ь      -о,-е</a:t>
              </a:r>
              <a:endParaRPr b="1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4106"/>
            <p:cNvSpPr/>
            <p:nvPr/>
          </p:nvSpPr>
          <p:spPr>
            <a:xfrm>
              <a:off x="6198120" y="3687480"/>
              <a:ext cx="2548800" cy="23320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4d4d4d"/>
                  </a:solidFill>
                  <a:latin typeface="Arial"/>
                </a:rPr>
                <a:t>3 скл.</a:t>
              </a:r>
              <a:endParaRPr b="1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4d4d4d"/>
                  </a:solidFill>
                  <a:latin typeface="Arial"/>
                </a:rPr>
                <a:t>Ж.р.</a:t>
              </a:r>
              <a:endParaRPr b="1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4d4d4d"/>
                  </a:solidFill>
                  <a:latin typeface="Arial"/>
                </a:rPr>
                <a:t>ь</a:t>
              </a:r>
              <a:endParaRPr b="1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6630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слов приключилась бед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мотрите, как они склеились друг с дружкой. Помогите им освободи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1.Котигракукланожницыкнигагрядкакор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2.Юбкаборщкроватьэкранкрабхолодконцертлосьутролошадьзаборландышбурякачел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А теперь, под цифрой 1 найдите имена существительные первого склонения, а под цифрой 2 – имена существительные третьего склон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301680" y="228600"/>
            <a:ext cx="8510400" cy="13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Слова зовут на помощь»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3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2000"/>
                            </p:stCondLst>
                            <p:childTnLst>
                              <p:par>
                                <p:cTn id="8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500"/>
                            </p:stCondLst>
                            <p:childTnLst>
                              <p:par>
                                <p:cTn id="8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1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одном сказочном городе «Русский язык» живут веселые человечки. Самая большая родня в городе называет себя Именем существительным. Все имена этих человечков обозначают предмет. Вместо приветствия они всегда задают вопросы: «Кто?», «Что?». Одни из них величают себя именами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обственным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 всегда пишут свое имя с заглавной буквы, другие – именами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рицательным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и имя пишут с маленькой буквы. Встречаются среди них человечки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ужского, женского и среднего род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Одни живут в одиночку, другие многочисленными семьями. Характеры у всех разные. Но самыми добрыми являются представительницы женского рода. Поэтому только они получили привилегию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исать Ь знак после шипящих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WordArt 4"/>
          <p:cNvSpPr txBox="1"/>
          <p:nvPr/>
        </p:nvSpPr>
        <p:spPr>
          <a:xfrm>
            <a:off x="1619280" y="549360"/>
            <a:ext cx="6372360" cy="77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казка 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ите склонение существитель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иркуль, ёлка, цыган, луч, шалаш, чув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твь, рожь, местность, тополь, ель, смел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рошюра, земля, аллея, ветка, цифра, шоро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1403280" y="620640"/>
            <a:ext cx="672480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ключите лишнее слово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1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Organization Chart 6"/>
          <p:cNvGrpSpPr/>
          <p:nvPr/>
        </p:nvGrpSpPr>
        <p:grpSpPr>
          <a:xfrm>
            <a:off x="289080" y="203040"/>
            <a:ext cx="8494920" cy="5830920"/>
            <a:chOff x="289080" y="203040"/>
            <a:chExt cx="8494920" cy="5830920"/>
          </a:xfrm>
        </p:grpSpPr>
        <p:cxnSp>
          <p:nvCxnSpPr>
            <p:cNvPr id="48" name="_s1028"/>
            <p:cNvCxnSpPr>
              <a:stCxn id="49" idx="0"/>
              <a:endCxn id="50" idx="2"/>
            </p:cNvCxnSpPr>
            <p:nvPr/>
          </p:nvCxnSpPr>
          <p:spPr>
            <a:xfrm flipV="1" rot="16200000">
              <a:off x="5096160" y="1973880"/>
              <a:ext cx="1166760" cy="228816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1" name="_s1029"/>
            <p:cNvCxnSpPr>
              <a:stCxn id="52" idx="0"/>
              <a:endCxn id="50" idx="2"/>
            </p:cNvCxnSpPr>
            <p:nvPr/>
          </p:nvCxnSpPr>
          <p:spPr>
            <a:xfrm flipH="1" flipV="1" rot="5400000">
              <a:off x="2809080" y="1974600"/>
              <a:ext cx="1166760" cy="228708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0" name="_s1030"/>
            <p:cNvSpPr/>
            <p:nvPr/>
          </p:nvSpPr>
          <p:spPr>
            <a:xfrm>
              <a:off x="2575440" y="203040"/>
              <a:ext cx="3920760" cy="2332440"/>
            </a:xfrm>
            <a:prstGeom prst="roundRect">
              <a:avLst>
                <a:gd name="adj" fmla="val 16667"/>
              </a:avLst>
            </a:prstGeom>
            <a:solidFill>
              <a:srgbClr val="66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1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_s1031"/>
            <p:cNvSpPr/>
            <p:nvPr/>
          </p:nvSpPr>
          <p:spPr>
            <a:xfrm>
              <a:off x="289080" y="3701520"/>
              <a:ext cx="3920760" cy="233244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1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_s1032"/>
            <p:cNvSpPr/>
            <p:nvPr/>
          </p:nvSpPr>
          <p:spPr>
            <a:xfrm>
              <a:off x="4863240" y="3701520"/>
              <a:ext cx="3920760" cy="233244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1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WordArt 14"/>
          <p:cNvSpPr txBox="1"/>
          <p:nvPr/>
        </p:nvSpPr>
        <p:spPr>
          <a:xfrm>
            <a:off x="1835280" y="1052640"/>
            <a:ext cx="544968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мена существительные</a:t>
            </a:r>
            <a:endParaRPr b="1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4" name="WordArt 15"/>
          <p:cNvSpPr txBox="1"/>
          <p:nvPr/>
        </p:nvSpPr>
        <p:spPr>
          <a:xfrm>
            <a:off x="826920" y="4221000"/>
            <a:ext cx="29718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душевленные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(кто?)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WordArt 16"/>
          <p:cNvSpPr txBox="1"/>
          <p:nvPr/>
        </p:nvSpPr>
        <p:spPr>
          <a:xfrm>
            <a:off x="5148360" y="4292640"/>
            <a:ext cx="33908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еодушевленные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(что?)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7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70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дание 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делите слова на два столбика. В первый запишите все одушевленные, а во второй – неодушевленн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9900"/>
                </a:solidFill>
                <a:uFillTx/>
                <a:latin typeface="Arial"/>
              </a:rPr>
              <a:t>Корова, дом, машина, герой, статуя, мама, учитель, яблоня, телевизор, кошка, тетрадь. продавец, картина, милиционер, алфавит, девочка, ночь, неб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ъясните, почему вы так написа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500"/>
                            </p:stCondLst>
                            <p:childTnLst>
                              <p:par>
                                <p:cTn id="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ff"/>
                </a:solidFill>
                <a:latin typeface="Arial"/>
              </a:rPr>
              <a:t>Вопросы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Какие имена существительные называют неодушевленны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риведите примеры одушевленных имен существительн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На какой вопрос отвечают одушевленные существительны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какой вопрос отвечают неодушевленные существительны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4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4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7080"/>
                            </p:stCondLst>
                            <p:childTnLst>
                              <p:par>
                                <p:cTn id="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Organization Chart 5"/>
          <p:cNvGrpSpPr/>
          <p:nvPr/>
        </p:nvGrpSpPr>
        <p:grpSpPr>
          <a:xfrm>
            <a:off x="301680" y="228600"/>
            <a:ext cx="8539560" cy="5868720"/>
            <a:chOff x="301680" y="228600"/>
            <a:chExt cx="8539560" cy="5868720"/>
          </a:xfrm>
        </p:grpSpPr>
        <p:cxnSp>
          <p:nvCxnSpPr>
            <p:cNvPr id="61" name="_s2052"/>
            <p:cNvCxnSpPr>
              <a:stCxn id="62" idx="0"/>
              <a:endCxn id="63" idx="2"/>
            </p:cNvCxnSpPr>
            <p:nvPr/>
          </p:nvCxnSpPr>
          <p:spPr>
            <a:xfrm flipV="1" rot="16200000">
              <a:off x="5133960" y="2013120"/>
              <a:ext cx="1174320" cy="2299320"/>
            </a:xfrm>
            <a:prstGeom prst="bentConnector3">
              <a:avLst>
                <a:gd name="adj1" fmla="val 972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4" name="_s2053"/>
            <p:cNvCxnSpPr>
              <a:stCxn id="65" idx="0"/>
              <a:endCxn id="63" idx="2"/>
            </p:cNvCxnSpPr>
            <p:nvPr/>
          </p:nvCxnSpPr>
          <p:spPr>
            <a:xfrm flipH="1" flipV="1" rot="5400000">
              <a:off x="2835000" y="2012760"/>
              <a:ext cx="1174320" cy="2300040"/>
            </a:xfrm>
            <a:prstGeom prst="bentConnector3">
              <a:avLst>
                <a:gd name="adj1" fmla="val 972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3" name="_s2054"/>
            <p:cNvSpPr/>
            <p:nvPr/>
          </p:nvSpPr>
          <p:spPr>
            <a:xfrm>
              <a:off x="2601360" y="228600"/>
              <a:ext cx="3941280" cy="2347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_s2055"/>
            <p:cNvSpPr/>
            <p:nvPr/>
          </p:nvSpPr>
          <p:spPr>
            <a:xfrm>
              <a:off x="301680" y="3749760"/>
              <a:ext cx="3941280" cy="23475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_s2056"/>
            <p:cNvSpPr/>
            <p:nvPr/>
          </p:nvSpPr>
          <p:spPr>
            <a:xfrm>
              <a:off x="4899960" y="3749760"/>
              <a:ext cx="3941280" cy="23475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WordArt 12"/>
          <p:cNvSpPr txBox="1"/>
          <p:nvPr/>
        </p:nvSpPr>
        <p:spPr>
          <a:xfrm>
            <a:off x="2556000" y="1197000"/>
            <a:ext cx="39718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мя существительное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WordArt 13"/>
          <p:cNvSpPr txBox="1"/>
          <p:nvPr/>
        </p:nvSpPr>
        <p:spPr>
          <a:xfrm>
            <a:off x="755640" y="3789360"/>
            <a:ext cx="273384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бственные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(Петя)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WordArt 14"/>
          <p:cNvSpPr txBox="1"/>
          <p:nvPr/>
        </p:nvSpPr>
        <p:spPr>
          <a:xfrm>
            <a:off x="5219640" y="3645000"/>
            <a:ext cx="3247920" cy="25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рицательные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(медвежонок)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читайте предложения и вставьте слова в том порядке, в каком они пропуще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cc"/>
                </a:solidFill>
                <a:uFillTx/>
                <a:latin typeface="Arial"/>
              </a:rPr>
              <a:t>Маленький … сорвал синий…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cc"/>
                </a:solidFill>
                <a:uFillTx/>
                <a:latin typeface="Arial"/>
              </a:rPr>
              <a:t>Тетя … вернулась с … вечер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cc"/>
                </a:solidFill>
                <a:uFillTx/>
                <a:latin typeface="Arial"/>
              </a:rPr>
              <a:t>Коля … привез пять спелых …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cc"/>
                </a:solidFill>
                <a:uFillTx/>
                <a:latin typeface="Arial"/>
              </a:rPr>
              <a:t>Витя … мастерил домик для …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Василек, василек, Поля, поля, Арбузов, арбузов, Скворцов, скворц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WordArt 4"/>
          <p:cNvSpPr txBox="1"/>
          <p:nvPr/>
        </p:nvSpPr>
        <p:spPr>
          <a:xfrm>
            <a:off x="1619280" y="549360"/>
            <a:ext cx="5543640" cy="94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гра «Вставь слово»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500"/>
                            </p:stCondLst>
                            <p:childTnLst>
                              <p:par>
                                <p:cTn id="16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дание 2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тавьте пропущенное слов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cc"/>
                </a:solidFill>
                <a:latin typeface="Arial"/>
              </a:rPr>
              <a:t>Лучше горькая правда, чем сладкая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вы ег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ишет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вы понимаете смысл пословиц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ъясните «горькая правда», «сладкая ложь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некотором царстве, в некотором государстве под названием Грамматика жил – был царь Имя существительное. Ему принадлежали все живые и неживые предметы: звезда, лев, земля, печать, печь, окн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арь любил своих подданных и ласково говорил: «Вот он, мой сын, труд, карандаш, малыш, город. Вот она, моя дочь, ласточка, учительница, вод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ли предметы в разных домах. В первом доме предметы женского рода: школа, собака, печь, книга. Во втором мужского рода: камень, стол. А посередине стоял дом, в котором жили существительные среднего рода: солнышко, гнездо, платье, мор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гда царь сердился на своих подданных, он сажал предмет в отдельную комнату и говорил: «Будешь жить один – волк, стол, одна – чашка, девочка, одно – платье, море. Побудь в единственном числе и подумай о своем поведении». А потом прощал, и снова жили вместе в великом множестве – волки, столы, чашки, девочки, мор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4"/>
          <p:cNvSpPr txBox="1"/>
          <p:nvPr/>
        </p:nvSpPr>
        <p:spPr>
          <a:xfrm>
            <a:off x="1619280" y="549360"/>
            <a:ext cx="6372360" cy="77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казка 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7:23:53Z</dcterms:created>
  <dc:creator>Личная</dc:creator>
  <dc:description/>
  <dc:language>en-US</dc:language>
  <cp:lastModifiedBy>DNA7 X86</cp:lastModifiedBy>
  <dcterms:modified xsi:type="dcterms:W3CDTF">2013-11-30T17:46:34Z</dcterms:modified>
  <cp:revision>12</cp:revision>
  <dc:subject/>
  <dc:title>Слайд 1</dc:title>
</cp:coreProperties>
</file>