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CF0-C9B4-4262-8412-289FC2CA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D49-7405-4DDC-BB11-4D505B39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48B-6AE0-42D2-8DE9-4EA3C181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A88-160D-4172-81A8-7DE5CBE4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76D-08AE-4A7B-824B-8075973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5C8-4928-4395-B2BE-FA6B53D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0B4-36DC-4039-975C-1CCF7AE1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1BA-CE37-437A-918D-901B7C5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104-B79E-4834-87AF-1D646B26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A13-0ED0-498B-9ABD-9A21A34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E82-647E-4B12-A23B-E962F62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382-02EC-4FC2-98F1-4AD55F28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97A-3F61-472D-B2C1-1694161456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4" descr=""/>
          <p:cNvPicPr/>
          <p:nvPr/>
        </p:nvPicPr>
        <p:blipFill>
          <a:blip r:embed="rId1"/>
          <a:stretch/>
        </p:blipFill>
        <p:spPr>
          <a:xfrm>
            <a:off x="-12600" y="865080"/>
            <a:ext cx="925344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643800" y="5572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14720" y="3929040"/>
            <a:ext cx="6643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 русского языка  МКС(К)О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зедеевская специальна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оррекцион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школа – интерна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ида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сина Ольга Павлов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Diagram 7"/>
          <p:cNvGrpSpPr/>
          <p:nvPr/>
        </p:nvGrpSpPr>
        <p:grpSpPr>
          <a:xfrm>
            <a:off x="2044800" y="388800"/>
            <a:ext cx="4981320" cy="4500720"/>
            <a:chOff x="2044800" y="388800"/>
            <a:chExt cx="4981320" cy="4500720"/>
          </a:xfrm>
        </p:grpSpPr>
        <p:sp>
          <p:nvSpPr>
            <p:cNvPr id="78" name="_s3076"/>
            <p:cNvSpPr/>
            <p:nvPr/>
          </p:nvSpPr>
          <p:spPr>
            <a:xfrm flipV="1">
              <a:off x="4535640" y="1773000"/>
              <a:ext cx="0" cy="69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3077"/>
            <p:cNvSpPr/>
            <p:nvPr/>
          </p:nvSpPr>
          <p:spPr>
            <a:xfrm>
              <a:off x="3843360" y="388800"/>
              <a:ext cx="1384200" cy="1384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редни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о мое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3078"/>
            <p:cNvSpPr/>
            <p:nvPr/>
          </p:nvSpPr>
          <p:spPr>
            <a:xfrm>
              <a:off x="5133960" y="3505320"/>
              <a:ext cx="601560" cy="34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3079"/>
            <p:cNvSpPr/>
            <p:nvPr/>
          </p:nvSpPr>
          <p:spPr>
            <a:xfrm>
              <a:off x="5641920" y="35053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Женски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а моя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3080"/>
            <p:cNvSpPr/>
            <p:nvPr/>
          </p:nvSpPr>
          <p:spPr>
            <a:xfrm flipH="1">
              <a:off x="3335040" y="3503520"/>
              <a:ext cx="600120" cy="347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3081"/>
            <p:cNvSpPr/>
            <p:nvPr/>
          </p:nvSpPr>
          <p:spPr>
            <a:xfrm>
              <a:off x="2044800" y="350532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ужской род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он мой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3082"/>
            <p:cNvSpPr/>
            <p:nvPr/>
          </p:nvSpPr>
          <p:spPr>
            <a:xfrm>
              <a:off x="3843360" y="2467080"/>
              <a:ext cx="1384200" cy="138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WordArt 26"/>
          <p:cNvSpPr txBox="1"/>
          <p:nvPr/>
        </p:nvSpPr>
        <p:spPr>
          <a:xfrm>
            <a:off x="3708360" y="2924280"/>
            <a:ext cx="168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су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Вопрос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О какой части речи говорилось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ие имена существительные пишутся с заглавной букв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ого рода бывают существительн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- Как пишутся имена существительные с шипящей на ко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5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850"/>
                            </p:stCondLst>
                            <p:childTnLst>
                              <p:par>
                                <p:cTn id="3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850"/>
                            </p:stCondLst>
                            <p:childTnLst>
                              <p:par>
                                <p:cTn id="3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850"/>
                            </p:stCondLst>
                            <p:childTnLst>
                              <p:par>
                                <p:cTn id="3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374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ряду есть слово, которое относится к другой части речи, его нужно вычеркнуть, оставить только имена существи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02040" y="1676520"/>
          <a:ext cx="5840280" cy="442260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458720"/>
                <a:gridCol w="14605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к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т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ш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рюл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рел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а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ы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к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к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и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уст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ус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ы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WordArt 42"/>
          <p:cNvSpPr txBox="1"/>
          <p:nvPr/>
        </p:nvSpPr>
        <p:spPr>
          <a:xfrm>
            <a:off x="179280" y="692280"/>
            <a:ext cx="8810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я к теме: «Имена существительные»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з каждого слова возьмите только первый слог, сложите их по порядку и запишите зашифрова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ите род имен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ина, робот, газон – 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жай, чириканье, тельняш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ко, недотрога, тарел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оль, ромашка, в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ня, работа, банк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1187280" y="404640"/>
            <a:ext cx="67820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ашифрованные слова»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адкое слово – конф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быстрое слово – раке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кислое слово – лим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с окошком – ваго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колючее – еж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промокшее – дожд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зеленое – 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лово упрямое – ц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1258920" y="476280"/>
            <a:ext cx="63435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хотворение на память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или Лежебокин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а ну- ка расскаж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что так ненавидишь 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любишь падеж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ным -давно все школьники их знают назуб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х за два года выучить лишь ты один не смог. Ответил он рассержен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в том не моя в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сть им сперва ученые изменят име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 я падеж Творительный нарочно не уч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иться, а тем более творить я не хоч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ой падеж, как Дательный, я с детства не терпл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ть, делиться чем –нибудь с друзьями не люб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ложный ненавижу 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б не учить уро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ходится выдумывать                       какой-нибудь предло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на падеж Винительный                               и вовсе я серди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ец во всякой шалости                                всегда меня вин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, переделка, кажет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рьезная нуж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сам бы смог бы нов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думать име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давно придума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зятель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язни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жа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битель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нительный  и, наконец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стительны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1763640" y="476280"/>
            <a:ext cx="561672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нительный падеж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п – кто? что?              - и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. п - кого? чего?           -  роди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 п - кому? чему?         -  дал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 - кого? что?             -  Вин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. п - кем? чем?             - топтыж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п - о ком? о чем?       - проз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3203640" y="549360"/>
            <a:ext cx="2781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дежи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екоторые фразы, которые вы видите пролезла коварная Перепутаница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роде бы все слова на месте – смысл не тот. Найдите ошибки и исправьте их. Определите падеж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имой в саду расцвели ябло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льчик стеклом разбил мя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лет сюда, чтобы помочь людя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979640" y="620640"/>
            <a:ext cx="533412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Лови Перепутаницу»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Organization Chart 30"/>
          <p:cNvGrpSpPr/>
          <p:nvPr/>
        </p:nvGrpSpPr>
        <p:grpSpPr>
          <a:xfrm>
            <a:off x="250920" y="189000"/>
            <a:ext cx="8496000" cy="5830560"/>
            <a:chOff x="250920" y="189000"/>
            <a:chExt cx="8496000" cy="5830560"/>
          </a:xfrm>
        </p:grpSpPr>
        <p:cxnSp>
          <p:nvCxnSpPr>
            <p:cNvPr id="111" name="_s410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402160" y="1616400"/>
              <a:ext cx="1166760" cy="29743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4101"/>
            <p:cNvCxnSpPr>
              <a:stCxn id="115" idx="0"/>
              <a:endCxn id="113" idx="2"/>
            </p:cNvCxnSpPr>
            <p:nvPr/>
          </p:nvCxnSpPr>
          <p:spPr>
            <a:xfrm flipV="1">
              <a:off x="4498560" y="2520360"/>
              <a:ext cx="324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4102"/>
            <p:cNvCxnSpPr>
              <a:stCxn id="117" idx="0"/>
              <a:endCxn id="113" idx="2"/>
            </p:cNvCxnSpPr>
            <p:nvPr/>
          </p:nvCxnSpPr>
          <p:spPr>
            <a:xfrm flipH="1" flipV="1" rot="5400000">
              <a:off x="2428920" y="1616760"/>
              <a:ext cx="1166760" cy="29743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4103"/>
            <p:cNvSpPr/>
            <p:nvPr/>
          </p:nvSpPr>
          <p:spPr>
            <a:xfrm>
              <a:off x="3224520" y="18900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ffff"/>
                  </a:solidFill>
                  <a:uFillTx/>
                  <a:latin typeface="Arial"/>
                </a:rPr>
                <a:t>Склонение имен 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 u="sng">
                  <a:solidFill>
                    <a:srgbClr val="ffffff"/>
                  </a:solidFill>
                  <a:uFillTx/>
                  <a:latin typeface="Arial"/>
                </a:rPr>
                <a:t>существительных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104"/>
            <p:cNvSpPr/>
            <p:nvPr/>
          </p:nvSpPr>
          <p:spPr>
            <a:xfrm>
              <a:off x="2509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1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М.р      Ж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-а, -я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4105"/>
            <p:cNvSpPr/>
            <p:nvPr/>
          </p:nvSpPr>
          <p:spPr>
            <a:xfrm>
              <a:off x="32245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2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М.р.    Ср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Согл, ь      -о,-е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4106"/>
            <p:cNvSpPr/>
            <p:nvPr/>
          </p:nvSpPr>
          <p:spPr>
            <a:xfrm>
              <a:off x="6198120" y="3687480"/>
              <a:ext cx="2548800" cy="23320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d4d4d"/>
                  </a:solidFill>
                  <a:latin typeface="Arial"/>
                </a:rPr>
                <a:t>3 скл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Ж.р.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4d4d4d"/>
                  </a:solidFill>
                  <a:latin typeface="Arial"/>
                </a:rPr>
                <a:t>ь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лов приключилась бе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мотрите, как они склеились друг с дружкой. Помогите им освобод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.Котигракукланожницыкнигагрядка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.Юбкаборщкроватьэкранкрабхолодконцертлосьутролошадьзаборландышбурякаче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 теперь, под цифрой 1 найдите имена существительные первого склонения, а под цифрой 2 – имена существительные третьего скло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лова зовут на помощь»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дном сказочном городе «Русский язык» живут веселые человечки. Самая большая родня в городе называет себя Именем существительным. Все имена этих человечков обозначают предмет. Вместо приветствия они всегда задают вопросы: «Кто?», «Что?». Одни из них величают себя именам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бственны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всегда пишут свое имя с заглавной буквы, другие – именам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ицательны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имя пишут с маленькой буквы. Встречаются среди них человечк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жского, женского и среднего род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Одни живут в одиночку, другие многочисленными семьями. Характеры у всех разные. Но самыми добрыми являются представительницы женского рода. Поэтому только они получили привилегию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ать Ь знак после шипящ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1619280" y="549360"/>
            <a:ext cx="637236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склонение существи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ркуль, ёлка, цыган, луч, шалаш, 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твь, рожь, местность, тополь, ель, смел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шюра, земля, аллея, ветка, цифра, шоро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403280" y="620640"/>
            <a:ext cx="6724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лючите лишнее слово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rganization Chart 6"/>
          <p:cNvGrpSpPr/>
          <p:nvPr/>
        </p:nvGrpSpPr>
        <p:grpSpPr>
          <a:xfrm>
            <a:off x="289080" y="203040"/>
            <a:ext cx="8494920" cy="5830920"/>
            <a:chOff x="289080" y="203040"/>
            <a:chExt cx="8494920" cy="583092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096160" y="1973880"/>
              <a:ext cx="1166760" cy="22881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809080" y="1974600"/>
              <a:ext cx="1166760" cy="22870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575440" y="20304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66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289080" y="370152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63240" y="3701520"/>
              <a:ext cx="3920760" cy="23324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WordArt 14"/>
          <p:cNvSpPr txBox="1"/>
          <p:nvPr/>
        </p:nvSpPr>
        <p:spPr>
          <a:xfrm>
            <a:off x="1835280" y="1052640"/>
            <a:ext cx="54496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ена существительные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5"/>
          <p:cNvSpPr txBox="1"/>
          <p:nvPr/>
        </p:nvSpPr>
        <p:spPr>
          <a:xfrm>
            <a:off x="826920" y="4221000"/>
            <a:ext cx="2971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душевленны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кто?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5148360" y="4292640"/>
            <a:ext cx="3390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одушевленны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что?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ите слова на два столбика. В первый запишите все одушевленные, а во второй – неодушевле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Корова, дом, машина, герой, статуя, мама, учитель, яблоня, телевизор, кошка, тетрадь. продавец, картина, милиционер, алфавит, девочка, ночь,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вы так напис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Вопросы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акие имена существительные называют неодушевлен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иведите примеры одушевленных имен существитель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а какой вопрос отвечают одушевленные существитель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ой вопрос отвечают неодушевленные существитель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4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8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Organization Chart 5"/>
          <p:cNvGrpSpPr/>
          <p:nvPr/>
        </p:nvGrpSpPr>
        <p:grpSpPr>
          <a:xfrm>
            <a:off x="301680" y="228600"/>
            <a:ext cx="8539560" cy="5868720"/>
            <a:chOff x="301680" y="228600"/>
            <a:chExt cx="8539560" cy="5868720"/>
          </a:xfrm>
        </p:grpSpPr>
        <p:cxnSp>
          <p:nvCxnSpPr>
            <p:cNvPr id="61" name="_s2052"/>
            <p:cNvCxnSpPr>
              <a:stCxn id="62" idx="0"/>
              <a:endCxn id="63" idx="2"/>
            </p:cNvCxnSpPr>
            <p:nvPr/>
          </p:nvCxnSpPr>
          <p:spPr>
            <a:xfrm flipV="1" rot="16200000">
              <a:off x="5133960" y="2013120"/>
              <a:ext cx="1174320" cy="2299320"/>
            </a:xfrm>
            <a:prstGeom prst="bentConnector3">
              <a:avLst>
                <a:gd name="adj1" fmla="val 9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2053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2835000" y="2012760"/>
              <a:ext cx="1174320" cy="2300040"/>
            </a:xfrm>
            <a:prstGeom prst="bentConnector3">
              <a:avLst>
                <a:gd name="adj1" fmla="val 9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" name="_s2054"/>
            <p:cNvSpPr/>
            <p:nvPr/>
          </p:nvSpPr>
          <p:spPr>
            <a:xfrm>
              <a:off x="2601360" y="22860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2055"/>
            <p:cNvSpPr/>
            <p:nvPr/>
          </p:nvSpPr>
          <p:spPr>
            <a:xfrm>
              <a:off x="301680" y="374976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2056"/>
            <p:cNvSpPr/>
            <p:nvPr/>
          </p:nvSpPr>
          <p:spPr>
            <a:xfrm>
              <a:off x="4899960" y="3749760"/>
              <a:ext cx="3941280" cy="234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WordArt 12"/>
          <p:cNvSpPr txBox="1"/>
          <p:nvPr/>
        </p:nvSpPr>
        <p:spPr>
          <a:xfrm>
            <a:off x="2556000" y="1197000"/>
            <a:ext cx="3971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я существительное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755640" y="3789360"/>
            <a:ext cx="2733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бственн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Петя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5219640" y="3645000"/>
            <a:ext cx="3247920" cy="25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рицательн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медвежонок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йте предложения и вставьте слова в том порядке, в каком они пропуще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Маленький … сорвал синий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Тетя … вернулась с … веч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Коля … привез пять спелых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Витя … мастерил домик для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асилек, василек, Поля, поля, Арбузов, арбузов, Скворцов, скворц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619280" y="549360"/>
            <a:ext cx="554364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гра «Вставь слово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ние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ьте пропущенное сло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Лучше горькая правда, чем сладка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е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иш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понимаете смысл пословиц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«горькая правда», «сладкая лож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екотором царстве, в некотором государстве под названием Грамматика жил – был царь Имя существительное. Ему принадлежали все живые и неживые предметы: звезда, лев, земля, печать, печь, ок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ь любил своих подданных и ласково говорил: «Вот он, мой сын, труд, карандаш, малыш, город. Вот она, моя дочь, ласточка, учительница, вод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 предметы в разных домах. В первом доме предметы женского рода: школа, собака, печь, книга. Во втором мужского рода: камень, стол. А посередине стоял дом, в котором жили существительные среднего рода: солнышко, гнездо, платье, мо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гда царь сердился на своих подданных, он сажал предмет в отдельную комнату и говорил: «Будешь жить один – волк, стол, одна – чашка, девочка, одно – платье, море. Побудь в единственном числе и подумай о своем поведении». А потом прощал, и снова жили вместе в великом множестве – волки, столы, чашки, девочки,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619280" y="549360"/>
            <a:ext cx="637236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23:53Z</dcterms:created>
  <dc:creator>Личная</dc:creator>
  <dc:description/>
  <dc:language>en-US</dc:language>
  <cp:lastModifiedBy>DNA7 X86</cp:lastModifiedBy>
  <dcterms:modified xsi:type="dcterms:W3CDTF">2013-11-30T17:46:34Z</dcterms:modified>
  <cp:revision>12</cp:revision>
  <dc:subject/>
  <dc:title>Слайд 1</dc:title>
</cp:coreProperties>
</file>