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9C8-9049-4D7F-8D74-118C9FC4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EFE-BE2D-4B85-940B-3CC7DB32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86C-B411-4D7E-8623-55D0E79F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53D-A289-4294-BE19-FCAD462B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7A74-CC1E-4FF5-B2F2-89D6CE8A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061F-E52B-415C-92D2-07FE8C7B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4AF1-0C4B-4E39-BF3B-FBEBD58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CCB-83B4-44F6-B8D9-7B589114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9AFE-D9A1-44C7-AB0F-BA395ABD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933A-9190-4BE6-9A23-4327CD77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05E6-51C3-4C79-8182-83D65A4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650-96E9-4DF0-8CD9-D5EF1BF2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F56E-DFCD-42D1-8179-2FF4259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7646-CCA3-4490-BFA4-208FC29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187D-6F83-46E7-94EB-A33E1DCF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28C4-30DF-4539-B7D5-4FAF5C2C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B2AE-BF4D-485B-8909-45226353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6B0-3047-487B-9B6D-981F479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DFB-4637-4DFC-AF1E-A901723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E7B-4BC9-4368-A68C-7EFDF95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DD2-5741-4522-A360-D9D1256B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291-CBB2-4676-A9E4-EA1DB16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0D0-F580-4BDB-90AB-3E8D8D3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978-DE56-4DC1-B5E7-18CD65B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5A9-941C-470E-B46F-8ECC87604A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0090-3677-4F22-BD94-09900CDE0C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чёт в пределах 10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ескина И.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14284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87400" y="2017800"/>
            <a:ext cx="4965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знайка и его друзья убирают урожай груш и яблок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00360" y="2205000"/>
            <a:ext cx="40323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Незнайка и его друзья убир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рожай груш и яб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645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оставь условие и задай вопрос задачи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лько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сег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груш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ябло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=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 скольк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груш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больш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чем ябло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=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 скольк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яблок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меньш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чем груш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=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324036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2554560" cy="255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520040" y="189000"/>
            <a:ext cx="1492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 домики вместе с Незнайкой и Знайкой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1990800" cy="181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479736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479736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700280"/>
            <a:ext cx="1224000" cy="792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479736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1700280"/>
            <a:ext cx="1224000" cy="792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479736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537372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479736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537372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479736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537372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9636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1700280"/>
            <a:ext cx="1224000" cy="792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моги Незнайке заполнить окошечки, не меняя цифр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1428840" cy="2533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6364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4005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5280" y="3068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198900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198900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8720" y="198900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084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393372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08720" y="2997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3068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5280" y="5084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501336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198900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997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364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501336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08720" y="393372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1916280"/>
            <a:ext cx="71640" cy="4752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11280" y="587700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9280" y="5877000"/>
            <a:ext cx="520920" cy="520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042920" y="6337440"/>
            <a:ext cx="520920" cy="52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692360" y="616572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1258920" y="580536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651640" y="602136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5219640" y="5734080"/>
            <a:ext cx="520920" cy="520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588000" y="566100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7093080" y="566100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7596360" y="57340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8101080" y="57340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3"/>
          <a:stretch/>
        </p:blipFill>
        <p:spPr>
          <a:xfrm>
            <a:off x="7164360" y="626112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6659640" y="626112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5"/>
          <a:stretch/>
        </p:blipFill>
        <p:spPr>
          <a:xfrm>
            <a:off x="6107040" y="5734080"/>
            <a:ext cx="568440" cy="574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"/>
          <a:stretch/>
        </p:blipFill>
        <p:spPr>
          <a:xfrm>
            <a:off x="3059280" y="57340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"/>
          <a:stretch/>
        </p:blipFill>
        <p:spPr>
          <a:xfrm>
            <a:off x="2484360" y="609300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3564000" y="587700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9"/>
          <a:stretch/>
        </p:blipFill>
        <p:spPr>
          <a:xfrm>
            <a:off x="4211640" y="6093000"/>
            <a:ext cx="59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йди правильное решение задач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201780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нопочка собрала 8 яблок, 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знайка 10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 сколько больше яблок собрал Незнайк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62728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06728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56400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05928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55600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2050920" y="256536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47636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900000" y="256536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324000" y="2492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154764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104292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53964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4643280" y="357336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4140360" y="3573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7"/>
          <a:stretch/>
        </p:blipFill>
        <p:spPr>
          <a:xfrm>
            <a:off x="363528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8"/>
          <a:stretch/>
        </p:blipFill>
        <p:spPr>
          <a:xfrm>
            <a:off x="3059280" y="3500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9"/>
          <a:stretch/>
        </p:blipFill>
        <p:spPr>
          <a:xfrm>
            <a:off x="2556000" y="3500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0"/>
          <a:stretch/>
        </p:blipFill>
        <p:spPr>
          <a:xfrm>
            <a:off x="2050920" y="3500280"/>
            <a:ext cx="590760" cy="59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580000" y="2060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00720" y="234936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8+10=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522936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+8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342900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10+8=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00720" y="429264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0-8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5640" y="214200"/>
            <a:ext cx="7488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оставь условие и задай вопрос задачи, чтобы она решалась:                      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7+2=9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77080" y="4943520"/>
            <a:ext cx="2146320" cy="1776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2049480" cy="2049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2247840" cy="1619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1547640" y="4508640"/>
            <a:ext cx="2192400" cy="2192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5508720" y="1844640"/>
            <a:ext cx="2950920" cy="1889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788000" y="2060640"/>
            <a:ext cx="0" cy="403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08360" y="1125360"/>
            <a:ext cx="2376360" cy="64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7-2=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58920" y="2276280"/>
            <a:ext cx="76960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695760" cy="2571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971640" y="765000"/>
            <a:ext cx="676908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4:16:04Z</dcterms:created>
  <dc:creator>Илья</dc:creator>
  <dc:description/>
  <dc:language>en-US</dc:language>
  <cp:lastModifiedBy>Илья</cp:lastModifiedBy>
  <dcterms:modified xsi:type="dcterms:W3CDTF">2013-11-05T16:41:05Z</dcterms:modified>
  <cp:revision>2</cp:revision>
  <dc:subject/>
  <dc:title>Счёт в пределах 10. Решение задач.</dc:title>
</cp:coreProperties>
</file>