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789-71FB-46E0-84C9-2490DE49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AE3-705E-4813-8468-3EA91CE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9BB-E0C8-4F6D-92EF-DFCDB687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539-F173-4E41-9C3F-5C1A226B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AA1-451B-4EDB-A84C-56B2B979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7C1A-01E2-4A45-9834-C844616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C2C-15B3-47C6-A7F2-0418A4E0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74C-449D-4362-A572-E94D17E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1D56-E07E-4B6A-AC9B-C623D3A5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5FEC-965A-4104-86C6-D1F043E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DD6-17A0-481F-8BD7-3FD5E75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6E2-12A8-496D-BD05-EA56D902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0C8-34A1-480C-B0EC-349E2DB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24E8-4A7E-4551-9BF7-D6967AF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CE0F-978C-4971-BCF0-76B4F166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98B-B078-4806-925B-115AC93E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D131-86C2-473B-9FA6-895AC989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A18-E86C-47C1-9B22-F01FA3AB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C7F-4AFC-4A2B-84DA-32714C59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63F-8A4B-49A1-9965-02F23DA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33F-DC9C-493C-9CBB-BD299F7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7EC-ABDD-4150-B511-E472254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910-F6F1-4B54-AA1A-217A89E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BE9-D81F-4809-8176-013753F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110-6FB3-4C86-A69B-CF24893BFE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A33-0454-4401-80A6-17B7C6EFA1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чёт в пределах 10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ескина И.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14284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87400" y="2017800"/>
            <a:ext cx="4965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знайка и его друзья убирают урожай груш и яблок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00360" y="2205000"/>
            <a:ext cx="403236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Незнайка и его друзья убир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урожай груш и ябл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645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оставь условие и задай вопрос задачи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сег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груш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ябло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 скольк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груш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больш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чем яблок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 скольк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яблок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меньш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чем груш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=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324036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2554560" cy="255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520040" y="189000"/>
            <a:ext cx="1492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 домики вместе с Незнайкой и Знайкой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199080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306864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422100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537372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249228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479736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537372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22100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3645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479736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537372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3068640"/>
            <a:ext cx="57600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2492280"/>
            <a:ext cx="57636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1700280"/>
            <a:ext cx="1224000" cy="792000"/>
          </a:xfrm>
          <a:prstGeom prst="triangle">
            <a:avLst>
              <a:gd name="adj" fmla="val 5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моги Незнайке заполнить окошечки, не меняя цифр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   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1428840" cy="2533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6364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4005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5280" y="3068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198900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198900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198900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5084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393372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2060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08720" y="2997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3068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508464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35280" y="4005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35280" y="508464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01336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198900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997360"/>
            <a:ext cx="50508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501336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4005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5013360"/>
            <a:ext cx="504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08720" y="3933720"/>
            <a:ext cx="50508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997360"/>
            <a:ext cx="50472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1916280"/>
            <a:ext cx="71640" cy="4752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79280" y="587700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042920" y="633744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616572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1258920" y="580536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651640" y="602136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5219640" y="5734080"/>
            <a:ext cx="520920" cy="520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588000" y="566100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7093080" y="566100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759636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2"/>
          <a:stretch/>
        </p:blipFill>
        <p:spPr>
          <a:xfrm>
            <a:off x="810108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3"/>
          <a:stretch/>
        </p:blipFill>
        <p:spPr>
          <a:xfrm>
            <a:off x="7164360" y="626112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6659640" y="626112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"/>
          <a:stretch/>
        </p:blipFill>
        <p:spPr>
          <a:xfrm>
            <a:off x="6107040" y="5734080"/>
            <a:ext cx="568440" cy="57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"/>
          <a:stretch/>
        </p:blipFill>
        <p:spPr>
          <a:xfrm>
            <a:off x="3059280" y="57340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7"/>
          <a:stretch/>
        </p:blipFill>
        <p:spPr>
          <a:xfrm>
            <a:off x="2484360" y="609300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3564000" y="587700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9"/>
          <a:stretch/>
        </p:blipFill>
        <p:spPr>
          <a:xfrm>
            <a:off x="4211640" y="6093000"/>
            <a:ext cx="590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йди правильное решение задач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201780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нопочка собрала 8 яблок, 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знайка 10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сколько больше яблок собрал Незнайк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62728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06728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56400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05928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55600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2050920" y="2565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476360" y="2565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900000" y="2565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24000" y="2492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154764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104292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53964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4643280" y="357336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6"/>
          <a:stretch/>
        </p:blipFill>
        <p:spPr>
          <a:xfrm>
            <a:off x="4140360" y="357336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7"/>
          <a:stretch/>
        </p:blipFill>
        <p:spPr>
          <a:xfrm>
            <a:off x="3635280" y="3500280"/>
            <a:ext cx="590760" cy="596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8"/>
          <a:stretch/>
        </p:blipFill>
        <p:spPr>
          <a:xfrm>
            <a:off x="305928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"/>
          <a:stretch/>
        </p:blipFill>
        <p:spPr>
          <a:xfrm>
            <a:off x="2556000" y="3500280"/>
            <a:ext cx="590400" cy="596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0"/>
          <a:stretch/>
        </p:blipFill>
        <p:spPr>
          <a:xfrm>
            <a:off x="2050920" y="3500280"/>
            <a:ext cx="590760" cy="59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580000" y="2060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234936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8+10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522936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+8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42900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10+8=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00720" y="4292640"/>
            <a:ext cx="187164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10-8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5640" y="214200"/>
            <a:ext cx="74883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оставь условие и задай вопрос задачи, чтобы она решалась:                         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7+2=9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77080" y="4943520"/>
            <a:ext cx="2146320" cy="1776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2049480" cy="204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2247840" cy="1619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1547640" y="450864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5508720" y="1844640"/>
            <a:ext cx="2950920" cy="1889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88000" y="2060640"/>
            <a:ext cx="0" cy="403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1125360"/>
            <a:ext cx="2376360" cy="64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7-2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58920" y="2276280"/>
            <a:ext cx="769608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695760" cy="2571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971640" y="765000"/>
            <a:ext cx="676908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4:16:04Z</dcterms:created>
  <dc:creator>Илья</dc:creator>
  <dc:description/>
  <dc:language>en-US</dc:language>
  <cp:lastModifiedBy>Илья</cp:lastModifiedBy>
  <dcterms:modified xsi:type="dcterms:W3CDTF">2013-11-05T16:41:05Z</dcterms:modified>
  <cp:revision>2</cp:revision>
  <dc:subject/>
  <dc:title>Счёт в пределах 10. Решение задач.</dc:title>
</cp:coreProperties>
</file>