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B45-7F64-40FB-829B-B784F23E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76B-6B1D-480F-A36C-7EA074E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9D0-9AC3-428A-9D74-00D04108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046-8A3A-40F3-8429-7C0F6438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0F8-8F08-4599-9388-C5825C0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1D3-9D8D-4C22-B0D0-217BCBA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CF3-0652-44C2-8CF5-ACA5D4C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FA6-25B9-489C-A286-59DD5B04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7DC-CD45-4EA0-B739-61F8F81B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040-46BA-49D9-9991-96E3653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7C9-98B5-4A89-9668-C4621DE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DC5-26B4-4137-ACB0-018A829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8B6-772E-4D3D-89BC-F73D2E7AA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ФАГОР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570 г. до н. э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смерти: 490 г. до н. э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ождения: Са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642760"/>
            <a:ext cx="8786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ажнейшей научной заслугой Пифагора считается систематическое введение доказательства в математику, и, прежде всего, в геометрию. Строго говоря, только с этого момента математика и начинает существовать как наука, а не как собрание древнеегипетских и древневавилонских практических рецептов. С рождением же математики зарождается и наука вообще, ибо «ни одно человеческое исследование не может называться истинной наукой, если оно не прошло через математические доказательства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С юного возраста Пифагор тянулся к знаниям и путешествиям. В 18 лет он покинул родной остров и отправился в чужие края. Он побывал на Востоке в Египте, Вавилоне и Финикии. В самом Египте, он прожил около 22 лет, где по некоторым данным постигал тайные эзотерические учения жрецов — «посвященных», а так же изучал астрономию, математику и другие науки. Специально для этого Пифагор выучил египетский язык.</a:t>
            </a:r>
            <a:br>
              <a:rPr sz="1300"/>
            </a:b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 Вавилон Пифагор попал в качестве пленника персидского царя Камбиза, который завоевал Египет в 525 г. до н.э., там он прожил 12 ле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Был сыном Мнесарха. Однажды Мнесарх прибыл в неурожайный год на остров Самос по своим торговым делам. Там на острове и родился его сын Пифагор, которого отец часто брал с собой в деловые поездки. Благодаря им у мальчика развилась любознательность и желание познать ново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Пифагор — это не имя, а прозвище, данное ему за то, что он высказывал истину так же постоянно, как дельфийский оракул («Пифагор» значит «убеждающий речью»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В результате первой же прочитанной лекции Пифагор приобрел 2000 учеников, которые не вернулись домой, а вместе со своими женами и детьми образовали громадную школу и создали государство, названное «Великая Греция», в основу которого были положены законы и правила Пифагор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Был склонен к мистификациям и «демонстративности» в поведен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Calibri"/>
              </a:rPr>
              <a:t>Пифагор уделял большое значение физическим упражнениям, был олимпийским чемпионом по кулачному бо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Москва\Рабочий стол\0_blog_19478_1.jpg"/>
          <p:cNvPicPr/>
          <p:nvPr/>
        </p:nvPicPr>
        <p:blipFill>
          <a:blip r:embed="rId1"/>
          <a:stretch/>
        </p:blipFill>
        <p:spPr>
          <a:xfrm>
            <a:off x="214200" y="142920"/>
            <a:ext cx="1785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8:15:11Z</dcterms:created>
  <dc:creator>Москва</dc:creator>
  <dc:description/>
  <dc:language>en-US</dc:language>
  <cp:lastModifiedBy>Москва</cp:lastModifiedBy>
  <dcterms:modified xsi:type="dcterms:W3CDTF">2014-01-20T18:31:14Z</dcterms:modified>
  <cp:revision>2</cp:revision>
  <dc:subject/>
  <dc:title>ПИФАГОР Дата рождения: 570 г. до н. э. Дата смерти: 490 г. до н. э. Место рождения: Самос</dc:title>
</cp:coreProperties>
</file>