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D42-0E44-43BA-9706-C876C60C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1C6-ED6D-4890-9A25-7123A8D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1FA-21ED-4FA2-A61E-7B12240A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AC2-FB47-4776-B357-691C4CB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5693-536D-4047-AA7F-55E63318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DB14-1EC7-4A90-8DA1-963F9C2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ECC-91DE-4A91-9D44-870DEE0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5FE-E481-48DF-A395-A7EC2F3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57C5-5381-41CA-B135-F38CEBA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E7CF-3B19-4889-981B-ECF2636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1F6A-22F5-40D0-8473-E7B6017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2B-8DAD-4A92-8C7F-1118A52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2AB-6848-4632-83EF-A843691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D83-5A16-4CE5-891F-E1E3C08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767A-E173-4D89-9B55-ED602CE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20D-3777-43DC-BFB5-55AA68C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CA9-AC5F-4103-8E3C-8B28CC39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ADD-288B-48F3-ABEE-59468D7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9D2-2269-465F-B452-FC4B05F9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4DA-25C5-4E87-BE7D-D92EFD5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77A-D755-4762-BDA7-539DC5B6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467-10C6-4E76-9FF9-1913419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DD1-0F5C-4024-B63A-FEF3003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11A-5335-4195-A836-A9CB18B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9aac9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62D-0DFA-432C-B33E-EF7B2D71BA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9aac9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277-4EAF-421A-BE00-A2DA433B45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2221"/>
                </a:solidFill>
                <a:latin typeface="Arial"/>
              </a:rPr>
              <a:t>Система работы по подготовке к ГИА по математике в 9 классе</a:t>
            </a:r>
            <a:r>
              <a:rPr b="0" lang="ru-RU" sz="36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ние по теме: «Влияние системы контроля на результат экзаме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Емельянова С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387720"/>
            <a:ext cx="6048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0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у контроля уровня ЗУН предлагаю включить зачётный лист . На этом листе перечисляются все тренировочные, диагностические работы, зачеты по темам. После проведения  работы в зачётный лист выставляется отметка. Если ученик получил неудовлетворительную отметку по зачету, ему предоставляется возможность отработать свои ошибки, и затем обязательно пересдать. Родители поставлены в известность о том, какие оценки и баллы набрали их дети , поставили свою подпись. По зачетному листу родители получают возможность следить за подготовкой, своевременно принимать меры по коррекции знаний ребёнка. Такую систему контроля вводить лучше как можно раньше, но обязательно в 9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0405481"/>
          <p:cNvPicPr/>
          <p:nvPr/>
        </p:nvPicPr>
        <p:blipFill>
          <a:blip r:embed="rId1"/>
          <a:stretch/>
        </p:blipFill>
        <p:spPr>
          <a:xfrm>
            <a:off x="7380360" y="5437080"/>
            <a:ext cx="14889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Темы для итогового повторения:</a:t>
            </a:r>
            <a:r>
              <a:rPr b="0" lang="ru-RU" sz="40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я (линейные, квадрат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венства с одной переменной (линейные, квадра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я и их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о теории, вероя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графиков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етическая и геометрическая прогре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ое отличие экзаменационной работы 2012 г. 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. В соответствии с ним в работе представле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сновные разделы курса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ой школы, определенные Федеральным компонентом государственного стандарта основного общего образования,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фметика, алгебра, геометрия, теория вероятностей и стат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532720" y="1981080"/>
            <a:ext cx="7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723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1 содержит 18 заданий, из 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заданий по арифметике и алгебре, 4 задания по геометрии, 2 задания по теории вероятностей и статисти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и в предыдущие годы в этой части представлены задания трех форм: с выбором одного ответа из четырех предложенных вариантов (3 задания), с кратким ответом (14 заданий) и на установление соответствия между объектами двух множеств (1 задание), предпочтение отдается заданиям с кратким ответом. В отличие от прошлых лет задания не группируются по тематическим блокам, 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агаются произво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сновном, от более простых к более тру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2 содержит 5 заданий, из 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гео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дно повышенного уровня, одно - высокого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алгеб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два повышенного уровня, одно - высо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73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заменационной работе модели 2012 г. усиле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ко-ориентированная составля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оговой проверки: в первую часть включены задания, выполнение которых свидетельствует о наличии у девятиклассников общематематических навыков, необходимых человеку в современном обществе. Они проверяют наличие логических умений, вычислительных навыков, умение анализировать информацию, представленную на диаграммах, графиках, в таблицах, использовать простейшие вероятностные и статистические модели, ориентироваться в простейших геометрических конструк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из демо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участия в семинаре – 3000 р. с человека. Группам от организаций предоставляются скидки: от 3 до 10 человек – 5%; более 10 человек – 8%. Сколько должна заплатить организация, направившая на семинар группу из 8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2 г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роговое значение рекомендуется установить на уров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-8 балл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этом, получение выпускник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8 до 15 б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идетельствует о наличие у н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итель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й по предмету,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 до 19 баллов - хоро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0 до 34 – отлич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5824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2221"/>
                </a:solidFill>
                <a:latin typeface="Arial"/>
              </a:rPr>
              <a:t>Я использую следующую  систему работы по подготовке к ГИА по математике в 9 классе:</a:t>
            </a: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2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тирую тематическое планирование, таким образом, чтобы осталось достаточное число часов на повторение всего учебного материала. Часы экономлю на тех, которые не требуют выработки навыков, а проходят в плане ознакомления, а также сокращаю число часов на отработку навыков невостребованных 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ю в изучение текущего учебного материала задания, соответствующие экзаменационным зад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держание текущего контроля включаю экзаменацио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ый урок, стараюсь, обязательно включать задания из вариантов 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овое повторение строю  на отработке умений и навыков, требующихся для получения положительной отметки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у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д уровнем знаний учащихся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g0405481"/>
          <p:cNvPicPr/>
          <p:nvPr/>
        </p:nvPicPr>
        <p:blipFill>
          <a:blip r:embed="rId1"/>
          <a:stretch/>
        </p:blipFill>
        <p:spPr>
          <a:xfrm>
            <a:off x="7164360" y="5270400"/>
            <a:ext cx="1704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Я предлагаю </a:t>
            </a:r>
            <a:r>
              <a:rPr b="1" lang="ru-RU" sz="2400" spc="-1" strike="noStrike">
                <a:solidFill>
                  <a:srgbClr val="372221"/>
                </a:solidFill>
                <a:latin typeface="Arial"/>
              </a:rPr>
              <a:t>систему контроля</a:t>
            </a: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, которая: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ит учителю иметь постоянную информацию об уровне  овладения учебным материалом по каждой теме, своевременно принимать меры по коррекции пробе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ысит мотивацию учащихся к 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-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может привлечь родителей непосредственно к учебному процессу, повысить их ответственность за обучение 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8:23:43Z</dcterms:created>
  <dc:creator>сш54</dc:creator>
  <dc:description/>
  <dc:language>en-US</dc:language>
  <cp:lastModifiedBy>Loner-XP</cp:lastModifiedBy>
  <dcterms:modified xsi:type="dcterms:W3CDTF">2012-06-25T17:43:52Z</dcterms:modified>
  <cp:revision>6</cp:revision>
  <dc:subject/>
  <dc:title>Система работы по подготовке к ГИА по математике в 9 классе </dc:title>
</cp:coreProperties>
</file>