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CA1-AB35-4294-9CA0-D17F13C1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4EB-0E2B-4FBD-BCF1-0664FCC5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DF4-6E55-407E-83C4-2B4B62A1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1B0-35F0-4CFA-AEE5-681B4D78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7EC8-E8DA-4054-8147-4E0179B8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FCA0-B978-46AB-9875-C94C36A8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E9F-31F7-4478-9AFB-CFBD772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F965-489C-4DE9-9261-025DE4FD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F668-7758-4002-B885-2E55183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9AA-1703-44D2-A71E-2BD04F1F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8063-DFB7-4803-85E0-DCAE9C3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33A-D79C-4A2B-A64A-24ADABE4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9762-2461-40BB-9CEA-44505CE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765-6CBE-4ADE-A711-8A22D52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668D-AE26-4502-BD07-7B90C8E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7F68-7AD7-44C6-9485-D5111BE2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074A-46CA-43F5-8CD0-C73554A4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4A3-8ABD-4E6D-B5CF-BEBA7D1B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4B6-CB17-448A-B9A0-D8414C2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25D-AD45-430E-BF8A-52D5523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9C3-FFEB-40AA-A5C5-8DBBB7A6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F72-9A93-4C49-AECB-F032B8E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63B-C516-4131-AC71-46C2C1F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7A3-C842-4A07-8025-E4145F8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9aac9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7C6-6EC3-4D2F-AF5F-91D4A90BA8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9aac9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430-2980-4184-8281-DD1E4E489C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2221"/>
                </a:solidFill>
                <a:latin typeface="Arial"/>
              </a:rPr>
              <a:t>Система работы по подготовке к ГИА по математике в 9 классе</a:t>
            </a:r>
            <a:r>
              <a:rPr b="0" lang="ru-RU" sz="3600" spc="-1" strike="noStrike">
                <a:solidFill>
                  <a:srgbClr val="3722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ние по теме: «Влияние системы контроля на результат экзаме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Емельянова С.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-387720"/>
            <a:ext cx="6048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0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у контроля уровня ЗУН предлагаю включить зачётный лист . На этом листе перечисляются все тренировочные, диагностические работы, зачеты по темам. После проведения  работы в зачётный лист выставляется отметка. Если ученик получил неудовлетворительную отметку по зачету, ему предоставляется возможность отработать свои ошибки, и затем обязательно пересдать. Родители поставлены в известность о том, какие оценки и баллы набрали их дети , поставили свою подпись. По зачетному листу родители получают возможность следить за подготовкой, своевременно принимать меры по коррекции знаний ребёнка. Такую систему контроля вводить лучше как можно раньше, но обязательно в 9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g0405481"/>
          <p:cNvPicPr/>
          <p:nvPr/>
        </p:nvPicPr>
        <p:blipFill>
          <a:blip r:embed="rId1"/>
          <a:stretch/>
        </p:blipFill>
        <p:spPr>
          <a:xfrm>
            <a:off x="7380360" y="5437080"/>
            <a:ext cx="14889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2221"/>
                </a:solidFill>
                <a:latin typeface="Arial"/>
              </a:rPr>
              <a:t>Темы для итогового повторения:</a:t>
            </a:r>
            <a:r>
              <a:rPr b="0" lang="ru-RU" sz="4000" spc="-1" strike="noStrike">
                <a:solidFill>
                  <a:srgbClr val="37222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я (линейные, квадратны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авенства с одной переменной (линейные, квадра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я и их пре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по теории, вероя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графиков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етическая и геометрическая прогрес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геометрических фиг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фиг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ое отличие экзаменационной работы 2012 г. 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. В соответствии с ним в работе представле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основные разделы курса матема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ой школы, определенные Федеральным компонентом государственного стандарта основного общего образования,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ифметика, алгебра, геометрия, теория вероятностей и стат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532720" y="1981080"/>
            <a:ext cx="7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723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1 содержит 18 заданий, из н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 заданий по арифметике и алгебре, 4 задания по геометрии, 2 задания по теории вероятностей и статисти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 и в предыдущие годы в этой части представлены задания трех форм: с выбором одного ответа из четырех предложенных вариантов (3 задания), с кратким ответом (14 заданий) и на установление соответствия между объектами двух множеств (1 задание), предпочтение отдается заданиям с кратким ответом. В отличие от прошлых лет задания не группируются по тематическим блокам, 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агаются произво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сновном, от более простых к более тру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2 содержит 5 заданий, из н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геоме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дно повышенного уровня, одно - высокого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алгеб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два повышенного уровня, одно - высо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734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кзаменационной работе модели 2012 г. усиле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ко-ориентированная составля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оговой проверки: в первую часть включены задания, выполнение которых свидетельствует о наличии у девятиклассников общематематических навыков, необходимых человеку в современном обществе. Они проверяют наличие логических умений, вычислительных навыков, умение анализировать информацию, представленную на диаграммах, графиках, в таблицах, использовать простейшие вероятностные и статистические модели, ориентироваться в простейших геометрических конструк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из демо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участия в семинаре – 3000 р. с человека. Группам от организаций предоставляются скидки: от 3 до 10 человек – 5%; более 10 человек – 8%. Сколько должна заплатить организация, направившая на семинар группу из 8 челов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2 г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роговое значение рекомендуется установить на уровн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-8 балл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этом, получение выпускник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8 до 15 б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идетельствует о наличие у н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итель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ний по предмету, 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 до 19 баллов - хоро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0 до 34 – отлич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15824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2221"/>
                </a:solidFill>
                <a:latin typeface="Arial"/>
              </a:rPr>
              <a:t>Я использую следующую  систему работы по подготовке к ГИА по математике в 9 классе:</a:t>
            </a: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2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тирую тематическое планирование, таким образом, чтобы осталось достаточное число часов на повторение всего учебного материала. Часы экономлю на тех, которые не требуют выработки навыков, а проходят в плане ознакомления, а также сокращаю число часов на отработку навыков невостребованных 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ю в изучение текущего учебного материала задания, соответствующие экзаменационным зад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держание текущего контроля включаю экзаменацион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ый урок, стараюсь, обязательно включать задания из вариантов 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овое повторение строю  на отработке умений и навыков, требующихся для получения положительной отметки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у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д уровнем знаний учащихся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g0405481"/>
          <p:cNvPicPr/>
          <p:nvPr/>
        </p:nvPicPr>
        <p:blipFill>
          <a:blip r:embed="rId1"/>
          <a:stretch/>
        </p:blipFill>
        <p:spPr>
          <a:xfrm>
            <a:off x="7164360" y="5270400"/>
            <a:ext cx="1704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2221"/>
                </a:solidFill>
                <a:latin typeface="Arial"/>
              </a:rPr>
              <a:t>Я предлагаю </a:t>
            </a:r>
            <a:r>
              <a:rPr b="1" lang="ru-RU" sz="2400" spc="-1" strike="noStrike">
                <a:solidFill>
                  <a:srgbClr val="372221"/>
                </a:solidFill>
                <a:latin typeface="Arial"/>
              </a:rPr>
              <a:t>систему контроля</a:t>
            </a:r>
            <a:r>
              <a:rPr b="0" lang="ru-RU" sz="2400" spc="-1" strike="noStrike">
                <a:solidFill>
                  <a:srgbClr val="372221"/>
                </a:solidFill>
                <a:latin typeface="Arial"/>
              </a:rPr>
              <a:t>, которая: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-пер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ит учителю иметь постоянную информацию об уровне  овладения учебным материалом по каждой теме, своевременно принимать меры по коррекции пробе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-втор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ысит мотивацию учащихся к у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-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может привлечь родителей непосредственно к учебному процессу, повысить их ответственность за обучение 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g0405481"/>
          <p:cNvPicPr/>
          <p:nvPr/>
        </p:nvPicPr>
        <p:blipFill>
          <a:blip r:embed="rId1"/>
          <a:stretch/>
        </p:blipFill>
        <p:spPr>
          <a:xfrm>
            <a:off x="7020000" y="5157720"/>
            <a:ext cx="1849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8:23:43Z</dcterms:created>
  <dc:creator>сш54</dc:creator>
  <dc:description/>
  <dc:language>en-US</dc:language>
  <cp:lastModifiedBy>Loner-XP</cp:lastModifiedBy>
  <dcterms:modified xsi:type="dcterms:W3CDTF">2012-06-25T17:43:52Z</dcterms:modified>
  <cp:revision>6</cp:revision>
  <dc:subject/>
  <dc:title>Система работы по подготовке к ГИА по математике в 9 классе </dc:title>
</cp:coreProperties>
</file>