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595-48DD-4C01-BF88-81176C71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225-2798-4DE6-8416-C67C781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2E2-221B-4B6D-9903-313C9F4A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CB6-725E-4220-A355-B7671698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DF2-C5AF-4B9D-AF18-F6B61D0A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3694-C1B9-4FF1-A091-0ED4EAF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3E46-A5AB-481E-B8C7-4B119A95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11D8-C6B9-44A1-A245-93DE09C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FE63-0D66-4E10-AD7E-7794EFCC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3BB5-532C-46ED-BEF9-C7E7A9FB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93C7-064D-404A-873D-38B4C840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952-9F79-4DB9-83E5-254F6E0B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7683-322E-44D0-96F0-BB73155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D0E1-402E-4171-9828-2B7BF4B2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B7AA-645A-477F-B79B-B37A6618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EA22-4EDD-4A8F-B825-BFCB5A14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4E96-02BE-4D08-A202-0CEC68C4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E980E-0067-40B4-A549-E03B812B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0F53F-AF7D-42AB-B0E4-7F4EB9EC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BAC7D-5B2D-487C-AA95-0C016FAA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B55F8-4059-4675-B744-6B1DA29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943CB-5572-416F-B8BE-CBF6B900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FAE-0E80-458C-B99F-347ED80E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15E99-F674-4131-B84C-252D9861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41D29-F072-4518-B06A-7E8E40FE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D8E31-DA77-47C1-9D90-89FC4D6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B24AC-0CBB-4A65-94C6-E457635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D2C9A-B0EC-4ADD-BE73-DA8E95E0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DA88E-EA58-4086-89EE-77395D0F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3B919-0275-4CB2-ACE0-4C000864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BDD4-5596-4CAC-8081-813B166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3995-F283-4D7A-9E1E-3C82A33B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3A91-3322-4276-A0CB-81E6012D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DF5-8E2D-465A-A775-C06370FD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22BC-DB72-499B-BFE9-49B0A330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F4C2-038A-438E-830E-36AEF58F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EB67-D57A-4181-B8BF-89F16952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609FA-18C3-41F4-9A26-7D2F1B14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3C30-FEB1-4B0A-8C50-41DE9E3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3DB3-7D7E-40CA-89A6-FB50C933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C70B-79E3-4CBB-9E59-DDFB1995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5DEC-830F-4B09-B898-0D0F07FB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1425-1121-41D0-BB1C-C786D642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6ED-56C0-4E8E-BF98-B5BEE576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B89-BC99-4586-BF71-8DEF4026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AA2-6907-4EF7-A4B7-22D7E6E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1A6-3402-49DA-B119-F87223A8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346-4AE4-409E-8A61-F808BCD8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E202-4030-4108-9565-1B6D5E43306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7414-25BB-4EFE-BB25-BAF18552FBBF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1893-A342-473D-A6CF-C956D4F387A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F151-A6AF-4C2E-ADC8-59A93B0302F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Times New Roman"/>
              </a:rPr>
              <a:t>СЛО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64292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Times New Roman"/>
              </a:rPr>
              <a:t>Выполнил ученик 4 б класса Мороз Владислав</a:t>
            </a: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30320" y="981000"/>
            <a:ext cx="444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02468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692280"/>
            <a:ext cx="67770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imes New Roman"/>
              </a:rPr>
              <a:t>Слон — самое большое наземное животное Земли, хотя индийский слон немного меньше, чем его африканский кузен. В этой подборке Вы полюбуетесь интересными фотографиями слонов, а также узнаете о ряде интересных фактов, связанных с этим животным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539640" y="3032280"/>
            <a:ext cx="3745080" cy="3278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4284720" y="3032280"/>
            <a:ext cx="4319640" cy="3278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37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e3d2d"/>
                </a:solidFill>
                <a:latin typeface="Times New Roman"/>
              </a:rPr>
              <a:t>Слоны — удивительные животные. Они очень любят воду, они любят "принимать душ" поливая себя с помощью своего многофункционального хобота. Хобот для слона необходим, он благодаря ему не только принимает душ. Хобот у слона это  длинный нос с различными функциями. Он благодаря ему дышит, нюхает, пьет, захватывает еду, и даже издает звуки:) Один только хобот содержит приблизительно 100 000 мускулов. У индийских слонов есть на конце хобота небольшой отросток похожий на палец, который они могут использовать, чтобы брать какие-то небольшие предметы (у Африканского слона подобных "пальцев"  два) Так же у слонов очень мощные бивни. Слоновая кость очень ценится у людей, поэтому множество слонов убивают ради их бивней. Сейчас торговля слоновой кости незаконна, но все же она не устранена полностью.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341000"/>
            <a:ext cx="6777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d2d"/>
                </a:solidFill>
                <a:latin typeface="Times New Roman"/>
              </a:rPr>
              <a:t>Третья часть слоновьих бивней скрыта в теле животного, а слонов с большими бивнями сейчас практически не осталось, так как все они были уничтожены охотниками за слоновой костью. Бивни растут на протяжение всей жизни животного, чем старше слон — тем больше бивни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1714680" y="278136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692280"/>
            <a:ext cx="67770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Times New Roman"/>
              </a:rPr>
              <a:t>Согласно примерным расчетам ученых, слон питается не менее 16 часов в сутки, поглощая за всё это время около 45 — 450 килограмм различной растительности. В зависимости от погодных условий, слон выпивает 100-300 литров воды в день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1749600" y="2637000"/>
            <a:ext cx="571500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981000"/>
            <a:ext cx="67770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d2d"/>
                </a:solidFill>
                <a:latin typeface="Times New Roman"/>
              </a:rPr>
              <a:t>Слоны обычно держатся стадами, где все особи связаны родством. Они умеют приветствовать друг друга, старательно заботятся о потомстве, и всегда хранят верность стаду. Если кто-либо из членов стада погибает, другие слоны сильно грустят. Слоны также одни из тех животных, которые умеют смеятьс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981000"/>
            <a:ext cx="67788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</a:rPr>
              <a:t>Продолжительность жизни у слонов в среднем равна человеческой, как правило это 70 ле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638360" y="2565360"/>
            <a:ext cx="5715000" cy="363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9:23:32Z</dcterms:created>
  <dc:creator>User</dc:creator>
  <dc:description/>
  <dc:language>en-US</dc:language>
  <cp:lastModifiedBy>Админ</cp:lastModifiedBy>
  <dcterms:modified xsi:type="dcterms:W3CDTF">2014-01-30T03:15:36Z</dcterms:modified>
  <cp:revision>5</cp:revision>
  <dc:subject/>
  <dc:title>СЛОН</dc:title>
</cp:coreProperties>
</file>