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D2F8-BE77-42E2-9F98-71CB5A03C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33E8-E9B0-421A-A825-968465D64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84A4-4488-415F-B031-9716EA1F5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7F69-9B5D-451E-860D-2A56CFA98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20ED0-8163-4D1E-9F17-241E2B977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E9916-4D58-4E75-8F3E-F72ACC2B4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9306B-67AC-4609-8AE6-1D79B3BC5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E7260-1525-4D0D-B93B-8EE2EA292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3921C-C961-4A2A-BFC6-0BB443053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DF3A9-46D1-426B-B4C9-908190A20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029F9-121C-4798-97BA-5B5FCF33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65C7-FF33-4E4F-BB08-E8F1462FB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D29EC-7344-47A2-B808-20CE0E93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B7C64-90C3-41AC-81A4-AD661564A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2B9A9-4B9E-46D5-A833-F994C8143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105A8-66A0-4903-9D70-FF0D7BB4A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D9BE4-4854-4005-B53E-BEABC84B3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A5F3D9-030D-42BC-9CB7-BBB9F4C5E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59F2BB-5364-4293-85EE-B4D5DBB73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366495-9FED-4DA5-AE54-558AA92D4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FFE438-D6CF-4457-9CB8-29AD3886A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8BC706-4A2C-44A3-BD5E-FE6886808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C90E-905A-4072-88C2-32CCCDB4D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EECE66-68E2-4C9B-AF50-8096F993E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AD4331-6318-40A8-9FC7-02D9C2EB6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4CFB07-ED85-4A54-B2F6-74CA40E1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5FF096-6F14-4515-A13A-F95748669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2065A6-4531-4ADF-9F42-037E510FB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2553ED-8800-4ED0-8A4E-DC89C2541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DE71CC-300D-43C9-A6CD-1C7E6F185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96973-930A-4E44-BE3D-F639C6DC6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63554-C391-4358-90D2-F1E534EA2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0C99A-CE17-45A3-9B65-A46C05E37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3796-DF15-46E2-A739-70C275838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6B03B-92BC-447B-A7A8-9694DA3AE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98507-189B-4403-AA96-302966DEE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0D2C1-DCFE-4DFE-867C-096346E6B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9A812-BC0C-4277-AB59-5BC80708F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E2204-F8CC-4543-8410-6914F815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D7217-4467-411D-A94D-DD3043012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E56C6-9299-4D1F-9F8F-DD4F28109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55F74-CEAD-44C9-B648-F9AF16DC9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784BE-7164-436E-9551-53AAE9767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D121-FCC6-4139-8C38-5DC678CDD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2AC6-72C0-4C2B-AAB8-BCE874DBA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0E04-2060-40D4-BCAA-B2A238987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A08B-801E-458B-8C9F-635411E7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12EA-FFF7-4B76-B30D-32DBAD8C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080" cy="7116840"/>
            <a:chOff x="-567360" y="0"/>
            <a:chExt cx="10459080" cy="711684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552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552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552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508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3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800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736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496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4104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56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188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3032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428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796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6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336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28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32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32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440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0F68C-2774-44F1-9F55-7474858535B7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975F0-26F1-457D-82AE-23435FD58A7C}" type="slidenum">
              <a:rPr b="0" lang="en-US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8562B-885C-4D7E-BBA3-F71D58CF1369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46897-A753-417E-89EA-6CCCEDAD2C1E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4c600"/>
                </a:solidFill>
                <a:latin typeface="Times New Roman"/>
              </a:rPr>
              <a:t>СЛОН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642920" y="4436640"/>
            <a:ext cx="331020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242"/>
                </a:solidFill>
                <a:latin typeface="Times New Roman"/>
              </a:rPr>
              <a:t>Выполнил ученик 4 б класса Мороз Владислав</a:t>
            </a:r>
            <a:r>
              <a:rPr b="0" lang="en-US" sz="1800" spc="-1" strike="noStrike">
                <a:solidFill>
                  <a:srgbClr val="424242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37" name="Picture 2" descr=""/>
          <p:cNvPicPr/>
          <p:nvPr/>
        </p:nvPicPr>
        <p:blipFill>
          <a:blip r:embed="rId1"/>
          <a:stretch/>
        </p:blipFill>
        <p:spPr>
          <a:xfrm>
            <a:off x="130320" y="981000"/>
            <a:ext cx="4441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42560" y="1052640"/>
            <a:ext cx="7024680" cy="111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 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042560" y="692280"/>
            <a:ext cx="6777000" cy="51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Times New Roman"/>
              </a:rPr>
              <a:t>Слон — самое большое наземное животное Земли, хотя индийский слон немного меньше, чем его африканский кузен. В этой подборке Вы полюбуетесь интересными фотографиями слонов, а также узнаете о ряде интересных фактов, связанных с этим животным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40" name="Picture 2" descr=""/>
          <p:cNvPicPr/>
          <p:nvPr/>
        </p:nvPicPr>
        <p:blipFill>
          <a:blip r:embed="rId1"/>
          <a:stretch/>
        </p:blipFill>
        <p:spPr>
          <a:xfrm>
            <a:off x="539640" y="3032280"/>
            <a:ext cx="3745080" cy="32781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3" descr=""/>
          <p:cNvPicPr/>
          <p:nvPr/>
        </p:nvPicPr>
        <p:blipFill>
          <a:blip r:embed="rId2"/>
          <a:stretch/>
        </p:blipFill>
        <p:spPr>
          <a:xfrm>
            <a:off x="4284720" y="3032280"/>
            <a:ext cx="4319640" cy="32781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374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e3d2d"/>
                </a:solidFill>
                <a:latin typeface="Times New Roman"/>
              </a:rPr>
              <a:t>Слоны — удивительные животные. Они очень любят воду, они любят "принимать душ" поливая себя с помощью своего многофункционального хобота. Хобот для слона необходим, он благодаря ему не только принимает душ. Хобот у слона это  длинный нос с различными функциями. Он благодаря ему дышит, нюхает, пьет, захватывает еду, и даже издает звуки:) Один только хобот содержит приблизительно 100 000 мускулов. У индийских слонов есть на конце хобота небольшой отросток похожий на палец, который они могут использовать, чтобы брать какие-то небольшие предметы (у Африканского слона подобных "пальцев"  два) Так же у слонов очень мощные бивни. Слоновая кость очень ценится у людей, поэтому множество слонов убивают ради их бивней. Сейчас торговля слоновой кости незаконна, но все же она не устранена полностью.</a:t>
            </a:r>
            <a:endParaRPr b="0" lang="en-US" sz="15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042560" y="1341000"/>
            <a:ext cx="6777000" cy="44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4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e3d2d"/>
                </a:solidFill>
                <a:latin typeface="Times New Roman"/>
              </a:rPr>
              <a:t>Третья часть слоновьих бивней скрыта в теле животного, а слонов с большими бивнями сейчас практически не осталось, так как все они были уничтожены охотниками за слоновой костью. Бивни растут на протяжение всей жизни животного, чем старше слон — тем больше бивни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46" name="Picture 3" descr=""/>
          <p:cNvPicPr/>
          <p:nvPr/>
        </p:nvPicPr>
        <p:blipFill>
          <a:blip r:embed="rId1"/>
          <a:stretch/>
        </p:blipFill>
        <p:spPr>
          <a:xfrm>
            <a:off x="1714680" y="2781360"/>
            <a:ext cx="5715000" cy="35719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042560" y="692280"/>
            <a:ext cx="6777000" cy="51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Times New Roman"/>
              </a:rPr>
              <a:t>Согласно примерным расчетам ученых, слон питается не менее 16 часов в сутки, поглощая за всё это время около 45 — 450 килограмм различной растительности. В зависимости от погодных условий, слон выпивает 100-300 литров воды в день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49" name="Picture 3" descr=""/>
          <p:cNvPicPr/>
          <p:nvPr/>
        </p:nvPicPr>
        <p:blipFill>
          <a:blip r:embed="rId1"/>
          <a:stretch/>
        </p:blipFill>
        <p:spPr>
          <a:xfrm>
            <a:off x="1749600" y="2637000"/>
            <a:ext cx="5715000" cy="3828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042560" y="981000"/>
            <a:ext cx="6777000" cy="48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4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e3d2d"/>
                </a:solidFill>
                <a:latin typeface="Times New Roman"/>
              </a:rPr>
              <a:t>Слоны обычно держатся стадами, где все особи связаны родством. Они умеют приветствовать друг друга, старательно заботятся о потомстве, и всегда хранят верность стаду. Если кто-либо из членов стада погибает, другие слоны сильно грустят. Слоны также одни из тех животных, которые умеют смеяться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52" name="Picture 3" descr=""/>
          <p:cNvPicPr/>
          <p:nvPr/>
        </p:nvPicPr>
        <p:blipFill>
          <a:blip r:embed="rId1"/>
          <a:stretch/>
        </p:blipFill>
        <p:spPr>
          <a:xfrm>
            <a:off x="1619280" y="2637000"/>
            <a:ext cx="5715000" cy="35715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042920" y="981000"/>
            <a:ext cx="6778800" cy="48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Times New Roman"/>
              </a:rPr>
              <a:t>Продолжительность жизни у слонов в среднем равна человеческой, как правило это 70 ле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1638360" y="2565360"/>
            <a:ext cx="5715000" cy="3637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6T09:23:32Z</dcterms:created>
  <dc:creator>User</dc:creator>
  <dc:description/>
  <dc:language>en-US</dc:language>
  <cp:lastModifiedBy>Админ</cp:lastModifiedBy>
  <dcterms:modified xsi:type="dcterms:W3CDTF">2014-01-30T03:15:36Z</dcterms:modified>
  <cp:revision>5</cp:revision>
  <dc:subject/>
  <dc:title>СЛОН</dc:title>
</cp:coreProperties>
</file>