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DB227-1CC9-4943-8A99-F96985272F4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6B62D-D01C-4318-AD7F-5F1A5D08B61C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5529D-48D4-4CB3-9830-4C18F97E2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5F3D6-40FD-4120-905D-B07A4DB6D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6A72E-3576-49A4-AB01-BB6C211B7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6F1CB-CE8E-423A-B9EA-7B6FC0493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54BF8-F962-4B72-B422-A0B38EC40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69A3D-045B-4078-902C-8260DC964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4ACE7-0607-4948-A15A-9336862A8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12AC0-AF2B-4F68-A07A-10DD14912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CF242-2ADE-4762-9C0D-F7E12B44C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22741-8242-4A5A-A31D-FCD69F7D6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83116-7BC4-4C4C-A9C7-E5205A6F2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D6FA2-E7ED-4320-84F7-7C6A2A3B2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6CFF8-FD18-4C33-8841-BA16BF3C765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-360" y="0"/>
            <a:ext cx="910908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нкт-Петербургский Центр Детского (Юношеского) Технического Творчеств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НИЕ ИСКУССТВЕННОГО ИНТЕЛЛЕК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рламова Ирина Вадимовн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учный руководитель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вная А.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Автомногоборье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нкт-Петербург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3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бототехни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кси Антропоморфные машины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Рисунок 3" descr=""/>
          <p:cNvPicPr/>
          <p:nvPr/>
        </p:nvPicPr>
        <p:blipFill>
          <a:blip r:embed="rId1"/>
          <a:stretch/>
        </p:blipFill>
        <p:spPr>
          <a:xfrm>
            <a:off x="476280" y="1263600"/>
            <a:ext cx="3009960" cy="4514760"/>
          </a:xfrm>
          <a:prstGeom prst="rect">
            <a:avLst/>
          </a:prstGeom>
          <a:ln w="0">
            <a:noFill/>
          </a:ln>
        </p:spPr>
      </p:pic>
      <p:pic>
        <p:nvPicPr>
          <p:cNvPr id="75" name="Рисунок 4" descr=""/>
          <p:cNvPicPr/>
          <p:nvPr/>
        </p:nvPicPr>
        <p:blipFill>
          <a:blip r:embed="rId2"/>
          <a:stretch/>
        </p:blipFill>
        <p:spPr>
          <a:xfrm>
            <a:off x="4751280" y="1695600"/>
            <a:ext cx="3853080" cy="32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0" y="0"/>
            <a:ext cx="9036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воды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Человек, едва обучив компьютер двум действиям арифметики  решил шагнуть ещё шире, то есть, построить электронный мозг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Персональные роботы призваны облегчить жизнь человека, а где-то может и разнообразить (или даже одушевить) её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Хотя достижения в развитии самообучающихся роботов значительны, полностью реализовать эту концепцию без привлечения искусственного интеллекта вряд ли получитс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4c00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457200" y="2923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блема создания искусственного интеллекта актуальна и по сей день, ведь развитие современной технологии показывает недостаток знаний человеком и необходимость создания искусственного интеллекта, помогающего человеку во многих вопроса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Рисунок 1" descr=""/>
          <p:cNvPicPr/>
          <p:nvPr/>
        </p:nvPicPr>
        <p:blipFill>
          <a:blip r:embed="rId2"/>
          <a:stretch/>
        </p:blipFill>
        <p:spPr>
          <a:xfrm>
            <a:off x="3995640" y="189000"/>
            <a:ext cx="4500720" cy="283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 работы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убокое изучение создания искусственного интеллект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а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знать о видах создания искусственного интеллекта и рассмотреть один из ни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кусственный интеллект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Объект 3" descr=""/>
          <p:cNvPicPr/>
          <p:nvPr/>
        </p:nvPicPr>
        <p:blipFill>
          <a:blip r:embed="rId2"/>
          <a:stretch/>
        </p:blipFill>
        <p:spPr>
          <a:xfrm>
            <a:off x="2700360" y="1844640"/>
            <a:ext cx="428472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ан Тьюринг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Рисунок 4" descr=""/>
          <p:cNvPicPr/>
          <p:nvPr/>
        </p:nvPicPr>
        <p:blipFill>
          <a:blip r:embed="rId2"/>
          <a:stretch/>
        </p:blipFill>
        <p:spPr>
          <a:xfrm>
            <a:off x="3851280" y="981000"/>
            <a:ext cx="3898800" cy="50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54936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ханических подход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омас Гоббс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Рисунок 5" descr=""/>
          <p:cNvPicPr/>
          <p:nvPr/>
        </p:nvPicPr>
        <p:blipFill>
          <a:blip r:embed="rId1"/>
          <a:stretch/>
        </p:blipFill>
        <p:spPr>
          <a:xfrm>
            <a:off x="3851280" y="2060640"/>
            <a:ext cx="3409920" cy="35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бернетический подход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орберт Вине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жулиан Бигелоу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Рисунок 3" descr=""/>
          <p:cNvPicPr/>
          <p:nvPr/>
        </p:nvPicPr>
        <p:blipFill>
          <a:blip r:embed="rId2"/>
          <a:stretch/>
        </p:blipFill>
        <p:spPr>
          <a:xfrm>
            <a:off x="4284720" y="2349360"/>
            <a:ext cx="3166920" cy="4029120"/>
          </a:xfrm>
          <a:prstGeom prst="rect">
            <a:avLst/>
          </a:prstGeom>
          <a:ln w="0">
            <a:noFill/>
          </a:ln>
        </p:spPr>
      </p:pic>
      <p:pic>
        <p:nvPicPr>
          <p:cNvPr id="63" name="Рисунок 4" descr=""/>
          <p:cNvPicPr/>
          <p:nvPr/>
        </p:nvPicPr>
        <p:blipFill>
          <a:blip r:embed="rId3"/>
          <a:stretch/>
        </p:blipFill>
        <p:spPr>
          <a:xfrm>
            <a:off x="684360" y="1994040"/>
            <a:ext cx="2549520" cy="36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йронный подход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оррен Мак-Калок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ловной мозг как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кусственный интеллек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Рисунок 3" descr=""/>
          <p:cNvPicPr/>
          <p:nvPr/>
        </p:nvPicPr>
        <p:blipFill>
          <a:blip r:embed="rId1"/>
          <a:stretch/>
        </p:blipFill>
        <p:spPr>
          <a:xfrm>
            <a:off x="760320" y="1773360"/>
            <a:ext cx="2754360" cy="3678120"/>
          </a:xfrm>
          <a:prstGeom prst="rect">
            <a:avLst/>
          </a:prstGeom>
          <a:ln w="0">
            <a:noFill/>
          </a:ln>
        </p:spPr>
      </p:pic>
      <p:pic>
        <p:nvPicPr>
          <p:cNvPr id="67" name="Рисунок 4" descr=""/>
          <p:cNvPicPr/>
          <p:nvPr/>
        </p:nvPicPr>
        <p:blipFill>
          <a:blip r:embed="rId2"/>
          <a:stretch/>
        </p:blipFill>
        <p:spPr>
          <a:xfrm>
            <a:off x="4140360" y="1857240"/>
            <a:ext cx="4221000" cy="328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Электронный подход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втоматические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ычислител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Рисунок 9" descr=""/>
          <p:cNvPicPr/>
          <p:nvPr/>
        </p:nvPicPr>
        <p:blipFill>
          <a:blip r:embed="rId2"/>
          <a:stretch/>
        </p:blipFill>
        <p:spPr>
          <a:xfrm>
            <a:off x="539640" y="2093760"/>
            <a:ext cx="2560680" cy="2232000"/>
          </a:xfrm>
          <a:prstGeom prst="rect">
            <a:avLst/>
          </a:prstGeom>
          <a:ln w="0">
            <a:noFill/>
          </a:ln>
        </p:spPr>
      </p:pic>
      <p:pic>
        <p:nvPicPr>
          <p:cNvPr id="71" name="Рисунок 10" descr=""/>
          <p:cNvPicPr/>
          <p:nvPr/>
        </p:nvPicPr>
        <p:blipFill>
          <a:blip r:embed="rId3"/>
          <a:stretch/>
        </p:blipFill>
        <p:spPr>
          <a:xfrm>
            <a:off x="4211640" y="2781360"/>
            <a:ext cx="3813120" cy="33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17</dc:creator>
  <dc:description/>
  <dc:language>en-US</dc:language>
  <cp:lastModifiedBy>Алина Славная</cp:lastModifiedBy>
  <dcterms:modified xsi:type="dcterms:W3CDTF">2014-01-30T09:53:38Z</dcterms:modified>
  <cp:revision>13</cp:revision>
  <dc:subject/>
  <dc:title>Презентация PowerPoint</dc:title>
</cp:coreProperties>
</file>