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7B08-30B5-4C73-BF7E-A2AC8ACE0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9574-B68B-4EF6-AB62-45117B4AEA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F8B-5A59-4C4D-BA84-5475D454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F57-721B-4420-877C-1ACF2EF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D76-D542-4A44-8039-76D588ED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8C-ED05-4309-B2A5-8E445E3F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1BD-1F13-4F5A-AF6C-7671EE2A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150-6C26-4363-A766-FBFE170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D3C-F8F5-41D0-8BB1-B43D6C9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93B-700D-4B8D-A54C-92219385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F38-565D-4AA8-A16A-406302D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B0A-A313-474A-8E4C-1F261EFB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1EB-6E70-4CD6-A4D0-83813108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E46-A284-4279-B96C-EDD804B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B2E-4444-4174-86CF-DDF88674F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Центр Детского (Юношеского) Технического Твор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СКУССТВЕННОГО ИНТЕЛЛ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ламова Ирина Вад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ая А.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многоборь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о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си Антропоморфные маши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476280" y="1263600"/>
            <a:ext cx="3009960" cy="4514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4751280" y="1695600"/>
            <a:ext cx="385308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еловек, едва обучив компьютер двум действиям арифметики  решил шагнуть ещё шире, то есть, построить электронный моз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ерсональные роботы призваны облегчить жизнь человека, а где-то может и разнообразить (или даже одушевить)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Хотя достижения в развитии самообучающихся роботов значительны, полностью реализовать эту концепцию без привлечения искусственного интеллекта вряд ли получ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4c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92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а создания искусственного интеллекта актуальна и по сей день, ведь развитие современной технологии показывает недостаток знаний человеком и необходимость создания искусственного интеллекта, помогающего человеку во многих вопро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45007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изучение создания искусственного интелл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о видах создания искусственного интеллекта и рассмотреть один из 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интеллек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428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н Тьюрин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3898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х подх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ас Гобб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34099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бернетически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берт Ви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улиан Бигело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4284720" y="2349360"/>
            <a:ext cx="3166920" cy="4029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3"/>
          <a:stretch/>
        </p:blipFill>
        <p:spPr>
          <a:xfrm>
            <a:off x="684360" y="1994040"/>
            <a:ext cx="2549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нный подх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ррен Мак-Калок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мозг как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интеллек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60320" y="1773360"/>
            <a:ext cx="2754360" cy="3678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4140360" y="1857240"/>
            <a:ext cx="422100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н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мат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9" descr=""/>
          <p:cNvPicPr/>
          <p:nvPr/>
        </p:nvPicPr>
        <p:blipFill>
          <a:blip r:embed="rId2"/>
          <a:stretch/>
        </p:blipFill>
        <p:spPr>
          <a:xfrm>
            <a:off x="539640" y="2093760"/>
            <a:ext cx="256068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"/>
          <p:cNvPicPr/>
          <p:nvPr/>
        </p:nvPicPr>
        <p:blipFill>
          <a:blip r:embed="rId3"/>
          <a:stretch/>
        </p:blipFill>
        <p:spPr>
          <a:xfrm>
            <a:off x="4211640" y="2781360"/>
            <a:ext cx="38131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17</dc:creator>
  <dc:description/>
  <dc:language>en-US</dc:language>
  <cp:lastModifiedBy>Алина Славная</cp:lastModifiedBy>
  <dcterms:modified xsi:type="dcterms:W3CDTF">2014-01-30T09:53:38Z</dcterms:modified>
  <cp:revision>13</cp:revision>
  <dc:subject/>
  <dc:title>Презентация PowerPoint</dc:title>
</cp:coreProperties>
</file>