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7.jpeg" ContentType="image/jpeg"/>
  <Override PartName="/ppt/media/image28.jpeg" ContentType="image/jpeg"/>
  <Override PartName="/ppt/media/image6.png" ContentType="image/png"/>
  <Override PartName="/ppt/media/image10.jpeg" ContentType="image/jpeg"/>
  <Override PartName="/ppt/media/image8.jpeg" ContentType="image/jpeg"/>
  <Override PartName="/ppt/media/image5.jpeg" ContentType="image/jpeg"/>
  <Override PartName="/ppt/media/image26.jpeg" ContentType="image/jpeg"/>
  <Override PartName="/ppt/media/image4.png" ContentType="image/png"/>
  <Override PartName="/ppt/media/image3.jpeg" ContentType="image/jpeg"/>
  <Override PartName="/ppt/media/image15.png" ContentType="image/png"/>
  <Override PartName="/ppt/media/image24.jpeg" ContentType="image/jpeg"/>
  <Override PartName="/ppt/media/image27.jpeg" ContentType="image/jpeg"/>
  <Override PartName="/ppt/media/image17.png" ContentType="image/png"/>
  <Override PartName="/ppt/media/image25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9.png" ContentType="image/png"/>
  <Override PartName="/ppt/media/image18.jpeg" ContentType="image/jpeg"/>
  <Override PartName="/ppt/media/image2.jpeg" ContentType="image/jpeg"/>
  <Override PartName="/ppt/media/image23.jpeg" ContentType="image/jpeg"/>
  <Override PartName="/ppt/media/image14.png" ContentType="image/png"/>
  <Override PartName="/ppt/media/image22.jpeg" ContentType="image/jpeg"/>
  <Override PartName="/ppt/media/image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885B7-0E7B-44AB-B3AF-1B0A052DB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EF16F-330E-4DF7-BF42-B9B8FD162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9AD9B-9E70-40AB-8FA5-CD1DD09FB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A9D32-07E2-47B0-85A1-CBB4E2F3D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872B76-A14B-4832-B6D7-3087EFE3F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BA8154-F526-4174-B0C5-3A82804C7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92BD7B-8CCD-455A-A577-CE9FC7980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A4699F-4030-4AF5-9804-37C3C5C50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708FC8-21E9-4E00-B790-BA680E638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CC3880-66E5-459E-ADAC-20D85E7DC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1E8228-93E2-4156-BB68-FB7946407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3BF9B-F818-4E12-B965-1C69C8FE6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D432FA-B58B-4FA4-AB2B-D60D4E270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E921D6-83AF-4CFD-AB22-6283CFC35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91CE31-5326-4C09-AC93-AD126F1E2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74D4CF-BD65-4131-856E-9ED8F2A94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AA5720-080D-45F7-999C-ABEF8A358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C11F95-8334-461D-AD1A-AAC71C0F0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1210DA-D6F9-44DA-BE3B-0D07C97CB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B85D40-CFB8-475E-99BA-DABDB4E1B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A93078-AEB2-4E5D-A714-533C51724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C07202-44DB-43B0-9E38-9920B24F8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DA3A9-2C89-48E8-8194-FE343F8E5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3B5446-FADA-4C9C-9D8A-ABC759AD3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3A45FF-E414-479A-92B3-AD49ACCFD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30BD32-9A07-4AA1-9684-433E7357F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297145-31E9-4302-A539-2FAFB1769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87D0EC-1125-4A4B-B3AC-82FC480B8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2AA87E-90F4-4612-9409-DA7DD0D42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DFDCAE-0603-4024-8D9E-B912B47E9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A047851-1468-4CED-AA1A-04C3D1854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8C52194-EBDA-48BA-9823-57733ED51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8E31B63-8793-47DD-8811-D1CEA3187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84A4F-32B9-42A8-B1ED-740F5E695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DA16BB1-B552-4F28-B716-26871DFB7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C9EA04D-D2E0-4500-AE71-88FC0638A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CB11D79-E603-4A4E-AB24-8E66EDAE3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4FAB5EC-0551-4060-A2CC-C6A34CA4C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827E145-80B3-43D7-9655-1A83F4917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3C6F7DC-1E18-42E1-966F-55CED64B7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4FC792C-D719-4C61-A267-8196D747D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692080E-796A-4CC7-8348-09942B077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D9C5D9F-A3E2-4421-8565-B91D6C530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54797-9047-47F4-A2B1-6D0F942BB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11A88-B64B-4020-80EA-644347F3A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96CDA-2973-4B54-87B1-483ABCB79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B643F-CF2A-4FD7-846D-6869087C5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D66A6-9CD4-40D8-B92D-DC14B8324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369AC-5B55-4573-A065-4EF94D990FAE}" type="slidenum">
              <a:rPr b="0" lang="en-US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Прямая соединительная линия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Овал 8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31B93-2924-4912-B87B-477B8195B4D5}" type="slidenum">
              <a:rPr b="0" lang="en-US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55E4E-2BBD-441C-99AD-A56E03596420}" type="slidenum">
              <a:rPr b="0" lang="en-US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Прямая соединительная линия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2C145-A3CC-4697-8D3A-49C2A4238313}" type="slidenum">
              <a:rPr b="0" lang="en-US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image" Target="../media/image26.jpe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yandex.ru/yandsearch?text=&#1076;&#1080;&#1085;&#1086;&#1079;&#1072;&#1074;&#1088;&#1099;&amp;noreask=1&amp;img_url=http://grani.ru/files/24157.jpg&amp;pos=4&amp;rpt=simage&amp;lr=4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yandex.ru/yandsearch?text=&#1103;&#1097;&#1077;&#1088;&#1080;&#1094;&#1072;&amp;img_url=http://i016.radikal.ru/0805/4e/97afc9989b9b.jpg&amp;pos=0&amp;rpt=simage&amp;lr=4&amp;noreask=1" TargetMode="External"/><Relationship Id="rId3" Type="http://schemas.openxmlformats.org/officeDocument/2006/relationships/image" Target="../media/image8.jpeg"/><Relationship Id="rId4" Type="http://schemas.openxmlformats.org/officeDocument/2006/relationships/hyperlink" Target="http://images.yandex.ru/yandsearch?text=&#1082;&#1088;&#1086;&#1082;&#1086;&#1076;&#1080;&#1083;&amp;img_url=http://images.nationalgeographic.com/wpf/media-live/photos/000/002/cache/american-crocodile_219_600x450.jpg&amp;pos=0&amp;rpt=simage&amp;lr=4&amp;noreask=1" TargetMode="External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image" Target="../media/image12.jpe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image" Target="../media/image15.png"/><Relationship Id="rId12" Type="http://schemas.openxmlformats.org/officeDocument/2006/relationships/image" Target="../media/image16.png"/><Relationship Id="rId13" Type="http://schemas.openxmlformats.org/officeDocument/2006/relationships/image" Target="../media/image17.png"/><Relationship Id="rId1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Прямоугольник 1"/>
          <p:cNvSpPr/>
          <p:nvPr/>
        </p:nvSpPr>
        <p:spPr>
          <a:xfrm>
            <a:off x="428760" y="720720"/>
            <a:ext cx="8286480" cy="53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Конкурс исследовательских и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творческих работ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«Я – исследователь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Тема:  «Стегозавры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ыполнил ученик 4 класс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ОУ «Крутоложская ООШ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Шевченко Дени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уководитель: Варламова В.В.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читель начальных классо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6000"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Рисунок 6" descr="http://upload.wikimedia.org/wikipedia/commons/thumb/7/73/Stegosaurus_size.png/220px-Stegosaurus_size.png"/>
          <p:cNvPicPr/>
          <p:nvPr/>
        </p:nvPicPr>
        <p:blipFill>
          <a:blip r:embed="rId2"/>
          <a:stretch/>
        </p:blipFill>
        <p:spPr>
          <a:xfrm>
            <a:off x="2786040" y="3857760"/>
            <a:ext cx="5715000" cy="2428920"/>
          </a:xfrm>
          <a:prstGeom prst="rect">
            <a:avLst/>
          </a:prstGeom>
          <a:ln w="0">
            <a:noFill/>
          </a:ln>
        </p:spPr>
      </p:pic>
      <p:sp>
        <p:nvSpPr>
          <p:cNvPr id="206" name="Rectangle 3"/>
          <p:cNvSpPr/>
          <p:nvPr/>
        </p:nvSpPr>
        <p:spPr>
          <a:xfrm>
            <a:off x="571680" y="374040"/>
            <a:ext cx="82152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лина тела  стегозавра достигала 9 метров, высота 4 метра, весил примерно 4,5 т. Корпус всех стегозавров бал очень массивным , а крошечную голову они держали у самой земли. Типичные представители  этой группы – стегозавр  из С.Америки, Африканский кентрозавр и тоцзянозавр из Китая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6000">
    <p:strips dir="rd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89" dur="5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2" descr="C:\Users\satiaga\Desktop\Rfhnbyrb cntujpfdhf\DSCN0083.jpg"/>
          <p:cNvPicPr/>
          <p:nvPr/>
        </p:nvPicPr>
        <p:blipFill>
          <a:blip r:embed="rId2"/>
          <a:stretch/>
        </p:blipFill>
        <p:spPr>
          <a:xfrm>
            <a:off x="214200" y="0"/>
            <a:ext cx="8643960" cy="6572160"/>
          </a:xfrm>
          <a:prstGeom prst="rect">
            <a:avLst/>
          </a:prstGeom>
          <a:ln w="0">
            <a:noFill/>
          </a:ln>
        </p:spPr>
      </p:pic>
      <p:sp>
        <p:nvSpPr>
          <p:cNvPr id="208" name="Rectangle 3"/>
          <p:cNvSpPr/>
          <p:nvPr/>
        </p:nvSpPr>
        <p:spPr>
          <a:xfrm>
            <a:off x="285840" y="524160"/>
            <a:ext cx="857232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пина стегозавра была усеяна угловыми пластинами, пронизанными густой сетью кровеносных сосудов для согревания (подобно солнечным батареям) и для охлаждения. Пластины достигали 60 см. Задние ноги были сильными и толстыми, с широкими лапами. Возможно, он мог привставать на дыбы, обгладывая высокие растения. Похоже, стегозавр был одним из самых медлительных динозавров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19000">
    <p:randomBar dir="vert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5000"/>
                            </p:stCondLst>
                            <p:childTnLst>
                              <p:par>
                                <p:cTn id="99" nodeType="afterEffect" fill="hold" presetClass="exit" presetID="2" presetSubtype="1">
                                  <p:stCondLst>
                                    <p:cond delay="8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0" dur="50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2" descr="C:\Users\satiaga\Desktop\Rfhnbyrb cntujpfdhf\DSCN0089.jpg"/>
          <p:cNvPicPr/>
          <p:nvPr/>
        </p:nvPicPr>
        <p:blipFill>
          <a:blip r:embed="rId2"/>
          <a:stretch/>
        </p:blipFill>
        <p:spPr>
          <a:xfrm>
            <a:off x="1857240" y="214200"/>
            <a:ext cx="5572440" cy="6357960"/>
          </a:xfrm>
          <a:prstGeom prst="rect">
            <a:avLst/>
          </a:prstGeom>
          <a:ln w="0">
            <a:noFill/>
          </a:ln>
        </p:spPr>
      </p:pic>
      <p:sp>
        <p:nvSpPr>
          <p:cNvPr id="210" name="Прямоугольник 2"/>
          <p:cNvSpPr/>
          <p:nvPr/>
        </p:nvSpPr>
        <p:spPr>
          <a:xfrm>
            <a:off x="785880" y="500040"/>
            <a:ext cx="77868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тдельно стоит сказать о хвосте. На его хвосте крепились пара острых шипов, которые, в отличие от пластинок, могли нанести хищнику существенный урон . Череп у них был очень маленький (40 см. в длину), низкий, уплощенный, а мозг вообще с грецкий орех.  Пасть с сотней мелких зубов заканчивалась клювом. Несмотря на свой внушительный рост и размер, стегозавры были травоядными</a:t>
            </a:r>
            <a:r>
              <a:rPr b="0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19000">
    <p:blinds dir="vert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0"/>
                            </p:stCondLst>
                            <p:childTnLst>
                              <p:par>
                                <p:cTn id="112" nodeType="afterEffect" fill="hold" presetClass="exit" presetID="2" presetSubtype="1">
                                  <p:stCondLst>
                                    <p:cond delay="7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3" dur="50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2" descr="C:\Users\satiaga\Desktop\Rfhnbyrb cntujpfdhf\DSCN0072.jpg"/>
          <p:cNvPicPr/>
          <p:nvPr/>
        </p:nvPicPr>
        <p:blipFill>
          <a:blip r:embed="rId2"/>
          <a:stretch/>
        </p:blipFill>
        <p:spPr>
          <a:xfrm>
            <a:off x="642960" y="4572000"/>
            <a:ext cx="2428920" cy="183348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3" descr="C:\Users\satiaga\Desktop\Rfhnbyrb cntujpfdhf\DSCN0074.jpg"/>
          <p:cNvPicPr/>
          <p:nvPr/>
        </p:nvPicPr>
        <p:blipFill>
          <a:blip r:embed="rId3"/>
          <a:stretch/>
        </p:blipFill>
        <p:spPr>
          <a:xfrm>
            <a:off x="6143760" y="4572000"/>
            <a:ext cx="2395440" cy="192888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4" descr="C:\Users\satiaga\Desktop\Rfhnbyrb cntujpfdhf\DSCN0078.jpg"/>
          <p:cNvPicPr/>
          <p:nvPr/>
        </p:nvPicPr>
        <p:blipFill>
          <a:blip r:embed="rId4"/>
          <a:stretch/>
        </p:blipFill>
        <p:spPr>
          <a:xfrm>
            <a:off x="6143760" y="500040"/>
            <a:ext cx="2428920" cy="188928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7" descr="C:\Users\satiaga\Desktop\Rfhnbyrb cntujpfdhf\DSCN0075.jpg"/>
          <p:cNvPicPr/>
          <p:nvPr/>
        </p:nvPicPr>
        <p:blipFill>
          <a:blip r:embed="rId5"/>
          <a:stretch/>
        </p:blipFill>
        <p:spPr>
          <a:xfrm>
            <a:off x="571680" y="500040"/>
            <a:ext cx="2643120" cy="192888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6" descr="C:\Users\satiaga\Desktop\Rfhnbyrb cntujpfdhf\DSCN0080.jpg"/>
          <p:cNvPicPr/>
          <p:nvPr/>
        </p:nvPicPr>
        <p:blipFill>
          <a:blip r:embed="rId6"/>
          <a:stretch/>
        </p:blipFill>
        <p:spPr>
          <a:xfrm>
            <a:off x="3071880" y="2428920"/>
            <a:ext cx="3143160" cy="214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1" dur="3000" fill="hold"/>
                                        <p:tgtEl>
                                          <p:spTgt spid="21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3000"/>
                            </p:stCondLst>
                            <p:childTnLst>
                              <p:par>
                                <p:cTn id="123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4" dur="3000" fill="hold"/>
                                        <p:tgtEl>
                                          <p:spTgt spid="2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6000"/>
                            </p:stCondLst>
                            <p:childTnLst>
                              <p:par>
                                <p:cTn id="126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7" dur="2000" fill="hold"/>
                                        <p:tgtEl>
                                          <p:spTgt spid="21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8000"/>
                            </p:stCondLst>
                            <p:childTnLst>
                              <p:par>
                                <p:cTn id="12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0" dur="3000" fill="hold"/>
                                        <p:tgtEl>
                                          <p:spTgt spid="21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1000"/>
                            </p:stCondLst>
                            <p:childTnLst>
                              <p:par>
                                <p:cTn id="13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3" dur="5000" fill="hold"/>
                                        <p:tgtEl>
                                          <p:spTgt spid="215"/>
                                        </p:tgtEl>
                                      </p:cBhvr>
                                      <p:to x="300000" y="3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1" descr="3"/>
          <p:cNvPicPr/>
          <p:nvPr/>
        </p:nvPicPr>
        <p:blipFill>
          <a:blip r:embed="rId2"/>
          <a:stretch/>
        </p:blipFill>
        <p:spPr>
          <a:xfrm>
            <a:off x="928800" y="285840"/>
            <a:ext cx="7429320" cy="6215040"/>
          </a:xfrm>
          <a:prstGeom prst="rect">
            <a:avLst/>
          </a:prstGeom>
          <a:ln w="0">
            <a:noFill/>
          </a:ln>
        </p:spPr>
      </p:pic>
      <p:sp>
        <p:nvSpPr>
          <p:cNvPr id="217" name="Rectangle 2"/>
          <p:cNvSpPr/>
          <p:nvPr/>
        </p:nvSpPr>
        <p:spPr>
          <a:xfrm>
            <a:off x="1143000" y="200520"/>
            <a:ext cx="714384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Список используемых источников :                                             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1) Современная детская энциклопедия. – Москва: «Махаон», 2011г.                                                                                          2) Дэвид Бурнье. Детский атлас динозавров. – Москва: «ЭКСМО, 2010г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3) Сэн Тэплин. Детская энциклопедия динозавров. –  Москва: «РОСМЭН», 2007г.                                                                                                                 4) Марлис Лункенбайн. Динозавры. Моя первая энциклопедия в вопросах и ответах. –  Москва: «Оникс», 1999г.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5) 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http://images.yandex.r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6) http://ru.wikipedia.org/wiki/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8) http://www.dinozavr-vernis.com/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9)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http://www.zooeco.com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10) 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http</a:t>
            </a:r>
            <a:r>
              <a:rPr b="0" lang="ru-RU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://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dinoera</a:t>
            </a:r>
            <a:r>
              <a:rPr b="0" lang="ru-RU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.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ru</a:t>
            </a:r>
            <a:r>
              <a:rPr b="0" lang="ru-RU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/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3" descr="C:\Users\satiaga\Desktop\Rfhnbyrb cntujpfdhf\DSCN0085.jpg"/>
          <p:cNvPicPr/>
          <p:nvPr/>
        </p:nvPicPr>
        <p:blipFill>
          <a:blip r:embed="rId2"/>
          <a:stretch/>
        </p:blipFill>
        <p:spPr>
          <a:xfrm>
            <a:off x="357120" y="285840"/>
            <a:ext cx="8358120" cy="6269040"/>
          </a:xfrm>
          <a:prstGeom prst="rect">
            <a:avLst/>
          </a:prstGeom>
          <a:ln w="0">
            <a:noFill/>
          </a:ln>
        </p:spPr>
      </p:pic>
      <p:sp>
        <p:nvSpPr>
          <p:cNvPr id="219" name="TextBox 3"/>
          <p:cNvSpPr/>
          <p:nvPr/>
        </p:nvSpPr>
        <p:spPr>
          <a:xfrm>
            <a:off x="928800" y="1000080"/>
            <a:ext cx="7500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Благодарим за внимание !!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5000"/>
                            </p:stCondLst>
                            <p:childTnLst>
                              <p:par>
                                <p:cTn id="151" nodeType="afterEffect" fill="hold" presetClass="exit" presetID="2" presetSubtype="1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2" dur="50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http://www.ebio.ru/images/06050502.jpg"/>
          <p:cNvPicPr/>
          <p:nvPr/>
        </p:nvPicPr>
        <p:blipFill>
          <a:blip r:embed="rId2"/>
          <a:stretch/>
        </p:blipFill>
        <p:spPr>
          <a:xfrm>
            <a:off x="571680" y="1071720"/>
            <a:ext cx="8143560" cy="5143320"/>
          </a:xfrm>
          <a:prstGeom prst="rect">
            <a:avLst/>
          </a:prstGeom>
          <a:ln w="0">
            <a:noFill/>
          </a:ln>
        </p:spPr>
      </p:pic>
      <p:sp>
        <p:nvSpPr>
          <p:cNvPr id="172" name="Прямоугольник 3"/>
          <p:cNvSpPr/>
          <p:nvPr/>
        </p:nvSpPr>
        <p:spPr>
          <a:xfrm>
            <a:off x="642960" y="357120"/>
            <a:ext cx="792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Животные, которых никто не видел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5000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C:\Users\satiaga\Desktop\Rfhnbyrb cntujpfdhf\DSCN0071.jpg"/>
          <p:cNvPicPr/>
          <p:nvPr/>
        </p:nvPicPr>
        <p:blipFill>
          <a:blip r:embed="rId2"/>
          <a:stretch/>
        </p:blipFill>
        <p:spPr>
          <a:xfrm>
            <a:off x="428760" y="214200"/>
            <a:ext cx="8501040" cy="6429600"/>
          </a:xfrm>
          <a:prstGeom prst="rect">
            <a:avLst/>
          </a:prstGeom>
          <a:ln w="0">
            <a:noFill/>
          </a:ln>
        </p:spPr>
      </p:pic>
      <p:sp>
        <p:nvSpPr>
          <p:cNvPr id="174" name="Прямоугольник 2"/>
          <p:cNvSpPr/>
          <p:nvPr/>
        </p:nvSpPr>
        <p:spPr>
          <a:xfrm>
            <a:off x="1714680" y="285840"/>
            <a:ext cx="678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fcf04"/>
                </a:solidFill>
                <a:latin typeface="Times New Roman"/>
                <a:ea typeface="Times New Roman"/>
              </a:rPr>
              <a:t>Цель: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здание макета Стегозавра на основании детального исследования научно- популярных источников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Прямоугольник 3"/>
          <p:cNvSpPr/>
          <p:nvPr/>
        </p:nvSpPr>
        <p:spPr>
          <a:xfrm>
            <a:off x="642960" y="1928880"/>
            <a:ext cx="8072280" cy="34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fcf04"/>
                </a:solidFill>
                <a:latin typeface="Verdana"/>
              </a:rPr>
              <a:t>Задачи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бор и систематизация научно-популярной литературы, посвященной стегозаврам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спользование полученной в ходе анализа информации для создания макета стегозавр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5000"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30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2" descr="http://stat16.privet.ru/lr/090b3cd046d72a89cb27b6c059412e1c"/>
          <p:cNvPicPr/>
          <p:nvPr/>
        </p:nvPicPr>
        <p:blipFill>
          <a:blip r:embed="rId2"/>
          <a:stretch/>
        </p:blipFill>
        <p:spPr>
          <a:xfrm>
            <a:off x="285840" y="214200"/>
            <a:ext cx="8572320" cy="6357960"/>
          </a:xfrm>
          <a:prstGeom prst="rect">
            <a:avLst/>
          </a:prstGeom>
          <a:ln w="0">
            <a:noFill/>
          </a:ln>
        </p:spPr>
      </p:pic>
      <p:sp>
        <p:nvSpPr>
          <p:cNvPr id="177" name="Прямоугольник 2"/>
          <p:cNvSpPr/>
          <p:nvPr/>
        </p:nvSpPr>
        <p:spPr>
          <a:xfrm>
            <a:off x="571680" y="428760"/>
            <a:ext cx="8001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бъект исследования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 </a:t>
            </a:r>
            <a:r>
              <a:rPr b="1" i="1" lang="en-US" sz="3200" spc="-1" strike="noStrike">
                <a:solidFill>
                  <a:srgbClr val="dfcf04"/>
                </a:solidFill>
                <a:latin typeface="Times New Roman"/>
                <a:ea typeface="Times New Roman"/>
              </a:rPr>
              <a:t>стегозав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едмет исследования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 </a:t>
            </a:r>
            <a:r>
              <a:rPr b="1" i="1" lang="en-US" sz="3200" spc="-1" strike="noStrike">
                <a:solidFill>
                  <a:srgbClr val="dfcf04"/>
                </a:solidFill>
                <a:latin typeface="Times New Roman"/>
                <a:ea typeface="Times New Roman"/>
              </a:rPr>
              <a:t>физиологические особенности и повадки стегозавр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етоды исследования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  </a:t>
            </a:r>
            <a:r>
              <a:rPr b="1" i="1" lang="en-US" sz="3200" spc="-1" strike="noStrike">
                <a:solidFill>
                  <a:srgbClr val="dfcf04"/>
                </a:solidFill>
                <a:latin typeface="Times New Roman"/>
                <a:ea typeface="Times New Roman"/>
              </a:rPr>
              <a:t>исследование и анализ подобранного материал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актическая значимость работы: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i="1" lang="en-US" sz="3200" spc="-1" strike="noStrike">
                <a:solidFill>
                  <a:srgbClr val="dfcf04"/>
                </a:solidFill>
                <a:latin typeface="Times New Roman"/>
                <a:ea typeface="Times New Roman"/>
              </a:rPr>
              <a:t>данная работа поможет сформировать представление о  динозаврах, а в частности, о стегозавр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20000">
    <p:wipe dir="r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3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3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3000"/>
                            </p:stCondLst>
                            <p:childTnLst>
                              <p:par>
                                <p:cTn id="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30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30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6000"/>
                            </p:stCondLst>
                            <p:childTnLst>
                              <p:par>
                                <p:cTn id="2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30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30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000"/>
                            </p:stCondLst>
                            <p:childTnLst>
                              <p:par>
                                <p:cTn id="3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30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30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2000"/>
                            </p:stCondLst>
                            <p:childTnLst>
                              <p:par>
                                <p:cTn id="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0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0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2" descr="i?id=201746535-05-72&amp;n=2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57120" y="357120"/>
            <a:ext cx="8501040" cy="6215040"/>
          </a:xfrm>
          <a:prstGeom prst="rect">
            <a:avLst/>
          </a:prstGeom>
          <a:ln w="0">
            <a:noFill/>
          </a:ln>
        </p:spPr>
      </p:pic>
      <p:sp>
        <p:nvSpPr>
          <p:cNvPr id="179" name="Rectangle 3"/>
          <p:cNvSpPr/>
          <p:nvPr/>
        </p:nvSpPr>
        <p:spPr>
          <a:xfrm>
            <a:off x="357120" y="732240"/>
            <a:ext cx="82868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инозавры появились на нашей планете примерно 230 млн. лет назад. А вымерли 65 млн. лет назад. Термин «динозавр» был введён в 1842 году английским биологом Ричардом Оуэоном для описания первых окаменелых останков древних ящеров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6000">
    <p:pull dir="rd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2" descr="pic10"/>
          <p:cNvPicPr/>
          <p:nvPr/>
        </p:nvPicPr>
        <p:blipFill>
          <a:blip r:embed="rId2"/>
          <a:stretch/>
        </p:blipFill>
        <p:spPr>
          <a:xfrm>
            <a:off x="428760" y="500040"/>
            <a:ext cx="8286480" cy="5929200"/>
          </a:xfrm>
          <a:prstGeom prst="rect">
            <a:avLst/>
          </a:prstGeom>
          <a:ln w="0">
            <a:noFill/>
          </a:ln>
        </p:spPr>
      </p:pic>
      <p:sp>
        <p:nvSpPr>
          <p:cNvPr id="181" name="Rectangle 3"/>
          <p:cNvSpPr/>
          <p:nvPr/>
        </p:nvSpPr>
        <p:spPr>
          <a:xfrm>
            <a:off x="642960" y="670320"/>
            <a:ext cx="7858080" cy="5639760"/>
          </a:xfrm>
          <a:prstGeom prst="rect">
            <a:avLst/>
          </a:prstGeom>
          <a:solidFill>
            <a:srgbClr val="dfcf04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ептилии обитали ещё до появления динозавров. Затем появились предки динозавров –АРХОЗАВРЫ. В начале триасового периода возникло множество новых видов. Одним из самых ранних известных динозавров считается старикозавр, живший 228 млн. лет назад, частичный скелет которого был обнаружен в отложениях среднего триасового периода на территории современной Бразилии.</a:t>
            </a:r>
            <a:r>
              <a:rPr b="0" lang="ru-RU" sz="2800" spc="-1" strike="noStrike">
                <a:solidFill>
                  <a:srgbClr val="002060"/>
                </a:solidFill>
                <a:latin typeface="Constantia"/>
              </a:rPr>
              <a:t> 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ревнейшего стегозавра обнаружили в Шотландии, которая 175 млн. лет назад располагалась ближе к  Северной Америке, чем к Европе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20000">
    <p:wheel spokes="2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6000"/>
                            </p:stCondLst>
                            <p:childTnLst>
                              <p:par>
                                <p:cTn id="58" nodeType="afterEffect" fill="hold" presetClass="exit" presetID="2" presetSubtype="1">
                                  <p:stCondLst>
                                    <p:cond delay="5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9" dur="5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2" descr="Стегозавр"/>
          <p:cNvPicPr/>
          <p:nvPr/>
        </p:nvPicPr>
        <p:blipFill>
          <a:blip r:embed="rId2"/>
          <a:stretch/>
        </p:blipFill>
        <p:spPr>
          <a:xfrm>
            <a:off x="214200" y="285840"/>
            <a:ext cx="8715600" cy="6357960"/>
          </a:xfrm>
          <a:prstGeom prst="rect">
            <a:avLst/>
          </a:prstGeom>
          <a:ln w="0">
            <a:noFill/>
          </a:ln>
        </p:spPr>
      </p:pic>
      <p:sp>
        <p:nvSpPr>
          <p:cNvPr id="183" name="Rectangle 3"/>
          <p:cNvSpPr/>
          <p:nvPr/>
        </p:nvSpPr>
        <p:spPr>
          <a:xfrm>
            <a:off x="428760" y="918720"/>
            <a:ext cx="82152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амой первой известной группой птицетазовых динозавров являются ФАБРОЗАВРИДЫ. Стегозавры  жили в конце юрского периода около 155,7 – 145,5 млн. лет назад. Все виды найдены ближе к западу США (штаты Колорадо и Вайоминг).</a:t>
            </a:r>
            <a:r>
              <a:rPr b="0" lang="en-US" sz="3200" spc="-1" strike="noStrike">
                <a:solidFill>
                  <a:srgbClr val="ff0000"/>
                </a:solidFill>
                <a:latin typeface="Constantia"/>
              </a:rPr>
              <a:t> Согласно традиционной классификации стегозавров объединяют к птицетазовы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16000">
    <p:checker dir="horz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2" descr="i?id=542842232-24-72&amp;n=17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85880" y="285840"/>
            <a:ext cx="2071800" cy="164304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3" descr="i?id=63621294-02-72&amp;n=17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715080" y="500040"/>
            <a:ext cx="2063880" cy="142560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4" descr="i?id=608211654-64-72&amp;n=17"/>
          <p:cNvPicPr/>
          <p:nvPr/>
        </p:nvPicPr>
        <p:blipFill>
          <a:blip r:embed="rId6"/>
          <a:stretch/>
        </p:blipFill>
        <p:spPr>
          <a:xfrm>
            <a:off x="571680" y="2714760"/>
            <a:ext cx="2357280" cy="185724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5" descr="img_4714"/>
          <p:cNvPicPr/>
          <p:nvPr/>
        </p:nvPicPr>
        <p:blipFill>
          <a:blip r:embed="rId7"/>
          <a:stretch/>
        </p:blipFill>
        <p:spPr>
          <a:xfrm>
            <a:off x="6357960" y="2928960"/>
            <a:ext cx="2338200" cy="1643040"/>
          </a:xfrm>
          <a:prstGeom prst="rect">
            <a:avLst/>
          </a:prstGeom>
          <a:ln w="0">
            <a:noFill/>
          </a:ln>
        </p:spPr>
      </p:pic>
      <p:pic>
        <p:nvPicPr>
          <p:cNvPr id="188" name="Рисунок 15" descr="http://upload.wikimedia.org/wikipedia/commons/thumb/a/af/Stegosaurus_Heinrich_Harder.jpg/120px-Stegosaurus_Heinrich_Harder.jpg"/>
          <p:cNvPicPr/>
          <p:nvPr/>
        </p:nvPicPr>
        <p:blipFill>
          <a:blip r:embed="rId8"/>
          <a:stretch/>
        </p:blipFill>
        <p:spPr>
          <a:xfrm>
            <a:off x="3357720" y="4572000"/>
            <a:ext cx="3500280" cy="2000160"/>
          </a:xfrm>
          <a:prstGeom prst="rect">
            <a:avLst/>
          </a:prstGeom>
          <a:ln w="0">
            <a:noFill/>
          </a:ln>
        </p:spPr>
      </p:pic>
      <p:grpSp>
        <p:nvGrpSpPr>
          <p:cNvPr id="189" name="Стрелка влево 25"/>
          <p:cNvGrpSpPr/>
          <p:nvPr/>
        </p:nvGrpSpPr>
        <p:grpSpPr>
          <a:xfrm>
            <a:off x="3597120" y="285840"/>
            <a:ext cx="1150920" cy="1347840"/>
            <a:chOff x="3597120" y="285840"/>
            <a:chExt cx="1150920" cy="1347840"/>
          </a:xfrm>
        </p:grpSpPr>
        <p:pic>
          <p:nvPicPr>
            <p:cNvPr id="190" name="Стрелка влево 25" descr=""/>
            <p:cNvPicPr/>
            <p:nvPr/>
          </p:nvPicPr>
          <p:blipFill>
            <a:blip r:embed="rId9"/>
            <a:stretch/>
          </p:blipFill>
          <p:spPr>
            <a:xfrm>
              <a:off x="3597120" y="285840"/>
              <a:ext cx="1150920" cy="134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" name=""/>
            <p:cNvSpPr/>
            <p:nvPr/>
          </p:nvSpPr>
          <p:spPr>
            <a:xfrm>
              <a:off x="3911760" y="660240"/>
              <a:ext cx="803160" cy="60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92" name="Стрелка влево 26" descr=""/>
          <p:cNvPicPr/>
          <p:nvPr/>
        </p:nvPicPr>
        <p:blipFill>
          <a:blip r:embed="rId10"/>
          <a:stretch/>
        </p:blipFill>
        <p:spPr>
          <a:xfrm>
            <a:off x="3687840" y="2871720"/>
            <a:ext cx="1006560" cy="1376280"/>
          </a:xfrm>
          <a:prstGeom prst="rect">
            <a:avLst/>
          </a:prstGeom>
          <a:ln w="0">
            <a:noFill/>
          </a:ln>
        </p:spPr>
      </p:pic>
      <p:grpSp>
        <p:nvGrpSpPr>
          <p:cNvPr id="193" name="Стрелка вправо 27"/>
          <p:cNvGrpSpPr/>
          <p:nvPr/>
        </p:nvGrpSpPr>
        <p:grpSpPr>
          <a:xfrm>
            <a:off x="5035680" y="285840"/>
            <a:ext cx="1145880" cy="1280880"/>
            <a:chOff x="5035680" y="285840"/>
            <a:chExt cx="1145880" cy="1280880"/>
          </a:xfrm>
        </p:grpSpPr>
        <p:pic>
          <p:nvPicPr>
            <p:cNvPr id="194" name="Стрелка вправо 27" descr=""/>
            <p:cNvPicPr/>
            <p:nvPr/>
          </p:nvPicPr>
          <p:blipFill>
            <a:blip r:embed="rId11"/>
            <a:stretch/>
          </p:blipFill>
          <p:spPr>
            <a:xfrm>
              <a:off x="5035680" y="285840"/>
              <a:ext cx="1145880" cy="128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"/>
            <p:cNvSpPr/>
            <p:nvPr/>
          </p:nvSpPr>
          <p:spPr>
            <a:xfrm>
              <a:off x="5072040" y="642960"/>
              <a:ext cx="84600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96" name="Стрелка вправо 28" descr=""/>
          <p:cNvPicPr/>
          <p:nvPr/>
        </p:nvPicPr>
        <p:blipFill>
          <a:blip r:embed="rId12"/>
          <a:stretch/>
        </p:blipFill>
        <p:spPr>
          <a:xfrm>
            <a:off x="5089680" y="2865600"/>
            <a:ext cx="1066680" cy="1457280"/>
          </a:xfrm>
          <a:prstGeom prst="rect">
            <a:avLst/>
          </a:prstGeom>
          <a:ln w="0">
            <a:noFill/>
          </a:ln>
        </p:spPr>
      </p:pic>
      <p:grpSp>
        <p:nvGrpSpPr>
          <p:cNvPr id="197" name="Стрелка вниз 13"/>
          <p:cNvGrpSpPr/>
          <p:nvPr/>
        </p:nvGrpSpPr>
        <p:grpSpPr>
          <a:xfrm>
            <a:off x="4438800" y="463680"/>
            <a:ext cx="907920" cy="4144680"/>
            <a:chOff x="4438800" y="463680"/>
            <a:chExt cx="907920" cy="4144680"/>
          </a:xfrm>
        </p:grpSpPr>
        <p:pic>
          <p:nvPicPr>
            <p:cNvPr id="198" name="Стрелка вниз 13" descr=""/>
            <p:cNvPicPr/>
            <p:nvPr/>
          </p:nvPicPr>
          <p:blipFill>
            <a:blip r:embed="rId13"/>
            <a:stretch/>
          </p:blipFill>
          <p:spPr>
            <a:xfrm>
              <a:off x="4438800" y="463680"/>
              <a:ext cx="907920" cy="414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"/>
            <p:cNvSpPr/>
            <p:nvPr/>
          </p:nvSpPr>
          <p:spPr>
            <a:xfrm>
              <a:off x="4697280" y="500040"/>
              <a:ext cx="392400" cy="38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0" name="Прямоугольник 14"/>
          <p:cNvSpPr/>
          <p:nvPr/>
        </p:nvSpPr>
        <p:spPr>
          <a:xfrm>
            <a:off x="1500120" y="1500120"/>
            <a:ext cx="63579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инозавры соединили в себе свойства нескольких ныне обособленных групп животного царства: ящериц, крокодилов, млекопитающих и птиц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0000"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370008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efac9"/>
              </a:solidFill>
              <a:latin typeface="Constant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title"/>
          </p:nvPr>
        </p:nvSpPr>
        <p:spPr>
          <a:xfrm>
            <a:off x="457200" y="1433160"/>
            <a:ext cx="830592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9f9f9"/>
              </a:solidFill>
              <a:latin typeface="Constantia"/>
            </a:endParaRPr>
          </a:p>
        </p:txBody>
      </p:sp>
      <p:pic>
        <p:nvPicPr>
          <p:cNvPr id="203" name="Рисунок 3" descr="Стегозавры"/>
          <p:cNvPicPr/>
          <p:nvPr/>
        </p:nvPicPr>
        <p:blipFill>
          <a:blip r:embed="rId2"/>
          <a:stretch/>
        </p:blipFill>
        <p:spPr>
          <a:xfrm>
            <a:off x="357120" y="428760"/>
            <a:ext cx="8358120" cy="6072120"/>
          </a:xfrm>
          <a:prstGeom prst="rect">
            <a:avLst/>
          </a:prstGeom>
          <a:ln w="0">
            <a:noFill/>
          </a:ln>
        </p:spPr>
      </p:pic>
      <p:sp>
        <p:nvSpPr>
          <p:cNvPr id="204" name="Rectangle 6"/>
          <p:cNvSpPr/>
          <p:nvPr/>
        </p:nvSpPr>
        <p:spPr>
          <a:xfrm>
            <a:off x="857160" y="734400"/>
            <a:ext cx="77155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Череп у динозавров в целом устроен как у ящериц, но каждый зуб помещается в отдельной ячейке, как у крокодилов; с ними же сближает кожистый или костяной панцирь . С млекопитающими сближает строение трубчатых костей с широкими каналами крестцовой кости , строение неуклюжих суставов пальцев, по строению таза и задних конечностей они более всего приближаются к птица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6000">
    <p:dissolve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0"/>
                            </p:stCondLst>
                            <p:childTnLst>
                              <p:par>
                                <p:cTn id="79" nodeType="afterEffect" fill="hold" presetClass="exit" presetID="2" presetSubtype="1">
                                  <p:stCondLst>
                                    <p:cond delay="8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0" dur="50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6T03:08:50Z</dcterms:created>
  <dc:creator>satiaga</dc:creator>
  <dc:description/>
  <dc:language>en-US</dc:language>
  <cp:lastModifiedBy>1</cp:lastModifiedBy>
  <dcterms:modified xsi:type="dcterms:W3CDTF">2014-01-30T19:43:44Z</dcterms:modified>
  <cp:revision>36</cp:revision>
  <dc:subject/>
  <dc:title>Слайд 1</dc:title>
</cp:coreProperties>
</file>