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7.jpeg" ContentType="image/jpeg"/>
  <Override PartName="/ppt/media/image17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3DC-FDC0-4E31-AFE3-49802212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2E6-2F3E-43B8-B35D-40FB8F7C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B3E-215D-4B03-A1C8-1B83ABE4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784-6444-4D9B-8A2E-DD9F518C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59E9F-5944-4F5E-9C1E-923D63BA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7C556-5FE6-48DF-B5C5-C0BA33B0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E8D1A-F35D-4926-96CA-09A6B688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FE7B3-E5EE-44ED-944D-26E941E4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2059E-171E-4F62-869A-83A507E8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DA4B4-7F27-4A47-8815-67E23E2C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CA676-F58D-4F92-9046-774211AA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CCF-5288-4416-BBBD-5D3172A8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CCCA9-A268-4701-8431-E9D58B9B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F0CCC-E5FF-4B02-9609-88E673C5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D0050-8885-45BC-81C5-85609B9F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A4CA7-8350-459A-8DD1-03C99DBA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F4E78-9739-40CC-A517-8A15B953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C591-AE72-4951-98E3-7E18DB4D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3C47-9EFA-4A6B-8FBB-01404B6C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F562-59E8-42C2-B3D0-41CC1A4F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64A9-4ADD-4573-8816-31A2361E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2255F-584F-4D10-B84C-3EDF5891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46F-9BC6-451D-91F1-E2319084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D6C1C-886A-417C-A535-12284F01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6F7D-E245-4BD9-A864-14E6F283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2EDD-40D3-450A-9CD5-0EB9D45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5D5A-1C09-4C2D-8374-ABA30BB5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0773-1D33-4CB2-ADCF-E274A532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2355-19FF-486A-AE59-4F064018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A10A-92D3-468A-A2BC-772205CD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49E540-3479-4E07-9B1F-67A57998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F29FE-C22F-4266-890D-021BFB4D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3A96F2-4C5D-468F-B24E-6CD41A3C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75D-E9CA-49DC-B3D7-45CA1925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C92646-9F49-455A-9785-A0320ECA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5235B-5E85-4189-B1CA-5B4FA4C4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0E56E7-8813-44D1-823B-24F799A8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CF7741-E0CD-4E9B-B3EF-210F5DBE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937D91-C3B1-41D9-9987-542B9881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C88B6-2E36-40CE-B430-CDB3E82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4F270-D479-41F2-8C06-495DB3DA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9451F3-4038-4536-9DF4-87F1AFF2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459B6-CA67-4428-ACDB-5186E6EF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FD3-31AB-44BC-9ED0-B5481B9B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F09-A9D4-43AA-A548-8C0AD0B5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489-658C-4EA6-936E-3DCE9E0C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0BE-B27E-4120-92B5-7ACE7535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456-22E4-4B6B-BE57-65F26392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B7F7-FE74-480B-AF76-273E29F9F0D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88DB-5554-4FE4-BDF9-9A4D231D473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0EEC-E742-4E8C-A859-C934AAF54F8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9A4A-A933-49F6-9875-CAB6BCD869A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6;&#1080;&#1085;&#1086;&#1079;&#1072;&#1074;&#1088;&#1099;&amp;noreask=1&amp;img_url=http://grani.ru/files/24157.jpg&amp;pos=4&amp;rpt=simage&amp;lr=4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103;&#1097;&#1077;&#1088;&#1080;&#1094;&#1072;&amp;img_url=http://i016.radikal.ru/0805/4e/97afc9989b9b.jpg&amp;pos=0&amp;rpt=simage&amp;lr=4&amp;noreask=1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yandex.ru/yandsearch?text=&#1082;&#1088;&#1086;&#1082;&#1086;&#1076;&#1080;&#1083;&amp;img_url=http://images.nationalgeographic.com/wpf/media-live/photos/000/002/cache/american-crocodile_219_600x450.jpg&amp;pos=0&amp;rpt=simage&amp;lr=4&amp;noreask=1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428760" y="720720"/>
            <a:ext cx="828648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Конкурс исследовательских 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творческих рабо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«Я – исследователь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Тема:  «Стегозавр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 ученик 4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«Крутоложская О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вченко Ден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Варламова В.В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6" descr="http://upload.wikimedia.org/wikipedia/commons/thumb/7/73/Stegosaurus_size.png/220px-Stegosaurus_size.png"/>
          <p:cNvPicPr/>
          <p:nvPr/>
        </p:nvPicPr>
        <p:blipFill>
          <a:blip r:embed="rId2"/>
          <a:stretch/>
        </p:blipFill>
        <p:spPr>
          <a:xfrm>
            <a:off x="2786040" y="3857760"/>
            <a:ext cx="571500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571680" y="37404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ина тела  стегозавра достигала 9 метров, высота 4 метра, весил примерно 4,5 т. Корпус всех стегозавров бал очень массивным , а крошечную голову они держали у самой земли. Типичные представители  этой группы – стегозавр  из С.Америки, Африканский кентрозавр и тоцзянозавр из Кит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Users\satiaga\Desktop\Rfhnbyrb cntujpfdhf\DSCN0083.jpg"/>
          <p:cNvPicPr/>
          <p:nvPr/>
        </p:nvPicPr>
        <p:blipFill>
          <a:blip r:embed="rId2"/>
          <a:stretch/>
        </p:blipFill>
        <p:spPr>
          <a:xfrm>
            <a:off x="214200" y="0"/>
            <a:ext cx="8643960" cy="65721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285840" y="524160"/>
            <a:ext cx="8572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на стегозавра была усеяна угловыми пластинами, пронизанными густой сетью кровеносных сосудов для согревания (подобно солнечным батареям) и для охлаждения. Пластины достигали 60 см. Задние ноги были сильными и толстыми, с широкими лапами. Возможно, он мог привставать на дыбы, обгладывая высокие растения. Похоже, стегозавр был одним из самых медлительных динозавр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9000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xit" presetID="2" presetSubtype="1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Users\satiaga\Desktop\Rfhnbyrb cntujpfdhf\DSCN0089.jpg"/>
          <p:cNvPicPr/>
          <p:nvPr/>
        </p:nvPicPr>
        <p:blipFill>
          <a:blip r:embed="rId2"/>
          <a:stretch/>
        </p:blipFill>
        <p:spPr>
          <a:xfrm>
            <a:off x="1857240" y="214200"/>
            <a:ext cx="5572440" cy="63579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2"/>
          <p:cNvSpPr/>
          <p:nvPr/>
        </p:nvSpPr>
        <p:spPr>
          <a:xfrm>
            <a:off x="785880" y="50004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дельно стоит сказать о хвосте. На его хвосте крепились пара острых шипов, которые, в отличие от пластинок, могли нанести хищнику существенный урон . Череп у них был очень маленький (40 см. в длину), низкий, уплощенный, а мозг вообще с грецкий орех.  Пасть с сотней мелких зубов заканчивалась клювом. Несмотря на свой внушительный рост и размер, стегозавры были травоядными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9000"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xit" presetID="2" presetSubtype="1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satiaga\Desktop\Rfhnbyrb cntujpfdhf\DSCN0072.jpg"/>
          <p:cNvPicPr/>
          <p:nvPr/>
        </p:nvPicPr>
        <p:blipFill>
          <a:blip r:embed="rId2"/>
          <a:stretch/>
        </p:blipFill>
        <p:spPr>
          <a:xfrm>
            <a:off x="642960" y="4572000"/>
            <a:ext cx="2428920" cy="1833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satiaga\Desktop\Rfhnbyrb cntujpfdhf\DSCN0074.jpg"/>
          <p:cNvPicPr/>
          <p:nvPr/>
        </p:nvPicPr>
        <p:blipFill>
          <a:blip r:embed="rId3"/>
          <a:stretch/>
        </p:blipFill>
        <p:spPr>
          <a:xfrm>
            <a:off x="6143760" y="4572000"/>
            <a:ext cx="2395440" cy="1928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Users\satiaga\Desktop\Rfhnbyrb cntujpfdhf\DSCN0078.jpg"/>
          <p:cNvPicPr/>
          <p:nvPr/>
        </p:nvPicPr>
        <p:blipFill>
          <a:blip r:embed="rId4"/>
          <a:stretch/>
        </p:blipFill>
        <p:spPr>
          <a:xfrm>
            <a:off x="6143760" y="500040"/>
            <a:ext cx="2428920" cy="188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:\Users\satiaga\Desktop\Rfhnbyrb cntujpfdhf\DSCN0075.jpg"/>
          <p:cNvPicPr/>
          <p:nvPr/>
        </p:nvPicPr>
        <p:blipFill>
          <a:blip r:embed="rId5"/>
          <a:stretch/>
        </p:blipFill>
        <p:spPr>
          <a:xfrm>
            <a:off x="571680" y="500040"/>
            <a:ext cx="2643120" cy="1928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:\Users\satiaga\Desktop\Rfhnbyrb cntujpfdhf\DSCN0080.jpg"/>
          <p:cNvPicPr/>
          <p:nvPr/>
        </p:nvPicPr>
        <p:blipFill>
          <a:blip r:embed="rId6"/>
          <a:stretch/>
        </p:blipFill>
        <p:spPr>
          <a:xfrm>
            <a:off x="3071880" y="2428920"/>
            <a:ext cx="31431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3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3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5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3"/>
          <p:cNvPicPr/>
          <p:nvPr/>
        </p:nvPicPr>
        <p:blipFill>
          <a:blip r:embed="rId2"/>
          <a:stretch/>
        </p:blipFill>
        <p:spPr>
          <a:xfrm>
            <a:off x="928800" y="285840"/>
            <a:ext cx="7429320" cy="62150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1143000" y="200520"/>
            <a:ext cx="7143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писок используемых источников :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) Современная детская энциклопедия. – Москва: «Махаон», 2011г.                                                                                          2) Дэвид Бурнье. Детский атлас динозавров. – Москва: «ЭКСМО, 2010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) Сэн Тэплин. Детская энциклопедия динозавров. –  Москва: «РОСМЭН», 2007г.                                                                                                                 4) Марлис Лункенбайн. Динозавры. Моя первая энциклопедия в вопросах и ответах. –  Москва: «Оникс», 1999г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) 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ttp://images.yandex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6) http://ru.wikipedia.org/wiki/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8) http://www.dinozavr-vernis.com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9)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http://www.zooeco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0) 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http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//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inoera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ru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C:\Users\satiaga\Desktop\Rfhnbyrb cntujpfdhf\DSCN0085.jpg"/>
          <p:cNvPicPr/>
          <p:nvPr/>
        </p:nvPicPr>
        <p:blipFill>
          <a:blip r:embed="rId2"/>
          <a:stretch/>
        </p:blipFill>
        <p:spPr>
          <a:xfrm>
            <a:off x="357120" y="285840"/>
            <a:ext cx="8358120" cy="62690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928800" y="100008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Благодарим за внимание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http://www.ebio.ru/images/06050502.jpg"/>
          <p:cNvPicPr/>
          <p:nvPr/>
        </p:nvPicPr>
        <p:blipFill>
          <a:blip r:embed="rId2"/>
          <a:stretch/>
        </p:blipFill>
        <p:spPr>
          <a:xfrm>
            <a:off x="571680" y="1071720"/>
            <a:ext cx="8143560" cy="51433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3"/>
          <p:cNvSpPr/>
          <p:nvPr/>
        </p:nvSpPr>
        <p:spPr>
          <a:xfrm>
            <a:off x="642960" y="35712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ные, которых никто не видел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atiaga\Desktop\Rfhnbyrb cntujpfdhf\DSCN0071.jpg"/>
          <p:cNvPicPr/>
          <p:nvPr/>
        </p:nvPicPr>
        <p:blipFill>
          <a:blip r:embed="rId2"/>
          <a:stretch/>
        </p:blipFill>
        <p:spPr>
          <a:xfrm>
            <a:off x="428760" y="214200"/>
            <a:ext cx="8501040" cy="642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"/>
          <p:cNvSpPr/>
          <p:nvPr/>
        </p:nvSpPr>
        <p:spPr>
          <a:xfrm>
            <a:off x="1714680" y="28584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f04"/>
                </a:solidFill>
                <a:latin typeface="Times New Roman"/>
                <a:ea typeface="Times New Roman"/>
              </a:rPr>
              <a:t>Цель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макета Стегозавра на основании детального исследования научно- популярных источ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642960" y="1928880"/>
            <a:ext cx="80722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f04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бор и систематизация научно-популярной литературы, посвященной стегозавр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 полученной в ходе анализа информации для создания макета стегозав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stat16.privet.ru/lr/090b3cd046d72a89cb27b6c059412e1c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3579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571680" y="42876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ект исследовани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dfcf04"/>
                </a:solidFill>
                <a:latin typeface="Times New Roman"/>
                <a:ea typeface="Times New Roman"/>
              </a:rPr>
              <a:t>стегозав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 исследовани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dfcf04"/>
                </a:solidFill>
                <a:latin typeface="Times New Roman"/>
                <a:ea typeface="Times New Roman"/>
              </a:rPr>
              <a:t>физиологические особенности и повадки стегозав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ы исследовани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</a:t>
            </a:r>
            <a:r>
              <a:rPr b="1" i="1" lang="en-US" sz="3200" spc="-1" strike="noStrike">
                <a:solidFill>
                  <a:srgbClr val="dfcf04"/>
                </a:solidFill>
                <a:latin typeface="Times New Roman"/>
                <a:ea typeface="Times New Roman"/>
              </a:rPr>
              <a:t>исследование и анализ подобранного материа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ктическая значимость работы: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dfcf04"/>
                </a:solidFill>
                <a:latin typeface="Times New Roman"/>
                <a:ea typeface="Times New Roman"/>
              </a:rPr>
              <a:t>данная работа поможет сформировать представление о  динозаврах, а в частности, о стегозав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i?id=201746535-05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357120"/>
            <a:ext cx="8501040" cy="62150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357120" y="73224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нозавры появились на нашей планете примерно 230 млн. лет назад. А вымерли 65 млн. лет назад. Термин «динозавр» был введён в 1842 году английским биологом Ричардом Оуэоном для описания первых окаменелых останков древних ящер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pic10"/>
          <p:cNvPicPr/>
          <p:nvPr/>
        </p:nvPicPr>
        <p:blipFill>
          <a:blip r:embed="rId2"/>
          <a:stretch/>
        </p:blipFill>
        <p:spPr>
          <a:xfrm>
            <a:off x="428760" y="500040"/>
            <a:ext cx="8286480" cy="5929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642960" y="670320"/>
            <a:ext cx="7858080" cy="5639760"/>
          </a:xfrm>
          <a:prstGeom prst="rect">
            <a:avLst/>
          </a:prstGeom>
          <a:solidFill>
            <a:srgbClr val="dfcf04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птилии обитали ещё до появления динозавров. Затем появились предки динозавров –АРХОЗАВРЫ. В начале триасового периода возникло множество новых видов. Одним из самых ранних известных динозавров считается старикозавр, живший 228 млн. лет назад, частичный скелет которого был обнаружен в отложениях среднего триасового периода на территории современной Бразилии.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евнейшего стегозавра обнаружили в Шотландии, которая 175 млн. лет назад располагалась ближе к  Северной Америке, чем к Европе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heel spokes="2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xit" presetID="2" presetSubtype="1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Стегозавр"/>
          <p:cNvPicPr/>
          <p:nvPr/>
        </p:nvPicPr>
        <p:blipFill>
          <a:blip r:embed="rId2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428760" y="918720"/>
            <a:ext cx="82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й первой известной группой птицетазовых динозавров являются ФАБРОЗАВРИДЫ. Стегозавры  жили в конце юрского периода около 155,7 – 145,5 млн. лет назад. Все виды найдены ближе к западу США (штаты Колорадо и Вайоминг).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 Согласно традиционной классификации стегозавров объединяют к птицетазов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6000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i?id=542842232-24-72&amp;n=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285840"/>
            <a:ext cx="2071800" cy="1643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i?id=63621294-02-72&amp;n=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15080" y="500040"/>
            <a:ext cx="2063880" cy="1425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i?id=608211654-64-72&amp;n=17"/>
          <p:cNvPicPr/>
          <p:nvPr/>
        </p:nvPicPr>
        <p:blipFill>
          <a:blip r:embed="rId6"/>
          <a:stretch/>
        </p:blipFill>
        <p:spPr>
          <a:xfrm>
            <a:off x="571680" y="2714760"/>
            <a:ext cx="2357280" cy="1857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img_4714"/>
          <p:cNvPicPr/>
          <p:nvPr/>
        </p:nvPicPr>
        <p:blipFill>
          <a:blip r:embed="rId7"/>
          <a:stretch/>
        </p:blipFill>
        <p:spPr>
          <a:xfrm>
            <a:off x="6357960" y="2928960"/>
            <a:ext cx="2338200" cy="16430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5" descr="http://upload.wikimedia.org/wikipedia/commons/thumb/a/af/Stegosaurus_Heinrich_Harder.jpg/120px-Stegosaurus_Heinrich_Harder.jpg"/>
          <p:cNvPicPr/>
          <p:nvPr/>
        </p:nvPicPr>
        <p:blipFill>
          <a:blip r:embed="rId8"/>
          <a:stretch/>
        </p:blipFill>
        <p:spPr>
          <a:xfrm>
            <a:off x="3357720" y="4572000"/>
            <a:ext cx="3500280" cy="2000160"/>
          </a:xfrm>
          <a:prstGeom prst="rect">
            <a:avLst/>
          </a:prstGeom>
          <a:ln w="0">
            <a:noFill/>
          </a:ln>
        </p:spPr>
      </p:pic>
      <p:grpSp>
        <p:nvGrpSpPr>
          <p:cNvPr id="189" name="Стрелка влево 25"/>
          <p:cNvGrpSpPr/>
          <p:nvPr/>
        </p:nvGrpSpPr>
        <p:grpSpPr>
          <a:xfrm>
            <a:off x="3597120" y="285840"/>
            <a:ext cx="1150920" cy="1347840"/>
            <a:chOff x="3597120" y="285840"/>
            <a:chExt cx="1150920" cy="1347840"/>
          </a:xfrm>
        </p:grpSpPr>
        <p:pic>
          <p:nvPicPr>
            <p:cNvPr id="190" name="Стрелка влево 25" descr=""/>
            <p:cNvPicPr/>
            <p:nvPr/>
          </p:nvPicPr>
          <p:blipFill>
            <a:blip r:embed="rId9"/>
            <a:stretch/>
          </p:blipFill>
          <p:spPr>
            <a:xfrm>
              <a:off x="3597120" y="285840"/>
              <a:ext cx="11509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911760" y="660240"/>
              <a:ext cx="8031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2" name="Стрелка влево 26" descr=""/>
          <p:cNvPicPr/>
          <p:nvPr/>
        </p:nvPicPr>
        <p:blipFill>
          <a:blip r:embed="rId10"/>
          <a:stretch/>
        </p:blipFill>
        <p:spPr>
          <a:xfrm>
            <a:off x="3687840" y="2871720"/>
            <a:ext cx="1006560" cy="1376280"/>
          </a:xfrm>
          <a:prstGeom prst="rect">
            <a:avLst/>
          </a:prstGeom>
          <a:ln w="0">
            <a:noFill/>
          </a:ln>
        </p:spPr>
      </p:pic>
      <p:grpSp>
        <p:nvGrpSpPr>
          <p:cNvPr id="193" name="Стрелка вправо 27"/>
          <p:cNvGrpSpPr/>
          <p:nvPr/>
        </p:nvGrpSpPr>
        <p:grpSpPr>
          <a:xfrm>
            <a:off x="5035680" y="285840"/>
            <a:ext cx="1145880" cy="1280880"/>
            <a:chOff x="5035680" y="285840"/>
            <a:chExt cx="1145880" cy="1280880"/>
          </a:xfrm>
        </p:grpSpPr>
        <p:pic>
          <p:nvPicPr>
            <p:cNvPr id="194" name="Стрелка вправо 27" descr=""/>
            <p:cNvPicPr/>
            <p:nvPr/>
          </p:nvPicPr>
          <p:blipFill>
            <a:blip r:embed="rId11"/>
            <a:stretch/>
          </p:blipFill>
          <p:spPr>
            <a:xfrm>
              <a:off x="5035680" y="285840"/>
              <a:ext cx="114588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072040" y="642960"/>
              <a:ext cx="846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6" name="Стрелка вправо 28" descr=""/>
          <p:cNvPicPr/>
          <p:nvPr/>
        </p:nvPicPr>
        <p:blipFill>
          <a:blip r:embed="rId12"/>
          <a:stretch/>
        </p:blipFill>
        <p:spPr>
          <a:xfrm>
            <a:off x="5089680" y="2865600"/>
            <a:ext cx="106668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97" name="Стрелка вниз 13"/>
          <p:cNvGrpSpPr/>
          <p:nvPr/>
        </p:nvGrpSpPr>
        <p:grpSpPr>
          <a:xfrm>
            <a:off x="4438800" y="463680"/>
            <a:ext cx="907920" cy="4144680"/>
            <a:chOff x="4438800" y="463680"/>
            <a:chExt cx="907920" cy="4144680"/>
          </a:xfrm>
        </p:grpSpPr>
        <p:pic>
          <p:nvPicPr>
            <p:cNvPr id="198" name="Стрелка вниз 13" descr=""/>
            <p:cNvPicPr/>
            <p:nvPr/>
          </p:nvPicPr>
          <p:blipFill>
            <a:blip r:embed="rId13"/>
            <a:stretch/>
          </p:blipFill>
          <p:spPr>
            <a:xfrm>
              <a:off x="4438800" y="463680"/>
              <a:ext cx="907920" cy="41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697280" y="500040"/>
              <a:ext cx="392400" cy="38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Прямоугольник 14"/>
          <p:cNvSpPr/>
          <p:nvPr/>
        </p:nvSpPr>
        <p:spPr>
          <a:xfrm>
            <a:off x="1500120" y="1500120"/>
            <a:ext cx="6357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нозавры соединили в себе свойства нескольких ныне обособленных групп животного царства: ящериц, крокодилов, млекопитающих и птиц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03" name="Рисунок 3" descr="Стегозавры"/>
          <p:cNvPicPr/>
          <p:nvPr/>
        </p:nvPicPr>
        <p:blipFill>
          <a:blip r:embed="rId2"/>
          <a:stretch/>
        </p:blipFill>
        <p:spPr>
          <a:xfrm>
            <a:off x="357120" y="428760"/>
            <a:ext cx="8358120" cy="6072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857160" y="734400"/>
            <a:ext cx="771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еп у динозавров в целом устроен как у ящериц, но каждый зуб помещается в отдельной ячейке, как у крокодилов; с ними же сближает кожистый или костяной панцирь . С млекопитающими сближает строение трубчатых костей с широкими каналами крестцовой кости , строение неуклюжих суставов пальцев, по строению таза и задних конечностей они более всего приближаются к птиц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xit" presetID="2" presetSubtype="1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3:08:50Z</dcterms:created>
  <dc:creator>satiaga</dc:creator>
  <dc:description/>
  <dc:language>en-US</dc:language>
  <cp:lastModifiedBy>1</cp:lastModifiedBy>
  <dcterms:modified xsi:type="dcterms:W3CDTF">2014-01-30T19:43:44Z</dcterms:modified>
  <cp:revision>36</cp:revision>
  <dc:subject/>
  <dc:title>Слайд 1</dc:title>
</cp:coreProperties>
</file>