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049-BA1C-4863-8CCB-CD46AC01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C85-A004-411B-BE83-1AC32519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C41-4D87-4584-968F-A9B77B07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A25-3175-4E67-A69B-491FE570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4D86-0511-44E7-8E51-0A2C4B80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B421-AD5E-4B80-9C8D-2F93D7F8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D3D4-4E6B-44AF-BC52-96C5767A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1B88-C59A-4353-B7CF-7AD5D62F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2CAE-0724-4C8B-AECE-7829FE24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381-C606-4731-8DDC-3531CF00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9640-8B49-4A8E-A3F2-43CA6ED0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68C-B227-455D-B32F-A55ED657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C227-7A8A-4615-B0D7-88F7F21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62A9-1DBF-4793-A3B5-455BB1C1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DCDD-24BE-4A3E-B1E6-2E5AA640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6E45-89E9-4FA1-B665-ED679125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C84A-ACEB-4237-AA17-4D3C4355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9B7-05D2-498E-AA6A-B4D7F52D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C82-1854-4783-BC82-3F994B5A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058-5645-4698-815F-C24FBBBA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EEC-5A99-44A1-9EC5-4C05840F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396-8363-4869-86B7-BD6218F2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6BA-5726-41C6-9CCB-4ADB1936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DFA-1B50-4180-816B-34CFF6B3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EF5B-7BB7-455C-8C81-6780459068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BF73-00FD-4CC1-9556-4C1AFBFBD6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ЦИК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бщение понятия ци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68000" y="2708280"/>
            <a:ext cx="64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олагает сначала выполнение команд, а затем проверку усло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ие называется «Условием продолжения цик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тличии от цикла с предусловием ВСЕГДА выполнится хотя бы 1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411280" y="18900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КЛ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03640" y="191628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с постусловие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24720" y="4437000"/>
            <a:ext cx="10080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</p:spTree>
  </p:cSld>
  <p:transition spd="slow"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нтаксис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urbo Pascal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56000" y="1412640"/>
            <a:ext cx="3528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&l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40360" y="1413000"/>
            <a:ext cx="216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348000" y="3284640"/>
            <a:ext cx="54738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требует операторных скоб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56000" y="5516640"/>
            <a:ext cx="583236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овие формируется к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КА Н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.е. while a&gt;0  = until a&lt;=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411280" y="333360"/>
            <a:ext cx="605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рафичес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565360"/>
            <a:ext cx="1871640" cy="43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4149720"/>
            <a:ext cx="1871640" cy="4316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3357720"/>
            <a:ext cx="1871640" cy="4316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419640" y="2708280"/>
            <a:ext cx="172080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ер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419640" y="3500280"/>
            <a:ext cx="172080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ер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419640" y="4292640"/>
            <a:ext cx="172080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ер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4920" y="5013360"/>
            <a:ext cx="2016360" cy="1440000"/>
          </a:xfrm>
          <a:prstGeom prst="diamond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7" idx="2"/>
            <a:endCxn id="159" idx="0"/>
          </p:cNvCxnSpPr>
          <p:nvPr/>
        </p:nvCxnSpPr>
        <p:spPr>
          <a:xfrm>
            <a:off x="4284360" y="299700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5" name=""/>
          <p:cNvCxnSpPr/>
          <p:nvPr/>
        </p:nvCxnSpPr>
        <p:spPr>
          <a:xfrm>
            <a:off x="4282560" y="3789000"/>
            <a:ext cx="108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8" idx="2"/>
            <a:endCxn id="163" idx="0"/>
          </p:cNvCxnSpPr>
          <p:nvPr/>
        </p:nvCxnSpPr>
        <p:spPr>
          <a:xfrm flipH="1">
            <a:off x="4282200" y="4581360"/>
            <a:ext cx="252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5291280" y="57340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515280" y="1844640"/>
            <a:ext cx="0" cy="38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282920" y="169992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282560" y="1844640"/>
            <a:ext cx="223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706920" y="5589720"/>
            <a:ext cx="1216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98920" y="573408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5734080"/>
            <a:ext cx="0" cy="11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484360" y="5157720"/>
            <a:ext cx="1071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т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64000" y="5229360"/>
            <a:ext cx="1000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ож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9640" y="1916280"/>
            <a:ext cx="248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сли условие продолжения цикла принимает значение ЛОЖЬ, то происходит возврат к выполнению операторов ци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68000" y="2708280"/>
            <a:ext cx="64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олагает выполнение команд определенное количеств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кл завершается при достижении параметрической переменной предельного 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411280" y="189000"/>
            <a:ext cx="626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КЛ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708360" y="177336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с параметром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308720" y="5013360"/>
            <a:ext cx="10083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</p:spTree>
  </p:cSld>
  <p:transition spd="slow">
    <p:wheel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то такое ПАРАМЕТР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еременная целого типа, которая определяет количество выполнений (повторений) ци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о параметр изменяется с шагом в 1 (т.е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96360" y="333360"/>
            <a:ext cx="1152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68321" dir="20281825" blurRad="0" rotWithShape="0">
                    <a:srgbClr val="000099"/>
                  </a:outerShdw>
                </a:effectLst>
                <a:latin typeface="Times New Roman"/>
              </a:rPr>
              <a:t>i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68321" dir="20281825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интаксис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urbo Pascal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556000" y="1052640"/>
            <a:ext cx="597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419640" y="4869000"/>
            <a:ext cx="151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рам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99280" y="2060640"/>
            <a:ext cx="7207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63640" y="2060640"/>
            <a:ext cx="64764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64000" y="155736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рамет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84360" y="2781360"/>
            <a:ext cx="2571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зраст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12000" y="2708280"/>
            <a:ext cx="257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бы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340000" y="4724280"/>
            <a:ext cx="93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f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4653000"/>
            <a:ext cx="1582560" cy="93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203640" y="3500280"/>
            <a:ext cx="93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300720" y="3500280"/>
            <a:ext cx="187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dow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435640" y="5516640"/>
            <a:ext cx="93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627280" y="5661000"/>
            <a:ext cx="266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нечное з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24360" y="6353280"/>
            <a:ext cx="266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&lt;тело цикла&gt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580000" y="4869000"/>
            <a:ext cx="14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ч.з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03640" y="4869000"/>
            <a:ext cx="5050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: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cxnSp>
        <p:nvCxnSpPr>
          <p:cNvPr id="201" name=""/>
          <p:cNvCxnSpPr>
            <a:stCxn id="194" idx="2"/>
            <a:endCxn id="193" idx="0"/>
          </p:cNvCxnSpPr>
          <p:nvPr/>
        </p:nvCxnSpPr>
        <p:spPr>
          <a:xfrm flipH="1" rot="16200000">
            <a:off x="5539680" y="2280240"/>
            <a:ext cx="475560" cy="4213440"/>
          </a:xfrm>
          <a:prstGeom prst="bentConnector3">
            <a:avLst>
              <a:gd name="adj1" fmla="val 52803"/>
            </a:avLst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endCxn id="193" idx="7"/>
          </p:cNvCxnSpPr>
          <p:nvPr/>
        </p:nvCxnSpPr>
        <p:spPr>
          <a:xfrm flipH="1" rot="16200000">
            <a:off x="7966800" y="4283640"/>
            <a:ext cx="828000" cy="127440"/>
          </a:xfrm>
          <a:prstGeom prst="bentConnector3">
            <a:avLst>
              <a:gd name="adj1" fmla="val 43366"/>
            </a:avLst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3" name=""/>
          <p:cNvSpPr txBox="1"/>
          <p:nvPr/>
        </p:nvSpPr>
        <p:spPr>
          <a:xfrm>
            <a:off x="7667640" y="479736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ивести пример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зменения парам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 1, 2, 3, .. ,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= 28, 27, 26, .. ,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00360" y="3860640"/>
            <a:ext cx="5995800" cy="144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писать фрагмен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грамм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948360" y="4653000"/>
            <a:ext cx="10083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</p:spTree>
  </p:cSld>
  <p:transition spd="slow">
    <p:wheel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онвертация цикл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клы с условием являются полностью взаимозаменяем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всегда возможно заменить параметрический цикл на цикл с услов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84360" y="4797360"/>
            <a:ext cx="5113440" cy="1870200"/>
            <a:chOff x="2484360" y="4797360"/>
            <a:chExt cx="5113440" cy="1870200"/>
          </a:xfrm>
        </p:grpSpPr>
        <p:sp>
          <p:nvSpPr>
            <p:cNvPr id="211" name=""/>
            <p:cNvSpPr txBox="1"/>
            <p:nvPr/>
          </p:nvSpPr>
          <p:spPr>
            <a:xfrm>
              <a:off x="2484360" y="4869000"/>
              <a:ext cx="17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repea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5219640" y="4797360"/>
              <a:ext cx="165744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whil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5940360" y="6093000"/>
              <a:ext cx="1657440" cy="57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fo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56000" y="4941720"/>
              <a:ext cx="720720" cy="216000"/>
            </a:xfrm>
            <a:prstGeom prst="rightArrow">
              <a:avLst>
                <a:gd name="adj1" fmla="val 50000"/>
                <a:gd name="adj2" fmla="val 8341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800000">
              <a:off x="4356000" y="5229000"/>
              <a:ext cx="720720" cy="215640"/>
            </a:xfrm>
            <a:prstGeom prst="rightArrow">
              <a:avLst>
                <a:gd name="adj1" fmla="val 50000"/>
                <a:gd name="adj2" fmla="val 83556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2737400">
              <a:off x="4787640" y="5516640"/>
              <a:ext cx="1096920" cy="558720"/>
            </a:xfrm>
            <a:prstGeom prst="rightArrow">
              <a:avLst>
                <a:gd name="adj1" fmla="val 33648"/>
                <a:gd name="adj2" fmla="val 53190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ИМЕ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вестно, что цена 1 кг конфет равна 85 руб 50 коп. Вывести стоимости 2, 3, 4 .. 10 кг конф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58160" y="4510080"/>
            <a:ext cx="5438520" cy="1584360"/>
            <a:chOff x="2558160" y="4510080"/>
            <a:chExt cx="5438520" cy="1584360"/>
          </a:xfrm>
        </p:grpSpPr>
        <p:grpSp>
          <p:nvGrpSpPr>
            <p:cNvPr id="220" name=""/>
            <p:cNvGrpSpPr/>
            <p:nvPr/>
          </p:nvGrpSpPr>
          <p:grpSpPr>
            <a:xfrm>
              <a:off x="2558160" y="4510080"/>
              <a:ext cx="5438520" cy="1584360"/>
              <a:chOff x="2558160" y="4510080"/>
              <a:chExt cx="5438520" cy="1584360"/>
            </a:xfrm>
          </p:grpSpPr>
          <p:sp>
            <p:nvSpPr>
              <p:cNvPr id="221" name=""/>
              <p:cNvSpPr/>
              <p:nvPr/>
            </p:nvSpPr>
            <p:spPr>
              <a:xfrm rot="5861400">
                <a:off x="2698920" y="4796640"/>
                <a:ext cx="1116000" cy="1260360"/>
              </a:xfrm>
              <a:prstGeom prst="triangle">
                <a:avLst>
                  <a:gd name="adj" fmla="val 41537"/>
                </a:avLst>
              </a:pr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400000">
                <a:off x="4714920" y="3861360"/>
                <a:ext cx="1152720" cy="3313080"/>
              </a:xfrm>
              <a:prstGeom prst="can">
                <a:avLst>
                  <a:gd name="adj" fmla="val 25000"/>
                </a:avLst>
              </a:pr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540200">
                <a:off x="6621120" y="4403520"/>
                <a:ext cx="1144800" cy="1500120"/>
              </a:xfrm>
              <a:prstGeom prst="triangle">
                <a:avLst>
                  <a:gd name="adj" fmla="val 19120"/>
                </a:avLst>
              </a:pr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4284720" y="5229360"/>
              <a:ext cx="1584360" cy="64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bount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 spd="slow">
    <p:wheel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2" dur="3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ЗАДАНИЯ (использовать различные циклы – не менее 2)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а стоимость 1 кг конфет (ввод с клавиатуры), вывести стоимости 0.2 , 0.4 , 0.6, .., 2.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два целых числа А и В (вводятся с клавиатур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&lt;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Найти и вывести все произведения целых чисел от А до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сумму цифр целого числа А (вводится с клавиату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количество целых трехзначных чисел, произведение цифр которых рав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одится с клавиату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лен чисел Фибоначчи, есл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43280" y="5950080"/>
                <a:ext cx="2160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211640" y="5229360"/>
                <a:ext cx="533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580000" y="5589720"/>
                <a:ext cx="1871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 txBox="1"/>
          <p:nvPr/>
        </p:nvSpPr>
        <p:spPr>
          <a:xfrm>
            <a:off x="5219640" y="616572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,1,2,3,5,8,13,..    k&lt;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сновные вопрос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цик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4005c"/>
                </a:solidFill>
                <a:uFillTx/>
                <a:latin typeface="Arial"/>
              </a:rPr>
              <a:t>Цик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алгоритмическая конструкция, обеспечивающая многократное повторение оператора(ов) – команд исполн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867280" y="4760640"/>
            <a:ext cx="2765880" cy="2134080"/>
            <a:chOff x="5867280" y="4760640"/>
            <a:chExt cx="2765880" cy="2134080"/>
          </a:xfrm>
        </p:grpSpPr>
        <p:sp>
          <p:nvSpPr>
            <p:cNvPr id="91" name=""/>
            <p:cNvSpPr/>
            <p:nvPr/>
          </p:nvSpPr>
          <p:spPr>
            <a:xfrm>
              <a:off x="5867280" y="4797360"/>
              <a:ext cx="1199520" cy="2060640"/>
            </a:xfrm>
            <a:custGeom>
              <a:avLst/>
              <a:gdLst>
                <a:gd name="textAreaLeft" fmla="*/ 160560 w 1199520"/>
                <a:gd name="textAreaRight" fmla="*/ 1038960 w 1199520"/>
                <a:gd name="textAreaTop" fmla="*/ 360360 h 2060640"/>
                <a:gd name="textAreaBottom" fmla="*/ 1494000 h 20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229200">
              <a:off x="7394040" y="4797360"/>
              <a:ext cx="1171800" cy="2060640"/>
            </a:xfrm>
            <a:custGeom>
              <a:avLst/>
              <a:gdLst>
                <a:gd name="textAreaLeft" fmla="*/ 156960 w 1171800"/>
                <a:gd name="textAreaRight" fmla="*/ 1014840 w 1171800"/>
                <a:gd name="textAreaTop" fmla="*/ 360720 h 2060640"/>
                <a:gd name="textAreaBottom" fmla="*/ 1494360 h 20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2700360" y="2133720"/>
            <a:ext cx="597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ператор повт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wheel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сновные вопрос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существуют виды цик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92360" y="2781360"/>
            <a:ext cx="33130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кл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87280" y="3357720"/>
            <a:ext cx="792360" cy="129528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3357720"/>
            <a:ext cx="0" cy="194292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7080" y="3357720"/>
            <a:ext cx="934920" cy="122364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340000" y="4726080"/>
            <a:ext cx="2376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редусловие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95640" y="5373720"/>
            <a:ext cx="2376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остусловие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16720" y="4653000"/>
            <a:ext cx="2376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араметро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3707640" y="4366440"/>
            <a:ext cx="527040" cy="3262320"/>
          </a:xfrm>
          <a:custGeom>
            <a:avLst/>
            <a:gdLst>
              <a:gd name="textAreaLeft" fmla="*/ 336600 w 527040"/>
              <a:gd name="textAreaRight" fmla="*/ 527400 w 527040"/>
              <a:gd name="textAreaTop" fmla="*/ 51840 h 3262320"/>
              <a:gd name="textAreaBottom" fmla="*/ 3210480 h 32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2"/>
                  <a:pt x="10800" y="1103"/>
                </a:cubicBezTo>
                <a:lnTo>
                  <a:pt x="10800" y="9697"/>
                </a:lnTo>
                <a:cubicBezTo>
                  <a:pt x="10800" y="10249"/>
                  <a:pt x="5400" y="10800"/>
                  <a:pt x="0" y="10800"/>
                </a:cubicBezTo>
                <a:cubicBezTo>
                  <a:pt x="5400" y="10800"/>
                  <a:pt x="10800" y="11352"/>
                  <a:pt x="10800" y="11903"/>
                </a:cubicBezTo>
                <a:lnTo>
                  <a:pt x="10800" y="20497"/>
                </a:lnTo>
                <a:cubicBezTo>
                  <a:pt x="10800" y="210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27280" y="6165720"/>
            <a:ext cx="2514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условием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11280" y="475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ИКЛЫ с условие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услов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некоторое утверждение, которое </a:t>
            </a: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обязатель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нимает одно из значений: а)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ис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ТОРНЫЕ СКОБ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операторные ско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</a:rPr>
              <a:t>Операторные скоб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структура, обеспечивающая объединение нескольких операторов в одну команду для исполн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484360" y="260280"/>
            <a:ext cx="59040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Е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40000" y="2205000"/>
            <a:ext cx="633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значают (определяют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ть выхода -завершения цикл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95600" y="3015720"/>
            <a:ext cx="4721760" cy="4215960"/>
            <a:chOff x="1695600" y="3015720"/>
            <a:chExt cx="4721760" cy="4215960"/>
          </a:xfrm>
        </p:grpSpPr>
        <p:sp>
          <p:nvSpPr>
            <p:cNvPr id="112" name=""/>
            <p:cNvSpPr/>
            <p:nvPr/>
          </p:nvSpPr>
          <p:spPr>
            <a:xfrm rot="1585200">
              <a:off x="2231640" y="3246480"/>
              <a:ext cx="1697040" cy="2808360"/>
            </a:xfrm>
            <a:custGeom>
              <a:avLst/>
              <a:gdLst>
                <a:gd name="textAreaLeft" fmla="*/ 227160 w 1697040"/>
                <a:gd name="textAreaRight" fmla="*/ 1469880 w 1697040"/>
                <a:gd name="textAreaTop" fmla="*/ 491400 h 2808360"/>
                <a:gd name="textAreaBottom" fmla="*/ 2036160 h 28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1814400">
              <a:off x="4341600" y="4245120"/>
              <a:ext cx="1468440" cy="2807640"/>
            </a:xfrm>
            <a:custGeom>
              <a:avLst/>
              <a:gdLst>
                <a:gd name="textAreaLeft" fmla="*/ 196560 w 1468440"/>
                <a:gd name="textAreaRight" fmla="*/ 1271880 w 1468440"/>
                <a:gd name="textAreaTop" fmla="*/ 491040 h 2807640"/>
                <a:gd name="textAreaBottom" fmla="*/ 203544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 rot="2086200">
            <a:off x="4211280" y="4365720"/>
            <a:ext cx="4319640" cy="93492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050920" y="2707920"/>
            <a:ext cx="664704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ие проверяется перед входом в цикл и называется «Условием выполнения цикл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условие заведомо ложное, то цикл не выполнится ни р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771640" y="33336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77353" dir="562478" blurRad="0" rotWithShape="0">
                    <a:srgbClr val="b2b2b2"/>
                  </a:outerShdw>
                </a:effectLst>
                <a:latin typeface="Impact"/>
              </a:rPr>
              <a:t>ЦИКЛ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77353" dir="562478" blurRad="0" rotWithShape="0">
                  <a:srgbClr val="b2b2b2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71640" y="1844640"/>
            <a:ext cx="525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редусловие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56000" y="5589720"/>
            <a:ext cx="4048200" cy="1047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hile &lt;условие&gt; 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ератор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рганизуется цикл с предусловием на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71640" y="3213000"/>
            <a:ext cx="5042160" cy="302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hile &lt;условие&gt;  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ператор1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ператор2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ператорN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heel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Как графически изобразить цикл с предусловием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16000" y="1413000"/>
            <a:ext cx="5904000" cy="4824360"/>
            <a:chOff x="2916000" y="1413000"/>
            <a:chExt cx="5904000" cy="4824360"/>
          </a:xfrm>
        </p:grpSpPr>
        <p:sp>
          <p:nvSpPr>
            <p:cNvPr id="124" name=""/>
            <p:cNvSpPr/>
            <p:nvPr/>
          </p:nvSpPr>
          <p:spPr>
            <a:xfrm rot="18900000">
              <a:off x="4356000" y="2204640"/>
              <a:ext cx="1562040" cy="15033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16000" y="2997360"/>
              <a:ext cx="1150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16000" y="2997360"/>
              <a:ext cx="1150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48360" y="1413000"/>
              <a:ext cx="0" cy="431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16360" y="2997360"/>
              <a:ext cx="0" cy="2303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16000" y="2997360"/>
              <a:ext cx="1150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16360" y="2997360"/>
              <a:ext cx="0" cy="2303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27280" y="2924280"/>
              <a:ext cx="1150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80360" y="587700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16720" y="4005360"/>
              <a:ext cx="1727280" cy="4316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80360" y="443700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16720" y="4724280"/>
              <a:ext cx="1727280" cy="432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16720" y="5445000"/>
              <a:ext cx="1727280" cy="4320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80360" y="515772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7380000" y="6237360"/>
              <a:ext cx="1439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20000" y="1628640"/>
              <a:ext cx="0" cy="460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148000" y="1628640"/>
              <a:ext cx="3671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80360" y="2924280"/>
              <a:ext cx="0" cy="1081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643280" y="2708280"/>
              <a:ext cx="863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сл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3059280" y="2276640"/>
              <a:ext cx="8632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ожь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300720" y="2276640"/>
              <a:ext cx="863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стин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732720" y="4076640"/>
              <a:ext cx="1368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ператор1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659640" y="5516640"/>
              <a:ext cx="14414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ператорN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 spd="slow">
    <p:wheel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28:33Z</dcterms:created>
  <dc:creator>Ломаско Павел Сергеевич</dc:creator>
  <dc:description/>
  <dc:language>en-US</dc:language>
  <cp:lastModifiedBy>Информатика</cp:lastModifiedBy>
  <dcterms:modified xsi:type="dcterms:W3CDTF">2014-01-30T05:23:23Z</dcterms:modified>
  <cp:revision>33</cp:revision>
  <dc:subject/>
  <dc:title>ЦИКЛЫ.</dc:title>
</cp:coreProperties>
</file>