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8A9-E010-48A2-86A3-0F3332C3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8F7-BB0E-4DDC-A8D1-F2D447BA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D33-BCC0-408B-AEE2-99FE044B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31F-1013-408F-AE8A-11359B66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339-9086-4A39-B38D-4176BD9D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329-299F-4AC6-8FCA-1A22EBFA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956-C7FA-4450-BD0C-437F0F5F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467-33C0-474C-BE13-825B7BB8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E5E-E201-4C7D-B941-580C2791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693-2D2C-4F5A-9B25-A2A530B6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A01-F61E-4A7A-80C9-12574722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B3A-6C34-4213-9B8A-D60FF10C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22DB-820F-4D03-A44E-D3E235351B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Рамка 5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42" name="Рамка 5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115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6760" y="9399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Ка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7"/>
          <p:cNvSpPr/>
          <p:nvPr/>
        </p:nvSpPr>
        <p:spPr>
          <a:xfrm>
            <a:off x="2928960" y="27147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Начать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s49.radikal.ru/i124/1108/88/12d9c941bb9d.png"/>
          <p:cNvPicPr/>
          <p:nvPr/>
        </p:nvPicPr>
        <p:blipFill>
          <a:blip r:embed="rId3"/>
          <a:stretch/>
        </p:blipFill>
        <p:spPr>
          <a:xfrm>
            <a:off x="7572240" y="571680"/>
            <a:ext cx="1214640" cy="132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s48.radikal.ru/i122/1108/4a/01f31e9621df.png"/>
          <p:cNvPicPr/>
          <p:nvPr/>
        </p:nvPicPr>
        <p:blipFill>
          <a:blip r:embed="rId4"/>
          <a:stretch/>
        </p:blipFill>
        <p:spPr>
          <a:xfrm>
            <a:off x="214200" y="571680"/>
            <a:ext cx="1246320" cy="128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s40.radikal.ru/i088/1106/fe/502cafc888ad.png"/>
          <p:cNvPicPr/>
          <p:nvPr/>
        </p:nvPicPr>
        <p:blipFill>
          <a:blip r:embed="rId5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s40.radikal.ru/i088/1106/fe/502cafc888ad.png"/>
          <p:cNvPicPr/>
          <p:nvPr/>
        </p:nvPicPr>
        <p:blipFill>
          <a:blip r:embed="rId6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i004.radikal.ru/1108/cb/be8a59b2050f.png"/>
          <p:cNvPicPr/>
          <p:nvPr/>
        </p:nvPicPr>
        <p:blipFill>
          <a:blip r:embed="rId7"/>
          <a:stretch/>
        </p:blipFill>
        <p:spPr>
          <a:xfrm>
            <a:off x="6143760" y="3857760"/>
            <a:ext cx="2286000" cy="560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0" y="35712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нтрольно-измеритель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усский язык 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Глаго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214200" y="3714840"/>
            <a:ext cx="628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radikal.ru/F/s40.radikal.ru/i088/1106/fe/502cafc888ad.png.htm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ученик и учени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14200" y="4143240"/>
            <a:ext cx="707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radikal.ru/F/s49.radikal.ru/i124/1108/88/12d9c941bb9d.png.htm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красный каранда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5"/>
          <p:cNvSpPr/>
          <p:nvPr/>
        </p:nvSpPr>
        <p:spPr>
          <a:xfrm>
            <a:off x="214200" y="3929040"/>
            <a:ext cx="628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radikal.ru/F/i004.radikal.ru/1108/cb/be8a59b2050f.png.htm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цветные карандаш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1285920" y="5357880"/>
            <a:ext cx="66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гарова Наталья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СОШ №12 г. Ельц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214200" y="4357800"/>
            <a:ext cx="735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radikal.ru/F/s48.radikal.ru/i122/1108/4a/01f31e9621df.png.htm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зелёный каранда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Рамка 6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60" name="Рамка 6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00160"/>
            <a:ext cx="81154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3000240"/>
            <a:ext cx="200052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292824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571920" y="450072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73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А 1.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Глагол- 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214280" y="3357720"/>
            <a:ext cx="700092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3)-часть речи, отвечает на вопросы что делать?, что сделать?  и обозначает действия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1214280" y="2071800"/>
            <a:ext cx="7000920" cy="5713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1) )-часть речи, отвечает на вопросы что делать?, что сделать? и тд и обозначает признаки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1214280" y="2714760"/>
            <a:ext cx="7000920" cy="5713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) )-часть речи, отвечает на вопросы  кто?, что ?  и обозначает действия предм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6"/>
          <p:cNvSpPr/>
          <p:nvPr/>
        </p:nvSpPr>
        <p:spPr>
          <a:xfrm>
            <a:off x="1214280" y="4286160"/>
            <a:ext cx="7000920" cy="50004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4) )-часть речи, отвечает на вопросы  какой?, какая?  и обозначает действия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http://i004.radikal.ru/1108/cb/be8a59b2050f.png"/>
          <p:cNvPicPr/>
          <p:nvPr/>
        </p:nvPicPr>
        <p:blipFill>
          <a:blip r:embed="rId4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ttp://s40.radikal.ru/i088/1106/fe/502cafc888ad.png"/>
          <p:cNvPicPr/>
          <p:nvPr/>
        </p:nvPicPr>
        <p:blipFill>
          <a:blip r:embed="rId5"/>
          <a:srcRect l="50399" t="9891" r="0" b="0"/>
          <a:stretch/>
        </p:blipFill>
        <p:spPr>
          <a:xfrm>
            <a:off x="7194600" y="4786200"/>
            <a:ext cx="1735200" cy="1874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http://s40.radikal.ru/i088/1106/fe/502cafc888ad.png"/>
          <p:cNvPicPr/>
          <p:nvPr/>
        </p:nvPicPr>
        <p:blipFill>
          <a:blip r:embed="rId6"/>
          <a:srcRect l="51239" t="0" r="0" b="0"/>
          <a:stretch/>
        </p:blipFill>
        <p:spPr>
          <a:xfrm>
            <a:off x="214200" y="4643280"/>
            <a:ext cx="161928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87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64396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А 2.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Глаголы неопределенной формы отвечают на вопросы: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428760" y="350028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Что делать? Что сделат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428760" y="235728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)  Что делал? Что сдела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4643280" y="3500280"/>
            <a:ext cx="392940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)  Что будет делать? Что с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6"/>
          <p:cNvSpPr/>
          <p:nvPr/>
        </p:nvSpPr>
        <p:spPr>
          <a:xfrm>
            <a:off x="4643280" y="2357280"/>
            <a:ext cx="392940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) Что делает? Что сдел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01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А 3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Глаголы прошедшего времени в единственном числе изменяются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128592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По р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128592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По 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478620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По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6"/>
          <p:cNvSpPr/>
          <p:nvPr/>
        </p:nvSpPr>
        <p:spPr>
          <a:xfrm>
            <a:off x="478620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По лицам и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15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А 4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Глаголы настоящего и будущего времени изменяются…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4643280" y="3643200"/>
            <a:ext cx="314352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4)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о лицам и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1214280" y="2428920"/>
            <a:ext cx="314352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1)  По р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1214280" y="3643200"/>
            <a:ext cx="3143520" cy="714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) По родам, лицам,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6"/>
          <p:cNvSpPr/>
          <p:nvPr/>
        </p:nvSpPr>
        <p:spPr>
          <a:xfrm>
            <a:off x="4643280" y="2428920"/>
            <a:ext cx="314352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Не из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29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В 1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Спрягать глагол-это изменять глагол по…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47149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По лицам и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15001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По 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15001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По р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6"/>
          <p:cNvSpPr/>
          <p:nvPr/>
        </p:nvSpPr>
        <p:spPr>
          <a:xfrm>
            <a:off x="47149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По 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Рамка 7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143" name="Рамка 7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С 1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Какие члены предложения выражены глаголам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кругленный прямоугольник 3"/>
          <p:cNvSpPr/>
          <p:nvPr/>
        </p:nvSpPr>
        <p:spPr>
          <a:xfrm>
            <a:off x="4786200" y="22860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сказу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4"/>
          <p:cNvSpPr/>
          <p:nvPr/>
        </p:nvSpPr>
        <p:spPr>
          <a:xfrm>
            <a:off x="1357200" y="22860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подлежа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5"/>
          <p:cNvSpPr/>
          <p:nvPr/>
        </p:nvSpPr>
        <p:spPr>
          <a:xfrm>
            <a:off x="1357200" y="36432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торостепенные ч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6"/>
          <p:cNvSpPr/>
          <p:nvPr/>
        </p:nvSpPr>
        <p:spPr>
          <a:xfrm>
            <a:off x="4786200" y="36432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Главные чл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Наташа</cp:lastModifiedBy>
  <dcterms:modified xsi:type="dcterms:W3CDTF">2014-01-30T19:09:58Z</dcterms:modified>
  <cp:revision>739</cp:revision>
  <dc:subject/>
  <dc:title>Слайд 1</dc:title>
</cp:coreProperties>
</file>