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gif" ContentType="image/gif"/>
  <Override PartName="/ppt/media/image2.jpeg" ContentType="image/jpeg"/>
  <Override PartName="/ppt/media/image3.jpeg" ContentType="image/jpeg"/>
  <Override PartName="/ppt/media/image7.jpeg" ContentType="image/jpeg"/>
  <Override PartName="/ppt/media/image15.gif" ContentType="image/gif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4027-D030-4A34-A148-962ABB56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B25A-FE56-44C3-9D55-9279375D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0098-0D03-4A31-B1B0-0230FFF8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8212-0929-4E83-B937-C502F65D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07DF-1ECB-488C-8A78-339A9C81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7BA3-DDCC-431C-B98C-D23FC5D8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4D76-4C86-4583-95C1-F08FA0EA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729C-B630-4880-9646-48E54DAC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B02B-C370-4A92-A3A4-46660324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E612-38CA-477A-A0F4-D5891048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2FEA-19CF-4DD1-B762-0EE102A1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9DC8-D195-4353-A99A-4E053C9F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8BE3-2702-4CE3-A56D-C4F6DA8D9F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gif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916360" y="1844640"/>
            <a:ext cx="360036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Merry </a:t>
            </a:r>
            <a:endParaRPr b="0" lang="en-US" sz="6000" spc="1" strike="noStrike">
              <a:ln w="381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79640" y="2924280"/>
            <a:ext cx="4176720" cy="115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hristmas!</a:t>
            </a:r>
            <a:endParaRPr b="0" lang="en-US" sz="6000" spc="1" strike="noStrike">
              <a:ln w="381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6480360" cy="4537080"/>
          </a:xfrm>
          <a:prstGeom prst="rect">
            <a:avLst/>
          </a:prstGeom>
          <a:ln cap="rnd" w="50760">
            <a:solidFill>
              <a:srgbClr val="ffffff"/>
            </a:solidFill>
            <a:custDash>
              <a:ds d="100000" sp="1000"/>
            </a:custDash>
            <a:miter/>
          </a:ln>
        </p:spPr>
      </p:pic>
      <p:sp>
        <p:nvSpPr>
          <p:cNvPr id="42" name=""/>
          <p:cNvSpPr/>
          <p:nvPr/>
        </p:nvSpPr>
        <p:spPr>
          <a:xfrm>
            <a:off x="539640" y="566100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Courtesy Hallmark Cards Arch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97440" y="333360"/>
            <a:ext cx="64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 of the first Christmas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The first Christmas car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08360" y="1052640"/>
            <a:ext cx="417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The world’s first know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Christmas car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appeare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in London in 1843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at is 170 years ago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whe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Sir Henry Cole hired painter and illustrator John Calcott Horsley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to design a holiday card to send to his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close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friends and acquainta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3240000" cy="4249800"/>
          </a:xfrm>
          <a:prstGeom prst="rect">
            <a:avLst/>
          </a:prstGeom>
          <a:ln w="60480">
            <a:solidFill>
              <a:srgbClr val="ffffff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758160" y="5950080"/>
            <a:ext cx="26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Sir Henry C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2436840" cy="3744720"/>
          </a:xfrm>
          <a:prstGeom prst="rect">
            <a:avLst/>
          </a:prstGeom>
          <a:ln w="50760">
            <a:solidFill>
              <a:srgbClr val="0000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2592360" cy="381636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716360" y="4292640"/>
            <a:ext cx="2160720" cy="237636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  <p:sp>
        <p:nvSpPr>
          <p:cNvPr id="51" name=""/>
          <p:cNvSpPr txBox="1"/>
          <p:nvPr/>
        </p:nvSpPr>
        <p:spPr>
          <a:xfrm>
            <a:off x="0" y="4149720"/>
            <a:ext cx="23763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Merry 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35640" y="5805360"/>
            <a:ext cx="3024000" cy="7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hristmas!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1979640" y="1557360"/>
            <a:ext cx="2952720" cy="5300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5003640" y="1773360"/>
            <a:ext cx="3168720" cy="410364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0" y="1484280"/>
            <a:ext cx="7389720" cy="458460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2700360" y="1413000"/>
            <a:ext cx="4676760" cy="3657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 rot="21155400">
            <a:off x="4500360" y="4154040"/>
            <a:ext cx="280800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1T17:55:07Z</dcterms:created>
  <dc:creator>V. Agafonova</dc:creator>
  <dc:description/>
  <dc:language>en-US</dc:language>
  <cp:lastModifiedBy>User</cp:lastModifiedBy>
  <dcterms:modified xsi:type="dcterms:W3CDTF">2014-01-29T21:50:42Z</dcterms:modified>
  <cp:revision>7</cp:revision>
  <dc:subject/>
  <dc:title>The first ever Christmas card </dc:title>
</cp:coreProperties>
</file>