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20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4.jpeg" ContentType="image/jpeg"/>
  <Override PartName="/ppt/media/image21.jpeg" ContentType="image/jpeg"/>
  <Override PartName="/ppt/media/image23.jpeg" ContentType="image/jpeg"/>
  <Override PartName="/ppt/media/image42.png" ContentType="image/png"/>
  <Override PartName="/ppt/media/image26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19.jpeg" ContentType="image/jpeg"/>
  <Override PartName="/ppt/media/image63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9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50.jpeg" ContentType="image/jpeg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51.jpeg" ContentType="image/jpeg"/>
  <Override PartName="/ppt/media/image1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D61-A4C3-45A0-B60C-6965032D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D68-2AA8-4423-B526-D2E421C7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480-0788-4C91-8668-48F36D8B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BA6-5390-48C5-BFF6-81E1884B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9E4E-A695-44E5-8CA7-78E3656E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284A-5B41-45B3-8639-FD882B81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B95D-717C-4239-9554-A585F76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5A42-105A-4B69-BE2E-E2D8052F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A0FC-8E0C-4672-BA07-D415255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C465-009E-456F-A5B9-5CDDFA3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F86D-3D8C-430D-BE52-CC76CFA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CA3-3183-4DB4-8EA8-E31D8879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41CE-BE64-4A66-A693-8597867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8928-53CE-4FBF-986F-69430465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1F38-003A-41D9-BC99-AC0DD90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282C-8BF1-40C4-A723-491C824D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54E3-2A50-415C-B382-4A81DB9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CB6B-1BCE-430E-8786-4DD5ACB0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BCDC-641B-4A16-8CC5-D625B52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78A6-9F03-4AC7-895E-F41CF86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4D8B-2D76-4088-BA93-76D39CA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29E4-F365-4D22-8991-69AE5819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9BC-13B6-4F2F-B9AB-C320AAA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1167-885E-48EA-8C27-1CB27874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7B40-C221-4E82-AFD5-F75C559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8695-2B10-4711-9C4E-F2E9298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0046-4170-4A19-88B1-81DAE80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B18A-9F33-4DFB-BDD5-A9692938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0EFD-58F1-4871-80F1-F96C481C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CFA72-4827-4800-9ACB-B2ECAFEB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3D9E-BE27-4B29-9A48-5F0992D4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6157-A9EF-41D0-B302-0C50F0B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BCC0-2D98-4823-A312-C5684A5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5A0-0E3F-4D21-9BD1-956A52F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F55B-41DA-4B44-9BDA-E696B85C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C076-C99A-40E6-BFEA-4301862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E9A5-F060-4FC4-931F-DFF11E4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3DBA-66A6-471E-A650-B4BC376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ED55-4F1E-4043-B7CF-21691F2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E09C-FC4A-42D4-B987-69E9E99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FACC-B8EF-42F2-B08A-DEEDB29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F7F7-CBCB-43AC-BBBE-7AD3199A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B72D-9DDB-47D9-AEF7-E0F63CE4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8CB-AACE-469D-96AA-C3F0298B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B6B-125C-4A6C-A2C2-73E6A66A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F44-A5D8-41B9-95B4-91D5285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0C8-2F8D-4711-9360-DF6B9065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BA0-3763-4B0D-A7B8-8915DA8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D165-4943-4A1C-AB76-FAD66FFCAD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DAA-8A7E-4EA6-B3BA-A48DBB127A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2BD-67A4-476B-96B9-5051AF91A34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33A4-F61E-4721-8371-7EFED17687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689040"/>
            <a:ext cx="8229600" cy="2981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а ученица 10 «Б» кл. МБОУ «Инжавинская СОШ» Трубицина Анастас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ководитель учитель технологии Одина Татьяна Никола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ыбор используемых материалов, инструментов, оборудова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image00063.png"/>
          <p:cNvPicPr/>
          <p:nvPr/>
        </p:nvPicPr>
        <p:blipFill>
          <a:blip r:embed="rId1"/>
          <a:stretch/>
        </p:blipFill>
        <p:spPr>
          <a:xfrm>
            <a:off x="179280" y="1700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84967.big.jpg"/>
          <p:cNvPicPr/>
          <p:nvPr/>
        </p:nvPicPr>
        <p:blipFill>
          <a:blip r:embed="rId2"/>
          <a:stretch/>
        </p:blipFill>
        <p:spPr>
          <a:xfrm>
            <a:off x="2050920" y="1989000"/>
            <a:ext cx="1401840" cy="14004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1440.jpg"/>
          <p:cNvPicPr/>
          <p:nvPr/>
        </p:nvPicPr>
        <p:blipFill>
          <a:blip r:embed="rId3"/>
          <a:stretch/>
        </p:blipFill>
        <p:spPr>
          <a:xfrm>
            <a:off x="3780000" y="1989000"/>
            <a:ext cx="1353960" cy="13543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kmc.jpg"/>
          <p:cNvPicPr/>
          <p:nvPr/>
        </p:nvPicPr>
        <p:blipFill>
          <a:blip r:embed="rId4"/>
          <a:stretch/>
        </p:blipFill>
        <p:spPr>
          <a:xfrm>
            <a:off x="5580000" y="1989000"/>
            <a:ext cx="1517760" cy="1135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8" descr="10000021897.jpg"/>
          <p:cNvPicPr/>
          <p:nvPr/>
        </p:nvPicPr>
        <p:blipFill>
          <a:blip r:embed="rId5"/>
          <a:stretch/>
        </p:blipFill>
        <p:spPr>
          <a:xfrm>
            <a:off x="7178760" y="1484280"/>
            <a:ext cx="1965240" cy="1965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5f57d2193771.png"/>
          <p:cNvPicPr/>
          <p:nvPr/>
        </p:nvPicPr>
        <p:blipFill>
          <a:blip r:embed="rId6"/>
          <a:stretch/>
        </p:blipFill>
        <p:spPr>
          <a:xfrm>
            <a:off x="4427640" y="3789360"/>
            <a:ext cx="1693800" cy="1082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1" descr="666-756-large.jpg"/>
          <p:cNvPicPr/>
          <p:nvPr/>
        </p:nvPicPr>
        <p:blipFill>
          <a:blip r:embed="rId7"/>
          <a:stretch/>
        </p:blipFill>
        <p:spPr>
          <a:xfrm>
            <a:off x="6443640" y="3705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2" descr="1226919582_disc_1.jpg"/>
          <p:cNvPicPr/>
          <p:nvPr/>
        </p:nvPicPr>
        <p:blipFill>
          <a:blip r:embed="rId8"/>
          <a:stretch/>
        </p:blipFill>
        <p:spPr>
          <a:xfrm>
            <a:off x="7951680" y="3716280"/>
            <a:ext cx="1192320" cy="7952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3" descr="коробка.jpg"/>
          <p:cNvPicPr/>
          <p:nvPr/>
        </p:nvPicPr>
        <p:blipFill>
          <a:blip r:embed="rId9"/>
          <a:stretch/>
        </p:blipFill>
        <p:spPr>
          <a:xfrm>
            <a:off x="250920" y="5262480"/>
            <a:ext cx="1596960" cy="15955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4" descr="pva_-m_65.jpg"/>
          <p:cNvPicPr/>
          <p:nvPr/>
        </p:nvPicPr>
        <p:blipFill>
          <a:blip r:embed="rId10"/>
          <a:stretch/>
        </p:blipFill>
        <p:spPr>
          <a:xfrm>
            <a:off x="5364000" y="5084640"/>
            <a:ext cx="973440" cy="15177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8" descr="busini_zhemchug_steklyannie_kat.jpg"/>
          <p:cNvPicPr/>
          <p:nvPr/>
        </p:nvPicPr>
        <p:blipFill>
          <a:blip r:embed="rId11"/>
          <a:stretch/>
        </p:blipFill>
        <p:spPr>
          <a:xfrm>
            <a:off x="7236000" y="5229360"/>
            <a:ext cx="1665000" cy="1245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9" descr="folga_aluminievaya_pischevaya_2.jpg"/>
          <p:cNvPicPr/>
          <p:nvPr/>
        </p:nvPicPr>
        <p:blipFill>
          <a:blip r:embed="rId12"/>
          <a:stretch/>
        </p:blipFill>
        <p:spPr>
          <a:xfrm>
            <a:off x="2627280" y="5300640"/>
            <a:ext cx="1727280" cy="1230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5" descr="SDC19898.JPG"/>
          <p:cNvPicPr/>
          <p:nvPr/>
        </p:nvPicPr>
        <p:blipFill>
          <a:blip r:embed="rId13"/>
          <a:stretch/>
        </p:blipFill>
        <p:spPr>
          <a:xfrm>
            <a:off x="179280" y="3357720"/>
            <a:ext cx="2076480" cy="15555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6" descr="SDC19892.JPG"/>
          <p:cNvPicPr/>
          <p:nvPr/>
        </p:nvPicPr>
        <p:blipFill>
          <a:blip r:embed="rId14"/>
          <a:stretch/>
        </p:blipFill>
        <p:spPr>
          <a:xfrm>
            <a:off x="2556000" y="3573360"/>
            <a:ext cx="159516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3" descr="1[3].jpg"/>
          <p:cNvPicPr/>
          <p:nvPr/>
        </p:nvPicPr>
        <p:blipFill>
          <a:blip r:embed="rId1"/>
          <a:stretch/>
        </p:blipFill>
        <p:spPr>
          <a:xfrm>
            <a:off x="324000" y="1052640"/>
            <a:ext cx="2220840" cy="1665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23.jpg"/>
          <p:cNvPicPr/>
          <p:nvPr/>
        </p:nvPicPr>
        <p:blipFill>
          <a:blip r:embed="rId2"/>
          <a:stretch/>
        </p:blipFill>
        <p:spPr>
          <a:xfrm>
            <a:off x="250920" y="3357720"/>
            <a:ext cx="1404720" cy="1412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20W.jpg"/>
          <p:cNvPicPr/>
          <p:nvPr/>
        </p:nvPicPr>
        <p:blipFill>
          <a:blip r:embed="rId3"/>
          <a:stretch/>
        </p:blipFill>
        <p:spPr>
          <a:xfrm>
            <a:off x="762120" y="5300640"/>
            <a:ext cx="1693800" cy="15001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125946.jpg"/>
          <p:cNvPicPr/>
          <p:nvPr/>
        </p:nvPicPr>
        <p:blipFill>
          <a:blip r:embed="rId4"/>
          <a:stretch/>
        </p:blipFill>
        <p:spPr>
          <a:xfrm>
            <a:off x="3132000" y="836640"/>
            <a:ext cx="1428840" cy="2305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8" descr="IMG_74301.jpg"/>
          <p:cNvPicPr/>
          <p:nvPr/>
        </p:nvPicPr>
        <p:blipFill>
          <a:blip r:embed="rId5"/>
          <a:stretch/>
        </p:blipFill>
        <p:spPr>
          <a:xfrm>
            <a:off x="5076720" y="1341360"/>
            <a:ext cx="1889280" cy="17272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iris_0102_m.jpg"/>
          <p:cNvPicPr/>
          <p:nvPr/>
        </p:nvPicPr>
        <p:blipFill>
          <a:blip r:embed="rId6"/>
          <a:stretch/>
        </p:blipFill>
        <p:spPr>
          <a:xfrm>
            <a:off x="7667640" y="692280"/>
            <a:ext cx="1076400" cy="107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0" descr="iris_3008_m.jpg"/>
          <p:cNvPicPr/>
          <p:nvPr/>
        </p:nvPicPr>
        <p:blipFill>
          <a:blip r:embed="rId7"/>
          <a:stretch/>
        </p:blipFill>
        <p:spPr>
          <a:xfrm>
            <a:off x="7667640" y="19890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1" descr="JANOME_L394_22L_1.jpg"/>
          <p:cNvPicPr/>
          <p:nvPr/>
        </p:nvPicPr>
        <p:blipFill>
          <a:blip r:embed="rId8"/>
          <a:stretch/>
        </p:blipFill>
        <p:spPr>
          <a:xfrm>
            <a:off x="6443640" y="4292640"/>
            <a:ext cx="2560680" cy="22525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naperstok.jpg"/>
          <p:cNvPicPr/>
          <p:nvPr/>
        </p:nvPicPr>
        <p:blipFill>
          <a:blip r:embed="rId9"/>
          <a:stretch/>
        </p:blipFill>
        <p:spPr>
          <a:xfrm>
            <a:off x="5219640" y="5300640"/>
            <a:ext cx="854280" cy="1301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needle.jpg"/>
          <p:cNvPicPr/>
          <p:nvPr/>
        </p:nvPicPr>
        <p:blipFill>
          <a:blip r:embed="rId10"/>
          <a:stretch/>
        </p:blipFill>
        <p:spPr>
          <a:xfrm>
            <a:off x="3059280" y="5516640"/>
            <a:ext cx="1587240" cy="1079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4" descr="Gamma_B.jpg"/>
          <p:cNvPicPr/>
          <p:nvPr/>
        </p:nvPicPr>
        <p:blipFill>
          <a:blip r:embed="rId11"/>
          <a:stretch/>
        </p:blipFill>
        <p:spPr>
          <a:xfrm>
            <a:off x="2195640" y="342900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5" descr="1274448328_biser2.jpg"/>
          <p:cNvPicPr/>
          <p:nvPr/>
        </p:nvPicPr>
        <p:blipFill>
          <a:blip r:embed="rId12"/>
          <a:stretch/>
        </p:blipFill>
        <p:spPr>
          <a:xfrm>
            <a:off x="4067280" y="3500280"/>
            <a:ext cx="2341440" cy="14814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6" descr="d1002.jpg"/>
          <p:cNvPicPr/>
          <p:nvPr/>
        </p:nvPicPr>
        <p:blipFill>
          <a:blip r:embed="rId13"/>
          <a:stretch/>
        </p:blipFill>
        <p:spPr>
          <a:xfrm>
            <a:off x="7164360" y="3213000"/>
            <a:ext cx="8208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номическое обосн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68360" y="1413000"/>
          <a:ext cx="8229600" cy="5033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ена 1 шт.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имость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тки «Ирис» голубого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тки «Ирис» белого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ая атласная лента шириной 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лубая атласная лента шириной 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няя атласная лента шириной 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скиз комна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060560" y="1935000"/>
            <a:ext cx="702288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ровать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подуш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узора «Волна» изголовья крова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1467000" cy="4437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14316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просты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610400" cy="29718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SDC19949.JPG"/>
          <p:cNvPicPr/>
          <p:nvPr/>
        </p:nvPicPr>
        <p:blipFill>
          <a:blip r:embed="rId2"/>
          <a:stretch/>
        </p:blipFill>
        <p:spPr>
          <a:xfrm>
            <a:off x="5508720" y="189000"/>
            <a:ext cx="341928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юм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1-ой каймы нижней части трюм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985080" cy="38750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SDC19950.JPG"/>
          <p:cNvPicPr/>
          <p:nvPr/>
        </p:nvPicPr>
        <p:blipFill>
          <a:blip r:embed="rId2"/>
          <a:stretch/>
        </p:blipFill>
        <p:spPr>
          <a:xfrm>
            <a:off x="6842160" y="260280"/>
            <a:ext cx="230184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2-ой каймы нижней част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верхней части трюм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240000" cy="490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519280" cy="4640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уф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каймы верхней ч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каймы пуф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1873080" cy="3813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56076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SDC19951.JPG"/>
          <p:cNvPicPr/>
          <p:nvPr/>
        </p:nvPicPr>
        <p:blipFill>
          <a:blip r:embed="rId3"/>
          <a:stretch/>
        </p:blipFill>
        <p:spPr>
          <a:xfrm>
            <a:off x="5076720" y="465300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толи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к столи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вазо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Рисунок 4" descr="1.jpg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14634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2.jpg"/>
          <p:cNvPicPr/>
          <p:nvPr/>
        </p:nvPicPr>
        <p:blipFill>
          <a:blip r:embed="rId2"/>
          <a:stretch/>
        </p:blipFill>
        <p:spPr>
          <a:xfrm>
            <a:off x="4859280" y="2276640"/>
            <a:ext cx="3384720" cy="1498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7" descr="SDC19956.JPG"/>
          <p:cNvPicPr/>
          <p:nvPr/>
        </p:nvPicPr>
        <p:blipFill>
          <a:blip r:embed="rId3"/>
          <a:stretch/>
        </p:blipFill>
        <p:spPr>
          <a:xfrm>
            <a:off x="826920" y="3933720"/>
            <a:ext cx="3324240" cy="2492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8" descr="SDC19960.JPG"/>
          <p:cNvPicPr/>
          <p:nvPr/>
        </p:nvPicPr>
        <p:blipFill>
          <a:blip r:embed="rId4"/>
          <a:stretch/>
        </p:blipFill>
        <p:spPr>
          <a:xfrm>
            <a:off x="4932360" y="3933720"/>
            <a:ext cx="318924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Цель проекта: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овершенствование своих возможностей в проектной деятельности; получение продукта с использованием освоенных технологий и доступных материалов.</a:t>
            </a:r>
            <a:br>
              <a:rPr sz="28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3860640"/>
            <a:ext cx="81471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e6d"/>
                </a:solidFill>
                <a:latin typeface="Calibri"/>
              </a:rPr>
              <a:t>Задачи проекта: </a:t>
            </a:r>
            <a:r>
              <a:rPr b="0" lang="ru-RU" sz="3600" spc="-1" strike="noStrike">
                <a:solidFill>
                  <a:srgbClr val="004e6d"/>
                </a:solidFill>
                <a:latin typeface="Calibri"/>
              </a:rPr>
              <a:t>разработать проект и изготовить по нему подарок для группы дошкольной подготовк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роч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юб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верхней части лиф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90680" y="2205000"/>
            <a:ext cx="3127320" cy="287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173400" cy="8636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6" descr="SDC19953.JPG"/>
          <p:cNvPicPr/>
          <p:nvPr/>
        </p:nvPicPr>
        <p:blipFill>
          <a:blip r:embed="rId3"/>
          <a:stretch/>
        </p:blipFill>
        <p:spPr>
          <a:xfrm>
            <a:off x="5219640" y="3213000"/>
            <a:ext cx="262584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691920"/>
            <a:ext cx="403848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Ковр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8320" y="691920"/>
            <a:ext cx="403848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Салфетка на стол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268440" cy="4464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7" descr="3.jpg"/>
          <p:cNvPicPr/>
          <p:nvPr/>
        </p:nvPicPr>
        <p:blipFill>
          <a:blip r:embed="rId2"/>
          <a:stretch/>
        </p:blipFill>
        <p:spPr>
          <a:xfrm>
            <a:off x="6168960" y="1197000"/>
            <a:ext cx="2975040" cy="280836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6" descr="SDC1995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275280" cy="24559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7" descr="SDC19958.JPG"/>
          <p:cNvPicPr/>
          <p:nvPr/>
        </p:nvPicPr>
        <p:blipFill>
          <a:blip r:embed="rId4"/>
          <a:stretch/>
        </p:blipFill>
        <p:spPr>
          <a:xfrm>
            <a:off x="4067280" y="1628640"/>
            <a:ext cx="203976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словные обозначения к схемам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160720" cy="4540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40080" cy="2394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Картина «Корзина цветов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78920" y="1052640"/>
            <a:ext cx="403884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× = орех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 = = цвет охры, тем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□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= цвет хвои, самый светл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 + = цвет молодой хво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/ = абрикос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    = цвет кукуруз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= жемчужно-розовы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= малин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• = бледно-фиолет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  = светло-фиолет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= фиолет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о = темно-сирене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   = роз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с = цвет увядшей роз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   = небесно-голубой, светл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   = небесно-голуб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     =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мно-желт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Содержимое 6" descr="SDC19964.JPG"/>
          <p:cNvPicPr/>
          <p:nvPr/>
        </p:nvPicPr>
        <p:blipFill>
          <a:blip r:embed="rId2"/>
          <a:stretch/>
        </p:blipFill>
        <p:spPr>
          <a:xfrm>
            <a:off x="5003640" y="1125360"/>
            <a:ext cx="2881440" cy="22640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scan 2.jpg"/>
          <p:cNvPicPr/>
          <p:nvPr/>
        </p:nvPicPr>
        <p:blipFill>
          <a:blip r:embed="rId3"/>
          <a:stretch/>
        </p:blipFill>
        <p:spPr>
          <a:xfrm>
            <a:off x="3924360" y="3573360"/>
            <a:ext cx="4948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ы из бисе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83920"/>
            <a:ext cx="40384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етение цвет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1483920"/>
            <a:ext cx="40384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етение лист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Рисунок 7" descr="scan 3.jpg"/>
          <p:cNvPicPr/>
          <p:nvPr/>
        </p:nvPicPr>
        <p:blipFill>
          <a:blip r:embed="rId1"/>
          <a:stretch/>
        </p:blipFill>
        <p:spPr>
          <a:xfrm>
            <a:off x="179280" y="4869000"/>
            <a:ext cx="4284720" cy="184140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8" descr="scan 4.jpg"/>
          <p:cNvPicPr/>
          <p:nvPr/>
        </p:nvPicPr>
        <p:blipFill>
          <a:blip r:embed="rId2"/>
          <a:stretch/>
        </p:blipFill>
        <p:spPr>
          <a:xfrm>
            <a:off x="4460760" y="2349360"/>
            <a:ext cx="4683240" cy="30495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9" descr="цветы.jpg"/>
          <p:cNvPicPr/>
          <p:nvPr/>
        </p:nvPicPr>
        <p:blipFill>
          <a:blip r:embed="rId3"/>
          <a:stretch/>
        </p:blipFill>
        <p:spPr>
          <a:xfrm>
            <a:off x="826920" y="1557360"/>
            <a:ext cx="30783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оследовательность изготовления комнаты для куклы</a:t>
            </a:r>
            <a:br>
              <a:rPr sz="45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картонной коробки смастерить комнату. Для этого обрезать две стороны коробки и крышку, оставив «две стены и пол». На одной из стен вырезать окно размером, соответствующим размеру прозрачной крышки от диска. Вставить крышку от диска в  полученное отверстие для окна, предварительно смазав клеем «Момент. Монтаж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дать комнате эстетичный вид. Для этого обклеить стены и пол комнаты остатками обоев, используя клей КМЦ. Наружные стены также обклеить обоями и украсить бордюр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Рисунок 3" descr="SDC19948.JPG"/>
          <p:cNvPicPr/>
          <p:nvPr/>
        </p:nvPicPr>
        <p:blipFill>
          <a:blip r:embed="rId1"/>
          <a:stretch/>
        </p:blipFill>
        <p:spPr>
          <a:xfrm>
            <a:off x="1042920" y="436572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SDC19965.JPG"/>
          <p:cNvPicPr/>
          <p:nvPr/>
        </p:nvPicPr>
        <p:blipFill>
          <a:blip r:embed="rId2"/>
          <a:stretch/>
        </p:blipFill>
        <p:spPr>
          <a:xfrm>
            <a:off x="5076720" y="4365720"/>
            <a:ext cx="29386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4000" y="54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ить окно. Для этого сшить из остатков капрона шторы, отделав их фестонами. В качестве карниза из атласных ленточек сплести фенечку, пришить к ней шторы и приклеить над окном с помощью клея «Момент. Монтаж». Шторы присобрать  лентой и закрепить кнопками на стен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Рисунок 3" descr="SDC19962.JPG"/>
          <p:cNvPicPr/>
          <p:nvPr/>
        </p:nvPicPr>
        <p:blipFill>
          <a:blip r:embed="rId1"/>
          <a:stretch/>
        </p:blipFill>
        <p:spPr>
          <a:xfrm>
            <a:off x="2627280" y="3716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6836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готовить мебель. Кровать смастерить из коробки из-под обуви. Изголовье вырезать из картона и скрепить с кроватью 4-мя винтами и гайками. Столик для трюмо и пуфик смастерить из детского конструктора. Стол изготовить из ненужного диска и готовой декоративной подстав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Рисунок 3" descr="SDC19900.JPG"/>
          <p:cNvPicPr/>
          <p:nvPr/>
        </p:nvPicPr>
        <p:blipFill>
          <a:blip r:embed="rId1"/>
          <a:stretch/>
        </p:blipFill>
        <p:spPr>
          <a:xfrm>
            <a:off x="2916360" y="443700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3" descr="SDC10021.JPG"/>
          <p:cNvPicPr/>
          <p:nvPr/>
        </p:nvPicPr>
        <p:blipFill>
          <a:blip r:embed="rId2"/>
          <a:stretch/>
        </p:blipFill>
        <p:spPr>
          <a:xfrm>
            <a:off x="0" y="299736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" descr="SDC10020.JPG"/>
          <p:cNvPicPr/>
          <p:nvPr/>
        </p:nvPicPr>
        <p:blipFill>
          <a:blip r:embed="rId3"/>
          <a:stretch/>
        </p:blipFill>
        <p:spPr>
          <a:xfrm>
            <a:off x="5975280" y="2997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6836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формить интерьер комнаты. Для этого: вышить картину и повесить ее на стену; связать вазочку на стол, поставить в нее изготовленные из бисера цветы, под вазочку положить связанную салфетку, на пол  положить связанный кове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язать детали для меб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ить окончательное оформление комнаты и меб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SDC10013.JPG"/>
          <p:cNvPicPr/>
          <p:nvPr/>
        </p:nvPicPr>
        <p:blipFill>
          <a:blip r:embed="rId1"/>
          <a:stretch/>
        </p:blipFill>
        <p:spPr>
          <a:xfrm>
            <a:off x="2268360" y="3213000"/>
            <a:ext cx="466740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счет полной себестоим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ная себестоимость включает в себя стоимость материалов и оплату труда. Если условно принять оплату труда как 50% от стоимости материала, то она составит 185 руб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того, 369+185=554 ру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видно из расчетов, стоимость изготовленной игрушки намного меньше стоимости аналогичной игрушки, купленной в магазине. Следовательно, ее изготовление экономически выгод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основание темы выбранного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011 год был объявлен на Тамбовщине Годом добрых дел. Конечно, на добрые поступки не может быть выделен один год. Поэтому я задумалась: «А что полезного смогу сделать я?» Проанализировав свои возможности, я решила, что в моих силах изготовить что-то своими руками и подарить нуждающимся. Но что? И для кого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ашей школе есть группа дошкольной подготовки, которую посещают 5-6-летние мальчишки и девчонки. И я подумала, что неплохо было бы подарить что-то детям этой группы. Но подарок должен быть нужным, приносить радость и быть мне «по карману». Одним из элементов обучения в группе является игра. А что, если изготовить какую-нибудь игрушку, но такую, какой у них нет и которая их очень бы порадовала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анитарно-гигиенические требования и техника безопасности при вязании крючком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ходимо, чтобы положение тела при вязании было правильным. Садиться надо удобно, откинувшись на спинку кресла, дивана, сту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язать лежа – это вредно для зр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язать по несколько часов подряд. Работать надо не более 2-х часов, с перерыв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язать при плохом освещении. Свет должен падать сле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ючок должен быть хорошо отшлифован и храниться в определенном мес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льзя делать во время работы резких движений рукой с крючком – можно поранить рядом сидящ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логическое обосн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ля изготовления комнаты и мебели были использованы экологически чистые продукты – картон, х/б нитки, бумага, которые не наносят вреда здоровью, что очень актуально, так как игрушка предназначена для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оме того, при изготовлении использовались безотходные технологии – предметы, предназначенные на выброс, обрели «вторую жизнь». Это картонные коробки, остатки обоев, упаковка от диска, диск, лоскуты капрона, фольг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еталлический конструктор, много лет пролежавший без надобности, тоже сделал полезное дело, послужив материалом для изготовления кукольной меб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аким образом, видно, что изготовленная комната для куклы экологически чистая и ее можно использовать для детских иг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екла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Дорогие родители и уважаемые взрослые! Если Вы хотите, чтобы Ваш ребенок правильно и всесторонне развивался, играя в экологически безвредные игрушки, и при этом Вы не ощущали огромную брешь в семейном бюджете, осваивайте различные виды рукоделия и мастерите игрушки самостоятельно! Ощутите радость творчества и неподдельный восторг Вашего ребенка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6" name="Рисунок 3" descr="laughter-girl-emotions-children_3327070.jpg"/>
          <p:cNvPicPr/>
          <p:nvPr/>
        </p:nvPicPr>
        <p:blipFill>
          <a:blip r:embed="rId1"/>
          <a:stretch/>
        </p:blipFill>
        <p:spPr>
          <a:xfrm>
            <a:off x="2279520" y="3736800"/>
            <a:ext cx="432936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нализ выполненной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ю работу я выполняла самостоятельно. Так как моя работа была оценена довольно высоко, то я считаю, что она выполнена профессионально и аккурат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уманный мною проект по изготовлению комнаты с мебелью для куклы выполнен. Я довольна результатами своей работы.  Игрушка получилась яркая, интересная, выполнена с соблюдением технологии, она, несомненно, принесет радость дет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ечно, в процессе выполнения работы я встречалась со многими трудностями, но, как мне кажется, я справилась почти со всеми из них. Бесспорно, существуют многие работы, которые выполнены аккуратнее и профессиональнее моей, но мое изделие мне дороже, потому что я вложила в него свои силы, душу и много времени. Мне очень нравится моя работа, и я считаю, что все задачи, которые я поставила перед собой, выполне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пользуемые ресурс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Валя-Валентина» № 1/ 2010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Валя-Валентина» № 3/ 2010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Валя-Валентина» № 18/ 2011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Бурда» № 6/ 1989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ехника плетения бисером/ авт.-сост.И. В. Андрющенко, Т. А. Коваленко. – М.: АСТ; Донецк: Сталкер, 2006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artstyles.vstudia.c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inchscaled.c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miniarthouse.r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biser.biz/catego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myjane.r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uzelok.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vatanym.r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явление основных параметров и ограничен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арок должен быть желанным для дет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арок должен соответствовать возраст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делие должно быть высокого качества, не недорог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делие должно быть изготовлено из доступных материа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как подарок предназначен для детей, то должен быть изготовлен из экологически чистых материа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Анализ идей и предложений. Выбор оптимального вариан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20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стенное панно с изображением любимых героев мультфильм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плект «Фартук и колпачок» для дежур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ната для Барб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s7304379.jpg"/>
          <p:cNvPicPr/>
          <p:nvPr/>
        </p:nvPicPr>
        <p:blipFill>
          <a:blip r:embed="rId1"/>
          <a:stretch/>
        </p:blipFill>
        <p:spPr>
          <a:xfrm>
            <a:off x="0" y="4149720"/>
            <a:ext cx="2955960" cy="22161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fartuk-3-300x242.jpg"/>
          <p:cNvPicPr/>
          <p:nvPr/>
        </p:nvPicPr>
        <p:blipFill>
          <a:blip r:embed="rId2"/>
          <a:stretch/>
        </p:blipFill>
        <p:spPr>
          <a:xfrm>
            <a:off x="3132000" y="407664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SDC19912.JPG"/>
          <p:cNvPicPr/>
          <p:nvPr/>
        </p:nvPicPr>
        <p:blipFill>
          <a:blip r:embed="rId3"/>
          <a:stretch/>
        </p:blipFill>
        <p:spPr>
          <a:xfrm>
            <a:off x="6203880" y="4149720"/>
            <a:ext cx="294012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бор модели. Дизайн-анали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умав все варианты, я решила остановиться на изготовлении комнаты для Барби. Играя с кукольными домиками, девочка готовится к взрослой жизни. При помощи обычной мебели для куклы маленькая девочка учится быть заботливой, внимательной и общительной. Кроме того, играя с небольшими предметами, развивается координация движения и мелкая мотор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у комнату и мебель я смогу изготовить из подручных материалов, а потом обвязать крючком. Думаю, должно получиться красиво и недоро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вездочка обдумыван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ческая справка</a:t>
            </a:r>
            <a:br>
              <a:rPr sz="5000"/>
            </a:br>
            <a:r>
              <a:rPr b="1" lang="ru-RU" sz="3100" spc="-1" strike="noStrike">
                <a:solidFill>
                  <a:srgbClr val="04617b"/>
                </a:solidFill>
                <a:latin typeface="Calibri"/>
              </a:rPr>
              <a:t>История происхождения кукольных домиков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стория кукольной мебели имеет давние корни. В Египетских пирамидах находили кукольный дом с деревянными фигурками, мебелью, питомцами. Первые известия об европейских кукольных домах датируются 16 веко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скусство изготовления кукольных домов зародилось в Германии, Голландии и Англии. В Германии миниатюрные или кукольные дома служили и украшением жилища, и практическим руководством. Например, в начале  ХVII в. при помощи миниатюрных домов,  нюрнбергских барышень обучали искусству ведения домашнего хозяйств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 ХVII века кукольные дома становятся все более популярными. </a:t>
            </a:r>
            <a:r>
              <a:rPr b="0" lang="ru-RU" sz="1400" spc="-1" strike="noStrike" u="sng">
                <a:solidFill>
                  <a:srgbClr val="004e6d"/>
                </a:solidFill>
                <a:uFillTx/>
                <a:latin typeface="Constantia"/>
              </a:rPr>
              <a:t>Мебель и предметы быта для маленьких домов</a:t>
            </a:r>
            <a:r>
              <a:rPr b="0" lang="ru-RU" sz="14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зготавливаются ремесленниками. Предметы интерьера воспроизводятся с точностью и отличаются от реальных только масштабо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влечение кукольными домами во Франции привнесло в них утонченный вкус. Король Людовик ХIII был настолько очарован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миниатюрным шкафчиком с сервизом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что положил начало монаршему пристрастию к кукольным домам.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стория кукольных домиков в России  не так богата, как в Европе. Императрица Александра Федоровна учила жизни, воспитывала детей, используя различные игрушки, от детской типографии и музыкальных инструментов до кукольной мебели из слоновой кости и кукольных платьев, сшитых по парижской мод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 второй половине ХIХ века предметы обихода и обстановки для кукольных домиков стали выполняться фабричным способо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сле Второй Мировой войны началось массовое производство кукольных домов без особой детализации мебели и аксессуаро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 1950-ым типичный кукольный домик был куском окрашенного металла и заполненный пластмассовой мебелью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3" descr="xclmztsqtn34.jpg"/>
          <p:cNvPicPr/>
          <p:nvPr/>
        </p:nvPicPr>
        <p:blipFill>
          <a:blip r:embed="rId1"/>
          <a:stretch/>
        </p:blipFill>
        <p:spPr>
          <a:xfrm>
            <a:off x="7729560" y="333360"/>
            <a:ext cx="1414440" cy="10587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000z1byq.jpg"/>
          <p:cNvPicPr/>
          <p:nvPr/>
        </p:nvPicPr>
        <p:blipFill>
          <a:blip r:embed="rId2"/>
          <a:stretch/>
        </p:blipFill>
        <p:spPr>
          <a:xfrm>
            <a:off x="0" y="333360"/>
            <a:ext cx="140328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История вязания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ольшинство историй, связанных с местом происхождения вязания ведут на Ближний Восток, откуда вязание распространилось в Европу по маршрутам средиземноморских торговцев, а затем в Северную и Южную Америку вместе с освоением этих земель. Самые ранние из известных примеров вязанных вещей были найдены в Египте и представляли собой чулки сложной многоцветной вязки из шерсти цвета индиго и белой. Датированы чулки 11-14 в до н.э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начально вязаная одежда ценилась очень высоко и была недоступна простым смертным. Расцвет вязания как ремесла приходится на XVI век, когда оно широко распространилось в Европе и даже превратилось в доходный промысе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приходом промышленной революции, прядение ниток и ткачество переместилось на заводы. Женщины были задействованы на машинных механизмах, а не пряли и вязали на дому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явление большого количества одежды, связанной на машинках практически приостановило существования ручного вязания. Популярность его падала еще и в связи с дороговизной: цена готового вязанного изделия не превышала, а порой и была значительно меньше, чем цена пряжи и схемы для ручного вяза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двадцать первом веке ручное вязание возродилось. Во-первых, в розничной продаже появился огромный выбор шерстяной пряжи: альпака, ангора, мохер, меринос; растительных волокон: в основном хлопка, бамбука а также шелка. В наши дни вязание как вид рукоделия продолжает развиваться: активно внедряются новые материалы, разрабатываются узоры, из трикотажа изготавливаются всевозможные аксессуары – начиная от головных уборов и заканчивая обувь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3" descr="177.gif.jpg"/>
          <p:cNvPicPr/>
          <p:nvPr/>
        </p:nvPicPr>
        <p:blipFill>
          <a:blip r:embed="rId1"/>
          <a:stretch/>
        </p:blipFill>
        <p:spPr>
          <a:xfrm>
            <a:off x="6372360" y="0"/>
            <a:ext cx="1433520" cy="1114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shocshek_i_katushki.jpg"/>
          <p:cNvPicPr/>
          <p:nvPr/>
        </p:nvPicPr>
        <p:blipFill>
          <a:blip r:embed="rId2"/>
          <a:stretch/>
        </p:blipFill>
        <p:spPr>
          <a:xfrm>
            <a:off x="1547640" y="0"/>
            <a:ext cx="1368720" cy="129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3:18:25Z</dcterms:created>
  <dc:creator>Наталья</dc:creator>
  <dc:description/>
  <dc:language>en-US</dc:language>
  <cp:lastModifiedBy>User</cp:lastModifiedBy>
  <dcterms:modified xsi:type="dcterms:W3CDTF">2012-01-24T18:14:34Z</dcterms:modified>
  <cp:revision>44</cp:revision>
  <dc:subject/>
  <dc:title>Творческий проект Комната для Бар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240000000000010243100207f6000400038000</vt:lpwstr>
  </property>
</Properties>
</file>