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80C-DF77-4DCF-903C-EAC8BBDF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9FB-06B1-485C-BB64-EF0A5004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E9C-38E4-497F-8FBE-79C3715B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B9D-FF17-45F8-B02B-6C05F4F8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5E5-F592-429F-91BF-A2841442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8A2-3057-4870-A780-4F4D0632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C64-C12F-4CBB-9E80-6CF18C75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BB4-F7A2-4AC2-94D5-9754EEE9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05E-0DBA-4E09-87FF-9606535B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AF1-39C3-4FF1-ADB3-7F043C72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E5D-5212-4F98-9704-4975E655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2C9-DE32-4618-886D-C0B8938E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E2E1-9031-43AD-A24F-03D381A0F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../Local%20Settings/Temp/Rar$DI00.093/504.jpg" TargetMode="External"/><Relationship Id="rId3" Type="http://schemas.openxmlformats.org/officeDocument/2006/relationships/hyperlink" Target="file:///../Local%20Settings/Temp/Rar$DI00.093/504.jpg" TargetMode="External"/><Relationship Id="rId4" Type="http://schemas.openxmlformats.org/officeDocument/2006/relationships/hyperlink" Target="file:///../Local%20Settings/Temp/Rar$DI00.093/504.jpg" TargetMode="External"/><Relationship Id="rId5" Type="http://schemas.openxmlformats.org/officeDocument/2006/relationships/hyperlink" Target="file:///../Local%20Settings/Temp/Rar$DI00.093/504.jpg" TargetMode="External"/><Relationship Id="rId6" Type="http://schemas.openxmlformats.org/officeDocument/2006/relationships/hyperlink" Target="file:///../Local%20Settings/Temp/Rar$DI00.093/504.jpg" TargetMode="External"/><Relationship Id="rId7" Type="http://schemas.openxmlformats.org/officeDocument/2006/relationships/hyperlink" Target="file:///../Local%20Settings/Temp/Rar$DI00.093/504.jpg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lhimik.ru/teleclass/pictures/flasks1.jpg" TargetMode="External"/><Relationship Id="rId2" Type="http://schemas.openxmlformats.org/officeDocument/2006/relationships/hyperlink" Target="http://www.logosib.ru/him/NaOH.jpg" TargetMode="External"/><Relationship Id="rId3" Type="http://schemas.openxmlformats.org/officeDocument/2006/relationships/hyperlink" Target="http://www.logosib.ru/him/NaOH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Calibri"/>
              </a:rPr>
              <a:t>Тема урока</a:t>
            </a:r>
            <a:br>
              <a:rPr sz="4400"/>
            </a:br>
            <a:br>
              <a:rPr sz="4400"/>
            </a:br>
            <a:r>
              <a:rPr b="1" lang="en-US" sz="5400" spc="-1" strike="noStrike">
                <a:solidFill>
                  <a:srgbClr val="d6ecff"/>
                </a:solidFill>
                <a:latin typeface="Calibri"/>
              </a:rPr>
              <a:t>ОСНОВА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J0076135"/>
          <p:cNvPicPr/>
          <p:nvPr/>
        </p:nvPicPr>
        <p:blipFill>
          <a:blip r:embed="rId1"/>
          <a:stretch/>
        </p:blipFill>
        <p:spPr>
          <a:xfrm>
            <a:off x="539640" y="3429000"/>
            <a:ext cx="4680000" cy="270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84720" y="5373720"/>
            <a:ext cx="2735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пас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ницына Г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00040" y="785880"/>
          <a:ext cx="8143920" cy="4633920"/>
        </p:xfrm>
        <a:graphic>
          <a:graphicData uri="http://schemas.openxmlformats.org/drawingml/2006/table">
            <a:tbl>
              <a:tblPr/>
              <a:tblGrid>
                <a:gridCol w="4071960"/>
                <a:gridCol w="4071960"/>
              </a:tblGrid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af7f1"/>
                          </a:solidFill>
                          <a:latin typeface="Calibri"/>
                        </a:rPr>
                        <a:t>Щелоч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af7f1"/>
                          </a:solidFill>
                          <a:latin typeface="Calibri"/>
                        </a:rPr>
                        <a:t>Нерастворимые основа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2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115" name="TextBox 3"/>
          <p:cNvSpPr/>
          <p:nvPr/>
        </p:nvSpPr>
        <p:spPr>
          <a:xfrm>
            <a:off x="1285920" y="2857680"/>
            <a:ext cx="264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4786200" y="2857680"/>
            <a:ext cx="3500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g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785880" y="0"/>
            <a:ext cx="742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d46c"/>
                </a:solidFill>
                <a:latin typeface="Calibri"/>
              </a:rPr>
              <a:t>Физические свойства основа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гидроксид натрия.jpg"/>
          <p:cNvPicPr/>
          <p:nvPr/>
        </p:nvPicPr>
        <p:blipFill>
          <a:blip r:embed="rId1"/>
          <a:stretch/>
        </p:blipFill>
        <p:spPr>
          <a:xfrm>
            <a:off x="500040" y="4286160"/>
            <a:ext cx="1643040" cy="125424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pic>
        <p:nvPicPr>
          <p:cNvPr id="119" name="Рисунок 3" descr="гидроксид бария.jpg"/>
          <p:cNvPicPr/>
          <p:nvPr/>
        </p:nvPicPr>
        <p:blipFill>
          <a:blip r:embed="rId2"/>
          <a:stretch/>
        </p:blipFill>
        <p:spPr>
          <a:xfrm>
            <a:off x="500040" y="1785960"/>
            <a:ext cx="1571760" cy="128592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pic>
        <p:nvPicPr>
          <p:cNvPr id="120" name="Рисунок 4" descr="гидроксид кальция.jpg"/>
          <p:cNvPicPr/>
          <p:nvPr/>
        </p:nvPicPr>
        <p:blipFill>
          <a:blip r:embed="rId3"/>
          <a:stretch/>
        </p:blipFill>
        <p:spPr>
          <a:xfrm>
            <a:off x="3786120" y="1714680"/>
            <a:ext cx="1643040" cy="129852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pic>
        <p:nvPicPr>
          <p:cNvPr id="121" name="Рисунок 5" descr="гидроксид кобальта.jpg"/>
          <p:cNvPicPr/>
          <p:nvPr/>
        </p:nvPicPr>
        <p:blipFill>
          <a:blip r:embed="rId4"/>
          <a:stretch/>
        </p:blipFill>
        <p:spPr>
          <a:xfrm>
            <a:off x="6929280" y="4286160"/>
            <a:ext cx="1711440" cy="128448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pic>
        <p:nvPicPr>
          <p:cNvPr id="122" name="Рисунок 6" descr="гидроксид лития.jpg"/>
          <p:cNvPicPr/>
          <p:nvPr/>
        </p:nvPicPr>
        <p:blipFill>
          <a:blip r:embed="rId5"/>
          <a:stretch/>
        </p:blipFill>
        <p:spPr>
          <a:xfrm>
            <a:off x="6858000" y="1714680"/>
            <a:ext cx="1736640" cy="141120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pic>
        <p:nvPicPr>
          <p:cNvPr id="123" name="Рисунок 7" descr="CopperChlorideBasic.jpg"/>
          <p:cNvPicPr/>
          <p:nvPr/>
        </p:nvPicPr>
        <p:blipFill>
          <a:blip r:embed="rId6"/>
          <a:stretch/>
        </p:blipFill>
        <p:spPr>
          <a:xfrm>
            <a:off x="3786120" y="4286160"/>
            <a:ext cx="1643040" cy="134964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sp>
        <p:nvSpPr>
          <p:cNvPr id="124" name="TextBox 8"/>
          <p:cNvSpPr/>
          <p:nvPr/>
        </p:nvSpPr>
        <p:spPr>
          <a:xfrm>
            <a:off x="500040" y="32860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(OH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929280" y="585792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(OH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571680" y="58579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3786120" y="32860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6929280" y="3357720"/>
            <a:ext cx="16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3786120" y="59292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(OH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785880" y="357120"/>
            <a:ext cx="742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d46c"/>
                </a:solidFill>
                <a:latin typeface="Calibri"/>
              </a:rPr>
              <a:t>Получение основа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Схема 2" descr=""/>
          <p:cNvPicPr/>
          <p:nvPr/>
        </p:nvPicPr>
        <p:blipFill>
          <a:blip r:embed="rId1"/>
          <a:stretch/>
        </p:blipFill>
        <p:spPr>
          <a:xfrm>
            <a:off x="268200" y="1133640"/>
            <a:ext cx="8528040" cy="1622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142920" y="29289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Активный металл + вода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= щелочь + вод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357120" y="40006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Na + 2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= 2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NaO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142920" y="478620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Оксид активного металла + + вода = щело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357120" y="5857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b8803"/>
                </a:solidFill>
                <a:uFillTx/>
                <a:latin typeface="Calibri"/>
                <a:hlinkClick r:id="rId2"/>
              </a:rPr>
              <a:t>CaO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Calibri"/>
                <a:hlinkClick r:id="rId3"/>
              </a:rPr>
              <a:t> + H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4"/>
              </a:rPr>
              <a:t>2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Calibri"/>
                <a:hlinkClick r:id="rId5"/>
              </a:rPr>
              <a:t>O = </a:t>
            </a:r>
            <a:r>
              <a:rPr b="0" lang="en-US" sz="2800" spc="-1" strike="noStrike" u="sng">
                <a:solidFill>
                  <a:srgbClr val="eb8803"/>
                </a:solidFill>
                <a:uFillTx/>
                <a:latin typeface="Calibri"/>
                <a:hlinkClick r:id="rId6"/>
              </a:rPr>
              <a:t>Ca(OH)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Calibri"/>
                <a:hlinkClick r:id="rId7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4572000" y="29289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Соль (в растворе)+ щелочь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= нерастворимое основание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+ другая с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4572000" y="4500720"/>
            <a:ext cx="43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3NaOH =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Fe(OH)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3Na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50920" y="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d46c"/>
                </a:solidFill>
                <a:latin typeface="Calibri"/>
              </a:rPr>
              <a:t>Химические свойства основа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179280" y="1700280"/>
            <a:ext cx="8785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заимодействие с кислот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H + HCl = NaCl +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. Взаимодействие щелочей с кислотными оксид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NaOH + S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3. Разложение нерастворимых оснований при нагрева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uO + 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7760" y="274320"/>
            <a:ext cx="47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609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2085480"/>
            <a:ext cx="61693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8972"/>
                </a:solidFill>
                <a:latin typeface="Arial"/>
              </a:rPr>
              <a:t>1. Что такое осно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522520"/>
            <a:ext cx="77724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8972"/>
                </a:solidFill>
                <a:latin typeface="Arial"/>
              </a:rPr>
              <a:t>2. Какими по растворимости бывают осн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504960"/>
            <a:ext cx="7315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8972"/>
                </a:solidFill>
                <a:latin typeface="Arial"/>
              </a:rPr>
              <a:t>3. Каким оксидам соответствуют осн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434232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4. Составить основания и наз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K</a:t>
            </a:r>
            <a:r>
              <a:rPr b="1" lang="ru-RU" sz="3200" spc="-1" strike="noStrike" baseline="-8000">
                <a:solidFill>
                  <a:srgbClr val="4e5b6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O</a:t>
            </a:r>
            <a:r>
              <a:rPr b="1" lang="ru-RU" sz="3200" spc="-1" strike="noStrike">
                <a:solidFill>
                  <a:srgbClr val="4e5b6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BaO</a:t>
            </a:r>
            <a:r>
              <a:rPr b="1" lang="ru-RU" sz="3200" spc="-1" strike="noStrike">
                <a:solidFill>
                  <a:srgbClr val="4e5b6f"/>
                </a:solidFill>
                <a:latin typeface="Arial"/>
              </a:rPr>
              <a:t>,  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Cr</a:t>
            </a:r>
            <a:r>
              <a:rPr b="1" lang="ru-RU" sz="3200" spc="-1" strike="noStrike" baseline="-8000">
                <a:solidFill>
                  <a:srgbClr val="4e5b6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O</a:t>
            </a:r>
            <a:r>
              <a:rPr b="1" lang="ru-RU" sz="3200" spc="-1" strike="noStrike" baseline="-8000">
                <a:solidFill>
                  <a:srgbClr val="4e5b6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5684040"/>
            <a:ext cx="73915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Arial"/>
              </a:rPr>
              <a:t>5. Составить оксиды и назвать:</a:t>
            </a:r>
            <a:r>
              <a:rPr b="0" lang="ru-RU" sz="3200" spc="-1" strike="noStrike">
                <a:solidFill>
                  <a:srgbClr val="01a18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a18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LiOH</a:t>
            </a:r>
            <a:r>
              <a:rPr b="1" lang="ru-RU" sz="3200" spc="-1" strike="noStrike">
                <a:solidFill>
                  <a:srgbClr val="4e5b6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Ca</a:t>
            </a:r>
            <a:r>
              <a:rPr b="1" lang="ru-RU" sz="3200" spc="-1" strike="noStrike">
                <a:solidFill>
                  <a:srgbClr val="4e5b6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OH)</a:t>
            </a:r>
            <a:r>
              <a:rPr b="1" lang="ru-RU" sz="3200" spc="-1" strike="noStrike" baseline="-8000">
                <a:solidFill>
                  <a:srgbClr val="4e5b6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4e5b6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9d9cc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Действие щелочей на индика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826920" y="4365720"/>
            <a:ext cx="1008360" cy="1657080"/>
            <a:chOff x="826920" y="4365720"/>
            <a:chExt cx="1008360" cy="1657080"/>
          </a:xfrm>
        </p:grpSpPr>
        <p:sp>
          <p:nvSpPr>
            <p:cNvPr id="150" name="Rectangle 5"/>
            <p:cNvSpPr/>
            <p:nvPr/>
          </p:nvSpPr>
          <p:spPr>
            <a:xfrm>
              <a:off x="826920" y="4365720"/>
              <a:ext cx="1008360" cy="165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826920" y="5157720"/>
              <a:ext cx="1008360" cy="86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8"/>
          <p:cNvSpPr/>
          <p:nvPr/>
        </p:nvSpPr>
        <p:spPr>
          <a:xfrm>
            <a:off x="826920" y="5157720"/>
            <a:ext cx="1008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9"/>
          <p:cNvGrpSpPr/>
          <p:nvPr/>
        </p:nvGrpSpPr>
        <p:grpSpPr>
          <a:xfrm>
            <a:off x="3995640" y="4437000"/>
            <a:ext cx="1008000" cy="1657440"/>
            <a:chOff x="3995640" y="4437000"/>
            <a:chExt cx="1008000" cy="1657440"/>
          </a:xfrm>
        </p:grpSpPr>
        <p:sp>
          <p:nvSpPr>
            <p:cNvPr id="154" name="Rectangle 10"/>
            <p:cNvSpPr/>
            <p:nvPr/>
          </p:nvSpPr>
          <p:spPr>
            <a:xfrm>
              <a:off x="3995640" y="4437000"/>
              <a:ext cx="1008000" cy="165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3995640" y="5229360"/>
              <a:ext cx="100800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7093080" y="4437000"/>
            <a:ext cx="1008000" cy="1657440"/>
            <a:chOff x="7093080" y="4437000"/>
            <a:chExt cx="1008000" cy="1657440"/>
          </a:xfrm>
        </p:grpSpPr>
        <p:sp>
          <p:nvSpPr>
            <p:cNvPr id="157" name="Rectangle 13"/>
            <p:cNvSpPr/>
            <p:nvPr/>
          </p:nvSpPr>
          <p:spPr>
            <a:xfrm>
              <a:off x="7093080" y="4437000"/>
              <a:ext cx="1008000" cy="165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>
              <a:off x="7093080" y="5229000"/>
              <a:ext cx="100800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7"/>
          <p:cNvSpPr/>
          <p:nvPr/>
        </p:nvSpPr>
        <p:spPr>
          <a:xfrm>
            <a:off x="611280" y="242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к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3348000" y="2492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илоран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6227640" y="2492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нолфтале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3995640" y="5229360"/>
            <a:ext cx="10080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6"/>
          <p:cNvSpPr/>
          <p:nvPr/>
        </p:nvSpPr>
        <p:spPr>
          <a:xfrm>
            <a:off x="1258920" y="2997360"/>
            <a:ext cx="288720" cy="1008000"/>
          </a:xfrm>
          <a:custGeom>
            <a:avLst/>
            <a:gdLst>
              <a:gd name="textAreaLeft" fmla="*/ 0 w 288720"/>
              <a:gd name="textAreaRight" fmla="*/ 289080 w 288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503" h="740">
                <a:moveTo>
                  <a:pt x="328" y="20"/>
                </a:moveTo>
                <a:cubicBezTo>
                  <a:pt x="324" y="20"/>
                  <a:pt x="228" y="26"/>
                  <a:pt x="204" y="38"/>
                </a:cubicBezTo>
                <a:cubicBezTo>
                  <a:pt x="138" y="71"/>
                  <a:pt x="110" y="123"/>
                  <a:pt x="54" y="162"/>
                </a:cubicBezTo>
                <a:cubicBezTo>
                  <a:pt x="40" y="201"/>
                  <a:pt x="22" y="237"/>
                  <a:pt x="9" y="277"/>
                </a:cubicBezTo>
                <a:cubicBezTo>
                  <a:pt x="6" y="286"/>
                  <a:pt x="0" y="304"/>
                  <a:pt x="0" y="304"/>
                </a:cubicBezTo>
                <a:cubicBezTo>
                  <a:pt x="3" y="398"/>
                  <a:pt x="4" y="493"/>
                  <a:pt x="9" y="587"/>
                </a:cubicBezTo>
                <a:cubicBezTo>
                  <a:pt x="14" y="677"/>
                  <a:pt x="160" y="704"/>
                  <a:pt x="222" y="711"/>
                </a:cubicBezTo>
                <a:cubicBezTo>
                  <a:pt x="388" y="704"/>
                  <a:pt x="397" y="740"/>
                  <a:pt x="479" y="658"/>
                </a:cubicBezTo>
                <a:cubicBezTo>
                  <a:pt x="503" y="588"/>
                  <a:pt x="494" y="522"/>
                  <a:pt x="435" y="481"/>
                </a:cubicBezTo>
                <a:cubicBezTo>
                  <a:pt x="417" y="428"/>
                  <a:pt x="440" y="477"/>
                  <a:pt x="399" y="437"/>
                </a:cubicBezTo>
                <a:cubicBezTo>
                  <a:pt x="391" y="429"/>
                  <a:pt x="388" y="418"/>
                  <a:pt x="381" y="410"/>
                </a:cubicBezTo>
                <a:cubicBezTo>
                  <a:pt x="364" y="391"/>
                  <a:pt x="328" y="357"/>
                  <a:pt x="328" y="357"/>
                </a:cubicBezTo>
                <a:cubicBezTo>
                  <a:pt x="306" y="290"/>
                  <a:pt x="338" y="368"/>
                  <a:pt x="293" y="312"/>
                </a:cubicBezTo>
                <a:cubicBezTo>
                  <a:pt x="246" y="253"/>
                  <a:pt x="332" y="318"/>
                  <a:pt x="257" y="268"/>
                </a:cubicBezTo>
                <a:cubicBezTo>
                  <a:pt x="247" y="239"/>
                  <a:pt x="213" y="188"/>
                  <a:pt x="213" y="188"/>
                </a:cubicBezTo>
                <a:cubicBezTo>
                  <a:pt x="233" y="36"/>
                  <a:pt x="199" y="164"/>
                  <a:pt x="248" y="100"/>
                </a:cubicBezTo>
                <a:cubicBezTo>
                  <a:pt x="254" y="93"/>
                  <a:pt x="250" y="80"/>
                  <a:pt x="257" y="73"/>
                </a:cubicBezTo>
                <a:cubicBezTo>
                  <a:pt x="272" y="58"/>
                  <a:pt x="310" y="38"/>
                  <a:pt x="310" y="38"/>
                </a:cubicBezTo>
                <a:cubicBezTo>
                  <a:pt x="330" y="9"/>
                  <a:pt x="328" y="0"/>
                  <a:pt x="328" y="20"/>
                </a:cubicBezTo>
                <a:close/>
              </a:path>
            </a:pathLst>
          </a:custGeom>
          <a:solidFill>
            <a:srgbClr val="66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7"/>
          <p:cNvSpPr/>
          <p:nvPr/>
        </p:nvSpPr>
        <p:spPr>
          <a:xfrm>
            <a:off x="4356000" y="3068640"/>
            <a:ext cx="289080" cy="1008000"/>
          </a:xfrm>
          <a:custGeom>
            <a:avLst/>
            <a:gdLst>
              <a:gd name="textAreaLeft" fmla="*/ 0 w 289080"/>
              <a:gd name="textAreaRight" fmla="*/ 289440 w 28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503" h="740">
                <a:moveTo>
                  <a:pt x="328" y="20"/>
                </a:moveTo>
                <a:cubicBezTo>
                  <a:pt x="324" y="20"/>
                  <a:pt x="228" y="26"/>
                  <a:pt x="204" y="38"/>
                </a:cubicBezTo>
                <a:cubicBezTo>
                  <a:pt x="138" y="71"/>
                  <a:pt x="110" y="123"/>
                  <a:pt x="54" y="162"/>
                </a:cubicBezTo>
                <a:cubicBezTo>
                  <a:pt x="40" y="201"/>
                  <a:pt x="22" y="237"/>
                  <a:pt x="9" y="277"/>
                </a:cubicBezTo>
                <a:cubicBezTo>
                  <a:pt x="6" y="286"/>
                  <a:pt x="0" y="304"/>
                  <a:pt x="0" y="304"/>
                </a:cubicBezTo>
                <a:cubicBezTo>
                  <a:pt x="3" y="398"/>
                  <a:pt x="4" y="493"/>
                  <a:pt x="9" y="587"/>
                </a:cubicBezTo>
                <a:cubicBezTo>
                  <a:pt x="14" y="677"/>
                  <a:pt x="160" y="704"/>
                  <a:pt x="222" y="711"/>
                </a:cubicBezTo>
                <a:cubicBezTo>
                  <a:pt x="388" y="704"/>
                  <a:pt x="397" y="740"/>
                  <a:pt x="479" y="658"/>
                </a:cubicBezTo>
                <a:cubicBezTo>
                  <a:pt x="503" y="588"/>
                  <a:pt x="494" y="522"/>
                  <a:pt x="435" y="481"/>
                </a:cubicBezTo>
                <a:cubicBezTo>
                  <a:pt x="417" y="428"/>
                  <a:pt x="440" y="477"/>
                  <a:pt x="399" y="437"/>
                </a:cubicBezTo>
                <a:cubicBezTo>
                  <a:pt x="391" y="429"/>
                  <a:pt x="388" y="418"/>
                  <a:pt x="381" y="410"/>
                </a:cubicBezTo>
                <a:cubicBezTo>
                  <a:pt x="364" y="391"/>
                  <a:pt x="328" y="357"/>
                  <a:pt x="328" y="357"/>
                </a:cubicBezTo>
                <a:cubicBezTo>
                  <a:pt x="306" y="290"/>
                  <a:pt x="338" y="368"/>
                  <a:pt x="293" y="312"/>
                </a:cubicBezTo>
                <a:cubicBezTo>
                  <a:pt x="246" y="253"/>
                  <a:pt x="332" y="318"/>
                  <a:pt x="257" y="268"/>
                </a:cubicBezTo>
                <a:cubicBezTo>
                  <a:pt x="247" y="239"/>
                  <a:pt x="213" y="188"/>
                  <a:pt x="213" y="188"/>
                </a:cubicBezTo>
                <a:cubicBezTo>
                  <a:pt x="233" y="36"/>
                  <a:pt x="199" y="164"/>
                  <a:pt x="248" y="100"/>
                </a:cubicBezTo>
                <a:cubicBezTo>
                  <a:pt x="254" y="93"/>
                  <a:pt x="250" y="80"/>
                  <a:pt x="257" y="73"/>
                </a:cubicBezTo>
                <a:cubicBezTo>
                  <a:pt x="272" y="58"/>
                  <a:pt x="310" y="38"/>
                  <a:pt x="310" y="38"/>
                </a:cubicBezTo>
                <a:cubicBezTo>
                  <a:pt x="330" y="9"/>
                  <a:pt x="328" y="0"/>
                  <a:pt x="328" y="2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8"/>
          <p:cNvSpPr/>
          <p:nvPr/>
        </p:nvSpPr>
        <p:spPr>
          <a:xfrm>
            <a:off x="7451640" y="3068640"/>
            <a:ext cx="289080" cy="1008000"/>
          </a:xfrm>
          <a:custGeom>
            <a:avLst/>
            <a:gdLst>
              <a:gd name="textAreaLeft" fmla="*/ 0 w 289080"/>
              <a:gd name="textAreaRight" fmla="*/ 289440 w 28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503" h="740">
                <a:moveTo>
                  <a:pt x="328" y="20"/>
                </a:moveTo>
                <a:cubicBezTo>
                  <a:pt x="324" y="20"/>
                  <a:pt x="228" y="26"/>
                  <a:pt x="204" y="38"/>
                </a:cubicBezTo>
                <a:cubicBezTo>
                  <a:pt x="138" y="71"/>
                  <a:pt x="110" y="123"/>
                  <a:pt x="54" y="162"/>
                </a:cubicBezTo>
                <a:cubicBezTo>
                  <a:pt x="40" y="201"/>
                  <a:pt x="22" y="237"/>
                  <a:pt x="9" y="277"/>
                </a:cubicBezTo>
                <a:cubicBezTo>
                  <a:pt x="6" y="286"/>
                  <a:pt x="0" y="304"/>
                  <a:pt x="0" y="304"/>
                </a:cubicBezTo>
                <a:cubicBezTo>
                  <a:pt x="3" y="398"/>
                  <a:pt x="4" y="493"/>
                  <a:pt x="9" y="587"/>
                </a:cubicBezTo>
                <a:cubicBezTo>
                  <a:pt x="14" y="677"/>
                  <a:pt x="160" y="704"/>
                  <a:pt x="222" y="711"/>
                </a:cubicBezTo>
                <a:cubicBezTo>
                  <a:pt x="388" y="704"/>
                  <a:pt x="397" y="740"/>
                  <a:pt x="479" y="658"/>
                </a:cubicBezTo>
                <a:cubicBezTo>
                  <a:pt x="503" y="588"/>
                  <a:pt x="494" y="522"/>
                  <a:pt x="435" y="481"/>
                </a:cubicBezTo>
                <a:cubicBezTo>
                  <a:pt x="417" y="428"/>
                  <a:pt x="440" y="477"/>
                  <a:pt x="399" y="437"/>
                </a:cubicBezTo>
                <a:cubicBezTo>
                  <a:pt x="391" y="429"/>
                  <a:pt x="388" y="418"/>
                  <a:pt x="381" y="410"/>
                </a:cubicBezTo>
                <a:cubicBezTo>
                  <a:pt x="364" y="391"/>
                  <a:pt x="328" y="357"/>
                  <a:pt x="328" y="357"/>
                </a:cubicBezTo>
                <a:cubicBezTo>
                  <a:pt x="306" y="290"/>
                  <a:pt x="338" y="368"/>
                  <a:pt x="293" y="312"/>
                </a:cubicBezTo>
                <a:cubicBezTo>
                  <a:pt x="246" y="253"/>
                  <a:pt x="332" y="318"/>
                  <a:pt x="257" y="268"/>
                </a:cubicBezTo>
                <a:cubicBezTo>
                  <a:pt x="247" y="239"/>
                  <a:pt x="213" y="188"/>
                  <a:pt x="213" y="188"/>
                </a:cubicBezTo>
                <a:cubicBezTo>
                  <a:pt x="233" y="36"/>
                  <a:pt x="199" y="164"/>
                  <a:pt x="248" y="100"/>
                </a:cubicBezTo>
                <a:cubicBezTo>
                  <a:pt x="254" y="93"/>
                  <a:pt x="250" y="80"/>
                  <a:pt x="257" y="73"/>
                </a:cubicBezTo>
                <a:cubicBezTo>
                  <a:pt x="272" y="58"/>
                  <a:pt x="310" y="38"/>
                  <a:pt x="310" y="38"/>
                </a:cubicBezTo>
                <a:cubicBezTo>
                  <a:pt x="330" y="9"/>
                  <a:pt x="328" y="0"/>
                  <a:pt x="328" y="2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7093080" y="5229360"/>
            <a:ext cx="1008000" cy="865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9584E-006 L -2.22222E-006 0.26226 E">
                                      <p:cBhvr>
                                        <p:cTn id="461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46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52636E-006 L 2.5E-006 0.25185 E">
                                      <p:cBhvr>
                                        <p:cTn id="47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7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52636E-006 L 8.33333E-007 0.26249 E">
                                      <p:cBhvr>
                                        <p:cTn id="481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ыберите смайлик, который выражае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ваше настроение (грустное, весёлое, без эмоций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Улыбающееся лицо 11"/>
          <p:cNvSpPr/>
          <p:nvPr/>
        </p:nvSpPr>
        <p:spPr>
          <a:xfrm>
            <a:off x="3348000" y="2781360"/>
            <a:ext cx="2448000" cy="2330280"/>
          </a:xfrm>
          <a:prstGeom prst="smileyFace">
            <a:avLst>
              <a:gd name="adj" fmla="val 9282"/>
            </a:avLst>
          </a:prstGeom>
          <a:solidFill>
            <a:srgbClr val="9ed3d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лыбающееся лицо 12"/>
          <p:cNvSpPr/>
          <p:nvPr/>
        </p:nvSpPr>
        <p:spPr>
          <a:xfrm>
            <a:off x="6630840" y="2077920"/>
            <a:ext cx="2333880" cy="2313000"/>
          </a:xfrm>
          <a:prstGeom prst="smileyFace">
            <a:avLst>
              <a:gd name="adj" fmla="val -458"/>
            </a:avLst>
          </a:prstGeom>
          <a:solidFill>
            <a:srgbClr val="9ed3d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Улыбающееся лицо 13"/>
          <p:cNvSpPr/>
          <p:nvPr/>
        </p:nvSpPr>
        <p:spPr>
          <a:xfrm>
            <a:off x="96840" y="2060640"/>
            <a:ext cx="2379600" cy="2319120"/>
          </a:xfrm>
          <a:prstGeom prst="smileyFace">
            <a:avLst>
              <a:gd name="adj" fmla="val -4652"/>
            </a:avLst>
          </a:prstGeom>
          <a:solidFill>
            <a:srgbClr val="9ed3d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4"/>
          <p:cNvSpPr/>
          <p:nvPr/>
        </p:nvSpPr>
        <p:spPr>
          <a:xfrm>
            <a:off x="1018440" y="46274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5"/>
          <p:cNvSpPr/>
          <p:nvPr/>
        </p:nvSpPr>
        <p:spPr>
          <a:xfrm>
            <a:off x="4406040" y="53974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7412040" y="49831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"/>
          <p:cNvGrpSpPr/>
          <p:nvPr/>
        </p:nvGrpSpPr>
        <p:grpSpPr>
          <a:xfrm>
            <a:off x="7013880" y="139320"/>
            <a:ext cx="1933920" cy="1477080"/>
            <a:chOff x="7013880" y="139320"/>
            <a:chExt cx="1933920" cy="1477080"/>
          </a:xfrm>
        </p:grpSpPr>
        <p:pic>
          <p:nvPicPr>
            <p:cNvPr id="175" name="Picture 3" descr="BD18234_"/>
            <p:cNvPicPr/>
            <p:nvPr/>
          </p:nvPicPr>
          <p:blipFill>
            <a:blip r:embed="rId1"/>
            <a:stretch/>
          </p:blipFill>
          <p:spPr>
            <a:xfrm rot="11291400">
              <a:off x="7092720" y="259560"/>
              <a:ext cx="1775880" cy="12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" descr="глазки"/>
            <p:cNvPicPr/>
            <p:nvPr/>
          </p:nvPicPr>
          <p:blipFill>
            <a:blip r:embed="rId2"/>
            <a:stretch/>
          </p:blipFill>
          <p:spPr>
            <a:xfrm rot="18759000">
              <a:off x="7504560" y="792720"/>
              <a:ext cx="521640" cy="332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1258920" y="76500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§31 упр.1- 4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тр.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611280" y="620640"/>
            <a:ext cx="777708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и информ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http://www.alhimik.ru/teleclass/pictures/flasks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Arial"/>
                <a:hlinkClick r:id="rId3"/>
              </a:rPr>
              <a:t>www.logosib.ru/him/NaOH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hemistryland.com/CHM151S/04-Solutions/acids/LyeWatchGlass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i00.i.aliimg.com/photo/v0/532800286/_font_b_barium_b_font_font.summ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ru.all.biz/img/ru/catalog/small/717183.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005.radikal.ru/i210/1105/31/d0b7af03051c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upload.wikimedia.org/wikipedia/commons/6/6e/Calcium_hydroxide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971280" y="2781000"/>
            <a:ext cx="7777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8972"/>
                </a:solidFill>
                <a:latin typeface="Arial"/>
              </a:rPr>
              <a:t>3. В каких агрегатных состояниях при н. у. встречаются оксид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9d9cc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227556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8972"/>
                </a:solidFill>
                <a:latin typeface="Arial"/>
              </a:rPr>
              <a:t>2. Что такое окси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35722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8972"/>
                </a:solidFill>
                <a:latin typeface="Arial"/>
              </a:rPr>
              <a:t>4. Составьте формулы:  </a:t>
            </a:r>
            <a:r>
              <a:rPr b="1" lang="ru-RU" sz="2000" spc="-1" strike="noStrike">
                <a:solidFill>
                  <a:srgbClr val="4e5b6f"/>
                </a:solidFill>
                <a:latin typeface="Arial"/>
              </a:rPr>
              <a:t>оксида азота (</a:t>
            </a:r>
            <a:r>
              <a:rPr b="1" lang="en-US" sz="2000" spc="-1" strike="noStrike">
                <a:solidFill>
                  <a:srgbClr val="4e5b6f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4e5b6f"/>
                </a:solidFill>
                <a:latin typeface="Arial"/>
              </a:rPr>
              <a:t>), оксида азота(</a:t>
            </a:r>
            <a:r>
              <a:rPr b="1" lang="en-US" sz="2000" spc="-1" strike="noStrike">
                <a:solidFill>
                  <a:srgbClr val="4e5b6f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4e5b6f"/>
                </a:solidFill>
                <a:latin typeface="Arial"/>
              </a:rPr>
              <a:t>), оксида азота(</a:t>
            </a:r>
            <a:r>
              <a:rPr b="1" lang="en-US" sz="2000" spc="-1" strike="noStrike">
                <a:solidFill>
                  <a:srgbClr val="4e5b6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4e5b6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1699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8972"/>
                </a:solidFill>
                <a:latin typeface="Arial"/>
              </a:rPr>
              <a:t>1.Что такое бинарные соеди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3200" y="274320"/>
            <a:ext cx="648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зовите под №1 оксиды металлов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д №2  оксиды неметаллов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7897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18972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8972"/>
                </a:solidFill>
                <a:latin typeface="Calibri"/>
              </a:rPr>
              <a:t>Na</a:t>
            </a:r>
            <a:r>
              <a:rPr b="1" lang="en-US" sz="4000" spc="-1" strike="noStrike" baseline="-8000">
                <a:solidFill>
                  <a:srgbClr val="018972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18972"/>
                </a:solidFill>
                <a:latin typeface="Calibri"/>
              </a:rPr>
              <a:t>O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, </a:t>
            </a:r>
            <a:r>
              <a:rPr b="1" lang="ru-RU" sz="3600" spc="-1" strike="noStrike">
                <a:solidFill>
                  <a:srgbClr val="018972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H</a:t>
            </a:r>
            <a:r>
              <a:rPr b="1" lang="en-US" sz="3600" spc="-1" strike="noStrike" baseline="-8000">
                <a:solidFill>
                  <a:srgbClr val="018972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O, </a:t>
            </a:r>
            <a:r>
              <a:rPr b="1" lang="ru-RU" sz="3600" spc="-1" strike="noStrike">
                <a:solidFill>
                  <a:srgbClr val="018972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CaCl</a:t>
            </a:r>
            <a:r>
              <a:rPr b="1" lang="en-US" sz="3600" spc="-1" strike="noStrike" baseline="-8000">
                <a:solidFill>
                  <a:srgbClr val="018972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, </a:t>
            </a:r>
            <a:r>
              <a:rPr b="1" lang="ru-RU" sz="3600" spc="-1" strike="noStrike">
                <a:solidFill>
                  <a:srgbClr val="018972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NO, </a:t>
            </a:r>
            <a:r>
              <a:rPr b="1" lang="ru-RU" sz="3600" spc="-1" strike="noStrike">
                <a:solidFill>
                  <a:srgbClr val="018972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BaO, </a:t>
            </a:r>
            <a:r>
              <a:rPr b="1" lang="ru-RU" sz="3600" spc="-1" strike="noStrike">
                <a:solidFill>
                  <a:srgbClr val="018972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NaOH,</a:t>
            </a:r>
            <a:r>
              <a:rPr b="1" lang="ru-RU" sz="3600" spc="-1" strike="noStrike">
                <a:solidFill>
                  <a:srgbClr val="018972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SO</a:t>
            </a:r>
            <a:r>
              <a:rPr b="1" lang="en-US" sz="3600" spc="-1" strike="noStrike" baseline="-8000">
                <a:solidFill>
                  <a:srgbClr val="018972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, </a:t>
            </a:r>
            <a:r>
              <a:rPr b="1" lang="ru-RU" sz="3600" spc="-1" strike="noStrike">
                <a:solidFill>
                  <a:srgbClr val="018972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Calibri"/>
              </a:rPr>
              <a:t>LiOH.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18972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5f4f"/>
                </a:solidFill>
                <a:latin typeface="Calibri"/>
              </a:rPr>
              <a:t>HCl, SO</a:t>
            </a:r>
            <a:r>
              <a:rPr b="1" lang="en-US" sz="1600" spc="-1" strike="noStrike">
                <a:solidFill>
                  <a:srgbClr val="015f4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15f4f"/>
                </a:solidFill>
                <a:latin typeface="Calibri"/>
              </a:rPr>
              <a:t>, FeO, HNO</a:t>
            </a:r>
            <a:r>
              <a:rPr b="1" lang="en-US" sz="1800" spc="-1" strike="noStrike">
                <a:solidFill>
                  <a:srgbClr val="015f4f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15f4f"/>
                </a:solidFill>
                <a:latin typeface="Calibri"/>
              </a:rPr>
              <a:t>, CO</a:t>
            </a:r>
            <a:r>
              <a:rPr b="1" lang="en-US" sz="1800" spc="-1" strike="noStrike">
                <a:solidFill>
                  <a:srgbClr val="015f4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15f4f"/>
                </a:solidFill>
                <a:latin typeface="Calibri"/>
              </a:rPr>
              <a:t>, CaS, CuO, P</a:t>
            </a:r>
            <a:r>
              <a:rPr b="1" lang="en-US" sz="1800" spc="-1" strike="noStrike">
                <a:solidFill>
                  <a:srgbClr val="015f4f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15f4f"/>
                </a:solidFill>
                <a:latin typeface="Calibri"/>
              </a:rPr>
              <a:t>O</a:t>
            </a:r>
            <a:r>
              <a:rPr b="1" lang="en-US" sz="1800" spc="-1" strike="noStrike">
                <a:solidFill>
                  <a:srgbClr val="015f4f"/>
                </a:solidFill>
                <a:latin typeface="Calibri"/>
              </a:rPr>
              <a:t>5</a:t>
            </a:r>
            <a:r>
              <a:rPr b="1" lang="en-US" sz="3200" spc="-1" strike="noStrike">
                <a:solidFill>
                  <a:srgbClr val="4e5b6f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9d9cc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Calibri"/>
              </a:rPr>
              <a:t>Тема урока</a:t>
            </a:r>
            <a:br>
              <a:rPr sz="4400"/>
            </a:br>
            <a:br>
              <a:rPr sz="4400"/>
            </a:br>
            <a:r>
              <a:rPr b="1" lang="en-US" sz="5400" spc="-1" strike="noStrike">
                <a:solidFill>
                  <a:srgbClr val="d6ecff"/>
                </a:solidFill>
                <a:latin typeface="Calibri"/>
              </a:rPr>
              <a:t>ОСНОВА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J0076135"/>
          <p:cNvPicPr/>
          <p:nvPr/>
        </p:nvPicPr>
        <p:blipFill>
          <a:blip r:embed="rId1"/>
          <a:stretch/>
        </p:blipFill>
        <p:spPr>
          <a:xfrm>
            <a:off x="539640" y="3429000"/>
            <a:ext cx="4680000" cy="27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83170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сидам металла соответствуют основан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4648320"/>
            <a:ext cx="7837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ьте основания из оксидов: </a:t>
            </a:r>
            <a:r>
              <a:rPr b="1" lang="en-US" sz="2400" spc="-1" strike="noStrike">
                <a:solidFill>
                  <a:srgbClr val="ffff66"/>
                </a:solidFill>
                <a:latin typeface="Calibri"/>
              </a:rPr>
              <a:t>ZnO</a:t>
            </a:r>
            <a:r>
              <a:rPr b="1" lang="ru-RU" sz="2400" spc="-1" strike="noStrike">
                <a:solidFill>
                  <a:srgbClr val="ffff66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ffff66"/>
                </a:solidFill>
                <a:latin typeface="Calibri"/>
              </a:rPr>
              <a:t>  Li</a:t>
            </a:r>
            <a:r>
              <a:rPr b="1" lang="en-US" sz="2400" spc="-1" strike="noStrike" baseline="-16000">
                <a:solidFill>
                  <a:srgbClr val="ffff66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Calibri"/>
              </a:rPr>
              <a:t>O</a:t>
            </a:r>
            <a:r>
              <a:rPr b="1" lang="ru-RU" sz="2400" spc="-1" strike="noStrike">
                <a:solidFill>
                  <a:srgbClr val="ffff66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ffff66"/>
                </a:solidFill>
                <a:latin typeface="Calibri"/>
              </a:rPr>
              <a:t>   M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робуйте самостоятельно составить оксиды из оснований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400" spc="-1" strike="noStrike">
                <a:solidFill>
                  <a:srgbClr val="ffff66"/>
                </a:solidFill>
                <a:latin typeface="Calibri"/>
              </a:rPr>
              <a:t>CuOH,   Cu(OH)</a:t>
            </a:r>
            <a:r>
              <a:rPr b="1" lang="en-US" sz="2400" spc="-1" strike="noStrike" baseline="-16000">
                <a:solidFill>
                  <a:srgbClr val="ffff66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4720" y="2349360"/>
            <a:ext cx="904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Fe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4720" y="2349360"/>
            <a:ext cx="4762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F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72360" y="2276640"/>
            <a:ext cx="10191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Fe 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372360" y="2276640"/>
            <a:ext cx="476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F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47640" y="2276640"/>
            <a:ext cx="10670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Na 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47640" y="2276640"/>
            <a:ext cx="5241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N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24000" y="256536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77080" y="2565360"/>
            <a:ext cx="771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2 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050920" y="1989000"/>
            <a:ext cx="295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+1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95640" y="3860640"/>
            <a:ext cx="6094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OH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79640" y="3573360"/>
            <a:ext cx="152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3716280"/>
            <a:ext cx="216000" cy="0"/>
          </a:xfrm>
          <a:prstGeom prst="line">
            <a:avLst/>
          </a:prstGeom>
          <a:ln w="3816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0" y="206064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+2   +2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788000" y="3789360"/>
            <a:ext cx="77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(OH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0" y="3429000"/>
            <a:ext cx="295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2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0" y="3429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3581280"/>
            <a:ext cx="216000" cy="0"/>
          </a:xfrm>
          <a:prstGeom prst="line">
            <a:avLst/>
          </a:prstGeom>
          <a:ln w="3816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04000" y="206064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+3   +2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77080" y="3789360"/>
            <a:ext cx="8762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(OH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732720" y="3429000"/>
            <a:ext cx="295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3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67640" y="3645000"/>
            <a:ext cx="217440" cy="0"/>
          </a:xfrm>
          <a:prstGeom prst="line">
            <a:avLst/>
          </a:prstGeom>
          <a:ln w="3816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732720" y="3429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5b6f"/>
                </a:solidFill>
                <a:latin typeface="Arial"/>
              </a:rPr>
              <a:t>3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e5b6f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9d9cc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3.39579E-006 L 6.11111E-006 0.23086 E">
                                      <p:cBhvr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47074E-006 L 5.55556E-007 0.2098 E">
                                      <p:cBhvr>
                                        <p:cTn id="119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5E-006 1.8043E-007 L 0.11719 0.09993 E">
                                      <p:cBhvr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47074E-006 L 5.55556E-007 0.21003 E">
                                      <p:cBhvr>
                                        <p:cTn id="147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798 -0.00116 L 0.11823 0.08281 E">
                                      <p:cBhvr>
                                        <p:cTn id="171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142920" y="857160"/>
            <a:ext cx="8858160" cy="5212080"/>
          </a:xfrm>
          <a:prstGeom prst="rect">
            <a:avLst/>
          </a:prstGeom>
          <a:solidFill>
            <a:srgbClr val="ca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aO     P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        HCl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        NaCl   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gOHCl                     K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3714840" y="857160"/>
            <a:ext cx="128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O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6572160" y="85716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g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2071800" y="228600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O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715080" y="2286000"/>
            <a:ext cx="214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e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214200" y="378612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5429160" y="3786120"/>
            <a:ext cx="235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a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68480" y="274320"/>
            <a:ext cx="58183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оменкл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2941200"/>
            <a:ext cx="788508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гидроксид каль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идроксид желез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гидроксид желез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292720" y="1700280"/>
          <a:ext cx="1676520" cy="116352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11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металла в родительном падеж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5f7791"/>
                      </a:solidFill>
                    </a:lnL>
                    <a:lnR w="18720">
                      <a:solidFill>
                        <a:srgbClr val="5f7791"/>
                      </a:solidFill>
                    </a:lnR>
                    <a:lnT w="18720">
                      <a:solidFill>
                        <a:srgbClr val="5f7791"/>
                      </a:solidFill>
                    </a:lnT>
                    <a:lnB w="18720">
                      <a:solidFill>
                        <a:srgbClr val="5f7791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7380360" y="1844640"/>
          <a:ext cx="1573200" cy="990720"/>
        </p:xfrm>
        <a:graphic>
          <a:graphicData uri="http://schemas.openxmlformats.org/drawingml/2006/table">
            <a:tbl>
              <a:tblPr/>
              <a:tblGrid>
                <a:gridCol w="15732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.О. римскими цифр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5f7791"/>
                      </a:solidFill>
                    </a:lnL>
                    <a:lnR w="18720">
                      <a:solidFill>
                        <a:srgbClr val="5f7791"/>
                      </a:solidFill>
                    </a:lnR>
                    <a:lnT w="18720">
                      <a:solidFill>
                        <a:srgbClr val="5f7791"/>
                      </a:solidFill>
                    </a:lnT>
                    <a:lnB w="18720">
                      <a:solidFill>
                        <a:srgbClr val="5f7791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900000" y="1773360"/>
          <a:ext cx="1524240" cy="106668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5f7791"/>
                      </a:solidFill>
                    </a:lnL>
                    <a:lnR w="18720">
                      <a:solidFill>
                        <a:srgbClr val="5f7791"/>
                      </a:solidFill>
                    </a:lnR>
                    <a:lnT w="18720">
                      <a:solidFill>
                        <a:srgbClr val="5f7791"/>
                      </a:solidFill>
                    </a:lnT>
                    <a:lnB w="18720">
                      <a:solidFill>
                        <a:srgbClr val="5f7791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132000" y="1773360"/>
          <a:ext cx="1584360" cy="10904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09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идр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5f7791"/>
                      </a:solidFill>
                    </a:lnL>
                    <a:lnR w="18720">
                      <a:solidFill>
                        <a:srgbClr val="5f7791"/>
                      </a:solidFill>
                    </a:lnR>
                    <a:lnT w="18720">
                      <a:solidFill>
                        <a:srgbClr val="5f7791"/>
                      </a:solidFill>
                    </a:lnT>
                    <a:lnB w="18720">
                      <a:solidFill>
                        <a:srgbClr val="5f779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 txBox="1"/>
          <p:nvPr/>
        </p:nvSpPr>
        <p:spPr>
          <a:xfrm>
            <a:off x="2666880" y="2590920"/>
            <a:ext cx="228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7791"/>
                </a:solidFill>
                <a:latin typeface="Arial"/>
              </a:rPr>
              <a:t>=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5f7791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00600" y="236232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7791"/>
                </a:solidFill>
                <a:latin typeface="Arial"/>
              </a:rPr>
              <a:t>+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7791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010280" y="2362320"/>
            <a:ext cx="219240" cy="2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7791"/>
                </a:solidFill>
                <a:latin typeface="Arial"/>
              </a:rPr>
              <a:t>+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5f7791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9d9cc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400" y="4800600"/>
            <a:ext cx="4419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8a5c"/>
                </a:solidFill>
                <a:latin typeface="Arial"/>
              </a:rPr>
              <a:t>Назовите основан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8a5c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553176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Arial"/>
              </a:rPr>
              <a:t>Zn(OH)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5469840"/>
            <a:ext cx="25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Arial"/>
              </a:rPr>
              <a:t>Al(OH)</a:t>
            </a:r>
            <a:r>
              <a:rPr b="1" lang="ru-RU" sz="3600" spc="-1" strike="noStrike" baseline="-8000">
                <a:solidFill>
                  <a:srgbClr val="018972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189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54918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Arial"/>
              </a:rPr>
              <a:t>Cu(OH)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5562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Arial"/>
              </a:rPr>
              <a:t>Cu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785880" y="285840"/>
            <a:ext cx="76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d46c"/>
                </a:solidFill>
                <a:latin typeface="Calibri"/>
              </a:rPr>
              <a:t>Осн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42920" y="1285920"/>
            <a:ext cx="8786880" cy="1373760"/>
          </a:xfrm>
          <a:prstGeom prst="rect">
            <a:avLst/>
          </a:prstGeom>
          <a:gradFill rotWithShape="0">
            <a:gsLst>
              <a:gs pos="0">
                <a:srgbClr val="bcff95"/>
              </a:gs>
              <a:gs pos="100000">
                <a:srgbClr val="ecffe1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8972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18972"/>
                </a:solidFill>
                <a:latin typeface="Arial"/>
              </a:rPr>
              <a:t>это сложные вещества, состоящие из ионов металлов и связанных с ними одного или нескольких  гидроксид-ион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484360" y="3357720"/>
            <a:ext cx="4000680" cy="100836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e(OH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826920" y="472428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= валентность мет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2000" y="765000"/>
            <a:ext cx="6567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ЛАССИФИКАЦ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5181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OH, KO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124080" y="2133720"/>
          <a:ext cx="2971800" cy="57780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Основ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066680" y="4038480"/>
          <a:ext cx="3240360" cy="1008360"/>
        </p:xfrm>
        <a:graphic>
          <a:graphicData uri="http://schemas.openxmlformats.org/drawingml/2006/table">
            <a:tbl>
              <a:tblPr/>
              <a:tblGrid>
                <a:gridCol w="32403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Растворимые (</a:t>
                      </a:r>
                      <a:r>
                        <a:rPr b="0" i="1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щелочи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181480" y="4038480"/>
          <a:ext cx="3380040" cy="685800"/>
        </p:xfrm>
        <a:graphic>
          <a:graphicData uri="http://schemas.openxmlformats.org/drawingml/2006/table">
            <a:tbl>
              <a:tblPr/>
              <a:tblGrid>
                <a:gridCol w="33800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Нераствор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 flipH="1">
            <a:off x="2971440" y="3124080"/>
            <a:ext cx="86364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3141720"/>
            <a:ext cx="803160" cy="74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1989000"/>
            <a:ext cx="3240000" cy="90972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50000">
                <a:srgbClr val="d9fff5">
                  <a:alpha val="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9d9cc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5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8:09:02Z</dcterms:created>
  <dc:creator>Galina  Vladimirovna</dc:creator>
  <dc:description/>
  <dc:language>en-US</dc:language>
  <cp:lastModifiedBy>Home</cp:lastModifiedBy>
  <dcterms:modified xsi:type="dcterms:W3CDTF">2013-12-25T12:12:54Z</dcterms:modified>
  <cp:revision>56</cp:revision>
  <dc:subject/>
  <dc:title>Слайд 1</dc:title>
</cp:coreProperties>
</file>