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31F-5E2E-473B-BBB3-41C32C72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A17-375A-41B8-91A0-C66373D0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00B-79C7-4195-B8AB-02B4A08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C03-E689-495E-8EF1-1B8B97A0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CBA-65BE-4E79-99BC-C39FF6D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196-E167-4062-9CEA-6567E76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D62-34BB-44D5-B330-CB47391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7C9-7F39-455F-B304-53ABD73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7A5-9979-4151-BAFA-3D665479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4DB-F397-4DFE-AA10-AD87024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722-93AA-4F42-93B7-FD44CB7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DDB-2E0D-4046-8D09-72DFBDE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42A-58A1-48FB-8310-857C342B9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Local%20Settings/Temp/Rar$DI00.093/504.jpg" TargetMode="External"/><Relationship Id="rId3" Type="http://schemas.openxmlformats.org/officeDocument/2006/relationships/hyperlink" Target="file:///../Local%20Settings/Temp/Rar$DI00.093/504.jpg" TargetMode="External"/><Relationship Id="rId4" Type="http://schemas.openxmlformats.org/officeDocument/2006/relationships/hyperlink" Target="file:///../Local%20Settings/Temp/Rar$DI00.093/504.jpg" TargetMode="External"/><Relationship Id="rId5" Type="http://schemas.openxmlformats.org/officeDocument/2006/relationships/hyperlink" Target="file:///../Local%20Settings/Temp/Rar$DI00.093/504.jpg" TargetMode="External"/><Relationship Id="rId6" Type="http://schemas.openxmlformats.org/officeDocument/2006/relationships/hyperlink" Target="file:///../Local%20Settings/Temp/Rar$DI00.093/504.jpg" TargetMode="External"/><Relationship Id="rId7" Type="http://schemas.openxmlformats.org/officeDocument/2006/relationships/hyperlink" Target="file:///../Local%20Settings/Temp/Rar$DI00.093/504.jpg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lhimik.ru/teleclass/pictures/flasks1.jpg" TargetMode="External"/><Relationship Id="rId2" Type="http://schemas.openxmlformats.org/officeDocument/2006/relationships/hyperlink" Target="http://www.logosib.ru/him/NaOH.jpg" TargetMode="External"/><Relationship Id="rId3" Type="http://schemas.openxmlformats.org/officeDocument/2006/relationships/hyperlink" Target="http://www.logosib.ru/him/NaOH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Calibri"/>
              </a:rPr>
              <a:t>Тема урока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d6ecff"/>
                </a:solidFill>
                <a:latin typeface="Calibri"/>
              </a:rPr>
              <a:t>ОСН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J0076135"/>
          <p:cNvPicPr/>
          <p:nvPr/>
        </p:nvPicPr>
        <p:blipFill>
          <a:blip r:embed="rId1"/>
          <a:stretch/>
        </p:blipFill>
        <p:spPr>
          <a:xfrm>
            <a:off x="539640" y="3429000"/>
            <a:ext cx="46800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84720" y="5373720"/>
            <a:ext cx="273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пас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ницы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00040" y="785880"/>
          <a:ext cx="8143920" cy="46339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af7f1"/>
                          </a:solidFill>
                          <a:latin typeface="Calibri"/>
                        </a:rPr>
                        <a:t>Щело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af7f1"/>
                          </a:solidFill>
                          <a:latin typeface="Calibri"/>
                        </a:rPr>
                        <a:t>Нерастворимые основ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2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3"/>
          <p:cNvSpPr/>
          <p:nvPr/>
        </p:nvSpPr>
        <p:spPr>
          <a:xfrm>
            <a:off x="1285920" y="2857680"/>
            <a:ext cx="264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786200" y="2857680"/>
            <a:ext cx="350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785880" y="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Физические свойства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гидроксид натрия.jpg"/>
          <p:cNvPicPr/>
          <p:nvPr/>
        </p:nvPicPr>
        <p:blipFill>
          <a:blip r:embed="rId1"/>
          <a:stretch/>
        </p:blipFill>
        <p:spPr>
          <a:xfrm>
            <a:off x="500040" y="4286160"/>
            <a:ext cx="1643040" cy="125424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19" name="Рисунок 3" descr="гидроксид бария.jpg"/>
          <p:cNvPicPr/>
          <p:nvPr/>
        </p:nvPicPr>
        <p:blipFill>
          <a:blip r:embed="rId2"/>
          <a:stretch/>
        </p:blipFill>
        <p:spPr>
          <a:xfrm>
            <a:off x="500040" y="1785960"/>
            <a:ext cx="1571760" cy="128592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0" name="Рисунок 4" descr="гидроксид кальция.jpg"/>
          <p:cNvPicPr/>
          <p:nvPr/>
        </p:nvPicPr>
        <p:blipFill>
          <a:blip r:embed="rId3"/>
          <a:stretch/>
        </p:blipFill>
        <p:spPr>
          <a:xfrm>
            <a:off x="3786120" y="1714680"/>
            <a:ext cx="1643040" cy="129852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1" name="Рисунок 5" descr="гидроксид кобальта.jpg"/>
          <p:cNvPicPr/>
          <p:nvPr/>
        </p:nvPicPr>
        <p:blipFill>
          <a:blip r:embed="rId4"/>
          <a:stretch/>
        </p:blipFill>
        <p:spPr>
          <a:xfrm>
            <a:off x="6929280" y="4286160"/>
            <a:ext cx="1711440" cy="128448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2" name="Рисунок 6" descr="гидроксид лития.jpg"/>
          <p:cNvPicPr/>
          <p:nvPr/>
        </p:nvPicPr>
        <p:blipFill>
          <a:blip r:embed="rId5"/>
          <a:stretch/>
        </p:blipFill>
        <p:spPr>
          <a:xfrm>
            <a:off x="6858000" y="1714680"/>
            <a:ext cx="1736640" cy="141120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3" name="Рисунок 7" descr="CopperChlorideBasic.jpg"/>
          <p:cNvPicPr/>
          <p:nvPr/>
        </p:nvPicPr>
        <p:blipFill>
          <a:blip r:embed="rId6"/>
          <a:stretch/>
        </p:blipFill>
        <p:spPr>
          <a:xfrm>
            <a:off x="3786120" y="4286160"/>
            <a:ext cx="1643040" cy="134964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sp>
        <p:nvSpPr>
          <p:cNvPr id="124" name="TextBox 8"/>
          <p:cNvSpPr/>
          <p:nvPr/>
        </p:nvSpPr>
        <p:spPr>
          <a:xfrm>
            <a:off x="500040" y="3286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929280" y="585792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571680" y="5857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3786120" y="3286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929280" y="3357720"/>
            <a:ext cx="16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3786120" y="59292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785880" y="3571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Получение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хема 2" descr=""/>
          <p:cNvPicPr/>
          <p:nvPr/>
        </p:nvPicPr>
        <p:blipFill>
          <a:blip r:embed="rId1"/>
          <a:stretch/>
        </p:blipFill>
        <p:spPr>
          <a:xfrm>
            <a:off x="268200" y="1133640"/>
            <a:ext cx="8528040" cy="162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42920" y="29289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Активный металл + вода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= щелочь + 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57120" y="40006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Na + 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= 2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NaO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42920" y="478620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ксид активного металла + + вода = щел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57120" y="5857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CaO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 + H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2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O = 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Ca(OH)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7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572000" y="2928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Соль (в растворе)+ щелочь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= нерастворимое основание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+ другая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572000" y="450072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3NaOH =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Fe(OH)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3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50920" y="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Химические свойства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79280" y="1700280"/>
            <a:ext cx="878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заимодействие с кислот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 + HCl = NaCl +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 Взаимодействие щелочей с кислотными окси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aOH + 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 Разложение нерастворимых оснований при нагре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uO + 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7760" y="274320"/>
            <a:ext cx="47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9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085480"/>
            <a:ext cx="616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1. Что такое осн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22520"/>
            <a:ext cx="7772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2. Какими по растворимости быва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504960"/>
            <a:ext cx="7315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3. Каким оксидам соответству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43423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4. Составить основания и наз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K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BaO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Cr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O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684040"/>
            <a:ext cx="7391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5. Составить оксиды и назвать:</a:t>
            </a:r>
            <a:r>
              <a:rPr b="0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LiOH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Ca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OH)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ействие щелочей на индика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826920" y="4365720"/>
            <a:ext cx="1008360" cy="1657080"/>
            <a:chOff x="826920" y="4365720"/>
            <a:chExt cx="1008360" cy="1657080"/>
          </a:xfrm>
        </p:grpSpPr>
        <p:sp>
          <p:nvSpPr>
            <p:cNvPr id="150" name="Rectangle 5"/>
            <p:cNvSpPr/>
            <p:nvPr/>
          </p:nvSpPr>
          <p:spPr>
            <a:xfrm>
              <a:off x="826920" y="4365720"/>
              <a:ext cx="1008360" cy="16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826920" y="5157720"/>
              <a:ext cx="1008360" cy="86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8"/>
          <p:cNvSpPr/>
          <p:nvPr/>
        </p:nvSpPr>
        <p:spPr>
          <a:xfrm>
            <a:off x="826920" y="5157720"/>
            <a:ext cx="10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3995640" y="4437000"/>
            <a:ext cx="1008000" cy="1657440"/>
            <a:chOff x="3995640" y="4437000"/>
            <a:chExt cx="1008000" cy="1657440"/>
          </a:xfrm>
        </p:grpSpPr>
        <p:sp>
          <p:nvSpPr>
            <p:cNvPr id="154" name="Rectangle 10"/>
            <p:cNvSpPr/>
            <p:nvPr/>
          </p:nvSpPr>
          <p:spPr>
            <a:xfrm>
              <a:off x="399564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3995640" y="5229360"/>
              <a:ext cx="100800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7093080" y="4437000"/>
            <a:ext cx="1008000" cy="1657440"/>
            <a:chOff x="7093080" y="4437000"/>
            <a:chExt cx="1008000" cy="1657440"/>
          </a:xfrm>
        </p:grpSpPr>
        <p:sp>
          <p:nvSpPr>
            <p:cNvPr id="157" name="Rectangle 13"/>
            <p:cNvSpPr/>
            <p:nvPr/>
          </p:nvSpPr>
          <p:spPr>
            <a:xfrm>
              <a:off x="709308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7093080" y="5229000"/>
              <a:ext cx="100800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7"/>
          <p:cNvSpPr/>
          <p:nvPr/>
        </p:nvSpPr>
        <p:spPr>
          <a:xfrm>
            <a:off x="611280" y="24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348000" y="2492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ил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227640" y="2492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л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3995640" y="5229360"/>
            <a:ext cx="1008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6"/>
          <p:cNvSpPr/>
          <p:nvPr/>
        </p:nvSpPr>
        <p:spPr>
          <a:xfrm>
            <a:off x="1258920" y="2997360"/>
            <a:ext cx="288720" cy="1008000"/>
          </a:xfrm>
          <a:custGeom>
            <a:avLst/>
            <a:gdLst>
              <a:gd name="textAreaLeft" fmla="*/ 0 w 288720"/>
              <a:gd name="textAreaRight" fmla="*/ 289080 w 28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7"/>
          <p:cNvSpPr/>
          <p:nvPr/>
        </p:nvSpPr>
        <p:spPr>
          <a:xfrm>
            <a:off x="435600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8"/>
          <p:cNvSpPr/>
          <p:nvPr/>
        </p:nvSpPr>
        <p:spPr>
          <a:xfrm>
            <a:off x="745164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093080" y="5229360"/>
            <a:ext cx="100800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9584E-006 L -2.22222E-006 0.26226 E">
                                      <p:cBhvr>
                                        <p:cTn id="46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2636E-006 L 2.5E-006 0.25185 E">
                                      <p:cBhvr>
                                        <p:cTn id="47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7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52636E-006 L 8.33333E-007 0.26249 E">
                                      <p:cBhvr>
                                        <p:cTn id="48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берите смайлик, который выражае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аше настроение (грустное, весёлое, без эмоц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Улыбающееся лицо 11"/>
          <p:cNvSpPr/>
          <p:nvPr/>
        </p:nvSpPr>
        <p:spPr>
          <a:xfrm>
            <a:off x="3348000" y="2781360"/>
            <a:ext cx="2448000" cy="2330280"/>
          </a:xfrm>
          <a:prstGeom prst="smileyFace">
            <a:avLst>
              <a:gd name="adj" fmla="val 9282"/>
            </a:avLst>
          </a:prstGeom>
          <a:solidFill>
            <a:srgbClr val="9ed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лыбающееся лицо 12"/>
          <p:cNvSpPr/>
          <p:nvPr/>
        </p:nvSpPr>
        <p:spPr>
          <a:xfrm>
            <a:off x="6630840" y="2077920"/>
            <a:ext cx="2333880" cy="2313000"/>
          </a:xfrm>
          <a:prstGeom prst="smileyFace">
            <a:avLst>
              <a:gd name="adj" fmla="val -458"/>
            </a:avLst>
          </a:prstGeom>
          <a:solidFill>
            <a:srgbClr val="9ed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лыбающееся лицо 13"/>
          <p:cNvSpPr/>
          <p:nvPr/>
        </p:nvSpPr>
        <p:spPr>
          <a:xfrm>
            <a:off x="96840" y="2060640"/>
            <a:ext cx="2379600" cy="2319120"/>
          </a:xfrm>
          <a:prstGeom prst="smileyFace">
            <a:avLst>
              <a:gd name="adj" fmla="val -4652"/>
            </a:avLst>
          </a:prstGeom>
          <a:solidFill>
            <a:srgbClr val="9ed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1018440" y="4627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4406040" y="53974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7412040" y="4983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"/>
          <p:cNvGrpSpPr/>
          <p:nvPr/>
        </p:nvGrpSpPr>
        <p:grpSpPr>
          <a:xfrm>
            <a:off x="7013880" y="139320"/>
            <a:ext cx="1933920" cy="1477080"/>
            <a:chOff x="7013880" y="139320"/>
            <a:chExt cx="1933920" cy="1477080"/>
          </a:xfrm>
        </p:grpSpPr>
        <p:pic>
          <p:nvPicPr>
            <p:cNvPr id="175" name="Picture 3" descr="BD18234_"/>
            <p:cNvPicPr/>
            <p:nvPr/>
          </p:nvPicPr>
          <p:blipFill>
            <a:blip r:embed="rId1"/>
            <a:stretch/>
          </p:blipFill>
          <p:spPr>
            <a:xfrm rot="11291400">
              <a:off x="7092720" y="259560"/>
              <a:ext cx="177588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глазки"/>
            <p:cNvPicPr/>
            <p:nvPr/>
          </p:nvPicPr>
          <p:blipFill>
            <a:blip r:embed="rId2"/>
            <a:stretch/>
          </p:blipFill>
          <p:spPr>
            <a:xfrm rot="18759000">
              <a:off x="7504560" y="792720"/>
              <a:ext cx="521640" cy="332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258920" y="765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§31 упр.1- 4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тр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611280" y="620640"/>
            <a:ext cx="77770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://www.alhimik.ru/teleclass/pictures/flasks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www.logosib.ru/him/NaO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emistryland.com/CHM151S/04-Solutions/acids/LyeWatchGlas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00.i.aliimg.com/photo/v0/532800286/_font_b_barium_b_font_font.summ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u.all.biz/img/ru/catalog/small/717183.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005.radikal.ru/i210/1105/31/d0b7af03051c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upload.wikimedia.org/wikipedia/commons/6/6e/Calcium_hydroxid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71280" y="2781000"/>
            <a:ext cx="7777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8972"/>
                </a:solidFill>
                <a:latin typeface="Arial"/>
              </a:rPr>
              <a:t>3. В каких агрегатных состояниях при н. у. встречаются оксид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2755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8972"/>
                </a:solidFill>
                <a:latin typeface="Arial"/>
              </a:rPr>
              <a:t>2. Что такое окси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572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972"/>
                </a:solidFill>
                <a:latin typeface="Arial"/>
              </a:rPr>
              <a:t>4. Составьте формулы:  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оксида азота (</a:t>
            </a:r>
            <a:r>
              <a:rPr b="1" lang="en-US" sz="2000" spc="-1" strike="noStrike">
                <a:solidFill>
                  <a:srgbClr val="4e5b6f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), оксида азота(</a:t>
            </a:r>
            <a:r>
              <a:rPr b="1" lang="en-US" sz="2000" spc="-1" strike="noStrike">
                <a:solidFill>
                  <a:srgbClr val="4e5b6f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), оксида азота(</a:t>
            </a:r>
            <a:r>
              <a:rPr b="1" lang="en-US" sz="2000" spc="-1" strike="noStrike">
                <a:solidFill>
                  <a:srgbClr val="4e5b6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699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8972"/>
                </a:solidFill>
                <a:latin typeface="Arial"/>
              </a:rPr>
              <a:t>1.Что такое бинарные соеди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3200" y="274320"/>
            <a:ext cx="64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зовите под №1 оксиды металлов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 №2  оксиды неметаллов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897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18972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8972"/>
                </a:solidFill>
                <a:latin typeface="Calibri"/>
              </a:rPr>
              <a:t>Na</a:t>
            </a:r>
            <a:r>
              <a:rPr b="1" lang="en-US" sz="4000" spc="-1" strike="noStrike" baseline="-8000">
                <a:solidFill>
                  <a:srgbClr val="018972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H</a:t>
            </a:r>
            <a:r>
              <a:rPr b="1" lang="en-US" sz="3600" spc="-1" strike="noStrike" baseline="-8000">
                <a:solidFill>
                  <a:srgbClr val="018972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O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CaCl</a:t>
            </a:r>
            <a:r>
              <a:rPr b="1" lang="en-US" sz="3600" spc="-1" strike="noStrike" baseline="-8000">
                <a:solidFill>
                  <a:srgbClr val="018972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NO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BaO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NaOH,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SO</a:t>
            </a:r>
            <a:r>
              <a:rPr b="1" lang="en-US" sz="3600" spc="-1" strike="noStrike" baseline="-8000">
                <a:solidFill>
                  <a:srgbClr val="018972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LiOH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18972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HCl, SO</a:t>
            </a:r>
            <a:r>
              <a:rPr b="1" lang="en-US" sz="1600" spc="-1" strike="noStrike">
                <a:solidFill>
                  <a:srgbClr val="015f4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, FeO, HNO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, CO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, CaS, CuO, P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O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4e5b6f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Calibri"/>
              </a:rPr>
              <a:t>Тема урока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d6ecff"/>
                </a:solidFill>
                <a:latin typeface="Calibri"/>
              </a:rPr>
              <a:t>ОСН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J0076135"/>
          <p:cNvPicPr/>
          <p:nvPr/>
        </p:nvPicPr>
        <p:blipFill>
          <a:blip r:embed="rId1"/>
          <a:stretch/>
        </p:blipFill>
        <p:spPr>
          <a:xfrm>
            <a:off x="539640" y="3429000"/>
            <a:ext cx="468000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сидам металла соответствуют осн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837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основания из оксидов: 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ZnO</a:t>
            </a:r>
            <a:r>
              <a:rPr b="1" lang="ru-RU" sz="2400" spc="-1" strike="noStrike">
                <a:solidFill>
                  <a:srgbClr val="ffff66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  Li</a:t>
            </a:r>
            <a:r>
              <a:rPr b="1" lang="en-US" sz="2400" spc="-1" strike="noStrike" baseline="-16000">
                <a:solidFill>
                  <a:srgbClr val="ffff66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O</a:t>
            </a:r>
            <a:r>
              <a:rPr b="1" lang="ru-RU" sz="2400" spc="-1" strike="noStrike">
                <a:solidFill>
                  <a:srgbClr val="ffff66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   M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самостоятельно составить оксиды из оснований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CuOH,   Cu(OH)</a:t>
            </a:r>
            <a:r>
              <a:rPr b="1" lang="en-US" sz="2400" spc="-1" strike="noStrike" baseline="-16000">
                <a:solidFill>
                  <a:srgbClr val="ffff6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2349360"/>
            <a:ext cx="904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4720" y="2349360"/>
            <a:ext cx="476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72360" y="2276640"/>
            <a:ext cx="1019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72360" y="2276640"/>
            <a:ext cx="476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2276640"/>
            <a:ext cx="1067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Na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47640" y="2276640"/>
            <a:ext cx="524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N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24000" y="2565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77080" y="2565360"/>
            <a:ext cx="771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 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0920" y="1989000"/>
            <a:ext cx="29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95640" y="3860640"/>
            <a:ext cx="6094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O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3573360"/>
            <a:ext cx="152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2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88000" y="3789360"/>
            <a:ext cx="77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3581280"/>
            <a:ext cx="216000" cy="0"/>
          </a:xfrm>
          <a:prstGeom prst="line">
            <a:avLst/>
          </a:prstGeom>
          <a:ln w="381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04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3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77080" y="3789360"/>
            <a:ext cx="876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73272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3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67640" y="3645000"/>
            <a:ext cx="217440" cy="0"/>
          </a:xfrm>
          <a:prstGeom prst="line">
            <a:avLst/>
          </a:prstGeom>
          <a:ln w="381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73272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39579E-006 L 6.11111E-006 0.23086 E">
                                      <p:cBhvr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098 E">
                                      <p:cBhvr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1.8043E-007 L 0.11719 0.09993 E">
                                      <p:cBhvr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1003 E">
                                      <p:cBhvr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98 -0.00116 L 0.11823 0.08281 E">
                                      <p:cBhvr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42920" y="857160"/>
            <a:ext cx="8858160" cy="521208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O    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HCl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NaCl   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OHCl                     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714840" y="85716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572160" y="8571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071800" y="22860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15080" y="228600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14200" y="378612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429160" y="3786120"/>
            <a:ext cx="23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8480" y="274320"/>
            <a:ext cx="58183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оменкл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2941200"/>
            <a:ext cx="788508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гидроксид каль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идроксид желез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гидроксид желез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92720" y="1700280"/>
          <a:ext cx="1676520" cy="116352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металла в родительном падеж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380360" y="1844640"/>
          <a:ext cx="1573200" cy="990720"/>
        </p:xfrm>
        <a:graphic>
          <a:graphicData uri="http://schemas.openxmlformats.org/drawingml/2006/table">
            <a:tbl>
              <a:tblPr/>
              <a:tblGrid>
                <a:gridCol w="1573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.О. римскими циф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00000" y="1773360"/>
          <a:ext cx="1524240" cy="1066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132000" y="1773360"/>
          <a:ext cx="1584360" cy="1090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 txBox="1"/>
          <p:nvPr/>
        </p:nvSpPr>
        <p:spPr>
          <a:xfrm>
            <a:off x="2666880" y="25909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7791"/>
                </a:solidFill>
                <a:latin typeface="Arial"/>
              </a:rPr>
              <a:t>=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f7791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00600" y="236232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7791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7791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10280" y="2362320"/>
            <a:ext cx="21924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7791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7791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4800600"/>
            <a:ext cx="4419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8a5c"/>
                </a:solidFill>
                <a:latin typeface="Arial"/>
              </a:rPr>
              <a:t>Назовите осн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8a5c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55317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Zn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469840"/>
            <a:ext cx="25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Al(OH)</a:t>
            </a:r>
            <a:r>
              <a:rPr b="1" lang="ru-RU" sz="36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491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Cu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Cu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85880" y="28584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Осн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42920" y="1285920"/>
            <a:ext cx="8786880" cy="1373760"/>
          </a:xfrm>
          <a:prstGeom prst="rec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8972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18972"/>
                </a:solidFill>
                <a:latin typeface="Arial"/>
              </a:rPr>
              <a:t>это сложные вещества, состоящие из ионов металлов и связанных с ними одного или нескольких  гидроксид-ион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484360" y="3357720"/>
            <a:ext cx="4000680" cy="100836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e(OH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26920" y="472428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= валентность мет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567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СИФИК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OH, KO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124080" y="2133720"/>
          <a:ext cx="2971800" cy="57780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Осно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66680" y="4038480"/>
          <a:ext cx="3240360" cy="100836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Растворимые (</a:t>
                      </a:r>
                      <a:r>
                        <a:rPr b="0" i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щелочи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81480" y="4038480"/>
          <a:ext cx="3380040" cy="685800"/>
        </p:xfrm>
        <a:graphic>
          <a:graphicData uri="http://schemas.openxmlformats.org/drawingml/2006/table">
            <a:tbl>
              <a:tblPr/>
              <a:tblGrid>
                <a:gridCol w="3380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Нераствор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 flipH="1">
            <a:off x="2971440" y="3124080"/>
            <a:ext cx="86364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3141720"/>
            <a:ext cx="803160" cy="74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1989000"/>
            <a:ext cx="3240000" cy="90972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d9fff5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09:02Z</dcterms:created>
  <dc:creator>Galina  Vladimirovna</dc:creator>
  <dc:description/>
  <dc:language>en-US</dc:language>
  <cp:lastModifiedBy>Home</cp:lastModifiedBy>
  <dcterms:modified xsi:type="dcterms:W3CDTF">2013-12-25T12:12:54Z</dcterms:modified>
  <cp:revision>56</cp:revision>
  <dc:subject/>
  <dc:title>Слайд 1</dc:title>
</cp:coreProperties>
</file>