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85F-96A6-4C68-AFF7-3E532E8C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630-E390-4404-8A33-0A8C164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A45-D971-4B8A-9B4A-E2E0E8C2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FD7-CC1C-4055-B36F-D4B9FDC4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EEF-884C-4157-9E3B-116273F6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7A7C-38EB-415E-AF9F-BF4E47FC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CE95-FE50-418A-AA9B-9EE8333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B357-EE4E-4F31-B44B-2A183FA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B66-2A32-40F6-B326-7CC23FF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E1F8-4BC7-496C-BB49-3CD0B5DD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3113-CDF9-46CD-9C83-336AE53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F04-7260-451A-8AE1-79D44CFA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2AEF-BE9C-4D87-9926-84F60B0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A3A-F010-46B5-9649-F289BA52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9938-FF51-46BC-A0F1-CDC6B6EB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078B-FAE9-4E5D-BDDC-95D6C3DE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A9D6-B828-4078-88F1-824818F4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B25-C983-4490-8E16-A02168A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40E-FA6B-4175-922C-861E8B7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E64-2F70-46F1-A1CD-87F1E5B9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0E5-6055-4C56-8CC4-91C5A1A2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88F-E468-4F96-A741-CBC2B6F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69A-BE98-48D9-9F9C-8269083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E14-78F8-45D2-8417-8BB16AD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949-432F-4DE2-BED3-397D636A8C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C3A7-A5AC-41F3-B077-BF0889E604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2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wmf"/><Relationship Id="rId5" Type="http://schemas.openxmlformats.org/officeDocument/2006/relationships/slide" Target="slide2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630000"/>
            <a:ext cx="6029280" cy="2584440"/>
          </a:xfrm>
          <a:prstGeom prst="rect">
            <a:avLst/>
          </a:prstGeom>
          <a:solidFill>
            <a:srgbClr val="ffccff"/>
          </a:solidFill>
          <a:ln cap="rnd" w="76320">
            <a:solidFill>
              <a:srgbClr val="3366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04d"/>
                </a:solidFill>
                <a:latin typeface="Arial"/>
              </a:rPr>
              <a:t>МАСТЕРСКАЯ </a:t>
            </a:r>
            <a:br>
              <a:rPr sz="2400"/>
            </a:br>
            <a:r>
              <a:rPr b="1" lang="ru-RU" sz="2400" spc="-1" strike="noStrike">
                <a:solidFill>
                  <a:srgbClr val="26004d"/>
                </a:solidFill>
                <a:latin typeface="Arial"/>
              </a:rPr>
              <a:t>«УТРЕННИЙ СБОР» </a:t>
            </a:r>
            <a:br>
              <a:rPr sz="2400"/>
            </a:br>
            <a:r>
              <a:rPr b="1" lang="ru-RU" sz="2400" spc="-1" strike="noStrike">
                <a:solidFill>
                  <a:srgbClr val="26004d"/>
                </a:solidFill>
                <a:latin typeface="Arial"/>
              </a:rPr>
              <a:t>КАК ОДНА ИЗ ЭФФЕКТИВНЫХ ВНЕУРОЧНЫХ  ФОРМ ОРГАНИЗАЦИИ ПОСТРОЕНИЯ СООБЩЕСТВА ДЕТЕЙ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28760" y="5214960"/>
            <a:ext cx="43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004d"/>
                </a:solidFill>
                <a:latin typeface="Arial"/>
              </a:rPr>
              <a:t>МБОУ «Прогимназия «Сообщество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004d"/>
                </a:solidFill>
                <a:latin typeface="Arial"/>
              </a:rPr>
              <a:t>Учитель: Чеченева Н.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DSC01371"/>
          <p:cNvPicPr/>
          <p:nvPr/>
        </p:nvPicPr>
        <p:blipFill>
          <a:blip r:embed="rId1"/>
          <a:stretch/>
        </p:blipFill>
        <p:spPr>
          <a:xfrm>
            <a:off x="4741920" y="3313080"/>
            <a:ext cx="3852720" cy="29955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031760" y="189000"/>
            <a:ext cx="225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e2643"/>
                </a:solidFill>
                <a:latin typeface="Arial"/>
              </a:rPr>
              <a:t>Для чего</a:t>
            </a:r>
            <a:r>
              <a:rPr b="1" i="1" lang="en-US" sz="2800" spc="-1" strike="noStrike">
                <a:solidFill>
                  <a:srgbClr val="ee2643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166760" y="1216080"/>
            <a:ext cx="17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407880" y="795240"/>
            <a:ext cx="82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004d"/>
                </a:solidFill>
                <a:latin typeface="Arial"/>
              </a:rPr>
              <a:t>Утренний сбор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круг) </a:t>
            </a:r>
            <a:r>
              <a:rPr b="0" lang="ru-RU" sz="2000" spc="-1" strike="noStrike">
                <a:solidFill>
                  <a:srgbClr val="26004d"/>
                </a:solidFill>
                <a:latin typeface="Arial"/>
              </a:rPr>
              <a:t>как деятельностная форма, позволяющая создать образовательное пространство, способное решать актуальные задачи классного сообществ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143000" y="1897200"/>
            <a:ext cx="74930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осознанное регулирование своего повед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готовность к активному взаимодействию с окружающим</a:t>
            </a: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мир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желание и умение учиться, готовность к самообразовани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инициативность, самостоятель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навыки сотрудничества в разных видах деятель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индивидуализация процесса обуч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6" descr="IMG_9078.JPG"/>
          <p:cNvPicPr/>
          <p:nvPr/>
        </p:nvPicPr>
        <p:blipFill>
          <a:blip r:embed="rId1"/>
          <a:stretch/>
        </p:blipFill>
        <p:spPr>
          <a:xfrm>
            <a:off x="420840" y="4853160"/>
            <a:ext cx="2895480" cy="174276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2"/>
          <p:cNvCxnSpPr/>
          <p:nvPr/>
        </p:nvCxnSpPr>
        <p:spPr>
          <a:xfrm flipH="1">
            <a:off x="1428120" y="1714320"/>
            <a:ext cx="1080" cy="310428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  <p:pic>
        <p:nvPicPr>
          <p:cNvPr id="158" name="Picture 3" descr="K:\Новая папка\Новая папка\оформление\картинки1\j0398409.wmf"/>
          <p:cNvPicPr/>
          <p:nvPr/>
        </p:nvPicPr>
        <p:blipFill>
          <a:blip r:embed="rId2"/>
          <a:stretch/>
        </p:blipFill>
        <p:spPr>
          <a:xfrm>
            <a:off x="0" y="2214720"/>
            <a:ext cx="1214280" cy="173484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11"/>
          <p:cNvCxnSpPr/>
          <p:nvPr/>
        </p:nvCxnSpPr>
        <p:spPr>
          <a:xfrm flipV="1">
            <a:off x="8071920" y="1714320"/>
            <a:ext cx="1080" cy="310248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  <p:pic>
        <p:nvPicPr>
          <p:cNvPr id="160" name="Рисунок 5" descr="MCj04358410000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47040" y="2571840"/>
            <a:ext cx="696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533520" y="404640"/>
            <a:ext cx="72532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Утренний сбор -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неурочная форма деятельности, которая позволя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37d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Блок-схема: альтернативный процесс 4"/>
          <p:cNvGrpSpPr/>
          <p:nvPr/>
        </p:nvGrpSpPr>
        <p:grpSpPr>
          <a:xfrm>
            <a:off x="1438200" y="4273560"/>
            <a:ext cx="6394680" cy="1041480"/>
            <a:chOff x="1438200" y="4273560"/>
            <a:chExt cx="6394680" cy="1041480"/>
          </a:xfrm>
        </p:grpSpPr>
        <p:pic>
          <p:nvPicPr>
            <p:cNvPr id="163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438200" y="4273560"/>
              <a:ext cx="63946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36560" y="4471920"/>
              <a:ext cx="599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рганизовать межличностное общение детей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Блок-схема: альтернативный процесс 9"/>
          <p:cNvGrpSpPr/>
          <p:nvPr/>
        </p:nvGrpSpPr>
        <p:grpSpPr>
          <a:xfrm>
            <a:off x="1359000" y="3048120"/>
            <a:ext cx="6473880" cy="1042920"/>
            <a:chOff x="1359000" y="3048120"/>
            <a:chExt cx="6473880" cy="1042920"/>
          </a:xfrm>
        </p:grpSpPr>
        <p:pic>
          <p:nvPicPr>
            <p:cNvPr id="166" name="Блок-схема: альтернативный процесс 9" descr=""/>
            <p:cNvPicPr/>
            <p:nvPr/>
          </p:nvPicPr>
          <p:blipFill>
            <a:blip r:embed="rId2"/>
            <a:stretch/>
          </p:blipFill>
          <p:spPr>
            <a:xfrm>
              <a:off x="1359000" y="3048120"/>
              <a:ext cx="6473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558800" y="3247920"/>
              <a:ext cx="60739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решать конфликтные ситуаци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Блок-схема: альтернативный процесс 12"/>
          <p:cNvGrpSpPr/>
          <p:nvPr/>
        </p:nvGrpSpPr>
        <p:grpSpPr>
          <a:xfrm>
            <a:off x="1359000" y="1859040"/>
            <a:ext cx="6473880" cy="1042920"/>
            <a:chOff x="1359000" y="1859040"/>
            <a:chExt cx="6473880" cy="1042920"/>
          </a:xfrm>
        </p:grpSpPr>
        <p:pic>
          <p:nvPicPr>
            <p:cNvPr id="169" name="Блок-схема: альтернативный процесс 12" descr=""/>
            <p:cNvPicPr/>
            <p:nvPr/>
          </p:nvPicPr>
          <p:blipFill>
            <a:blip r:embed="rId3"/>
            <a:stretch/>
          </p:blipFill>
          <p:spPr>
            <a:xfrm>
              <a:off x="1359000" y="1859040"/>
              <a:ext cx="6473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558800" y="2058840"/>
              <a:ext cx="60739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анировать совместную деятельно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3" descr="K:\Новая папка\Новая папка\оформление\картинки1\j0398409.wmf"/>
          <p:cNvPicPr/>
          <p:nvPr/>
        </p:nvPicPr>
        <p:blipFill>
          <a:blip r:embed="rId4"/>
          <a:stretch/>
        </p:blipFill>
        <p:spPr>
          <a:xfrm>
            <a:off x="93600" y="256536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MCj04358410000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2709720"/>
            <a:ext cx="69696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73" name="Прямая со стрелкой 2"/>
          <p:cNvCxnSpPr/>
          <p:nvPr/>
        </p:nvCxnSpPr>
        <p:spPr>
          <a:xfrm flipH="1">
            <a:off x="1762920" y="2047680"/>
            <a:ext cx="1080" cy="310428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74" name="Прямая со стрелкой 11"/>
          <p:cNvCxnSpPr/>
          <p:nvPr/>
        </p:nvCxnSpPr>
        <p:spPr>
          <a:xfrm flipV="1">
            <a:off x="7451280" y="2048760"/>
            <a:ext cx="1080" cy="310284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7"/>
          <p:cNvSpPr/>
          <p:nvPr/>
        </p:nvSpPr>
        <p:spPr>
          <a:xfrm rot="10800000">
            <a:off x="357120" y="3382560"/>
            <a:ext cx="2540160" cy="979560"/>
          </a:xfrm>
          <a:prstGeom prst="wedgeRoundRectCallout">
            <a:avLst>
              <a:gd name="adj1" fmla="val -79643"/>
              <a:gd name="adj2" fmla="val 51870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 rot="10800000">
            <a:off x="5676480" y="293040"/>
            <a:ext cx="2343240" cy="1098360"/>
          </a:xfrm>
          <a:prstGeom prst="wedgeRoundRectCallout">
            <a:avLst>
              <a:gd name="adj1" fmla="val 100236"/>
              <a:gd name="adj2" fmla="val -176949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57120" y="27147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04d"/>
                </a:solidFill>
                <a:latin typeface="Arial"/>
              </a:rPr>
              <a:t>Содержание дея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800000">
            <a:off x="357120" y="342360"/>
            <a:ext cx="2247840" cy="1020600"/>
          </a:xfrm>
          <a:prstGeom prst="wedgeRoundRectCallout">
            <a:avLst>
              <a:gd name="adj1" fmla="val -116023"/>
              <a:gd name="adj2" fmla="val -181259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60800" y="5475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36440" y="344340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ая деятель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5468760" y="428760"/>
            <a:ext cx="27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 информаци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0800000">
            <a:off x="5823000" y="3484080"/>
            <a:ext cx="2892240" cy="979560"/>
          </a:xfrm>
          <a:prstGeom prst="wedgeRoundRectCallout">
            <a:avLst>
              <a:gd name="adj1" fmla="val 90569"/>
              <a:gd name="adj2" fmla="val 58208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929200" y="35593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жедневные нов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IMG_9065.JPG"/>
          <p:cNvPicPr/>
          <p:nvPr/>
        </p:nvPicPr>
        <p:blipFill>
          <a:blip r:embed="rId1"/>
          <a:stretch/>
        </p:blipFill>
        <p:spPr>
          <a:xfrm>
            <a:off x="6364440" y="1189080"/>
            <a:ext cx="2114280" cy="16765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6" descr="IMG_9081.JPG"/>
          <p:cNvPicPr/>
          <p:nvPr/>
        </p:nvPicPr>
        <p:blipFill>
          <a:blip r:embed="rId2"/>
          <a:stretch/>
        </p:blipFill>
        <p:spPr>
          <a:xfrm>
            <a:off x="493560" y="4479840"/>
            <a:ext cx="2468880" cy="185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DSC01370"/>
          <p:cNvPicPr/>
          <p:nvPr/>
        </p:nvPicPr>
        <p:blipFill>
          <a:blip r:embed="rId3"/>
          <a:stretch/>
        </p:blipFill>
        <p:spPr>
          <a:xfrm>
            <a:off x="317520" y="1017720"/>
            <a:ext cx="2541600" cy="15793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8" descr="IMG10072.jpg"/>
          <p:cNvPicPr/>
          <p:nvPr/>
        </p:nvPicPr>
        <p:blipFill>
          <a:blip r:embed="rId4"/>
          <a:stretch/>
        </p:blipFill>
        <p:spPr>
          <a:xfrm>
            <a:off x="6205680" y="4432320"/>
            <a:ext cx="2431800" cy="19447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2484360" y="216000"/>
            <a:ext cx="165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, игр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мент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, упражн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4284720" y="216000"/>
            <a:ext cx="1655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, распис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2484360" y="3573360"/>
            <a:ext cx="2573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упражн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4024440" y="3865680"/>
            <a:ext cx="34239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ая и письменная информация, презентация материал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Блок-схема: альтернативный процесс 19"/>
          <p:cNvGrpSpPr/>
          <p:nvPr/>
        </p:nvGrpSpPr>
        <p:grpSpPr>
          <a:xfrm>
            <a:off x="1407960" y="5907240"/>
            <a:ext cx="6486840" cy="847440"/>
            <a:chOff x="1407960" y="5907240"/>
            <a:chExt cx="6486840" cy="847440"/>
          </a:xfrm>
        </p:grpSpPr>
        <p:pic>
          <p:nvPicPr>
            <p:cNvPr id="193" name="Блок-схема: альтернативный процесс 19" descr=""/>
            <p:cNvPicPr/>
            <p:nvPr/>
          </p:nvPicPr>
          <p:blipFill>
            <a:blip r:embed="rId5"/>
            <a:stretch/>
          </p:blipFill>
          <p:spPr>
            <a:xfrm>
              <a:off x="1407960" y="5907240"/>
              <a:ext cx="64868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596960" y="6097680"/>
              <a:ext cx="6110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здание комфортного психологического климат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Ориентация на успех)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064360" cy="46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57120" y="5716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04d"/>
                </a:solidFill>
                <a:latin typeface="Arial"/>
              </a:rPr>
              <a:t>Содержание дея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8"/>
          <p:cNvSpPr/>
          <p:nvPr/>
        </p:nvSpPr>
        <p:spPr>
          <a:xfrm>
            <a:off x="3348000" y="142920"/>
            <a:ext cx="2130480" cy="368280"/>
          </a:xfrm>
          <a:prstGeom prst="rect">
            <a:avLst/>
          </a:prstGeom>
          <a:solidFill>
            <a:srgbClr val="ffffcc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37d5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4a37d5"/>
                </a:solidFill>
                <a:latin typeface="Arial"/>
              </a:rPr>
              <a:t>ЗАМЫСЕ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9"/>
          <p:cNvGrpSpPr/>
          <p:nvPr/>
        </p:nvGrpSpPr>
        <p:grpSpPr>
          <a:xfrm>
            <a:off x="2940120" y="476280"/>
            <a:ext cx="3000240" cy="3166200"/>
            <a:chOff x="2940120" y="476280"/>
            <a:chExt cx="3000240" cy="3166200"/>
          </a:xfrm>
        </p:grpSpPr>
        <p:sp>
          <p:nvSpPr>
            <p:cNvPr id="199" name="Text Box 7"/>
            <p:cNvSpPr/>
            <p:nvPr/>
          </p:nvSpPr>
          <p:spPr>
            <a:xfrm>
              <a:off x="3699000" y="23565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4208400" y="476280"/>
              <a:ext cx="485640" cy="504360"/>
            </a:xfrm>
            <a:prstGeom prst="downArrow">
              <a:avLst>
                <a:gd name="adj1" fmla="val 50000"/>
                <a:gd name="adj2" fmla="val 25896"/>
              </a:avLst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2998800" y="1002600"/>
              <a:ext cx="2928960" cy="368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37d5"/>
                  </a:solidFill>
                  <a:latin typeface="Arial"/>
                </a:rPr>
                <a:t>ОРГАНИЗАЦ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"/>
            <p:cNvSpPr/>
            <p:nvPr/>
          </p:nvSpPr>
          <p:spPr>
            <a:xfrm>
              <a:off x="4208400" y="1373400"/>
              <a:ext cx="485640" cy="506160"/>
            </a:xfrm>
            <a:prstGeom prst="downArrow">
              <a:avLst>
                <a:gd name="adj1" fmla="val 50000"/>
                <a:gd name="adj2" fmla="val 25989"/>
              </a:avLst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2"/>
            <p:cNvSpPr/>
            <p:nvPr/>
          </p:nvSpPr>
          <p:spPr>
            <a:xfrm>
              <a:off x="3011400" y="3274200"/>
              <a:ext cx="2928960" cy="368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37d5"/>
                  </a:solidFill>
                  <a:latin typeface="Arial"/>
                </a:rPr>
                <a:t>РЕФЛЕКС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>
              <a:off x="4154400" y="2774160"/>
              <a:ext cx="485640" cy="506160"/>
            </a:xfrm>
            <a:prstGeom prst="downArrow">
              <a:avLst>
                <a:gd name="adj1" fmla="val 50000"/>
                <a:gd name="adj2" fmla="val 25989"/>
              </a:avLst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2940120" y="1845360"/>
              <a:ext cx="2928960" cy="916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37d5"/>
                  </a:solidFill>
                  <a:latin typeface="Arial"/>
                </a:rPr>
                <a:t>ПРЕЗЕНТАЦИЯ ПРОДУКТА ДЕЯТЕЛЬНОСТ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7"/>
          <p:cNvSpPr/>
          <p:nvPr/>
        </p:nvSpPr>
        <p:spPr>
          <a:xfrm>
            <a:off x="563256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7"/>
          <p:cNvGrpSpPr/>
          <p:nvPr/>
        </p:nvGrpSpPr>
        <p:grpSpPr>
          <a:xfrm>
            <a:off x="499680" y="3370320"/>
            <a:ext cx="8280720" cy="3273480"/>
            <a:chOff x="499680" y="3370320"/>
            <a:chExt cx="8280720" cy="3273480"/>
          </a:xfrm>
        </p:grpSpPr>
        <p:pic>
          <p:nvPicPr>
            <p:cNvPr id="208" name="Picture 14" descr="http://gym1515.mskobr.ru/images/cms/data/86370705.jpg"/>
            <p:cNvPicPr/>
            <p:nvPr/>
          </p:nvPicPr>
          <p:blipFill>
            <a:blip r:embed="rId1"/>
            <a:stretch/>
          </p:blipFill>
          <p:spPr>
            <a:xfrm>
              <a:off x="6836400" y="5289840"/>
              <a:ext cx="1805040" cy="135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Группа 6"/>
            <p:cNvGrpSpPr/>
            <p:nvPr/>
          </p:nvGrpSpPr>
          <p:grpSpPr>
            <a:xfrm>
              <a:off x="499680" y="3370320"/>
              <a:ext cx="8280720" cy="2116440"/>
              <a:chOff x="499680" y="3370320"/>
              <a:chExt cx="8280720" cy="2116440"/>
            </a:xfrm>
          </p:grpSpPr>
          <p:sp>
            <p:nvSpPr>
              <p:cNvPr id="210" name="Text Box 15"/>
              <p:cNvSpPr/>
              <p:nvPr/>
            </p:nvSpPr>
            <p:spPr>
              <a:xfrm>
                <a:off x="3576600" y="447984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3" descr="K:\Новая папка\Новая папка\оформление\картинки1\j0398409.wmf"/>
              <p:cNvPicPr/>
              <p:nvPr/>
            </p:nvPicPr>
            <p:blipFill>
              <a:blip r:embed="rId2"/>
              <a:stretch/>
            </p:blipFill>
            <p:spPr>
              <a:xfrm>
                <a:off x="609120" y="3370320"/>
                <a:ext cx="1214280" cy="1735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2" name="Прямая со стрелкой 4"/>
              <p:cNvCxnSpPr/>
              <p:nvPr/>
            </p:nvCxnSpPr>
            <p:spPr>
              <a:xfrm>
                <a:off x="499680" y="5180400"/>
                <a:ext cx="8281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3" name="TextBox 5"/>
              <p:cNvSpPr/>
              <p:nvPr/>
            </p:nvSpPr>
            <p:spPr>
              <a:xfrm>
                <a:off x="788040" y="510876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26"/>
              <p:cNvSpPr/>
              <p:nvPr/>
            </p:nvSpPr>
            <p:spPr>
              <a:xfrm>
                <a:off x="3020040" y="510552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27"/>
              <p:cNvSpPr/>
              <p:nvPr/>
            </p:nvSpPr>
            <p:spPr>
              <a:xfrm>
                <a:off x="5148720" y="510876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3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28"/>
              <p:cNvSpPr/>
              <p:nvPr/>
            </p:nvSpPr>
            <p:spPr>
              <a:xfrm>
                <a:off x="7093080" y="511848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4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3" descr="K:\Новая папка\Новая папка\оформление\картинки1\j0398409.wmf"/>
              <p:cNvPicPr/>
              <p:nvPr/>
            </p:nvPicPr>
            <p:blipFill>
              <a:blip r:embed="rId3"/>
              <a:stretch/>
            </p:blipFill>
            <p:spPr>
              <a:xfrm>
                <a:off x="2916000" y="3701160"/>
                <a:ext cx="915840" cy="13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3" descr="K:\Новая папка\Новая папка\оформление\картинки1\j0398409.wmf"/>
              <p:cNvPicPr/>
              <p:nvPr/>
            </p:nvPicPr>
            <p:blipFill>
              <a:blip r:embed="rId4"/>
              <a:stretch/>
            </p:blipFill>
            <p:spPr>
              <a:xfrm>
                <a:off x="4985280" y="3944160"/>
                <a:ext cx="862920" cy="12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Picture 3" descr="K:\Новая папка\Новая папка\оформление\картинки1\j0398409.wmf"/>
              <p:cNvPicPr/>
              <p:nvPr/>
            </p:nvPicPr>
            <p:blipFill>
              <a:blip r:embed="rId5"/>
              <a:stretch/>
            </p:blipFill>
            <p:spPr>
              <a:xfrm>
                <a:off x="6908400" y="4255920"/>
                <a:ext cx="606960" cy="86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0" name="Picture 14" descr="http://gym1515.mskobr.ru/images/cms/data/86370705.jpg"/>
            <p:cNvPicPr/>
            <p:nvPr/>
          </p:nvPicPr>
          <p:blipFill>
            <a:blip r:embed="rId6"/>
            <a:stretch/>
          </p:blipFill>
          <p:spPr>
            <a:xfrm>
              <a:off x="811080" y="5549400"/>
              <a:ext cx="81036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http://gym1515.mskobr.ru/images/cms/data/86370705.jpg"/>
            <p:cNvPicPr/>
            <p:nvPr/>
          </p:nvPicPr>
          <p:blipFill>
            <a:blip r:embed="rId7"/>
            <a:stretch/>
          </p:blipFill>
          <p:spPr>
            <a:xfrm>
              <a:off x="5043240" y="5466960"/>
              <a:ext cx="132588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4" descr="http://gym1515.mskobr.ru/images/cms/data/86370705.jpg"/>
            <p:cNvPicPr/>
            <p:nvPr/>
          </p:nvPicPr>
          <p:blipFill>
            <a:blip r:embed="rId8"/>
            <a:stretch/>
          </p:blipFill>
          <p:spPr>
            <a:xfrm>
              <a:off x="2927880" y="5480280"/>
              <a:ext cx="1070640" cy="80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Выгнутая влево стрелка 29"/>
          <p:cNvSpPr/>
          <p:nvPr/>
        </p:nvSpPr>
        <p:spPr>
          <a:xfrm>
            <a:off x="2000160" y="214200"/>
            <a:ext cx="1000080" cy="257184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568080 h 2571840"/>
              <a:gd name="textAreaBottom" fmla="*/ 18068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46" stAng="-5400000" swAng="-5400000"/>
                <a:lnTo>
                  <a:pt x="0" y="10402"/>
                </a:lnTo>
                <a:arcTo wR="21600" hR="9546" stAng="10800000" swAng="-2692320"/>
                <a:lnTo>
                  <a:pt x="12836" y="20779"/>
                </a:lnTo>
                <a:lnTo>
                  <a:pt x="21600" y="19520"/>
                </a:lnTo>
                <a:lnTo>
                  <a:pt x="12836" y="16619"/>
                </a:lnTo>
                <a:lnTo>
                  <a:pt x="12836" y="18271"/>
                </a:lnTo>
                <a:arcTo wR="21600" hR="9546" stAng="8107680" swAng="2624142"/>
                <a:lnTo>
                  <a:pt x="22" y="9974"/>
                </a:lnTo>
                <a:arcTo wR="21600" hR="9546" stAng="-10731822" swAng="5331822"/>
                <a:close/>
              </a:path>
              <a:path fill="darkenLess" w="21600" h="21600">
                <a:moveTo>
                  <a:pt x="21600" y="0"/>
                </a:moveTo>
                <a:arcTo wR="21600" hR="9546" stAng="-5400000" swAng="-5400000"/>
                <a:lnTo>
                  <a:pt x="0" y="9546"/>
                </a:lnTo>
                <a:arcTo wR="21600" hR="9546" stAng="10800000" swAng="-68178"/>
                <a:lnTo>
                  <a:pt x="22" y="9974"/>
                </a:lnTo>
                <a:arcTo wR="21600" hR="9546" stAng="-10731822" swAng="5331822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гнутая влево стрелка 30"/>
          <p:cNvSpPr/>
          <p:nvPr/>
        </p:nvSpPr>
        <p:spPr>
          <a:xfrm rot="10596600">
            <a:off x="5825880" y="2880"/>
            <a:ext cx="1504800" cy="3456000"/>
          </a:xfrm>
          <a:custGeom>
            <a:avLst/>
            <a:gdLst>
              <a:gd name="textAreaLeft" fmla="*/ 201600 w 1504800"/>
              <a:gd name="textAreaRight" fmla="*/ 1303200 w 1504800"/>
              <a:gd name="textAreaTop" fmla="*/ 751680 h 3456000"/>
              <a:gd name="textAreaBottom" fmla="*/ 240876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6" stAng="-5400000" swAng="-5400000"/>
                <a:lnTo>
                  <a:pt x="0" y="10356"/>
                </a:lnTo>
                <a:arcTo wR="21600" hR="9396" stAng="10800000" swAng="-2665008"/>
                <a:lnTo>
                  <a:pt x="12836" y="20792"/>
                </a:lnTo>
                <a:lnTo>
                  <a:pt x="21600" y="19271"/>
                </a:lnTo>
                <a:lnTo>
                  <a:pt x="12836" y="16134"/>
                </a:lnTo>
                <a:lnTo>
                  <a:pt x="12836" y="17983"/>
                </a:lnTo>
                <a:arcTo wR="21600" hR="9396" stAng="8134992" swAng="2588526"/>
                <a:lnTo>
                  <a:pt x="28" y="9875"/>
                </a:lnTo>
                <a:arcTo wR="21600" hR="9396" stAng="-10723518" swAng="5323518"/>
                <a:close/>
              </a:path>
              <a:path fill="darkenLess" w="21600" h="21600">
                <a:moveTo>
                  <a:pt x="21600" y="0"/>
                </a:moveTo>
                <a:arcTo wR="21600" hR="9396" stAng="-5400000" swAng="-5400000"/>
                <a:lnTo>
                  <a:pt x="0" y="9396"/>
                </a:lnTo>
                <a:arcTo wR="21600" hR="9396" stAng="10800000" swAng="-76482"/>
                <a:lnTo>
                  <a:pt x="28" y="9875"/>
                </a:lnTo>
                <a:arcTo wR="21600" hR="9396" stAng="-10723518" swAng="5323518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56Z</dcterms:created>
  <dc:creator>Александр Сергевич</dc:creator>
  <dc:description/>
  <dc:language>en-US</dc:language>
  <cp:lastModifiedBy>13</cp:lastModifiedBy>
  <dcterms:modified xsi:type="dcterms:W3CDTF">2014-01-30T15:28:08Z</dcterms:modified>
  <cp:revision>75</cp:revision>
  <dc:subject/>
  <dc:title>Слайд 1</dc:title>
</cp:coreProperties>
</file>