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708-9099-4A0D-8F30-E0A089CF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0F3-CD1E-45B5-BF29-2EFA65AF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F47-7774-46FC-ABC9-AADEC1BC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5A9-A17E-4989-8EC8-A056E56D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23C8-947C-4087-B2F1-5C28456A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BB15-713E-4B85-B405-C4402DDE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B89B-6581-4BBD-B44C-E18EB0CC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CA19-EF2F-4B1D-883B-11FDF079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7C96-593C-48A7-8451-E54F0377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1B15-824A-4272-B240-11CC2864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E1E5-0179-47F8-9348-A8906984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3A4-97B2-4348-8573-E784FD36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53BF-5505-41E5-9D49-548EEE3D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4EF3-51C8-48F8-AD0D-BDABCA94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F213-DF0C-42F0-8ACE-10110C0F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B39B-8658-479F-98B9-E12A36AF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51DA-B389-4F2B-8625-7EE10092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2DF-9F20-4C7F-948A-F0E255EB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457-920B-48B3-BB77-D0AFE7B3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423-C2C9-4FA7-866F-744503FC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DE2-CF05-4CF9-A6AE-06928665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D82-8213-4D2A-9877-92C61923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45F-78C2-42EF-AEF3-D73C8A34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CD3-4039-4812-85C2-376CBDA2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F889-7E86-4F64-BD32-FEC9CF12B0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F729-3567-4EE9-9418-286B5EFF9C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" Target="slide2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wmf"/><Relationship Id="rId5" Type="http://schemas.openxmlformats.org/officeDocument/2006/relationships/slide" Target="slide2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630000"/>
            <a:ext cx="6029280" cy="2584440"/>
          </a:xfrm>
          <a:prstGeom prst="rect">
            <a:avLst/>
          </a:prstGeom>
          <a:solidFill>
            <a:srgbClr val="ffccff"/>
          </a:solidFill>
          <a:ln cap="rnd" w="76320">
            <a:solidFill>
              <a:srgbClr val="33669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04d"/>
                </a:solidFill>
                <a:latin typeface="Arial"/>
              </a:rPr>
              <a:t>МАСТЕРСКАЯ </a:t>
            </a:r>
            <a:br>
              <a:rPr sz="2400"/>
            </a:br>
            <a:r>
              <a:rPr b="1" lang="ru-RU" sz="2400" spc="-1" strike="noStrike">
                <a:solidFill>
                  <a:srgbClr val="26004d"/>
                </a:solidFill>
                <a:latin typeface="Arial"/>
              </a:rPr>
              <a:t>«УТРЕННИЙ СБОР» </a:t>
            </a:r>
            <a:br>
              <a:rPr sz="2400"/>
            </a:br>
            <a:r>
              <a:rPr b="1" lang="ru-RU" sz="2400" spc="-1" strike="noStrike">
                <a:solidFill>
                  <a:srgbClr val="26004d"/>
                </a:solidFill>
                <a:latin typeface="Arial"/>
              </a:rPr>
              <a:t>КАК ОДНА ИЗ ЭФФЕКТИВНЫХ ВНЕУРОЧНЫХ  ФОРМ ОРГАНИЗАЦИИ ПОСТРОЕНИЯ СООБЩЕСТВА ДЕТЕЙ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428760" y="5214960"/>
            <a:ext cx="43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004d"/>
                </a:solidFill>
                <a:latin typeface="Arial"/>
              </a:rPr>
              <a:t>МБОУ «Прогимназия «Сообщество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004d"/>
                </a:solidFill>
                <a:latin typeface="Arial"/>
              </a:rPr>
              <a:t>Учитель: Чеченева Н.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DSC01371"/>
          <p:cNvPicPr/>
          <p:nvPr/>
        </p:nvPicPr>
        <p:blipFill>
          <a:blip r:embed="rId1"/>
          <a:stretch/>
        </p:blipFill>
        <p:spPr>
          <a:xfrm>
            <a:off x="4741920" y="3313080"/>
            <a:ext cx="3852720" cy="299556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031760" y="189000"/>
            <a:ext cx="225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e2643"/>
                </a:solidFill>
                <a:latin typeface="Arial"/>
              </a:rPr>
              <a:t>Для чего</a:t>
            </a:r>
            <a:r>
              <a:rPr b="1" i="1" lang="en-US" sz="2800" spc="-1" strike="noStrike">
                <a:solidFill>
                  <a:srgbClr val="ee2643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1166760" y="1216080"/>
            <a:ext cx="174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407880" y="795240"/>
            <a:ext cx="824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004d"/>
                </a:solidFill>
                <a:latin typeface="Arial"/>
              </a:rPr>
              <a:t>Утренний сбор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(круг) </a:t>
            </a:r>
            <a:r>
              <a:rPr b="0" lang="ru-RU" sz="2000" spc="-1" strike="noStrike">
                <a:solidFill>
                  <a:srgbClr val="26004d"/>
                </a:solidFill>
                <a:latin typeface="Arial"/>
              </a:rPr>
              <a:t>как деятельностная форма, позволяющая создать образовательное пространство, способное решать актуальные задачи классного сообществ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143000" y="1897200"/>
            <a:ext cx="7493040" cy="35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26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004d"/>
                </a:solidFill>
                <a:latin typeface="Arial"/>
              </a:rPr>
              <a:t>осознанное регулирование своего повед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004d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26004d"/>
                </a:solidFill>
                <a:latin typeface="Arial"/>
              </a:rPr>
              <a:t>готовность к активному взаимодействию с окружающим</a:t>
            </a:r>
            <a:r>
              <a:rPr b="0" lang="ru-RU" sz="1800" spc="-1" strike="noStrike">
                <a:solidFill>
                  <a:srgbClr val="26004d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26004d"/>
                </a:solidFill>
                <a:latin typeface="Arial"/>
              </a:rPr>
              <a:t>мир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004d"/>
                </a:solidFill>
                <a:latin typeface="Arial"/>
              </a:rPr>
              <a:t>желание и умение учиться, готовность к самообразовани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004d"/>
                </a:solidFill>
                <a:latin typeface="Arial"/>
              </a:rPr>
              <a:t>инициативность, самостоятельн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004d"/>
                </a:solidFill>
                <a:latin typeface="Arial"/>
              </a:rPr>
              <a:t>навыки сотрудничества в разных видах деятельнос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0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6004d"/>
                </a:solidFill>
                <a:latin typeface="Arial"/>
              </a:rPr>
              <a:t>индивидуализация процесса обучен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Содержимое 6" descr="IMG_9078.JPG"/>
          <p:cNvPicPr/>
          <p:nvPr/>
        </p:nvPicPr>
        <p:blipFill>
          <a:blip r:embed="rId1"/>
          <a:stretch/>
        </p:blipFill>
        <p:spPr>
          <a:xfrm>
            <a:off x="420840" y="4853160"/>
            <a:ext cx="2895480" cy="1742760"/>
          </a:xfrm>
          <a:prstGeom prst="rect">
            <a:avLst/>
          </a:prstGeom>
          <a:ln w="0">
            <a:noFill/>
          </a:ln>
        </p:spPr>
      </p:pic>
      <p:cxnSp>
        <p:nvCxnSpPr>
          <p:cNvPr id="157" name="Прямая со стрелкой 2"/>
          <p:cNvCxnSpPr/>
          <p:nvPr/>
        </p:nvCxnSpPr>
        <p:spPr>
          <a:xfrm flipH="1">
            <a:off x="1428120" y="1714320"/>
            <a:ext cx="1080" cy="3104280"/>
          </a:xfrm>
          <a:prstGeom prst="straightConnector1">
            <a:avLst/>
          </a:prstGeom>
          <a:ln w="12600">
            <a:solidFill>
              <a:srgbClr val="ff0000"/>
            </a:solidFill>
            <a:prstDash val="sysDash"/>
            <a:miter/>
            <a:tailEnd len="med" type="arrow" w="med"/>
          </a:ln>
        </p:spPr>
      </p:cxnSp>
      <p:pic>
        <p:nvPicPr>
          <p:cNvPr id="158" name="Picture 3" descr="K:\Новая папка\Новая папка\оформление\картинки1\j0398409.wmf"/>
          <p:cNvPicPr/>
          <p:nvPr/>
        </p:nvPicPr>
        <p:blipFill>
          <a:blip r:embed="rId2"/>
          <a:stretch/>
        </p:blipFill>
        <p:spPr>
          <a:xfrm>
            <a:off x="0" y="2214720"/>
            <a:ext cx="1214280" cy="1734840"/>
          </a:xfrm>
          <a:prstGeom prst="rect">
            <a:avLst/>
          </a:prstGeom>
          <a:ln w="0">
            <a:noFill/>
          </a:ln>
        </p:spPr>
      </p:pic>
      <p:cxnSp>
        <p:nvCxnSpPr>
          <p:cNvPr id="159" name="Прямая со стрелкой 11"/>
          <p:cNvCxnSpPr/>
          <p:nvPr/>
        </p:nvCxnSpPr>
        <p:spPr>
          <a:xfrm flipV="1">
            <a:off x="8071920" y="1714320"/>
            <a:ext cx="1080" cy="3102480"/>
          </a:xfrm>
          <a:prstGeom prst="straightConnector1">
            <a:avLst/>
          </a:prstGeom>
          <a:ln w="12600">
            <a:solidFill>
              <a:srgbClr val="ff0000"/>
            </a:solidFill>
            <a:prstDash val="sysDash"/>
            <a:miter/>
            <a:tailEnd len="med" type="arrow" w="med"/>
          </a:ln>
        </p:spPr>
      </p:cxnSp>
      <p:pic>
        <p:nvPicPr>
          <p:cNvPr id="160" name="Рисунок 5" descr="MCj04358410000[1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47040" y="2571840"/>
            <a:ext cx="696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533520" y="404640"/>
            <a:ext cx="72532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004d"/>
                </a:solidFill>
                <a:latin typeface="Arial"/>
              </a:rPr>
              <a:t>Утренний сбор -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внеурочная форма деятельности, которая позволя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37d5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Блок-схема: альтернативный процесс 4"/>
          <p:cNvGrpSpPr/>
          <p:nvPr/>
        </p:nvGrpSpPr>
        <p:grpSpPr>
          <a:xfrm>
            <a:off x="1438200" y="4273560"/>
            <a:ext cx="6394680" cy="1041480"/>
            <a:chOff x="1438200" y="4273560"/>
            <a:chExt cx="6394680" cy="1041480"/>
          </a:xfrm>
        </p:grpSpPr>
        <p:pic>
          <p:nvPicPr>
            <p:cNvPr id="163" name="Блок-схема: альтернативный процесс 4" descr=""/>
            <p:cNvPicPr/>
            <p:nvPr/>
          </p:nvPicPr>
          <p:blipFill>
            <a:blip r:embed="rId1"/>
            <a:stretch/>
          </p:blipFill>
          <p:spPr>
            <a:xfrm>
              <a:off x="1438200" y="4273560"/>
              <a:ext cx="639468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636560" y="4471920"/>
              <a:ext cx="59961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рганизовать межличностное общение детей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Блок-схема: альтернативный процесс 9"/>
          <p:cNvGrpSpPr/>
          <p:nvPr/>
        </p:nvGrpSpPr>
        <p:grpSpPr>
          <a:xfrm>
            <a:off x="1359000" y="3048120"/>
            <a:ext cx="6473880" cy="1042920"/>
            <a:chOff x="1359000" y="3048120"/>
            <a:chExt cx="6473880" cy="1042920"/>
          </a:xfrm>
        </p:grpSpPr>
        <p:pic>
          <p:nvPicPr>
            <p:cNvPr id="166" name="Блок-схема: альтернативный процесс 9" descr=""/>
            <p:cNvPicPr/>
            <p:nvPr/>
          </p:nvPicPr>
          <p:blipFill>
            <a:blip r:embed="rId2"/>
            <a:stretch/>
          </p:blipFill>
          <p:spPr>
            <a:xfrm>
              <a:off x="1359000" y="3048120"/>
              <a:ext cx="6473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558800" y="3247920"/>
              <a:ext cx="607392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азрешать конфликтные ситуаци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Блок-схема: альтернативный процесс 12"/>
          <p:cNvGrpSpPr/>
          <p:nvPr/>
        </p:nvGrpSpPr>
        <p:grpSpPr>
          <a:xfrm>
            <a:off x="1359000" y="1859040"/>
            <a:ext cx="6473880" cy="1042920"/>
            <a:chOff x="1359000" y="1859040"/>
            <a:chExt cx="6473880" cy="1042920"/>
          </a:xfrm>
        </p:grpSpPr>
        <p:pic>
          <p:nvPicPr>
            <p:cNvPr id="169" name="Блок-схема: альтернативный процесс 12" descr=""/>
            <p:cNvPicPr/>
            <p:nvPr/>
          </p:nvPicPr>
          <p:blipFill>
            <a:blip r:embed="rId3"/>
            <a:stretch/>
          </p:blipFill>
          <p:spPr>
            <a:xfrm>
              <a:off x="1359000" y="1859040"/>
              <a:ext cx="6473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558800" y="2058840"/>
              <a:ext cx="607392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ланировать совместную деятельност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3" descr="K:\Новая папка\Новая папка\оформление\картинки1\j0398409.wmf"/>
          <p:cNvPicPr/>
          <p:nvPr/>
        </p:nvPicPr>
        <p:blipFill>
          <a:blip r:embed="rId4"/>
          <a:stretch/>
        </p:blipFill>
        <p:spPr>
          <a:xfrm>
            <a:off x="93600" y="2565360"/>
            <a:ext cx="1214640" cy="17352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MCj04358410000[1]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01080" y="2709720"/>
            <a:ext cx="69696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73" name="Прямая со стрелкой 2"/>
          <p:cNvCxnSpPr/>
          <p:nvPr/>
        </p:nvCxnSpPr>
        <p:spPr>
          <a:xfrm flipH="1">
            <a:off x="1762920" y="2047680"/>
            <a:ext cx="1080" cy="3104280"/>
          </a:xfrm>
          <a:prstGeom prst="straightConnector1">
            <a:avLst/>
          </a:prstGeom>
          <a:ln w="1260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174" name="Прямая со стрелкой 11"/>
          <p:cNvCxnSpPr/>
          <p:nvPr/>
        </p:nvCxnSpPr>
        <p:spPr>
          <a:xfrm flipV="1">
            <a:off x="7451280" y="2048760"/>
            <a:ext cx="1080" cy="3102840"/>
          </a:xfrm>
          <a:prstGeom prst="straightConnector1">
            <a:avLst/>
          </a:prstGeom>
          <a:ln w="12600">
            <a:solidFill>
              <a:srgbClr val="ff0000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7"/>
          <p:cNvSpPr/>
          <p:nvPr/>
        </p:nvSpPr>
        <p:spPr>
          <a:xfrm rot="10800000">
            <a:off x="357120" y="3382560"/>
            <a:ext cx="2540160" cy="979560"/>
          </a:xfrm>
          <a:prstGeom prst="wedgeRoundRectCallout">
            <a:avLst>
              <a:gd name="adj1" fmla="val -79643"/>
              <a:gd name="adj2" fmla="val 51870"/>
              <a:gd name="adj3" fmla="val 16667"/>
            </a:avLst>
          </a:prstGeom>
          <a:solidFill>
            <a:srgbClr val="ffccff"/>
          </a:solidFill>
          <a:ln w="9360">
            <a:solidFill>
              <a:srgbClr val="4a37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 rot="10800000">
            <a:off x="5676480" y="293040"/>
            <a:ext cx="2343240" cy="1098360"/>
          </a:xfrm>
          <a:prstGeom prst="wedgeRoundRectCallout">
            <a:avLst>
              <a:gd name="adj1" fmla="val 100236"/>
              <a:gd name="adj2" fmla="val -176949"/>
              <a:gd name="adj3" fmla="val 16667"/>
            </a:avLst>
          </a:prstGeom>
          <a:solidFill>
            <a:srgbClr val="ffccff"/>
          </a:solidFill>
          <a:ln w="9360">
            <a:solidFill>
              <a:srgbClr val="4a37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57120" y="27147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004d"/>
                </a:solidFill>
                <a:latin typeface="Arial"/>
              </a:rPr>
              <a:t>Содержание деятель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 rot="10800000">
            <a:off x="357120" y="342360"/>
            <a:ext cx="2247840" cy="1020600"/>
          </a:xfrm>
          <a:prstGeom prst="wedgeRoundRectCallout">
            <a:avLst>
              <a:gd name="adj1" fmla="val -116023"/>
              <a:gd name="adj2" fmla="val -181259"/>
              <a:gd name="adj3" fmla="val 16667"/>
            </a:avLst>
          </a:prstGeom>
          <a:solidFill>
            <a:srgbClr val="ffccff"/>
          </a:solidFill>
          <a:ln w="9360">
            <a:solidFill>
              <a:srgbClr val="4a37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460800" y="54756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етств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36440" y="344340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овая деятель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5468760" y="428760"/>
            <a:ext cx="270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мен информаци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10800000">
            <a:off x="5823000" y="3484080"/>
            <a:ext cx="2892240" cy="979560"/>
          </a:xfrm>
          <a:prstGeom prst="wedgeRoundRectCallout">
            <a:avLst>
              <a:gd name="adj1" fmla="val 90569"/>
              <a:gd name="adj2" fmla="val 58208"/>
              <a:gd name="adj3" fmla="val 16667"/>
            </a:avLst>
          </a:prstGeom>
          <a:solidFill>
            <a:srgbClr val="ffccff"/>
          </a:solidFill>
          <a:ln w="9360">
            <a:solidFill>
              <a:srgbClr val="4a37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5929200" y="355932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жедневные нов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Содержимое 3" descr="IMG_9065.JPG"/>
          <p:cNvPicPr/>
          <p:nvPr/>
        </p:nvPicPr>
        <p:blipFill>
          <a:blip r:embed="rId1"/>
          <a:stretch/>
        </p:blipFill>
        <p:spPr>
          <a:xfrm>
            <a:off x="6364440" y="1189080"/>
            <a:ext cx="2114280" cy="16765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6" descr="IMG_9081.JPG"/>
          <p:cNvPicPr/>
          <p:nvPr/>
        </p:nvPicPr>
        <p:blipFill>
          <a:blip r:embed="rId2"/>
          <a:stretch/>
        </p:blipFill>
        <p:spPr>
          <a:xfrm>
            <a:off x="493560" y="4479840"/>
            <a:ext cx="2468880" cy="1854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DSC01370"/>
          <p:cNvPicPr/>
          <p:nvPr/>
        </p:nvPicPr>
        <p:blipFill>
          <a:blip r:embed="rId3"/>
          <a:stretch/>
        </p:blipFill>
        <p:spPr>
          <a:xfrm>
            <a:off x="317520" y="1017720"/>
            <a:ext cx="2541600" cy="157932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8" descr="IMG10072.jpg"/>
          <p:cNvPicPr/>
          <p:nvPr/>
        </p:nvPicPr>
        <p:blipFill>
          <a:blip r:embed="rId4"/>
          <a:stretch/>
        </p:blipFill>
        <p:spPr>
          <a:xfrm>
            <a:off x="6205680" y="4432320"/>
            <a:ext cx="2431800" cy="19447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2484360" y="216000"/>
            <a:ext cx="1656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и, игры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менты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и, упражн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5"/>
          <p:cNvSpPr/>
          <p:nvPr/>
        </p:nvSpPr>
        <p:spPr>
          <a:xfrm>
            <a:off x="4284720" y="216000"/>
            <a:ext cx="16556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, расписа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"/>
          <p:cNvSpPr/>
          <p:nvPr/>
        </p:nvSpPr>
        <p:spPr>
          <a:xfrm>
            <a:off x="2484360" y="3573360"/>
            <a:ext cx="2573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упражн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4024440" y="3865680"/>
            <a:ext cx="342396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ая и письменная информация, презентация материал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Блок-схема: альтернативный процесс 19"/>
          <p:cNvGrpSpPr/>
          <p:nvPr/>
        </p:nvGrpSpPr>
        <p:grpSpPr>
          <a:xfrm>
            <a:off x="1407960" y="5907240"/>
            <a:ext cx="6486840" cy="847440"/>
            <a:chOff x="1407960" y="5907240"/>
            <a:chExt cx="6486840" cy="847440"/>
          </a:xfrm>
        </p:grpSpPr>
        <p:pic>
          <p:nvPicPr>
            <p:cNvPr id="193" name="Блок-схема: альтернативный процесс 19" descr=""/>
            <p:cNvPicPr/>
            <p:nvPr/>
          </p:nvPicPr>
          <p:blipFill>
            <a:blip r:embed="rId5"/>
            <a:stretch/>
          </p:blipFill>
          <p:spPr>
            <a:xfrm>
              <a:off x="1407960" y="5907240"/>
              <a:ext cx="64868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596960" y="6097680"/>
              <a:ext cx="6110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здание комфортного психологического климат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(Ориентация на успех)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8064360" cy="460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57120" y="57168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004d"/>
                </a:solidFill>
                <a:latin typeface="Arial"/>
              </a:rPr>
              <a:t>Содержание деятель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8"/>
          <p:cNvSpPr/>
          <p:nvPr/>
        </p:nvSpPr>
        <p:spPr>
          <a:xfrm>
            <a:off x="3348000" y="142920"/>
            <a:ext cx="2130480" cy="368280"/>
          </a:xfrm>
          <a:prstGeom prst="rect">
            <a:avLst/>
          </a:prstGeom>
          <a:solidFill>
            <a:srgbClr val="ffffcc"/>
          </a:solidFill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a37d5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4a37d5"/>
                </a:solidFill>
                <a:latin typeface="Arial"/>
              </a:rPr>
              <a:t>ЗАМЫСЕ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29"/>
          <p:cNvGrpSpPr/>
          <p:nvPr/>
        </p:nvGrpSpPr>
        <p:grpSpPr>
          <a:xfrm>
            <a:off x="2940120" y="476280"/>
            <a:ext cx="3000240" cy="3166200"/>
            <a:chOff x="2940120" y="476280"/>
            <a:chExt cx="3000240" cy="3166200"/>
          </a:xfrm>
        </p:grpSpPr>
        <p:sp>
          <p:nvSpPr>
            <p:cNvPr id="199" name="Text Box 7"/>
            <p:cNvSpPr/>
            <p:nvPr/>
          </p:nvSpPr>
          <p:spPr>
            <a:xfrm>
              <a:off x="3699000" y="23565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>
              <a:off x="4208400" y="476280"/>
              <a:ext cx="485640" cy="504360"/>
            </a:xfrm>
            <a:prstGeom prst="downArrow">
              <a:avLst>
                <a:gd name="adj1" fmla="val 50000"/>
                <a:gd name="adj2" fmla="val 25896"/>
              </a:avLst>
            </a:prstGeom>
            <a:solidFill>
              <a:srgbClr val="cccc00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2998800" y="1002600"/>
              <a:ext cx="2928960" cy="368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37d5"/>
                  </a:solidFill>
                  <a:latin typeface="Arial"/>
                </a:rPr>
                <a:t>ОРГАНИЗАЦ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1"/>
            <p:cNvSpPr/>
            <p:nvPr/>
          </p:nvSpPr>
          <p:spPr>
            <a:xfrm>
              <a:off x="4208400" y="1373400"/>
              <a:ext cx="485640" cy="506160"/>
            </a:xfrm>
            <a:prstGeom prst="downArrow">
              <a:avLst>
                <a:gd name="adj1" fmla="val 50000"/>
                <a:gd name="adj2" fmla="val 25989"/>
              </a:avLst>
            </a:prstGeom>
            <a:solidFill>
              <a:srgbClr val="cccc00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2"/>
            <p:cNvSpPr/>
            <p:nvPr/>
          </p:nvSpPr>
          <p:spPr>
            <a:xfrm>
              <a:off x="3011400" y="3274200"/>
              <a:ext cx="2928960" cy="368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37d5"/>
                  </a:solidFill>
                  <a:latin typeface="Arial"/>
                </a:rPr>
                <a:t>РЕФЛЕКС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3"/>
            <p:cNvSpPr/>
            <p:nvPr/>
          </p:nvSpPr>
          <p:spPr>
            <a:xfrm>
              <a:off x="4154400" y="2774160"/>
              <a:ext cx="485640" cy="506160"/>
            </a:xfrm>
            <a:prstGeom prst="downArrow">
              <a:avLst>
                <a:gd name="adj1" fmla="val 50000"/>
                <a:gd name="adj2" fmla="val 25989"/>
              </a:avLst>
            </a:prstGeom>
            <a:solidFill>
              <a:srgbClr val="cccc00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2940120" y="1845360"/>
              <a:ext cx="2928960" cy="9169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37d5"/>
                  </a:solidFill>
                  <a:latin typeface="Arial"/>
                </a:rPr>
                <a:t>ПРЕЗЕНТАЦИЯ ПРОДУКТА ДЕЯТЕЛЬНОСТ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17"/>
          <p:cNvSpPr/>
          <p:nvPr/>
        </p:nvSpPr>
        <p:spPr>
          <a:xfrm>
            <a:off x="5632560" y="596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Группа 7"/>
          <p:cNvGrpSpPr/>
          <p:nvPr/>
        </p:nvGrpSpPr>
        <p:grpSpPr>
          <a:xfrm>
            <a:off x="499680" y="3370320"/>
            <a:ext cx="8280720" cy="3273480"/>
            <a:chOff x="499680" y="3370320"/>
            <a:chExt cx="8280720" cy="3273480"/>
          </a:xfrm>
        </p:grpSpPr>
        <p:pic>
          <p:nvPicPr>
            <p:cNvPr id="208" name="Picture 14" descr="http://gym1515.mskobr.ru/images/cms/data/86370705.jpg"/>
            <p:cNvPicPr/>
            <p:nvPr/>
          </p:nvPicPr>
          <p:blipFill>
            <a:blip r:embed="rId1"/>
            <a:stretch/>
          </p:blipFill>
          <p:spPr>
            <a:xfrm>
              <a:off x="6836400" y="5289840"/>
              <a:ext cx="1805040" cy="1353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Группа 6"/>
            <p:cNvGrpSpPr/>
            <p:nvPr/>
          </p:nvGrpSpPr>
          <p:grpSpPr>
            <a:xfrm>
              <a:off x="499680" y="3370320"/>
              <a:ext cx="8280720" cy="2116440"/>
              <a:chOff x="499680" y="3370320"/>
              <a:chExt cx="8280720" cy="2116440"/>
            </a:xfrm>
          </p:grpSpPr>
          <p:sp>
            <p:nvSpPr>
              <p:cNvPr id="210" name="Text Box 15"/>
              <p:cNvSpPr/>
              <p:nvPr/>
            </p:nvSpPr>
            <p:spPr>
              <a:xfrm>
                <a:off x="3576600" y="4479840"/>
                <a:ext cx="183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Picture 3" descr="K:\Новая папка\Новая папка\оформление\картинки1\j0398409.wmf"/>
              <p:cNvPicPr/>
              <p:nvPr/>
            </p:nvPicPr>
            <p:blipFill>
              <a:blip r:embed="rId2"/>
              <a:stretch/>
            </p:blipFill>
            <p:spPr>
              <a:xfrm>
                <a:off x="609120" y="3370320"/>
                <a:ext cx="1214280" cy="1735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2" name="Прямая со стрелкой 4"/>
              <p:cNvCxnSpPr/>
              <p:nvPr/>
            </p:nvCxnSpPr>
            <p:spPr>
              <a:xfrm>
                <a:off x="499680" y="5180400"/>
                <a:ext cx="82810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13" name="TextBox 5"/>
              <p:cNvSpPr/>
              <p:nvPr/>
            </p:nvSpPr>
            <p:spPr>
              <a:xfrm>
                <a:off x="788040" y="5108760"/>
                <a:ext cx="13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1 класс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26"/>
              <p:cNvSpPr/>
              <p:nvPr/>
            </p:nvSpPr>
            <p:spPr>
              <a:xfrm>
                <a:off x="3020040" y="5105520"/>
                <a:ext cx="13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2 класс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Box 27"/>
              <p:cNvSpPr/>
              <p:nvPr/>
            </p:nvSpPr>
            <p:spPr>
              <a:xfrm>
                <a:off x="5148720" y="5108760"/>
                <a:ext cx="13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3 класс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Box 28"/>
              <p:cNvSpPr/>
              <p:nvPr/>
            </p:nvSpPr>
            <p:spPr>
              <a:xfrm>
                <a:off x="7093080" y="5118480"/>
                <a:ext cx="13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4 класс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7" name="Picture 3" descr="K:\Новая папка\Новая папка\оформление\картинки1\j0398409.wmf"/>
              <p:cNvPicPr/>
              <p:nvPr/>
            </p:nvPicPr>
            <p:blipFill>
              <a:blip r:embed="rId3"/>
              <a:stretch/>
            </p:blipFill>
            <p:spPr>
              <a:xfrm>
                <a:off x="2916000" y="3701160"/>
                <a:ext cx="915840" cy="130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Picture 3" descr="K:\Новая папка\Новая папка\оформление\картинки1\j0398409.wmf"/>
              <p:cNvPicPr/>
              <p:nvPr/>
            </p:nvPicPr>
            <p:blipFill>
              <a:blip r:embed="rId4"/>
              <a:stretch/>
            </p:blipFill>
            <p:spPr>
              <a:xfrm>
                <a:off x="4985280" y="3944160"/>
                <a:ext cx="862920" cy="12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Picture 3" descr="K:\Новая папка\Новая папка\оформление\картинки1\j0398409.wmf"/>
              <p:cNvPicPr/>
              <p:nvPr/>
            </p:nvPicPr>
            <p:blipFill>
              <a:blip r:embed="rId5"/>
              <a:stretch/>
            </p:blipFill>
            <p:spPr>
              <a:xfrm>
                <a:off x="6908400" y="4255920"/>
                <a:ext cx="606960" cy="86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0" name="Picture 14" descr="http://gym1515.mskobr.ru/images/cms/data/86370705.jpg"/>
            <p:cNvPicPr/>
            <p:nvPr/>
          </p:nvPicPr>
          <p:blipFill>
            <a:blip r:embed="rId6"/>
            <a:stretch/>
          </p:blipFill>
          <p:spPr>
            <a:xfrm>
              <a:off x="811080" y="5549400"/>
              <a:ext cx="81036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4" descr="http://gym1515.mskobr.ru/images/cms/data/86370705.jpg"/>
            <p:cNvPicPr/>
            <p:nvPr/>
          </p:nvPicPr>
          <p:blipFill>
            <a:blip r:embed="rId7"/>
            <a:stretch/>
          </p:blipFill>
          <p:spPr>
            <a:xfrm>
              <a:off x="5043240" y="5466960"/>
              <a:ext cx="1325880" cy="9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4" descr="http://gym1515.mskobr.ru/images/cms/data/86370705.jpg"/>
            <p:cNvPicPr/>
            <p:nvPr/>
          </p:nvPicPr>
          <p:blipFill>
            <a:blip r:embed="rId8"/>
            <a:stretch/>
          </p:blipFill>
          <p:spPr>
            <a:xfrm>
              <a:off x="2927880" y="5480280"/>
              <a:ext cx="1070640" cy="80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Выгнутая влево стрелка 29"/>
          <p:cNvSpPr/>
          <p:nvPr/>
        </p:nvSpPr>
        <p:spPr>
          <a:xfrm>
            <a:off x="2000160" y="214200"/>
            <a:ext cx="1000080" cy="257184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568080 h 2571840"/>
              <a:gd name="textAreaBottom" fmla="*/ 180684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46" stAng="-5400000" swAng="-5400000"/>
                <a:lnTo>
                  <a:pt x="0" y="10402"/>
                </a:lnTo>
                <a:arcTo wR="21600" hR="9546" stAng="10800000" swAng="-2692320"/>
                <a:lnTo>
                  <a:pt x="12836" y="20779"/>
                </a:lnTo>
                <a:lnTo>
                  <a:pt x="21600" y="19520"/>
                </a:lnTo>
                <a:lnTo>
                  <a:pt x="12836" y="16619"/>
                </a:lnTo>
                <a:lnTo>
                  <a:pt x="12836" y="18271"/>
                </a:lnTo>
                <a:arcTo wR="21600" hR="9546" stAng="8107680" swAng="2624142"/>
                <a:lnTo>
                  <a:pt x="22" y="9974"/>
                </a:lnTo>
                <a:arcTo wR="21600" hR="9546" stAng="-10731822" swAng="5331822"/>
                <a:close/>
              </a:path>
              <a:path fill="darkenLess" w="21600" h="21600">
                <a:moveTo>
                  <a:pt x="21600" y="0"/>
                </a:moveTo>
                <a:arcTo wR="21600" hR="9546" stAng="-5400000" swAng="-5400000"/>
                <a:lnTo>
                  <a:pt x="0" y="9546"/>
                </a:lnTo>
                <a:arcTo wR="21600" hR="9546" stAng="10800000" swAng="-68178"/>
                <a:lnTo>
                  <a:pt x="22" y="9974"/>
                </a:lnTo>
                <a:arcTo wR="21600" hR="9546" stAng="-10731822" swAng="5331822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Выгнутая влево стрелка 30"/>
          <p:cNvSpPr/>
          <p:nvPr/>
        </p:nvSpPr>
        <p:spPr>
          <a:xfrm rot="10596600">
            <a:off x="5825880" y="2880"/>
            <a:ext cx="1504800" cy="3456000"/>
          </a:xfrm>
          <a:custGeom>
            <a:avLst/>
            <a:gdLst>
              <a:gd name="textAreaLeft" fmla="*/ 201600 w 1504800"/>
              <a:gd name="textAreaRight" fmla="*/ 1303200 w 1504800"/>
              <a:gd name="textAreaTop" fmla="*/ 751680 h 3456000"/>
              <a:gd name="textAreaBottom" fmla="*/ 240876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96" stAng="-5400000" swAng="-5400000"/>
                <a:lnTo>
                  <a:pt x="0" y="10356"/>
                </a:lnTo>
                <a:arcTo wR="21600" hR="9396" stAng="10800000" swAng="-2665008"/>
                <a:lnTo>
                  <a:pt x="12836" y="20792"/>
                </a:lnTo>
                <a:lnTo>
                  <a:pt x="21600" y="19271"/>
                </a:lnTo>
                <a:lnTo>
                  <a:pt x="12836" y="16134"/>
                </a:lnTo>
                <a:lnTo>
                  <a:pt x="12836" y="17983"/>
                </a:lnTo>
                <a:arcTo wR="21600" hR="9396" stAng="8134992" swAng="2588526"/>
                <a:lnTo>
                  <a:pt x="28" y="9875"/>
                </a:lnTo>
                <a:arcTo wR="21600" hR="9396" stAng="-10723518" swAng="5323518"/>
                <a:close/>
              </a:path>
              <a:path fill="darkenLess" w="21600" h="21600">
                <a:moveTo>
                  <a:pt x="21600" y="0"/>
                </a:moveTo>
                <a:arcTo wR="21600" hR="9396" stAng="-5400000" swAng="-5400000"/>
                <a:lnTo>
                  <a:pt x="0" y="9396"/>
                </a:lnTo>
                <a:arcTo wR="21600" hR="9396" stAng="10800000" swAng="-76482"/>
                <a:lnTo>
                  <a:pt x="28" y="9875"/>
                </a:lnTo>
                <a:arcTo wR="21600" hR="9396" stAng="-10723518" swAng="5323518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01:56Z</dcterms:created>
  <dc:creator>Александр Сергевич</dc:creator>
  <dc:description/>
  <dc:language>en-US</dc:language>
  <cp:lastModifiedBy>13</cp:lastModifiedBy>
  <dcterms:modified xsi:type="dcterms:W3CDTF">2014-01-30T15:28:08Z</dcterms:modified>
  <cp:revision>75</cp:revision>
  <dc:subject/>
  <dc:title>Слайд 1</dc:title>
</cp:coreProperties>
</file>