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jpeg" ContentType="image/jpeg"/>
  <Override PartName="/ppt/media/image36.png" ContentType="image/png"/>
  <Override PartName="/ppt/media/image9.jpeg" ContentType="image/jpeg"/>
  <Override PartName="/ppt/media/image11.png" ContentType="image/png"/>
  <Override PartName="/ppt/media/image4.jpeg" ContentType="image/jpeg"/>
  <Override PartName="/ppt/media/image14.png" ContentType="image/png"/>
  <Override PartName="/ppt/media/image2.png" ContentType="image/png"/>
  <Override PartName="/ppt/media/image25.png" ContentType="image/png"/>
  <Override PartName="/ppt/media/image59.png" ContentType="image/png"/>
  <Override PartName="/ppt/media/image24.jpeg" ContentType="image/jpeg"/>
  <Override PartName="/ppt/media/image3.jpeg" ContentType="image/jpeg"/>
  <Override PartName="/ppt/media/image60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27.png" ContentType="image/png"/>
  <Override PartName="/ppt/media/image33.jpeg" ContentType="image/jpeg"/>
  <Override PartName="/ppt/media/image42.png" ContentType="image/png"/>
  <Override PartName="/ppt/media/image26.jpeg" ContentType="image/jpeg"/>
  <Override PartName="/ppt/media/image23.jpeg" ContentType="image/jpeg"/>
  <Override PartName="/ppt/media/image12.png" ContentType="image/png"/>
  <Override PartName="/ppt/media/image49.jpeg" ContentType="image/jpeg"/>
  <Override PartName="/ppt/media/image16.png" ContentType="image/png"/>
  <Override PartName="/ppt/media/image21.jpeg" ContentType="image/jpeg"/>
  <Override PartName="/ppt/media/image32.jpeg" ContentType="image/jpeg"/>
  <Override PartName="/ppt/media/image51.jpeg" ContentType="image/jpeg"/>
  <Override PartName="/ppt/media/image28.jpeg" ContentType="image/jpeg"/>
  <Override PartName="/ppt/media/image6.png" ContentType="image/png"/>
  <Override PartName="/ppt/media/image18.png" ContentType="image/png"/>
  <Override PartName="/ppt/media/image20.png" ContentType="image/png"/>
  <Override PartName="/ppt/media/image22.jpeg" ContentType="image/jpeg"/>
  <Override PartName="/ppt/media/image39.png" ContentType="image/png"/>
  <Override PartName="/ppt/media/image61.wmf" ContentType="image/x-wmf"/>
  <Override PartName="/ppt/media/image19.png" ContentType="image/png"/>
  <Override PartName="/ppt/media/image7.png" ContentType="image/png"/>
  <Override PartName="/ppt/media/image58.wmf" ContentType="image/x-wmf"/>
  <Override PartName="/ppt/media/image34.jpeg" ContentType="image/jpeg"/>
  <Override PartName="/ppt/media/image37.png" ContentType="image/png"/>
  <Override PartName="/ppt/media/image29.jpeg" ContentType="image/jpeg"/>
  <Override PartName="/ppt/media/image17.png" ContentType="image/png"/>
  <Override PartName="/ppt/media/image5.png" ContentType="image/png"/>
  <Override PartName="/ppt/media/image35.png" ContentType="image/png"/>
  <Override PartName="/ppt/media/image8.jpeg" ContentType="image/jpeg"/>
  <Override PartName="/ppt/media/image38.png" ContentType="image/png"/>
  <Override PartName="/ppt/media/image52.jpeg" ContentType="image/jpeg"/>
  <Override PartName="/ppt/media/image13.png" ContentType="image/png"/>
  <Override PartName="/ppt/media/image54.jpeg" ContentType="image/jpeg"/>
  <Override PartName="/ppt/media/image30.jpeg" ContentType="image/jpeg"/>
  <Override PartName="/ppt/media/image31.jpeg" ContentType="image/jpeg"/>
  <Override PartName="/ppt/media/image40.jpeg" ContentType="image/jpeg"/>
  <Override PartName="/ppt/media/image44.png" ContentType="image/png"/>
  <Override PartName="/ppt/media/image41.gif" ContentType="image/gif"/>
  <Override PartName="/ppt/media/image57.jpeg" ContentType="image/jpeg"/>
  <Override PartName="/ppt/media/image55.jpeg" ContentType="image/jpeg"/>
  <Override PartName="/ppt/media/image43.png" ContentType="image/png"/>
  <Override PartName="/ppt/media/image4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media/image5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CA35-994A-43A3-8F75-C88479F543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97DF-01CC-4534-9CC5-D37FD3F447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304B-51D3-461F-BDB8-43E793C0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0047-5B77-4287-8648-F773FA42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13FC-A128-45CB-81C5-712ECD68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CE4C-2876-48E9-BBFA-8961D8BA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633B-6888-4C32-B847-AD9ED209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B1A3-829C-4819-A5E2-FB0E60EA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8021-A4CB-4286-B992-596402C2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53D3-8C67-4DD5-A48E-065493E1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57F1-A5C3-40FE-96AD-666B9C97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F4E5-8960-4124-BEA1-2C8B81B5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01E0-EC81-4EA4-97E3-D6C0718E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B88F-5492-4EF7-A6D0-5481ECD6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28A7-2989-4627-A39D-EB874DA7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778D-A481-45AE-BF02-60794237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9915-F1F0-4F50-9439-8CD5B670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76F2-7479-4281-8E7D-C2859D35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C779-0165-4A9A-BBBE-F14D1E2A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D324-B136-4BAB-B14E-42B00420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D414-8D2D-48DB-8374-F7B250B4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B7D7-6001-4E82-8E3E-BFFAC515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9F4E-922C-44BF-84F3-676E487A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90A1-079A-42C9-8EF0-788C5513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4DA1-BFBF-4938-9EC0-05F3E93A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4DA5-A317-4319-A87F-7F43696A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DFAE-EAD7-4CC7-9B16-DD207F765BB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86B6-1F42-4BBB-85F4-D7D8EDF5159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hyperlink" Target="http://images.google.ru/imgres?imgurl=http://foto.rambler.ru/public/s/i/silverchinchilla/_photos/9/1-web.jpg&amp;imgrefurl=http://foto.rambler.ru/users/silverchinchilla/_photos/&amp;h=375&amp;w=500&amp;sz=50&amp;hl=ru&amp;start=24&amp;tbnid=YhjVyxPLbxXIDM:&amp;tbnh=98&amp;tbnw=130&amp;prev=/images%3Fq%3D%25D1%2585%25D1%2580%25D0%25B8%25D0%25B7%25D0%25B0%25D0%25BD%25D1%2582%25D0%25B5%25D0%25BC%25D0%25B0%26start%3D20%26ndsp%3D20%26svnum%3D10%26hl%3Dru%26newwindow%3D1%26sa%3DN" TargetMode="External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30.jpe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image" Target="../media/image6.png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7.xml"/><Relationship Id="rId10" Type="http://schemas.openxmlformats.org/officeDocument/2006/relationships/image" Target="../media/image7.png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image" Target="../media/image8.jpeg"/><Relationship Id="rId16" Type="http://schemas.openxmlformats.org/officeDocument/2006/relationships/image" Target="../media/image8.jpeg"/><Relationship Id="rId17" Type="http://schemas.openxmlformats.org/officeDocument/2006/relationships/image" Target="../media/image8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foto.rambler.ru/public/b/e/beres_ta/10/P6282105/P6282105-web.jpg&amp;imgrefurl=http://foto.rambler.ru/users/beres_ta/10/%3Fp%3D2&amp;h=500&amp;w=375&amp;sz=35&amp;hl=ru&amp;start=20&amp;tbnid=7qsG5GkNDDiOeM:&amp;tbnh=130&amp;tbnw=98&amp;prev=/images%3Fq%3D%25D0%25BA%25D0%25BE%25D0%25BB%25D0%25BE%25D0%25BA%25D0%25BE%25D0%25BB%25D1%258C%25D1%2587%25D0%25B8%25D0%25BA%26svnum%3D10%26hl%3Dru%26newwindow%3D1%26sa%3D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Учебный проект</a:t>
            </a:r>
            <a:br>
              <a:rPr sz="3600"/>
            </a:br>
            <a:r>
              <a:rPr b="1" i="1" lang="en-US" sz="4200" spc="-1" strike="noStrike">
                <a:solidFill>
                  <a:srgbClr val="006633"/>
                </a:solidFill>
                <a:latin typeface="Arial"/>
              </a:rPr>
              <a:t>Вездесущая симметрия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6200" y="1625760"/>
            <a:ext cx="44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33"/>
                </a:solidFill>
                <a:latin typeface="Arial"/>
              </a:rPr>
              <a:t>Руководитель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33"/>
                </a:solidFill>
                <a:latin typeface="Arial"/>
              </a:rPr>
              <a:t>Колина Любовь Петровна учитель математики УКП при МБОУ СОШ №11 П.Новый Ург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08400" y="4508640"/>
            <a:ext cx="40356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33"/>
                </a:solidFill>
                <a:latin typeface="Arial"/>
              </a:rPr>
              <a:t>Выполнили: Канчер Евгения, Погадаева Людмила  учащиеся 12 класса УКП при МБОУ СОШ №11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44800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6600"/>
                </a:solidFill>
                <a:latin typeface="Arial"/>
                <a:ea typeface="Times New Roman"/>
              </a:rPr>
              <a:t>Зеркальная симметрия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6633"/>
                </a:solidFill>
                <a:latin typeface="Arial"/>
                <a:ea typeface="Times New Roman"/>
              </a:rPr>
              <a:t>отображение пространства на себя, при котором любая точка переходит в симметричную ей точку, </a:t>
            </a:r>
            <a:r>
              <a:rPr b="1" i="1" lang="en-US" sz="2800" spc="-1" strike="noStrike">
                <a:solidFill>
                  <a:srgbClr val="996600"/>
                </a:solidFill>
                <a:latin typeface="Arial"/>
                <a:ea typeface="Times New Roman"/>
              </a:rPr>
              <a:t>относительно плоскости а.</a:t>
            </a:r>
            <a:br>
              <a:rPr sz="4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1" name="Рисунок 2" descr="http://www.novgorod.fio.ru/projects/Project137/myweb2/s2a.jpg"/>
          <p:cNvPicPr/>
          <p:nvPr/>
        </p:nvPicPr>
        <p:blipFill>
          <a:blip r:embed="rId2"/>
          <a:stretch/>
        </p:blipFill>
        <p:spPr>
          <a:xfrm>
            <a:off x="2484360" y="2492280"/>
            <a:ext cx="4319640" cy="75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57168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6600"/>
                </a:solidFill>
                <a:latin typeface="Arial"/>
                <a:ea typeface="Times New Roman"/>
              </a:rPr>
              <a:t>Поворотная симметрия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006633"/>
                </a:solidFill>
                <a:latin typeface="Arial"/>
                <a:ea typeface="Times New Roman"/>
              </a:rPr>
              <a:t>- это такая симметрия при которой объект совмещается сам с собой при повороте вокруг некоторой оси на угол, равный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96600"/>
                </a:solidFill>
                <a:latin typeface="Garamond"/>
                <a:ea typeface="Times New Roman"/>
              </a:rPr>
              <a:t>360°/n, где n = 2,3,4...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Times New Roman"/>
              </a:rPr>
              <a:t> </a:t>
            </a:r>
            <a:br>
              <a:rPr sz="60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3" name="Содержимое 3" descr="http://www.novgorod.fio.ru/projects/Project137/s44.jpg"/>
          <p:cNvPicPr/>
          <p:nvPr/>
        </p:nvPicPr>
        <p:blipFill>
          <a:blip r:embed="rId2"/>
          <a:stretch/>
        </p:blipFill>
        <p:spPr>
          <a:xfrm>
            <a:off x="900000" y="2421000"/>
            <a:ext cx="2468520" cy="42418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4" descr="http://www.novgorod.fio.ru/projects/Project137/s43.jpg"/>
          <p:cNvPicPr/>
          <p:nvPr/>
        </p:nvPicPr>
        <p:blipFill>
          <a:blip r:embed="rId3"/>
          <a:stretch/>
        </p:blipFill>
        <p:spPr>
          <a:xfrm>
            <a:off x="2916360" y="4221000"/>
            <a:ext cx="2608200" cy="42418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5" descr="http://www.novgorod.fio.ru/projects/Project137/s41.jpg"/>
          <p:cNvPicPr/>
          <p:nvPr/>
        </p:nvPicPr>
        <p:blipFill>
          <a:blip r:embed="rId4"/>
          <a:stretch/>
        </p:blipFill>
        <p:spPr>
          <a:xfrm>
            <a:off x="5076720" y="2421000"/>
            <a:ext cx="275616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214200" y="285840"/>
            <a:ext cx="8318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33"/>
                </a:solidFill>
                <a:latin typeface="Garamond"/>
              </a:rPr>
              <a:t>Симметрия в мире  живых орган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Группа 25"/>
          <p:cNvGrpSpPr/>
          <p:nvPr/>
        </p:nvGrpSpPr>
        <p:grpSpPr>
          <a:xfrm>
            <a:off x="1187280" y="1052640"/>
            <a:ext cx="6215400" cy="4062240"/>
            <a:chOff x="1187280" y="1052640"/>
            <a:chExt cx="6215400" cy="4062240"/>
          </a:xfrm>
        </p:grpSpPr>
        <p:sp>
          <p:nvSpPr>
            <p:cNvPr id="168" name="Полилиния 10"/>
            <p:cNvSpPr/>
            <p:nvPr/>
          </p:nvSpPr>
          <p:spPr>
            <a:xfrm>
              <a:off x="4402800" y="2121480"/>
              <a:ext cx="195480" cy="236160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2361600"/>
                <a:gd name="textAreaBottom" fmla="*/ 2361960 h 2361600"/>
              </a:gdLst>
              <a:ahLst/>
              <a:rect l="textAreaLeft" t="textAreaTop" r="textAreaRight" b="textAreaBottom"/>
              <a:pathLst>
                <a:path w="199869" h="2431084">
                  <a:moveTo>
                    <a:pt x="0" y="0"/>
                  </a:moveTo>
                  <a:lnTo>
                    <a:pt x="0" y="2431084"/>
                  </a:lnTo>
                  <a:lnTo>
                    <a:pt x="199869" y="2431084"/>
                  </a:lnTo>
                </a:path>
              </a:pathLst>
            </a:custGeom>
            <a:noFill/>
            <a:ln w="25560">
              <a:solidFill>
                <a:srgbClr val="a27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Полилиния 11"/>
            <p:cNvSpPr/>
            <p:nvPr/>
          </p:nvSpPr>
          <p:spPr>
            <a:xfrm>
              <a:off x="4185360" y="2121480"/>
              <a:ext cx="217440" cy="240372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403720"/>
                <a:gd name="textAreaBottom" fmla="*/ 2404080 h 2403720"/>
              </a:gdLst>
              <a:ahLst/>
              <a:rect l="textAreaLeft" t="textAreaTop" r="textAreaRight" b="textAreaBottom"/>
              <a:pathLst>
                <a:path w="222076" h="2474569">
                  <a:moveTo>
                    <a:pt x="222076" y="0"/>
                  </a:moveTo>
                  <a:lnTo>
                    <a:pt x="222076" y="2474569"/>
                  </a:lnTo>
                  <a:lnTo>
                    <a:pt x="0" y="2474569"/>
                  </a:lnTo>
                </a:path>
              </a:pathLst>
            </a:custGeom>
            <a:noFill/>
            <a:ln w="25560">
              <a:solidFill>
                <a:srgbClr val="a27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Полилиния 12"/>
            <p:cNvSpPr/>
            <p:nvPr/>
          </p:nvSpPr>
          <p:spPr>
            <a:xfrm>
              <a:off x="4402800" y="2121480"/>
              <a:ext cx="217440" cy="94500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945000"/>
                <a:gd name="textAreaBottom" fmla="*/ 945360 h 945000"/>
              </a:gdLst>
              <a:ahLst/>
              <a:rect l="textAreaLeft" t="textAreaTop" r="textAreaRight" b="textAreaBottom"/>
              <a:pathLst>
                <a:path w="222076" h="972907">
                  <a:moveTo>
                    <a:pt x="0" y="0"/>
                  </a:moveTo>
                  <a:lnTo>
                    <a:pt x="0" y="972907"/>
                  </a:lnTo>
                  <a:lnTo>
                    <a:pt x="222076" y="972907"/>
                  </a:lnTo>
                </a:path>
              </a:pathLst>
            </a:custGeom>
            <a:noFill/>
            <a:ln w="25560">
              <a:solidFill>
                <a:srgbClr val="a27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Полилиния 13"/>
            <p:cNvSpPr/>
            <p:nvPr/>
          </p:nvSpPr>
          <p:spPr>
            <a:xfrm>
              <a:off x="4185360" y="2121480"/>
              <a:ext cx="217440" cy="94500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945000"/>
                <a:gd name="textAreaBottom" fmla="*/ 945360 h 945000"/>
              </a:gdLst>
              <a:ahLst/>
              <a:rect l="textAreaLeft" t="textAreaTop" r="textAreaRight" b="textAreaBottom"/>
              <a:pathLst>
                <a:path w="222076" h="972907">
                  <a:moveTo>
                    <a:pt x="222076" y="0"/>
                  </a:moveTo>
                  <a:lnTo>
                    <a:pt x="222076" y="972907"/>
                  </a:lnTo>
                  <a:lnTo>
                    <a:pt x="0" y="972907"/>
                  </a:lnTo>
                </a:path>
              </a:pathLst>
            </a:custGeom>
            <a:noFill/>
            <a:ln w="25560">
              <a:solidFill>
                <a:srgbClr val="a27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Полилиния 14"/>
            <p:cNvGrpSpPr/>
            <p:nvPr/>
          </p:nvGrpSpPr>
          <p:grpSpPr>
            <a:xfrm>
              <a:off x="2166480" y="1052640"/>
              <a:ext cx="4746600" cy="1142640"/>
              <a:chOff x="2166480" y="1052640"/>
              <a:chExt cx="4746600" cy="1142640"/>
            </a:xfrm>
          </p:grpSpPr>
          <p:pic>
            <p:nvPicPr>
              <p:cNvPr id="173" name="Полилиния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66480" y="1052640"/>
                <a:ext cx="4746600" cy="11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2233800" y="1092600"/>
                <a:ext cx="4618080" cy="102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840" rIns="15840" tIns="15840" bIns="158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89"/>
                  </a:spcAft>
                  <a:tabLst>
                    <a:tab algn="l" pos="0"/>
                    <a:tab algn="l" pos="1111320"/>
                    <a:tab algn="l" pos="2222640"/>
                    <a:tab algn="l" pos="3333600"/>
                    <a:tab algn="l" pos="4444920"/>
                    <a:tab algn="l" pos="5556240"/>
                    <a:tab algn="l" pos="6667560"/>
                    <a:tab algn="l" pos="7778880"/>
                    <a:tab algn="l" pos="8889840"/>
                    <a:tab algn="l" pos="10001160"/>
                  </a:tabLst>
                </a:pPr>
                <a:r>
                  <a:rPr b="1" i="1" lang="en-US" sz="2500" spc="-1" strike="noStrike">
                    <a:solidFill>
                      <a:srgbClr val="006633"/>
                    </a:solidFill>
                    <a:latin typeface="Arial"/>
                  </a:rPr>
                  <a:t>Симметрия в мире растений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Полилиния 15"/>
            <p:cNvGrpSpPr/>
            <p:nvPr/>
          </p:nvGrpSpPr>
          <p:grpSpPr>
            <a:xfrm>
              <a:off x="1187280" y="2509200"/>
              <a:ext cx="3057120" cy="1148760"/>
              <a:chOff x="1187280" y="2509200"/>
              <a:chExt cx="3057120" cy="1148760"/>
            </a:xfrm>
          </p:grpSpPr>
          <p:pic>
            <p:nvPicPr>
              <p:cNvPr id="176" name="Полилиния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1187280" y="2509200"/>
                <a:ext cx="3057120" cy="114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>
                <a:off x="1254240" y="2552760"/>
                <a:ext cx="29314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840" rIns="15840" tIns="15840" bIns="158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89"/>
                  </a:spcAft>
                  <a:tabLst>
                    <a:tab algn="l" pos="0"/>
                    <a:tab algn="l" pos="1111320"/>
                    <a:tab algn="l" pos="2222640"/>
                    <a:tab algn="l" pos="3333600"/>
                    <a:tab algn="l" pos="4444920"/>
                    <a:tab algn="l" pos="5556240"/>
                    <a:tab algn="l" pos="6667560"/>
                    <a:tab algn="l" pos="7778880"/>
                    <a:tab algn="l" pos="8889840"/>
                    <a:tab algn="l" pos="10001160"/>
                  </a:tabLst>
                </a:pPr>
                <a:r>
                  <a:rPr b="0" i="1" lang="en-US" sz="2500" spc="-1" strike="noStrike">
                    <a:solidFill>
                      <a:srgbClr val="006633"/>
                    </a:solidFill>
                    <a:latin typeface="Arial"/>
                  </a:rPr>
                  <a:t>Центральная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Полилиния 16"/>
            <p:cNvGrpSpPr/>
            <p:nvPr/>
          </p:nvGrpSpPr>
          <p:grpSpPr>
            <a:xfrm>
              <a:off x="4554720" y="2509200"/>
              <a:ext cx="2847960" cy="1148760"/>
              <a:chOff x="4554720" y="2509200"/>
              <a:chExt cx="2847960" cy="1148760"/>
            </a:xfrm>
          </p:grpSpPr>
          <p:pic>
            <p:nvPicPr>
              <p:cNvPr id="179" name="Полилиния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4554720" y="2509200"/>
                <a:ext cx="2847960" cy="114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>
                <a:off x="4620240" y="2552760"/>
                <a:ext cx="272124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840" rIns="15840" tIns="15840" bIns="158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89"/>
                  </a:spcAft>
                  <a:tabLst>
                    <a:tab algn="l" pos="0"/>
                    <a:tab algn="l" pos="1111320"/>
                    <a:tab algn="l" pos="2222640"/>
                    <a:tab algn="l" pos="3333600"/>
                    <a:tab algn="l" pos="4444920"/>
                    <a:tab algn="l" pos="5556240"/>
                    <a:tab algn="l" pos="6667560"/>
                    <a:tab algn="l" pos="7778880"/>
                    <a:tab algn="l" pos="8889840"/>
                    <a:tab algn="l" pos="10001160"/>
                  </a:tabLst>
                </a:pPr>
                <a:r>
                  <a:rPr b="0" i="1" lang="en-US" sz="2500" spc="-1" strike="noStrike">
                    <a:solidFill>
                      <a:srgbClr val="006633"/>
                    </a:solidFill>
                    <a:latin typeface="Arial"/>
                  </a:rPr>
                  <a:t>Поворотная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Полилиния 17"/>
            <p:cNvGrpSpPr/>
            <p:nvPr/>
          </p:nvGrpSpPr>
          <p:grpSpPr>
            <a:xfrm>
              <a:off x="1187280" y="3972240"/>
              <a:ext cx="3057120" cy="1142640"/>
              <a:chOff x="1187280" y="3972240"/>
              <a:chExt cx="3057120" cy="1142640"/>
            </a:xfrm>
          </p:grpSpPr>
          <p:pic>
            <p:nvPicPr>
              <p:cNvPr id="182" name="Полилиния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187280" y="3972240"/>
                <a:ext cx="3057120" cy="11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1254240" y="4011840"/>
                <a:ext cx="2931480" cy="102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840" rIns="15840" tIns="15840" bIns="158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89"/>
                  </a:spcAft>
                  <a:tabLst>
                    <a:tab algn="l" pos="0"/>
                    <a:tab algn="l" pos="1111320"/>
                    <a:tab algn="l" pos="2222640"/>
                    <a:tab algn="l" pos="3333600"/>
                    <a:tab algn="l" pos="4444920"/>
                    <a:tab algn="l" pos="5556240"/>
                    <a:tab algn="l" pos="6667560"/>
                    <a:tab algn="l" pos="7778880"/>
                    <a:tab algn="l" pos="8889840"/>
                    <a:tab algn="l" pos="10001160"/>
                  </a:tabLst>
                </a:pPr>
                <a:r>
                  <a:rPr b="0" i="1" lang="en-US" sz="2500" spc="-1" strike="noStrike">
                    <a:solidFill>
                      <a:srgbClr val="006633"/>
                    </a:solidFill>
                    <a:latin typeface="Arial"/>
                  </a:rPr>
                  <a:t>Переносная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Полилиния 18"/>
            <p:cNvGrpSpPr/>
            <p:nvPr/>
          </p:nvGrpSpPr>
          <p:grpSpPr>
            <a:xfrm>
              <a:off x="4530960" y="3930480"/>
              <a:ext cx="2871720" cy="1142640"/>
              <a:chOff x="4530960" y="3930480"/>
              <a:chExt cx="2871720" cy="1142640"/>
            </a:xfrm>
          </p:grpSpPr>
          <p:pic>
            <p:nvPicPr>
              <p:cNvPr id="185" name="Полилиния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4530960" y="3930480"/>
                <a:ext cx="2871720" cy="11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"/>
              <p:cNvSpPr/>
              <p:nvPr/>
            </p:nvSpPr>
            <p:spPr>
              <a:xfrm>
                <a:off x="4598640" y="3969360"/>
                <a:ext cx="2742840" cy="102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840" rIns="15840" tIns="15840" bIns="158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89"/>
                  </a:spcAft>
                  <a:tabLst>
                    <a:tab algn="l" pos="0"/>
                    <a:tab algn="l" pos="1111320"/>
                    <a:tab algn="l" pos="2222640"/>
                    <a:tab algn="l" pos="3333600"/>
                    <a:tab algn="l" pos="4444920"/>
                    <a:tab algn="l" pos="5556240"/>
                    <a:tab algn="l" pos="6667560"/>
                    <a:tab algn="l" pos="7778880"/>
                    <a:tab algn="l" pos="8889840"/>
                    <a:tab algn="l" pos="10001160"/>
                  </a:tabLst>
                </a:pPr>
                <a:r>
                  <a:rPr b="0" i="1" lang="en-US" sz="2500" spc="-1" strike="noStrike">
                    <a:solidFill>
                      <a:srgbClr val="006633"/>
                    </a:solidFill>
                    <a:latin typeface="Arial"/>
                  </a:rPr>
                  <a:t>Зеркальная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7" name="Picture 11" descr="1-web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14200" y="1500120"/>
            <a:ext cx="1835280" cy="1382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папортник"/>
          <p:cNvPicPr/>
          <p:nvPr/>
        </p:nvPicPr>
        <p:blipFill>
          <a:blip r:embed="rId9"/>
          <a:stretch/>
        </p:blipFill>
        <p:spPr>
          <a:xfrm>
            <a:off x="179280" y="479736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S00024I"/>
          <p:cNvPicPr/>
          <p:nvPr/>
        </p:nvPicPr>
        <p:blipFill>
          <a:blip r:embed="rId10"/>
          <a:stretch/>
        </p:blipFill>
        <p:spPr>
          <a:xfrm>
            <a:off x="7020000" y="4653000"/>
            <a:ext cx="1825560" cy="1317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efi00109s"/>
          <p:cNvPicPr/>
          <p:nvPr/>
        </p:nvPicPr>
        <p:blipFill>
          <a:blip r:embed="rId11"/>
          <a:stretch/>
        </p:blipFill>
        <p:spPr>
          <a:xfrm>
            <a:off x="7072200" y="1571760"/>
            <a:ext cx="1643040" cy="140004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27"/>
          <p:cNvSpPr/>
          <p:nvPr/>
        </p:nvSpPr>
        <p:spPr>
          <a:xfrm>
            <a:off x="2928960" y="5357880"/>
            <a:ext cx="3429000" cy="1000080"/>
          </a:xfrm>
          <a:prstGeom prst="rect">
            <a:avLst/>
          </a:prstGeom>
          <a:gradFill rotWithShape="0">
            <a:gsLst>
              <a:gs pos="0">
                <a:srgbClr val="b3dcaf"/>
              </a:gs>
              <a:gs pos="100000">
                <a:srgbClr val="ebf6ea"/>
              </a:gs>
            </a:gsLst>
            <a:lin ang="16200000"/>
          </a:gradFill>
          <a:ln w="9360">
            <a:solidFill>
              <a:srgbClr val="38802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6633"/>
                </a:solidFill>
                <a:latin typeface="Arial"/>
              </a:rPr>
              <a:t>Скользящ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6" descr="Картинка 17 из 19"/>
          <p:cNvPicPr/>
          <p:nvPr/>
        </p:nvPicPr>
        <p:blipFill>
          <a:blip r:embed="rId12"/>
          <a:stretch/>
        </p:blipFill>
        <p:spPr>
          <a:xfrm rot="3564600">
            <a:off x="2353320" y="5286600"/>
            <a:ext cx="12430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0246"/>
          <p:cNvPicPr/>
          <p:nvPr/>
        </p:nvPicPr>
        <p:blipFill>
          <a:blip r:embed="rId2"/>
          <a:stretch/>
        </p:blipFill>
        <p:spPr>
          <a:xfrm>
            <a:off x="7308720" y="1700280"/>
            <a:ext cx="1654200" cy="1285920"/>
          </a:xfrm>
          <a:prstGeom prst="rect">
            <a:avLst/>
          </a:prstGeom>
          <a:ln w="28440">
            <a:solidFill>
              <a:srgbClr val="cc9900"/>
            </a:solidFill>
            <a:miter/>
          </a:ln>
        </p:spPr>
      </p:pic>
      <p:pic>
        <p:nvPicPr>
          <p:cNvPr id="194" name="Picture 6" descr=""/>
          <p:cNvPicPr/>
          <p:nvPr/>
        </p:nvPicPr>
        <p:blipFill>
          <a:blip r:embed="rId3"/>
          <a:stretch/>
        </p:blipFill>
        <p:spPr>
          <a:xfrm>
            <a:off x="7132680" y="4664160"/>
            <a:ext cx="1785960" cy="1390680"/>
          </a:xfrm>
          <a:prstGeom prst="rect">
            <a:avLst/>
          </a:prstGeom>
          <a:ln w="0">
            <a:noFill/>
          </a:ln>
        </p:spPr>
      </p:pic>
      <p:grpSp>
        <p:nvGrpSpPr>
          <p:cNvPr id="195" name="Группа 22"/>
          <p:cNvGrpSpPr/>
          <p:nvPr/>
        </p:nvGrpSpPr>
        <p:grpSpPr>
          <a:xfrm>
            <a:off x="214200" y="1071720"/>
            <a:ext cx="7215480" cy="5000400"/>
            <a:chOff x="214200" y="1071720"/>
            <a:chExt cx="7215480" cy="5000400"/>
          </a:xfrm>
        </p:grpSpPr>
        <p:pic>
          <p:nvPicPr>
            <p:cNvPr id="196" name="Picture 4" descr="0237"/>
            <p:cNvPicPr/>
            <p:nvPr/>
          </p:nvPicPr>
          <p:blipFill>
            <a:blip r:embed="rId4"/>
            <a:stretch/>
          </p:blipFill>
          <p:spPr>
            <a:xfrm>
              <a:off x="214200" y="4867920"/>
              <a:ext cx="1804680" cy="1204200"/>
            </a:xfrm>
            <a:prstGeom prst="rect">
              <a:avLst/>
            </a:prstGeom>
            <a:ln w="28440">
              <a:solidFill>
                <a:srgbClr val="cc9900"/>
              </a:solidFill>
              <a:miter/>
            </a:ln>
          </p:spPr>
        </p:pic>
        <p:pic>
          <p:nvPicPr>
            <p:cNvPr id="197" name="Picture 2" descr="Картинка 119 из 2395"/>
            <p:cNvPicPr/>
            <p:nvPr/>
          </p:nvPicPr>
          <p:blipFill>
            <a:blip r:embed="rId5"/>
            <a:stretch/>
          </p:blipFill>
          <p:spPr>
            <a:xfrm>
              <a:off x="284760" y="1891800"/>
              <a:ext cx="1580040" cy="11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Полилиния 8"/>
            <p:cNvSpPr/>
            <p:nvPr/>
          </p:nvSpPr>
          <p:spPr>
            <a:xfrm>
              <a:off x="4393080" y="2162880"/>
              <a:ext cx="198000" cy="24109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2410920"/>
                <a:gd name="textAreaBottom" fmla="*/ 2411280 h 2410920"/>
              </a:gdLst>
              <a:ahLst/>
              <a:rect l="textAreaLeft" t="textAreaTop" r="textAreaRight" b="textAreaBottom"/>
              <a:pathLst>
                <a:path w="199869" h="2431084">
                  <a:moveTo>
                    <a:pt x="0" y="0"/>
                  </a:moveTo>
                  <a:lnTo>
                    <a:pt x="0" y="2431084"/>
                  </a:lnTo>
                  <a:lnTo>
                    <a:pt x="199869" y="2431084"/>
                  </a:lnTo>
                </a:path>
              </a:pathLst>
            </a:custGeom>
            <a:noFill/>
            <a:ln w="25560">
              <a:solidFill>
                <a:srgbClr val="a27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Полилиния 9"/>
            <p:cNvSpPr/>
            <p:nvPr/>
          </p:nvSpPr>
          <p:spPr>
            <a:xfrm>
              <a:off x="4172760" y="2162880"/>
              <a:ext cx="219960" cy="245412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2454120"/>
                <a:gd name="textAreaBottom" fmla="*/ 2454480 h 2454120"/>
              </a:gdLst>
              <a:ahLst/>
              <a:rect l="textAreaLeft" t="textAreaTop" r="textAreaRight" b="textAreaBottom"/>
              <a:pathLst>
                <a:path w="222076" h="2474569">
                  <a:moveTo>
                    <a:pt x="222076" y="0"/>
                  </a:moveTo>
                  <a:lnTo>
                    <a:pt x="222076" y="2474569"/>
                  </a:lnTo>
                  <a:lnTo>
                    <a:pt x="0" y="2474569"/>
                  </a:lnTo>
                </a:path>
              </a:pathLst>
            </a:custGeom>
            <a:noFill/>
            <a:ln w="25560">
              <a:solidFill>
                <a:srgbClr val="a27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Полилиния 10"/>
            <p:cNvSpPr/>
            <p:nvPr/>
          </p:nvSpPr>
          <p:spPr>
            <a:xfrm>
              <a:off x="4393080" y="2162880"/>
              <a:ext cx="219960" cy="96480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964800"/>
                <a:gd name="textAreaBottom" fmla="*/ 965160 h 964800"/>
              </a:gdLst>
              <a:ahLst/>
              <a:rect l="textAreaLeft" t="textAreaTop" r="textAreaRight" b="textAreaBottom"/>
              <a:pathLst>
                <a:path w="222076" h="972907">
                  <a:moveTo>
                    <a:pt x="0" y="0"/>
                  </a:moveTo>
                  <a:lnTo>
                    <a:pt x="0" y="972907"/>
                  </a:lnTo>
                  <a:lnTo>
                    <a:pt x="222076" y="972907"/>
                  </a:lnTo>
                </a:path>
              </a:pathLst>
            </a:custGeom>
            <a:noFill/>
            <a:ln w="25560">
              <a:solidFill>
                <a:srgbClr val="a27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Полилиния 11"/>
            <p:cNvSpPr/>
            <p:nvPr/>
          </p:nvSpPr>
          <p:spPr>
            <a:xfrm>
              <a:off x="4172760" y="2162880"/>
              <a:ext cx="219960" cy="96480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964800"/>
                <a:gd name="textAreaBottom" fmla="*/ 965160 h 964800"/>
              </a:gdLst>
              <a:ahLst/>
              <a:rect l="textAreaLeft" t="textAreaTop" r="textAreaRight" b="textAreaBottom"/>
              <a:pathLst>
                <a:path w="222076" h="972907">
                  <a:moveTo>
                    <a:pt x="222076" y="0"/>
                  </a:moveTo>
                  <a:lnTo>
                    <a:pt x="222076" y="972907"/>
                  </a:lnTo>
                  <a:lnTo>
                    <a:pt x="0" y="972907"/>
                  </a:lnTo>
                </a:path>
              </a:pathLst>
            </a:custGeom>
            <a:noFill/>
            <a:ln w="25560">
              <a:solidFill>
                <a:srgbClr val="a27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Полилиния 12"/>
            <p:cNvGrpSpPr/>
            <p:nvPr/>
          </p:nvGrpSpPr>
          <p:grpSpPr>
            <a:xfrm>
              <a:off x="2129040" y="1071720"/>
              <a:ext cx="4804920" cy="1166760"/>
              <a:chOff x="2129040" y="1071720"/>
              <a:chExt cx="4804920" cy="1166760"/>
            </a:xfrm>
          </p:grpSpPr>
          <p:pic>
            <p:nvPicPr>
              <p:cNvPr id="203" name="Полилиния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2129040" y="1071720"/>
                <a:ext cx="4804920" cy="116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2197080" y="1112400"/>
                <a:ext cx="4674960" cy="10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840" rIns="15840" tIns="15840" bIns="158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89"/>
                  </a:spcAft>
                  <a:tabLst>
                    <a:tab algn="l" pos="0"/>
                    <a:tab algn="l" pos="1111320"/>
                    <a:tab algn="l" pos="2222640"/>
                    <a:tab algn="l" pos="3333600"/>
                    <a:tab algn="l" pos="4444920"/>
                    <a:tab algn="l" pos="5556240"/>
                    <a:tab algn="l" pos="6667560"/>
                    <a:tab algn="l" pos="7778880"/>
                    <a:tab algn="l" pos="8889840"/>
                    <a:tab algn="l" pos="10001160"/>
                  </a:tabLst>
                </a:pPr>
                <a:r>
                  <a:rPr b="1" i="1" lang="en-US" sz="2500" spc="-1" strike="noStrike">
                    <a:solidFill>
                      <a:srgbClr val="006633"/>
                    </a:solidFill>
                    <a:latin typeface="Arial"/>
                  </a:rPr>
                  <a:t>Симметрия в животном мире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Полилиния 13"/>
            <p:cNvGrpSpPr/>
            <p:nvPr/>
          </p:nvGrpSpPr>
          <p:grpSpPr>
            <a:xfrm>
              <a:off x="1137960" y="2558880"/>
              <a:ext cx="3094560" cy="1172880"/>
              <a:chOff x="1137960" y="2558880"/>
              <a:chExt cx="3094560" cy="1172880"/>
            </a:xfrm>
          </p:grpSpPr>
          <p:pic>
            <p:nvPicPr>
              <p:cNvPr id="206" name="Полилиния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1137960" y="2558880"/>
                <a:ext cx="3094560" cy="117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1205640" y="2603160"/>
                <a:ext cx="2967120" cy="10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840" rIns="15840" tIns="15840" bIns="158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111320"/>
                    <a:tab algn="l" pos="2222640"/>
                    <a:tab algn="l" pos="3333600"/>
                    <a:tab algn="l" pos="4444920"/>
                    <a:tab algn="l" pos="5556240"/>
                    <a:tab algn="l" pos="6667560"/>
                    <a:tab algn="l" pos="7778880"/>
                    <a:tab algn="l" pos="8889840"/>
                    <a:tab algn="l" pos="10001160"/>
                  </a:tabLst>
                </a:pPr>
                <a:r>
                  <a:rPr b="0" i="1" lang="en-US" sz="2400" spc="-1" strike="noStrike">
                    <a:solidFill>
                      <a:srgbClr val="006633"/>
                    </a:solidFill>
                    <a:latin typeface="Arial"/>
                  </a:rPr>
                  <a:t>Поворотна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Полилиния 14"/>
            <p:cNvGrpSpPr/>
            <p:nvPr/>
          </p:nvGrpSpPr>
          <p:grpSpPr>
            <a:xfrm>
              <a:off x="4546800" y="2558880"/>
              <a:ext cx="2882880" cy="1172880"/>
              <a:chOff x="4546800" y="2558880"/>
              <a:chExt cx="2882880" cy="1172880"/>
            </a:xfrm>
          </p:grpSpPr>
          <p:pic>
            <p:nvPicPr>
              <p:cNvPr id="209" name="Полилиния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4546800" y="2558880"/>
                <a:ext cx="2882880" cy="117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4613040" y="2603160"/>
                <a:ext cx="2754720" cy="10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840" rIns="15840" tIns="15840" bIns="158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111320"/>
                    <a:tab algn="l" pos="2222640"/>
                    <a:tab algn="l" pos="3333600"/>
                    <a:tab algn="l" pos="4444920"/>
                    <a:tab algn="l" pos="5556240"/>
                    <a:tab algn="l" pos="6667560"/>
                    <a:tab algn="l" pos="7778880"/>
                    <a:tab algn="l" pos="8889840"/>
                    <a:tab algn="l" pos="100011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111320"/>
                    <a:tab algn="l" pos="2222640"/>
                    <a:tab algn="l" pos="3333600"/>
                    <a:tab algn="l" pos="4444920"/>
                    <a:tab algn="l" pos="5556240"/>
                    <a:tab algn="l" pos="6667560"/>
                    <a:tab algn="l" pos="7778880"/>
                    <a:tab algn="l" pos="8889840"/>
                    <a:tab algn="l" pos="10001160"/>
                  </a:tabLst>
                </a:pPr>
                <a:r>
                  <a:rPr b="0" i="1" lang="en-US" sz="2400" spc="-1" strike="noStrike">
                    <a:solidFill>
                      <a:srgbClr val="006633"/>
                    </a:solidFill>
                    <a:latin typeface="Arial"/>
                  </a:rPr>
                  <a:t>Лучева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111320"/>
                    <a:tab algn="l" pos="2222640"/>
                    <a:tab algn="l" pos="3333600"/>
                    <a:tab algn="l" pos="4444920"/>
                    <a:tab algn="l" pos="5556240"/>
                    <a:tab algn="l" pos="6667560"/>
                    <a:tab algn="l" pos="7778880"/>
                    <a:tab algn="l" pos="8889840"/>
                    <a:tab algn="l" pos="100011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Полилиния 15"/>
            <p:cNvGrpSpPr/>
            <p:nvPr/>
          </p:nvGrpSpPr>
          <p:grpSpPr>
            <a:xfrm>
              <a:off x="1137960" y="4052160"/>
              <a:ext cx="3094560" cy="1166760"/>
              <a:chOff x="1137960" y="4052160"/>
              <a:chExt cx="3094560" cy="1166760"/>
            </a:xfrm>
          </p:grpSpPr>
          <p:pic>
            <p:nvPicPr>
              <p:cNvPr id="212" name="Полилиния 15" descr=""/>
              <p:cNvPicPr/>
              <p:nvPr/>
            </p:nvPicPr>
            <p:blipFill>
              <a:blip r:embed="rId9"/>
              <a:stretch/>
            </p:blipFill>
            <p:spPr>
              <a:xfrm>
                <a:off x="1137960" y="4052160"/>
                <a:ext cx="3094560" cy="116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1205640" y="4092480"/>
                <a:ext cx="2967120" cy="10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840" rIns="15840" tIns="15840" bIns="158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89"/>
                  </a:spcAft>
                  <a:tabLst>
                    <a:tab algn="l" pos="0"/>
                    <a:tab algn="l" pos="1111320"/>
                    <a:tab algn="l" pos="2222640"/>
                    <a:tab algn="l" pos="3333600"/>
                    <a:tab algn="l" pos="4444920"/>
                    <a:tab algn="l" pos="5556240"/>
                    <a:tab algn="l" pos="6667560"/>
                    <a:tab algn="l" pos="7778880"/>
                    <a:tab algn="l" pos="8889840"/>
                    <a:tab algn="l" pos="10001160"/>
                  </a:tabLst>
                </a:pPr>
                <a:r>
                  <a:rPr b="0" i="1" lang="en-US" sz="2500" spc="-1" strike="noStrike">
                    <a:solidFill>
                      <a:srgbClr val="006633"/>
                    </a:solidFill>
                    <a:latin typeface="Arial"/>
                  </a:rPr>
                  <a:t>Сферическая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Полилиния 16"/>
            <p:cNvGrpSpPr/>
            <p:nvPr/>
          </p:nvGrpSpPr>
          <p:grpSpPr>
            <a:xfrm>
              <a:off x="4522680" y="4010040"/>
              <a:ext cx="2907000" cy="1166760"/>
              <a:chOff x="4522680" y="4010040"/>
              <a:chExt cx="2907000" cy="1166760"/>
            </a:xfrm>
          </p:grpSpPr>
          <p:pic>
            <p:nvPicPr>
              <p:cNvPr id="215" name="Полилиния 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4522680" y="4010040"/>
                <a:ext cx="2907000" cy="116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"/>
              <p:cNvSpPr/>
              <p:nvPr/>
            </p:nvSpPr>
            <p:spPr>
              <a:xfrm>
                <a:off x="4591080" y="4049640"/>
                <a:ext cx="2776680" cy="10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840" rIns="15840" tIns="15840" bIns="158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89"/>
                  </a:spcAft>
                  <a:tabLst>
                    <a:tab algn="l" pos="0"/>
                    <a:tab algn="l" pos="1111320"/>
                    <a:tab algn="l" pos="2222640"/>
                    <a:tab algn="l" pos="3333600"/>
                    <a:tab algn="l" pos="4444920"/>
                    <a:tab algn="l" pos="5556240"/>
                    <a:tab algn="l" pos="6667560"/>
                    <a:tab algn="l" pos="7778880"/>
                    <a:tab algn="l" pos="8889840"/>
                    <a:tab algn="l" pos="10001160"/>
                  </a:tabLst>
                </a:pPr>
                <a:r>
                  <a:rPr b="0" i="1" lang="en-US" sz="2500" spc="-1" strike="noStrike">
                    <a:solidFill>
                      <a:srgbClr val="006633"/>
                    </a:solidFill>
                    <a:latin typeface="Arial"/>
                  </a:rPr>
                  <a:t>Зеркальная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Rectangle 2"/>
          <p:cNvSpPr/>
          <p:nvPr/>
        </p:nvSpPr>
        <p:spPr>
          <a:xfrm>
            <a:off x="395280" y="285840"/>
            <a:ext cx="82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33"/>
                </a:solidFill>
                <a:latin typeface="Garamond"/>
              </a:rPr>
              <a:t>Симметрия в мире  живых орган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3938"/>
          <p:cNvPicPr/>
          <p:nvPr/>
        </p:nvPicPr>
        <p:blipFill>
          <a:blip r:embed="rId11"/>
          <a:stretch/>
        </p:blipFill>
        <p:spPr>
          <a:xfrm>
            <a:off x="2987640" y="5084640"/>
            <a:ext cx="2736720" cy="1673280"/>
          </a:xfrm>
          <a:prstGeom prst="rect">
            <a:avLst/>
          </a:prstGeom>
          <a:ln w="2844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42960" y="1196640"/>
            <a:ext cx="7572240" cy="3375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С симметрией в природе мы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сталкиваемся ежедневно - это смена д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и ночи, смена времен года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пространственно-временная симметр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(неизменность действия законо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природы для всех моментов времен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755640" y="260280"/>
            <a:ext cx="73580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33"/>
                </a:solidFill>
                <a:latin typeface="Arial"/>
              </a:rPr>
              <a:t>Симметрия в природ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700360" y="4221000"/>
            <a:ext cx="331164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00040" y="642600"/>
            <a:ext cx="8229600" cy="142884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Каждая снежинка – это маленький кристал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замерзшей воды. Форма снежинок может быть очень разнообразной, но все они обладают зеркальной и поворотной симметрией 6-го по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http://www.o8ode.ru/image/gallery/17046/051207-o8ode-1.jpg"/>
          <p:cNvPicPr/>
          <p:nvPr/>
        </p:nvPicPr>
        <p:blipFill>
          <a:blip r:embed="rId2"/>
          <a:stretch/>
        </p:blipFill>
        <p:spPr>
          <a:xfrm>
            <a:off x="3132000" y="3213000"/>
            <a:ext cx="2449800" cy="2244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http://www.o8ode.ru/image/gallery/17046/prev150/051207-o8ode-95.jpg"/>
          <p:cNvPicPr/>
          <p:nvPr/>
        </p:nvPicPr>
        <p:blipFill>
          <a:blip r:embed="rId3"/>
          <a:stretch/>
        </p:blipFill>
        <p:spPr>
          <a:xfrm>
            <a:off x="5724360" y="3860640"/>
            <a:ext cx="2305080" cy="2238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http://elkin52.narod.ru/schar/kryg9_files/image012.jpg"/>
          <p:cNvPicPr/>
          <p:nvPr/>
        </p:nvPicPr>
        <p:blipFill>
          <a:blip r:embed="rId4"/>
          <a:stretch/>
        </p:blipFill>
        <p:spPr>
          <a:xfrm>
            <a:off x="611280" y="2637000"/>
            <a:ext cx="24494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33"/>
                </a:solidFill>
                <a:latin typeface="Arial"/>
              </a:rPr>
              <a:t>Во взаимноперпендикулярных плоскостях симметрич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33"/>
                </a:solidFill>
                <a:latin typeface="Arial"/>
              </a:rPr>
              <a:t>распространение электромагнитных вол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l_fi" descr="2-6-3"/>
          <p:cNvPicPr/>
          <p:nvPr/>
        </p:nvPicPr>
        <p:blipFill>
          <a:blip r:embed="rId2"/>
          <a:stretch/>
        </p:blipFill>
        <p:spPr>
          <a:xfrm>
            <a:off x="395280" y="2492280"/>
            <a:ext cx="2505240" cy="173052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2"/>
          <p:cNvSpPr/>
          <p:nvPr/>
        </p:nvSpPr>
        <p:spPr>
          <a:xfrm>
            <a:off x="714240" y="285840"/>
            <a:ext cx="7858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33"/>
                </a:solidFill>
                <a:latin typeface="Arial"/>
              </a:rPr>
              <a:t>Симметрия в физике, химии и биолог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img41"/>
          <p:cNvPicPr/>
          <p:nvPr/>
        </p:nvPicPr>
        <p:blipFill>
          <a:blip r:embed="rId3"/>
          <a:stretch/>
        </p:blipFill>
        <p:spPr>
          <a:xfrm>
            <a:off x="4284720" y="2421000"/>
            <a:ext cx="2657520" cy="1682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симм10"/>
          <p:cNvPicPr/>
          <p:nvPr/>
        </p:nvPicPr>
        <p:blipFill>
          <a:blip r:embed="rId4"/>
          <a:stretch/>
        </p:blipFill>
        <p:spPr>
          <a:xfrm>
            <a:off x="6300720" y="3933720"/>
            <a:ext cx="1938240" cy="2378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узор1"/>
          <p:cNvPicPr/>
          <p:nvPr/>
        </p:nvPicPr>
        <p:blipFill>
          <a:blip r:embed="rId5"/>
          <a:stretch/>
        </p:blipFill>
        <p:spPr>
          <a:xfrm>
            <a:off x="539640" y="4292640"/>
            <a:ext cx="1676520" cy="1585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"/>
          <p:cNvPicPr/>
          <p:nvPr/>
        </p:nvPicPr>
        <p:blipFill>
          <a:blip r:embed="rId6"/>
          <a:stretch/>
        </p:blipFill>
        <p:spPr>
          <a:xfrm>
            <a:off x="2484360" y="3389400"/>
            <a:ext cx="25542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54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В литературных произведениях существует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996600"/>
                </a:solidFill>
                <a:latin typeface="Arial"/>
                <a:ea typeface="Times New Roman"/>
              </a:rPr>
              <a:t>симметрия образов, положений, мышления.</a:t>
            </a:r>
            <a:r>
              <a:rPr b="0" i="1" lang="en-US" sz="2600" spc="-1" strike="noStrike">
                <a:solidFill>
                  <a:srgbClr val="660066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В греческой трагедии - виновный становится жертвой такого же преступл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  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В «Евгении Онегине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    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А.С. Пушкина мы наблюдаем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996600"/>
                </a:solidFill>
                <a:latin typeface="Arial"/>
                <a:ea typeface="Times New Roman"/>
              </a:rPr>
              <a:t>    </a:t>
            </a:r>
            <a:r>
              <a:rPr b="0" i="1" lang="en-US" sz="2600" spc="-1" strike="noStrike">
                <a:solidFill>
                  <a:srgbClr val="996600"/>
                </a:solidFill>
                <a:latin typeface="Arial"/>
                <a:ea typeface="Times New Roman"/>
              </a:rPr>
              <a:t>симметрию  положени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«Онегин, отвергнувши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    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когда-то любовь Татьяны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    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сам через несколько ле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    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вынужден испытыва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    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горечь отвергнутой любв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714240" y="285840"/>
            <a:ext cx="7858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</a:rPr>
              <a:t>Симметрия в музыке и литерату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580000" y="2852640"/>
            <a:ext cx="30625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500040" y="714240"/>
            <a:ext cx="8229600" cy="4429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  <a:ea typeface="Times New Roman"/>
              </a:rPr>
              <a:t>Буквы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  <a:ea typeface="Times New Roman"/>
              </a:rPr>
              <a:t> русского языка тоже можно рассмотреть с точки зрения симметрии.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6600"/>
                </a:solidFill>
                <a:latin typeface="Arial"/>
                <a:ea typeface="Times New Roman"/>
              </a:rPr>
              <a:t>Вертикальная ось симметрии: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  <a:ea typeface="Times New Roman"/>
              </a:rPr>
              <a:t>А; Д; Л; М; П; Т; Ф; Ш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6600"/>
                </a:solidFill>
                <a:latin typeface="Arial"/>
                <a:ea typeface="Times New Roman"/>
              </a:rPr>
              <a:t>Горизонтальная ось симметрии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  <a:ea typeface="Times New Roman"/>
              </a:rPr>
              <a:t>В; Е; З; К; С; Э; Ю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6600"/>
                </a:solidFill>
                <a:latin typeface="Arial"/>
                <a:ea typeface="Times New Roman"/>
              </a:rPr>
              <a:t>И вертикальные, и горизонтальные оси симметрии: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  <a:ea typeface="Times New Roman"/>
              </a:rPr>
              <a:t>Ж; Н; О; 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j0236419"/>
          <p:cNvPicPr/>
          <p:nvPr/>
        </p:nvPicPr>
        <p:blipFill>
          <a:blip r:embed="rId2"/>
          <a:stretch/>
        </p:blipFill>
        <p:spPr>
          <a:xfrm>
            <a:off x="6715080" y="4286160"/>
            <a:ext cx="21859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8480" y="277560"/>
            <a:ext cx="614340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33"/>
                </a:solidFill>
                <a:latin typeface="Arial"/>
              </a:rPr>
              <a:t>Палиндромы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0040" y="1285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6633"/>
                </a:solidFill>
                <a:latin typeface="Arial"/>
                <a:ea typeface="Times New Roman"/>
              </a:rPr>
              <a:t>В русском языке есть «симметричные» слова –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3000" spc="-1" strike="noStrike">
                <a:solidFill>
                  <a:srgbClr val="996600"/>
                </a:solidFill>
                <a:latin typeface="Arial"/>
                <a:ea typeface="Times New Roman"/>
              </a:rPr>
              <a:t>палиндромы</a:t>
            </a:r>
            <a:r>
              <a:rPr b="0" i="1" lang="ru-RU" sz="3000" spc="-1" strike="noStrike">
                <a:solidFill>
                  <a:srgbClr val="996600"/>
                </a:solidFill>
                <a:latin typeface="Arial"/>
                <a:ea typeface="Times New Roman"/>
              </a:rPr>
              <a:t>,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6633"/>
                </a:solidFill>
                <a:latin typeface="Arial"/>
                <a:ea typeface="Times New Roman"/>
              </a:rPr>
              <a:t>которые можно читать одинаково в двух направлениях: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660066"/>
                </a:solidFill>
                <a:latin typeface="Arial"/>
                <a:ea typeface="Times New Roman"/>
              </a:rPr>
              <a:t> </a:t>
            </a:r>
            <a:r>
              <a:rPr b="1" i="1" lang="ru-RU" sz="3000" spc="-1" strike="noStrike">
                <a:solidFill>
                  <a:srgbClr val="996600"/>
                </a:solidFill>
                <a:latin typeface="Arial"/>
                <a:ea typeface="Times New Roman"/>
              </a:rPr>
              <a:t>Шалаш, казак, радар, Алла, Анна, кок, по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i="1" lang="ru-RU" sz="3000" spc="-1" strike="noStrike">
                <a:solidFill>
                  <a:srgbClr val="006633"/>
                </a:solidFill>
                <a:latin typeface="Arial"/>
                <a:ea typeface="Times New Roman"/>
              </a:rPr>
              <a:t>Могут быть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3000" spc="-1" strike="noStrike">
                <a:solidFill>
                  <a:srgbClr val="996600"/>
                </a:solidFill>
                <a:latin typeface="Arial"/>
                <a:ea typeface="Times New Roman"/>
              </a:rPr>
              <a:t>палиндромическими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6633"/>
                </a:solidFill>
                <a:latin typeface="Arial"/>
                <a:ea typeface="Times New Roman"/>
              </a:rPr>
              <a:t>и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6633"/>
                </a:solidFill>
                <a:latin typeface="Arial"/>
                <a:ea typeface="Times New Roman"/>
              </a:rPr>
              <a:t>предлож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96600"/>
                </a:solidFill>
                <a:latin typeface="Arial"/>
                <a:ea typeface="Times New Roman"/>
              </a:rPr>
              <a:t>А роза упала на лапу Азор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96600"/>
                </a:solidFill>
                <a:latin typeface="Arial"/>
                <a:ea typeface="Times New Roman"/>
              </a:rPr>
              <a:t>Я иду с мечём суд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6633"/>
                </a:solidFill>
                <a:latin typeface="Arial"/>
                <a:ea typeface="Times New Roman"/>
              </a:rPr>
              <a:t> 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  <a:ea typeface="Times New Roman"/>
              </a:rPr>
              <a:t>Г.Р. Держав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j0432645"/>
          <p:cNvPicPr/>
          <p:nvPr/>
        </p:nvPicPr>
        <p:blipFill>
          <a:blip r:embed="rId2"/>
          <a:stretch/>
        </p:blipFill>
        <p:spPr>
          <a:xfrm>
            <a:off x="6877080" y="4653000"/>
            <a:ext cx="1949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Arial"/>
              </a:rPr>
              <a:t>Основополагающий вопрос </a:t>
            </a:r>
            <a:r>
              <a:rPr b="1" i="1" lang="ru-RU" sz="3800" spc="-1" strike="noStrike">
                <a:solidFill>
                  <a:srgbClr val="006633"/>
                </a:solidFill>
                <a:latin typeface="Arial"/>
              </a:rPr>
              <a:t>:</a:t>
            </a:r>
            <a:br>
              <a:rPr sz="3800"/>
            </a:br>
            <a:br>
              <a:rPr sz="3800"/>
            </a:br>
            <a:r>
              <a:rPr b="0" i="1" lang="en-US" sz="3200" spc="-1" strike="noStrike">
                <a:solidFill>
                  <a:srgbClr val="006633"/>
                </a:solidFill>
                <a:latin typeface="Arial"/>
              </a:rPr>
              <a:t>Почему  симметрия буквально пронизывает весь окружающий нас мир?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Picture 12" descr="432010"/>
          <p:cNvPicPr/>
          <p:nvPr/>
        </p:nvPicPr>
        <p:blipFill>
          <a:blip r:embed="rId2"/>
          <a:stretch/>
        </p:blipFill>
        <p:spPr>
          <a:xfrm>
            <a:off x="2843280" y="3573360"/>
            <a:ext cx="3492360" cy="234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00040" y="999720"/>
            <a:ext cx="8143920" cy="378612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В музыке мы имеем дело с единством симметрии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асимметрии. «Душа музыки – ритм – состоит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правильном периодическом повторении ча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музыкального произведения, - писал в 1908 го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известный русский физик Г.В. Вульф. – Прави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же повторение одинаковых частей в целом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составляет сущность 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http://3d.at.ua/_ph/25/1/767838173.jpg"/>
          <p:cNvPicPr/>
          <p:nvPr/>
        </p:nvPicPr>
        <p:blipFill>
          <a:blip r:embed="rId2"/>
          <a:stretch/>
        </p:blipFill>
        <p:spPr>
          <a:xfrm>
            <a:off x="6227640" y="4149720"/>
            <a:ext cx="2536920" cy="21700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"/>
          <p:cNvSpPr/>
          <p:nvPr/>
        </p:nvSpPr>
        <p:spPr>
          <a:xfrm>
            <a:off x="714240" y="285840"/>
            <a:ext cx="7858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</a:rPr>
              <a:t>Симметрия в музыке и литерату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Фотообои на рабочий стол 1600х1200"/>
          <p:cNvPicPr/>
          <p:nvPr/>
        </p:nvPicPr>
        <p:blipFill>
          <a:blip r:embed="rId3"/>
          <a:stretch/>
        </p:blipFill>
        <p:spPr>
          <a:xfrm>
            <a:off x="539640" y="4221000"/>
            <a:ext cx="288144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image277"/>
          <p:cNvPicPr/>
          <p:nvPr/>
        </p:nvPicPr>
        <p:blipFill>
          <a:blip r:embed="rId3"/>
          <a:stretch/>
        </p:blipFill>
        <p:spPr>
          <a:xfrm>
            <a:off x="0" y="214200"/>
            <a:ext cx="9139320" cy="6357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29" descr="image023"/>
          <p:cNvPicPr/>
          <p:nvPr/>
        </p:nvPicPr>
        <p:blipFill>
          <a:blip r:embed="rId4"/>
          <a:stretch/>
        </p:blipFill>
        <p:spPr>
          <a:xfrm>
            <a:off x="0" y="928800"/>
            <a:ext cx="9097920" cy="4786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Изображение 006"/>
          <p:cNvPicPr/>
          <p:nvPr/>
        </p:nvPicPr>
        <p:blipFill>
          <a:blip r:embed="rId5"/>
          <a:stretch/>
        </p:blipFill>
        <p:spPr>
          <a:xfrm>
            <a:off x="1763640" y="0"/>
            <a:ext cx="563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4286160" y="1071720"/>
            <a:ext cx="4340160" cy="45306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2"/>
          <p:cNvSpPr/>
          <p:nvPr/>
        </p:nvSpPr>
        <p:spPr>
          <a:xfrm>
            <a:off x="214200" y="285840"/>
            <a:ext cx="81741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33"/>
                </a:solidFill>
                <a:latin typeface="Arial"/>
              </a:rPr>
              <a:t>Симметрия в архитектуре, скульпту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3sobpbog"/>
          <p:cNvPicPr/>
          <p:nvPr/>
        </p:nvPicPr>
        <p:blipFill>
          <a:blip r:embed="rId3"/>
          <a:stretch/>
        </p:blipFill>
        <p:spPr>
          <a:xfrm>
            <a:off x="571680" y="1143000"/>
            <a:ext cx="3047760" cy="3619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пантенон"/>
          <p:cNvPicPr/>
          <p:nvPr/>
        </p:nvPicPr>
        <p:blipFill>
          <a:blip r:embed="rId4"/>
          <a:stretch/>
        </p:blipFill>
        <p:spPr>
          <a:xfrm>
            <a:off x="1908000" y="4605480"/>
            <a:ext cx="316728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179280" y="260280"/>
            <a:ext cx="7358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</a:rPr>
              <a:t>Симметрия в бы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0" descr="733002"/>
          <p:cNvPicPr/>
          <p:nvPr/>
        </p:nvPicPr>
        <p:blipFill>
          <a:blip r:embed="rId2"/>
          <a:stretch/>
        </p:blipFill>
        <p:spPr>
          <a:xfrm>
            <a:off x="214200" y="1000080"/>
            <a:ext cx="1928880" cy="5373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g4_300"/>
          <p:cNvPicPr/>
          <p:nvPr/>
        </p:nvPicPr>
        <p:blipFill>
          <a:blip r:embed="rId3"/>
          <a:stretch/>
        </p:blipFill>
        <p:spPr>
          <a:xfrm>
            <a:off x="6012000" y="404640"/>
            <a:ext cx="2552400" cy="3888000"/>
          </a:xfrm>
          <a:prstGeom prst="rect">
            <a:avLst/>
          </a:prstGeom>
          <a:ln w="28440">
            <a:solidFill>
              <a:srgbClr val="5f5f5f"/>
            </a:solidFill>
            <a:miter/>
          </a:ln>
        </p:spPr>
      </p:pic>
      <p:pic>
        <p:nvPicPr>
          <p:cNvPr id="257" name="il_fi" descr="1"/>
          <p:cNvPicPr/>
          <p:nvPr/>
        </p:nvPicPr>
        <p:blipFill>
          <a:blip r:embed="rId4"/>
          <a:stretch/>
        </p:blipFill>
        <p:spPr>
          <a:xfrm>
            <a:off x="2484360" y="3860640"/>
            <a:ext cx="2571840" cy="2845080"/>
          </a:xfrm>
          <a:prstGeom prst="rect">
            <a:avLst/>
          </a:prstGeom>
          <a:ln w="0">
            <a:noFill/>
          </a:ln>
        </p:spPr>
      </p:pic>
      <p:pic>
        <p:nvPicPr>
          <p:cNvPr id="258" name="il_fi" descr="1290243225_92_20070328-093843_big_1175060326"/>
          <p:cNvPicPr/>
          <p:nvPr/>
        </p:nvPicPr>
        <p:blipFill>
          <a:blip r:embed="rId5"/>
          <a:stretch/>
        </p:blipFill>
        <p:spPr>
          <a:xfrm>
            <a:off x="3924360" y="2421000"/>
            <a:ext cx="2655720" cy="2011320"/>
          </a:xfrm>
          <a:prstGeom prst="rect">
            <a:avLst/>
          </a:prstGeom>
          <a:ln w="0">
            <a:noFill/>
          </a:ln>
        </p:spPr>
      </p:pic>
      <p:sp>
        <p:nvSpPr>
          <p:cNvPr id="259" name="Lock"/>
          <p:cNvSpPr/>
          <p:nvPr/>
        </p:nvSpPr>
        <p:spPr>
          <a:xfrm>
            <a:off x="2786040" y="1214280"/>
            <a:ext cx="928800" cy="1214640"/>
          </a:xfrm>
          <a:custGeom>
            <a:avLst/>
            <a:gdLst>
              <a:gd name="textAreaLeft" fmla="*/ 31680 w 928800"/>
              <a:gd name="textAreaRight" fmla="*/ 909000 w 928800"/>
              <a:gd name="textAreaTop" fmla="*/ 556920 h 1214640"/>
              <a:gd name="textAreaBottom" fmla="*/ 862560 h 121464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tebulb"/>
          <p:cNvSpPr/>
          <p:nvPr/>
        </p:nvSpPr>
        <p:spPr>
          <a:xfrm>
            <a:off x="6516720" y="4797360"/>
            <a:ext cx="1071360" cy="1143000"/>
          </a:xfrm>
          <a:custGeom>
            <a:avLst/>
            <a:gdLst>
              <a:gd name="textAreaLeft" fmla="*/ 176400 w 1071360"/>
              <a:gd name="textAreaRight" fmla="*/ 906840 w 1071360"/>
              <a:gd name="textAreaTop" fmla="*/ 115560 h 1143000"/>
              <a:gd name="textAreaBottom" fmla="*/ 491040 h 114300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214200" y="285840"/>
            <a:ext cx="73580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</a:rPr>
              <a:t>Симметрия в техн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7" descr="0098"/>
          <p:cNvPicPr/>
          <p:nvPr/>
        </p:nvPicPr>
        <p:blipFill>
          <a:blip r:embed="rId2"/>
          <a:stretch/>
        </p:blipFill>
        <p:spPr>
          <a:xfrm>
            <a:off x="642960" y="3429000"/>
            <a:ext cx="4572000" cy="2874960"/>
          </a:xfrm>
          <a:prstGeom prst="rect">
            <a:avLst/>
          </a:prstGeom>
          <a:ln w="28440">
            <a:solidFill>
              <a:srgbClr val="cc9900"/>
            </a:solidFill>
            <a:miter/>
          </a:ln>
        </p:spPr>
      </p:pic>
      <p:pic>
        <p:nvPicPr>
          <p:cNvPr id="263" name="Picture 6" descr="сканирование"/>
          <p:cNvPicPr/>
          <p:nvPr/>
        </p:nvPicPr>
        <p:blipFill>
          <a:blip r:embed="rId3"/>
          <a:stretch/>
        </p:blipFill>
        <p:spPr>
          <a:xfrm>
            <a:off x="6215040" y="428760"/>
            <a:ext cx="2662200" cy="4268520"/>
          </a:xfrm>
          <a:prstGeom prst="rect">
            <a:avLst/>
          </a:prstGeom>
          <a:ln w="28440">
            <a:solidFill>
              <a:srgbClr val="cc9900"/>
            </a:solidFill>
            <a:miter/>
          </a:ln>
        </p:spPr>
      </p:pic>
      <p:pic>
        <p:nvPicPr>
          <p:cNvPr id="264" name="Picture 7" descr="j0233070"/>
          <p:cNvPicPr/>
          <p:nvPr/>
        </p:nvPicPr>
        <p:blipFill>
          <a:blip r:embed="rId4"/>
          <a:stretch/>
        </p:blipFill>
        <p:spPr>
          <a:xfrm>
            <a:off x="1714680" y="1357200"/>
            <a:ext cx="3357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4284720" cy="7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Arial"/>
              </a:rPr>
              <a:t>Выводы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229600" cy="5000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С симметрией мы встречаемся везде – в природе, технике, искусстве, нау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Симметрия играет определяющую роль не только в процессе научного познания мира, но также и в процессе его чувственного эмоционального восприятия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Понятие симметрии проходит через всю многовековую историю человеческого творчества. Оно встречается уже у истоков человеческого разви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Симметрия буквально пронизывает весь окружающий нас ми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Симметрия многообраз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Симметрия многол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Симметрия вездесущ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0" descr="Картинка 29 из 807"/>
          <p:cNvPicPr/>
          <p:nvPr/>
        </p:nvPicPr>
        <p:blipFill>
          <a:blip r:embed="rId2"/>
          <a:stretch/>
        </p:blipFill>
        <p:spPr>
          <a:xfrm>
            <a:off x="6659640" y="-171360"/>
            <a:ext cx="1913040" cy="14223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7164360" y="4653000"/>
            <a:ext cx="1278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33"/>
                </a:solidFill>
                <a:latin typeface="Arial"/>
              </a:rPr>
              <a:t>Источники информации: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1680" y="1357200"/>
            <a:ext cx="8229600" cy="453096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Тарасов Л. Этот удивительно симметричный мир. – М.: Просвещение, 198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Смолина Н.И. Традиции симметрии в архитектуре. - М., 19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Шубников А.В., Копцик В.А. Симметрия в науке и искусстве. М., 197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Гаспаров М.Л. Очерк истории русского стиха: метрика, ритмика, рифма, строфика. М., 19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Вульф Г.В. Симметрия и ее проявления в природе. М., Изд. Отд. Нар. ком. Просвещение,  1991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33"/>
                </a:solidFill>
                <a:latin typeface="Arial"/>
              </a:rPr>
              <a:t>Интернет ресурсы: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http://school-collection.edu.ru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http://ru.wikipedia.org/wiki/_ "</a:t>
            </a:r>
            <a:r>
              <a:rPr b="0" i="1" lang="ru-RU" sz="3000" spc="-1" strike="noStrike">
                <a:solidFill>
                  <a:srgbClr val="006633"/>
                </a:solidFill>
                <a:latin typeface="Arial"/>
              </a:rPr>
              <a:t>Симметрия в пространстве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http://referat.ru/referats/view/9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WordArt 4"/>
          <p:cNvSpPr txBox="1"/>
          <p:nvPr/>
        </p:nvSpPr>
        <p:spPr>
          <a:xfrm>
            <a:off x="357120" y="0"/>
            <a:ext cx="8352000" cy="220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4" name="Picture 4" descr="74"/>
          <p:cNvPicPr/>
          <p:nvPr/>
        </p:nvPicPr>
        <p:blipFill>
          <a:blip r:embed="rId2"/>
          <a:stretch/>
        </p:blipFill>
        <p:spPr>
          <a:xfrm>
            <a:off x="2340000" y="1844640"/>
            <a:ext cx="4672080" cy="433080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6"/>
          <p:cNvSpPr/>
          <p:nvPr/>
        </p:nvSpPr>
        <p:spPr>
          <a:xfrm>
            <a:off x="5292720" y="1989000"/>
            <a:ext cx="2087640" cy="1295640"/>
          </a:xfrm>
          <a:prstGeom prst="wedgeEllipseCallout">
            <a:avLst>
              <a:gd name="adj1" fmla="val -70074"/>
              <a:gd name="adj2" fmla="val 7671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33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6633"/>
                </a:solidFill>
                <a:latin typeface="Arial"/>
              </a:rPr>
              <a:t>свидания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4960" y="347760"/>
            <a:ext cx="808056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Arial"/>
              </a:rPr>
              <a:t>Проблемные вопросы</a:t>
            </a:r>
            <a:r>
              <a:rPr b="0" i="1" lang="en-US" sz="3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ru-RU" sz="3800" spc="-1" strike="noStrike">
                <a:solidFill>
                  <a:srgbClr val="006633"/>
                </a:solidFill>
                <a:latin typeface="Arial"/>
              </a:rPr>
              <a:t> :</a:t>
            </a:r>
            <a:br>
              <a:rPr sz="3800"/>
            </a:br>
            <a:br>
              <a:rPr sz="3800"/>
            </a:br>
            <a:r>
              <a:rPr b="0" i="1" lang="ru-RU" sz="3600" spc="-1" strike="noStrike">
                <a:solidFill>
                  <a:srgbClr val="006633"/>
                </a:solidFill>
                <a:latin typeface="Arial"/>
              </a:rPr>
              <a:t>Что является одним из основополагающих принципов природы?</a:t>
            </a:r>
            <a:br>
              <a:rPr sz="3600"/>
            </a:br>
            <a:br>
              <a:rPr sz="3600"/>
            </a:br>
            <a:r>
              <a:rPr b="0" i="1" lang="ru-RU" sz="3600" spc="-1" strike="noStrike">
                <a:solidFill>
                  <a:srgbClr val="006633"/>
                </a:solidFill>
                <a:latin typeface="Arial"/>
              </a:rPr>
              <a:t>Что общего между красотой природы, красотой литературы, красотой научной теории?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Arial"/>
              </a:rPr>
              <a:t>Учебные вопросы</a:t>
            </a:r>
            <a:r>
              <a:rPr b="1" i="1" lang="ru-RU" sz="3800" spc="-1" strike="noStrike">
                <a:solidFill>
                  <a:srgbClr val="006633"/>
                </a:solidFill>
                <a:latin typeface="Arial"/>
              </a:rPr>
              <a:t> :</a:t>
            </a:r>
            <a:br>
              <a:rPr sz="3800"/>
            </a:br>
            <a:br>
              <a:rPr sz="3800"/>
            </a:br>
            <a:r>
              <a:rPr b="0" i="1" lang="en-US" sz="3600" spc="-1" strike="noStrike">
                <a:solidFill>
                  <a:srgbClr val="006633"/>
                </a:solidFill>
                <a:latin typeface="Arial"/>
              </a:rPr>
              <a:t>Какие виды симметрии существуют?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1116000" y="2617200"/>
            <a:ext cx="70912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33"/>
                </a:solidFill>
                <a:latin typeface="Arial"/>
              </a:rPr>
              <a:t>Как проявляется симметрия в природе, в окружающем нас мир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987640" y="4302000"/>
            <a:ext cx="3240000" cy="22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33"/>
                </a:solidFill>
                <a:latin typeface="Arial"/>
              </a:rPr>
              <a:t>Этапы проекта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0040" y="114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33"/>
                </a:solidFill>
                <a:latin typeface="Arial"/>
              </a:rPr>
              <a:t>Подготовительный</a:t>
            </a:r>
            <a:r>
              <a:rPr b="0" i="1" lang="en-US" sz="2800" spc="-1" strike="noStrike">
                <a:solidFill>
                  <a:srgbClr val="006633"/>
                </a:solidFill>
                <a:latin typeface="Arial"/>
              </a:rPr>
              <a:t> (Формулирование основополагающего и проблемного вопросов. Определение тем исследования. Формулирование частных вопросов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33"/>
                </a:solidFill>
                <a:latin typeface="Arial"/>
              </a:rPr>
              <a:t>Практический</a:t>
            </a:r>
            <a:r>
              <a:rPr b="0" i="1" lang="en-US" sz="2800" spc="-1" strike="noStrike">
                <a:solidFill>
                  <a:srgbClr val="006633"/>
                </a:solidFill>
                <a:latin typeface="Arial"/>
              </a:rPr>
              <a:t> (Сбор материала. Создание презентаций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33"/>
                </a:solidFill>
                <a:latin typeface="Arial"/>
              </a:rPr>
              <a:t>Контрольно-коррекционный </a:t>
            </a:r>
            <a:r>
              <a:rPr b="0" i="1" lang="en-US" sz="2800" spc="-1" strike="noStrike">
                <a:solidFill>
                  <a:srgbClr val="006633"/>
                </a:solidFill>
                <a:latin typeface="Arial"/>
              </a:rPr>
              <a:t>(Самооценк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33"/>
                </a:solidFill>
                <a:latin typeface="Arial"/>
              </a:rPr>
              <a:t>Заключительный </a:t>
            </a:r>
            <a:r>
              <a:rPr b="0" i="1" lang="en-US" sz="2800" spc="-1" strike="noStrike">
                <a:solidFill>
                  <a:srgbClr val="006633"/>
                </a:solidFill>
                <a:latin typeface="Arial"/>
              </a:rPr>
              <a:t>.(Представление (презентация) проекта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33"/>
                </a:solidFill>
                <a:latin typeface="Arial"/>
              </a:rPr>
              <a:t>Определение симметрии</a:t>
            </a:r>
            <a:r>
              <a:rPr b="0" lang="en-US" sz="4000" spc="-1" strike="noStrike">
                <a:solidFill>
                  <a:srgbClr val="0000cc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80880" y="4952880"/>
            <a:ext cx="8294760" cy="1739880"/>
          </a:xfrm>
          <a:prstGeom prst="rect">
            <a:avLst/>
          </a:prstGeom>
          <a:solidFill>
            <a:srgbClr val="dbcbd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6633"/>
                </a:solidFill>
                <a:latin typeface="Arial"/>
              </a:rPr>
              <a:t>Общее понятие симметрии характеризует особую структуру организации любых систем, в которой сохраняются  определенные признаки при выполнении определенных преобразований. Признаки, которые будут сохраняться, могут быть геометрическими, физическими, биологическими, информационными и т.д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Text Box 5"/>
          <p:cNvGrpSpPr/>
          <p:nvPr/>
        </p:nvGrpSpPr>
        <p:grpSpPr>
          <a:xfrm>
            <a:off x="676440" y="1511280"/>
            <a:ext cx="2232000" cy="950760"/>
            <a:chOff x="676440" y="1511280"/>
            <a:chExt cx="2232000" cy="950760"/>
          </a:xfrm>
        </p:grpSpPr>
        <p:pic>
          <p:nvPicPr>
            <p:cNvPr id="110" name="Text Box 5" descr=""/>
            <p:cNvPicPr/>
            <p:nvPr/>
          </p:nvPicPr>
          <p:blipFill>
            <a:blip r:embed="rId2"/>
            <a:stretch/>
          </p:blipFill>
          <p:spPr>
            <a:xfrm>
              <a:off x="676440" y="1511280"/>
              <a:ext cx="223200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523880"/>
              <a:ext cx="220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3" action="ppaction://hlinksldjump"/>
                </a:rPr>
                <a:t>«</a:t>
              </a: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4" action="ppaction://hlinksldjump"/>
                </a:rPr>
                <a:t>Краткий Оксфордский словарь</a:t>
              </a: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5" action="ppaction://hlinksldjump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Text Box 6"/>
          <p:cNvGrpSpPr/>
          <p:nvPr/>
        </p:nvGrpSpPr>
        <p:grpSpPr>
          <a:xfrm>
            <a:off x="3419640" y="1511280"/>
            <a:ext cx="2384280" cy="1225440"/>
            <a:chOff x="3419640" y="1511280"/>
            <a:chExt cx="2384280" cy="1225440"/>
          </a:xfrm>
        </p:grpSpPr>
        <p:pic>
          <p:nvPicPr>
            <p:cNvPr id="113" name="Text Box 6" descr=""/>
            <p:cNvPicPr/>
            <p:nvPr/>
          </p:nvPicPr>
          <p:blipFill>
            <a:blip r:embed="rId6"/>
            <a:stretch/>
          </p:blipFill>
          <p:spPr>
            <a:xfrm>
              <a:off x="3419640" y="1511280"/>
              <a:ext cx="238428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429000" y="1523880"/>
              <a:ext cx="236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7" action="ppaction://hlinksldjump"/>
                </a:rPr>
                <a:t>«</a:t>
              </a: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8" action="ppaction://hlinksldjump"/>
                </a:rPr>
                <a:t>Современный словарь иностранных слов</a:t>
              </a: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9" action="ppaction://hlinksldjump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Text Box 7"/>
          <p:cNvGrpSpPr/>
          <p:nvPr/>
        </p:nvGrpSpPr>
        <p:grpSpPr>
          <a:xfrm>
            <a:off x="6467400" y="1511280"/>
            <a:ext cx="2232000" cy="1225440"/>
            <a:chOff x="6467400" y="1511280"/>
            <a:chExt cx="2232000" cy="1225440"/>
          </a:xfrm>
        </p:grpSpPr>
        <p:pic>
          <p:nvPicPr>
            <p:cNvPr id="116" name="Text Box 7" descr=""/>
            <p:cNvPicPr/>
            <p:nvPr/>
          </p:nvPicPr>
          <p:blipFill>
            <a:blip r:embed="rId10"/>
            <a:stretch/>
          </p:blipFill>
          <p:spPr>
            <a:xfrm>
              <a:off x="6467400" y="1511280"/>
              <a:ext cx="223200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477120" y="1523880"/>
              <a:ext cx="220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996600"/>
                  </a:solidFill>
                  <a:uFillTx/>
                  <a:latin typeface="Arial"/>
                  <a:hlinkClick r:id="rId11" action="ppaction://hlinksldjump"/>
                </a:rPr>
                <a:t>«</a:t>
              </a:r>
              <a:r>
                <a:rPr b="0" lang="ru-RU" sz="1800" spc="-1" strike="noStrike" u="sng">
                  <a:solidFill>
                    <a:srgbClr val="996600"/>
                  </a:solidFill>
                  <a:uFillTx/>
                  <a:latin typeface="Arial"/>
                  <a:hlinkClick r:id="rId12" action="ppaction://hlinksldjump"/>
                </a:rPr>
                <a:t>Большая энциклопедия Кирилла и </a:t>
              </a:r>
              <a:r>
                <a:rPr b="0" lang="ru-RU" sz="1800" spc="-1" strike="noStrike" u="sng">
                  <a:solidFill>
                    <a:srgbClr val="996600"/>
                  </a:solidFill>
                  <a:uFillTx/>
                  <a:latin typeface="Arial"/>
                  <a:hlinkClick r:id="rId13" action="ppaction://hlinksldjump"/>
                </a:rPr>
                <a:t>Мефодия</a:t>
              </a:r>
              <a:r>
                <a:rPr b="0" lang="ru-RU" sz="1800" spc="-1" strike="noStrike" u="sng">
                  <a:solidFill>
                    <a:srgbClr val="996600"/>
                  </a:solidFill>
                  <a:uFillTx/>
                  <a:latin typeface="Arial"/>
                  <a:hlinkClick r:id="rId14" action="ppaction://hlinksldjump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455760" y="3198960"/>
            <a:ext cx="2361960" cy="11912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33"/>
                </a:solidFill>
                <a:latin typeface="Arial"/>
              </a:rPr>
              <a:t>красота, пропорция, гармония, согласованнос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505320" y="3048120"/>
            <a:ext cx="2361960" cy="1465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33"/>
                </a:solidFill>
                <a:latin typeface="Arial"/>
              </a:rPr>
              <a:t>соразмерность, полное соответствие в расположении частей цел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6477120" y="3352680"/>
            <a:ext cx="2133360" cy="9169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33"/>
                </a:solidFill>
                <a:latin typeface="Arial"/>
              </a:rPr>
              <a:t>свойство геометрических фиг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 flipH="1">
            <a:off x="1599840" y="11430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457200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6781680" y="10666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1600200" y="2438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5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"/>
          <p:cNvSpPr/>
          <p:nvPr/>
        </p:nvSpPr>
        <p:spPr>
          <a:xfrm>
            <a:off x="7620120" y="2666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7"/>
          <p:cNvSpPr/>
          <p:nvPr/>
        </p:nvSpPr>
        <p:spPr>
          <a:xfrm>
            <a:off x="167652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464832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7620120" y="4267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33"/>
                </a:solidFill>
                <a:latin typeface="Arial"/>
              </a:rPr>
              <a:t>Виды симметрии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55640" y="1628640"/>
            <a:ext cx="7988400" cy="45309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419640" y="184464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b812f"/>
                </a:solidFill>
                <a:latin typeface="Arial"/>
              </a:rPr>
              <a:t>Сим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3564000" y="1844640"/>
            <a:ext cx="23032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042920" y="278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6600"/>
                </a:solidFill>
                <a:latin typeface="Arial"/>
              </a:rPr>
              <a:t>Геометр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042920" y="2708280"/>
            <a:ext cx="2664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148360" y="285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6600"/>
                </a:solidFill>
                <a:latin typeface="Arial"/>
              </a:rPr>
              <a:t>Физ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5580000" y="2852640"/>
            <a:ext cx="25210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755640" y="3789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зерк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755640" y="3860640"/>
            <a:ext cx="1944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059280" y="3933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поворо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3276720" y="3933720"/>
            <a:ext cx="19429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1187280" y="49417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се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1258920" y="5084640"/>
            <a:ext cx="129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3995640" y="501336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центр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4067280" y="5013360"/>
            <a:ext cx="20890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 flipH="1">
            <a:off x="3203280" y="242100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>
            <a:off x="5508720" y="2421000"/>
            <a:ext cx="792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 flipH="1">
            <a:off x="1187280" y="3284640"/>
            <a:ext cx="432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>
            <a:off x="3708360" y="3284640"/>
            <a:ext cx="43200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 flipH="1">
            <a:off x="2484360" y="3284640"/>
            <a:ext cx="71928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3419640" y="3284640"/>
            <a:ext cx="21564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3780000" y="4437000"/>
            <a:ext cx="287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7" descr="P6282105-web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43800" y="3929040"/>
            <a:ext cx="2000160" cy="2654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2960" y="189000"/>
            <a:ext cx="850104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00"/>
                </a:solidFill>
                <a:latin typeface="Arial"/>
                <a:ea typeface="Times New Roman"/>
              </a:rPr>
              <a:t>Центральная симметрия - </a:t>
            </a:r>
            <a:r>
              <a:rPr b="0" i="1" lang="en-US" sz="2800" spc="-1" strike="noStrike">
                <a:solidFill>
                  <a:srgbClr val="006633"/>
                </a:solidFill>
                <a:latin typeface="Arial"/>
                <a:ea typeface="Times New Roman"/>
              </a:rPr>
              <a:t>отображение пространства на себя, при котором любая точка переходит в симметричную ей точку, относительно центра О.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826920" y="2349360"/>
            <a:ext cx="77868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33"/>
                </a:solidFill>
                <a:latin typeface="Arial"/>
                <a:ea typeface="Times New Roman"/>
              </a:rPr>
              <a:t>Две точки А и А</a:t>
            </a:r>
            <a:r>
              <a:rPr b="1" i="1" lang="en-US" sz="2800" spc="-1" strike="noStrike" baseline="-25000">
                <a:solidFill>
                  <a:srgbClr val="006633"/>
                </a:solidFill>
                <a:latin typeface="Arial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006633"/>
                </a:solidFill>
                <a:latin typeface="Arial"/>
                <a:ea typeface="Times New Roman"/>
              </a:rPr>
              <a:t> называются симметричными относительно точки О, если О - середина отрезка АА</a:t>
            </a:r>
            <a:r>
              <a:rPr b="1" i="1" lang="en-US" sz="2800" spc="-1" strike="noStrike" baseline="-25000">
                <a:solidFill>
                  <a:srgbClr val="006633"/>
                </a:solidFill>
                <a:latin typeface="Arial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006633"/>
                </a:solidFill>
                <a:latin typeface="Arial"/>
                <a:ea typeface="Times New Roman"/>
              </a:rPr>
              <a:t>. Точка О считается симметричной самой с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3" descr="http://tmn.fio.ru/works/04x/307/centra3.gif"/>
          <p:cNvPicPr/>
          <p:nvPr/>
        </p:nvPicPr>
        <p:blipFill>
          <a:blip r:embed="rId2"/>
          <a:stretch/>
        </p:blipFill>
        <p:spPr>
          <a:xfrm>
            <a:off x="1951200" y="4591080"/>
            <a:ext cx="58816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2160" y="2857320"/>
            <a:ext cx="77724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00"/>
                </a:solidFill>
                <a:latin typeface="Arial"/>
                <a:ea typeface="Times New Roman"/>
              </a:rPr>
              <a:t>ОСЕВАЯ СИММЕТРИЯ</a:t>
            </a:r>
            <a:r>
              <a:rPr b="1" i="1" lang="en-US" sz="2000" spc="-1" strike="noStrike">
                <a:solidFill>
                  <a:srgbClr val="006633"/>
                </a:solidFill>
                <a:latin typeface="Arial"/>
                <a:ea typeface="Times New Roman"/>
              </a:rPr>
              <a:t> - ОТОБРАЖЕНИЕ ПРОСТРАНСТВА НА СЕБЯ, ПРИ КОТОРОМ ЛЮБАЯ ТОЧКА ПЕРЕХОДИТ В СИММЕТРИЧНУЮ ЕЙ ТОЧКУ, ОТНОСИТЕЛЬНО ОСИ А.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88640"/>
            <a:ext cx="7772400" cy="30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Две точки А и А</a:t>
            </a:r>
            <a:r>
              <a:rPr b="1" i="1" lang="en-US" sz="2400" spc="-1" strike="noStrike" baseline="-25000">
                <a:solidFill>
                  <a:srgbClr val="006633"/>
                </a:solidFill>
                <a:latin typeface="Arial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 называются симметричными относительно прямой а, если эта прямая проходит через середину отрезка АА</a:t>
            </a:r>
            <a:r>
              <a:rPr b="1" i="1" lang="en-US" sz="2400" spc="-1" strike="noStrike" baseline="-25000">
                <a:solidFill>
                  <a:srgbClr val="006633"/>
                </a:solidFill>
                <a:latin typeface="Arial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 и перпендикулярна к не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     </a:t>
            </a:r>
            <a:r>
              <a:rPr b="1" i="1" lang="en-US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Каждая точка прямой а считается симметричной самой себ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3" descr="http://tmn.fio.ru/works/04x/307/images/ocevay6.gif"/>
          <p:cNvPicPr/>
          <p:nvPr/>
        </p:nvPicPr>
        <p:blipFill>
          <a:blip r:embed="rId2"/>
          <a:stretch/>
        </p:blipFill>
        <p:spPr>
          <a:xfrm>
            <a:off x="2322360" y="4108320"/>
            <a:ext cx="516888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10:44:43Z</dcterms:created>
  <dc:creator>никита</dc:creator>
  <dc:description/>
  <dc:language>en-US</dc:language>
  <cp:lastModifiedBy>Любовь</cp:lastModifiedBy>
  <dcterms:modified xsi:type="dcterms:W3CDTF">2014-01-30T13:06:54Z</dcterms:modified>
  <cp:revision>48</cp:revision>
  <dc:subject/>
  <dc:title>Две точки называются симметричными относительно данной точки (центра симметрии) или центрально симметричными, если данная точка является серединой соединяющего их отрезка. </dc:title>
</cp:coreProperties>
</file>