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6.jpeg" ContentType="image/jpeg"/>
  <Override PartName="/ppt/media/image20.png" ContentType="image/png"/>
  <Override PartName="/ppt/media/image34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Neo" initials="N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4-01-19T05:33:08.683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B127-7E2B-42CB-BD85-A54ACDF526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A167-71FE-4BCE-AB9F-CFB44E89A4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0A72-DD61-4949-AB32-A0C7134D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BD8-6EFA-45FE-8DDA-AFD1FA30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AE8F-9453-4DFB-A8CF-ADEAEC1F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EA1-7C28-4E48-B5F3-FAFC34AB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BB3A-EBE5-4026-85BA-33A8CF70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9CB0-A19B-4DD3-97A1-F41CCD07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4102-4D81-447D-89B9-D523E675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791-9EA7-4760-85AE-134DBF02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A0F6-7090-493A-A00A-1D49B7FE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90C9-333E-4496-80F0-575205B7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C8A6-BAFF-4E9E-84AD-5C889DAB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7858-651F-4FB0-B68F-162D612B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6C2C-B17A-48C7-9042-652751E914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928800" y="0"/>
            <a:ext cx="77864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олните таблицу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Характеристика витамино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8258040" cy="418608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  <a:gridCol w="2065320"/>
                <a:gridCol w="2063520"/>
              </a:tblGrid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та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точная потреб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м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чники витам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явления авитамин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7" descr="vitaminy.jpg"/>
          <p:cNvPicPr/>
          <p:nvPr/>
        </p:nvPicPr>
        <p:blipFill>
          <a:blip r:embed="rId1"/>
          <a:stretch/>
        </p:blipFill>
        <p:spPr>
          <a:xfrm>
            <a:off x="3143160" y="1143000"/>
            <a:ext cx="2928960" cy="2428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 С (</a:t>
            </a:r>
            <a:r>
              <a:rPr b="1" lang="ru-RU" sz="4000" spc="-1" strike="noStrike">
                <a:solidFill>
                  <a:srgbClr val="e46c0a"/>
                </a:solidFill>
                <a:latin typeface="Calibri"/>
              </a:rPr>
              <a:t>аскорбиновая кислота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4" descr="celebnye-svojstva-shipovnika.jpg"/>
          <p:cNvPicPr/>
          <p:nvPr/>
        </p:nvPicPr>
        <p:blipFill>
          <a:blip r:embed="rId2"/>
          <a:stretch/>
        </p:blipFill>
        <p:spPr>
          <a:xfrm>
            <a:off x="785880" y="4143240"/>
            <a:ext cx="3286080" cy="240516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2786040" y="271476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 м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5" descr="80144852_2222299_72971956_1301768183_kapusta.jpg"/>
          <p:cNvPicPr/>
          <p:nvPr/>
        </p:nvPicPr>
        <p:blipFill>
          <a:blip r:embed="rId3"/>
          <a:stretch/>
        </p:blipFill>
        <p:spPr>
          <a:xfrm>
            <a:off x="4929120" y="4143240"/>
            <a:ext cx="3571920" cy="23576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Pinus_sylvestris_branch.jpg"/>
          <p:cNvPicPr/>
          <p:nvPr/>
        </p:nvPicPr>
        <p:blipFill>
          <a:blip r:embed="rId4"/>
          <a:stretch/>
        </p:blipFill>
        <p:spPr>
          <a:xfrm>
            <a:off x="214200" y="1428840"/>
            <a:ext cx="2714760" cy="21272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622-300x180.jpg"/>
          <p:cNvPicPr/>
          <p:nvPr/>
        </p:nvPicPr>
        <p:blipFill>
          <a:blip r:embed="rId5"/>
          <a:stretch/>
        </p:blipFill>
        <p:spPr>
          <a:xfrm>
            <a:off x="6286680" y="1428840"/>
            <a:ext cx="2643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 С (</a:t>
            </a:r>
            <a:r>
              <a:rPr b="1" lang="ru-RU" sz="4000" spc="-1" strike="noStrike">
                <a:solidFill>
                  <a:srgbClr val="e46c0a"/>
                </a:solidFill>
                <a:latin typeface="Calibri"/>
              </a:rPr>
              <a:t>аскорбиновая кислота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Цинга.gif"/>
          <p:cNvPicPr/>
          <p:nvPr/>
        </p:nvPicPr>
        <p:blipFill>
          <a:blip r:embed="rId1"/>
          <a:stretch/>
        </p:blipFill>
        <p:spPr>
          <a:xfrm>
            <a:off x="642960" y="1428840"/>
            <a:ext cx="757224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 </a:t>
            </a: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D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кальциферо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2011_01_09_ruba.jpg"/>
          <p:cNvPicPr/>
          <p:nvPr/>
        </p:nvPicPr>
        <p:blipFill>
          <a:blip r:embed="rId1"/>
          <a:stretch/>
        </p:blipFill>
        <p:spPr>
          <a:xfrm>
            <a:off x="0" y="4357800"/>
            <a:ext cx="2214720" cy="20286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20100126-151206-2.jpg"/>
          <p:cNvPicPr/>
          <p:nvPr/>
        </p:nvPicPr>
        <p:blipFill>
          <a:blip r:embed="rId2"/>
          <a:stretch/>
        </p:blipFill>
        <p:spPr>
          <a:xfrm>
            <a:off x="1714680" y="1285920"/>
            <a:ext cx="7215120" cy="50720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vitamin.jpg"/>
          <p:cNvPicPr/>
          <p:nvPr/>
        </p:nvPicPr>
        <p:blipFill>
          <a:blip r:embed="rId3"/>
          <a:stretch/>
        </p:blipFill>
        <p:spPr>
          <a:xfrm>
            <a:off x="142920" y="357120"/>
            <a:ext cx="1785960" cy="192888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214200" y="2357280"/>
            <a:ext cx="147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 мг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 </a:t>
            </a: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D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кальциферо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83581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 А </a:t>
            </a: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ретино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4" descr="2011_01_09_ruba.jpg"/>
          <p:cNvPicPr/>
          <p:nvPr/>
        </p:nvPicPr>
        <p:blipFill>
          <a:blip r:embed="rId1"/>
          <a:stretch/>
        </p:blipFill>
        <p:spPr>
          <a:xfrm>
            <a:off x="6429240" y="3714840"/>
            <a:ext cx="2571840" cy="249552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2928960" y="171468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 мг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6" descr="images (4).jpg"/>
          <p:cNvPicPr/>
          <p:nvPr/>
        </p:nvPicPr>
        <p:blipFill>
          <a:blip r:embed="rId2"/>
          <a:stretch/>
        </p:blipFill>
        <p:spPr>
          <a:xfrm>
            <a:off x="142920" y="1214280"/>
            <a:ext cx="2857320" cy="25624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images (2).jpg"/>
          <p:cNvPicPr/>
          <p:nvPr/>
        </p:nvPicPr>
        <p:blipFill>
          <a:blip r:embed="rId3"/>
          <a:stretch/>
        </p:blipFill>
        <p:spPr>
          <a:xfrm>
            <a:off x="214200" y="3929040"/>
            <a:ext cx="2786040" cy="2357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images (3).jpg"/>
          <p:cNvPicPr/>
          <p:nvPr/>
        </p:nvPicPr>
        <p:blipFill>
          <a:blip r:embed="rId4"/>
          <a:stretch/>
        </p:blipFill>
        <p:spPr>
          <a:xfrm>
            <a:off x="5857920" y="1214280"/>
            <a:ext cx="3143160" cy="2143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9" descr="загруженное.jpg"/>
          <p:cNvPicPr/>
          <p:nvPr/>
        </p:nvPicPr>
        <p:blipFill>
          <a:blip r:embed="rId5"/>
          <a:stretch/>
        </p:blipFill>
        <p:spPr>
          <a:xfrm>
            <a:off x="3286080" y="3500280"/>
            <a:ext cx="28576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 А </a:t>
            </a: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ретино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3" descr="20091301131401.jpg"/>
          <p:cNvPicPr/>
          <p:nvPr/>
        </p:nvPicPr>
        <p:blipFill>
          <a:blip r:embed="rId1"/>
          <a:stretch/>
        </p:blipFill>
        <p:spPr>
          <a:xfrm>
            <a:off x="3929040" y="2000160"/>
            <a:ext cx="4929120" cy="21430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article297.jpg"/>
          <p:cNvPicPr/>
          <p:nvPr/>
        </p:nvPicPr>
        <p:blipFill>
          <a:blip r:embed="rId2"/>
          <a:stretch/>
        </p:blipFill>
        <p:spPr>
          <a:xfrm>
            <a:off x="214200" y="1285920"/>
            <a:ext cx="3143520" cy="3571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214200" y="507204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достаток витамина А вызывает отставание детей в рост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4071960" y="457200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достаток витамина А вызывает нарушение сумеречного и ночного зр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ы группы 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4" descr="vitamin-b.jpg"/>
          <p:cNvPicPr/>
          <p:nvPr/>
        </p:nvPicPr>
        <p:blipFill>
          <a:blip r:embed="rId1"/>
          <a:stretch/>
        </p:blipFill>
        <p:spPr>
          <a:xfrm>
            <a:off x="0" y="3429000"/>
            <a:ext cx="4476600" cy="2935440"/>
          </a:xfrm>
          <a:prstGeom prst="rect">
            <a:avLst/>
          </a:prstGeom>
          <a:ln w="0">
            <a:noFill/>
          </a:ln>
        </p:spPr>
      </p:pic>
      <p:pic>
        <p:nvPicPr>
          <p:cNvPr id="107" name="Содержимое 3" descr="0009-017-Vitamin-RR.jpg"/>
          <p:cNvPicPr/>
          <p:nvPr/>
        </p:nvPicPr>
        <p:blipFill>
          <a:blip r:embed="rId2"/>
          <a:stretch/>
        </p:blipFill>
        <p:spPr>
          <a:xfrm>
            <a:off x="4915080" y="4071960"/>
            <a:ext cx="4228920" cy="23572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6" descr="images (5).jpg"/>
          <p:cNvPicPr/>
          <p:nvPr/>
        </p:nvPicPr>
        <p:blipFill>
          <a:blip r:embed="rId3"/>
          <a:stretch/>
        </p:blipFill>
        <p:spPr>
          <a:xfrm>
            <a:off x="4714920" y="1214280"/>
            <a:ext cx="4214880" cy="2781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500040" y="1643040"/>
            <a:ext cx="397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3,5 мг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ы группы 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одержимое 4" descr="beriberi.jpg"/>
          <p:cNvPicPr/>
          <p:nvPr/>
        </p:nvPicPr>
        <p:blipFill>
          <a:blip r:embed="rId1"/>
          <a:stretch/>
        </p:blipFill>
        <p:spPr>
          <a:xfrm>
            <a:off x="714240" y="1428840"/>
            <a:ext cx="2857680" cy="44290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mb4_086.jpeg"/>
          <p:cNvPicPr/>
          <p:nvPr/>
        </p:nvPicPr>
        <p:blipFill>
          <a:blip r:embed="rId2"/>
          <a:stretch/>
        </p:blipFill>
        <p:spPr>
          <a:xfrm>
            <a:off x="3929040" y="1357200"/>
            <a:ext cx="4857840" cy="23576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3857760" y="421488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тсутствии в пище витамина В 1  возникает заболева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ри – бер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ковы), приводящее к параличу конечностей и часто заканчивающееся смерть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ая работ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Определение витамина С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ите исследование по инструктивной карточ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людение запишите в таблиц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делайте вывод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00040" y="2286000"/>
          <a:ext cx="8001000" cy="3375000"/>
        </p:xfrm>
        <a:graphic>
          <a:graphicData uri="http://schemas.openxmlformats.org/drawingml/2006/table">
            <a:tbl>
              <a:tblPr/>
              <a:tblGrid>
                <a:gridCol w="4071960"/>
                <a:gridCol w="392904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то дел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то наблюд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Добавляю к соку свежего лимона раствор крахмального клейстера с йодом (синяя окраска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Опыт с рассолом квашеной капус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Опыт с яблочным сок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Опыт с нагретым сок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7" name="TextBox 5"/>
          <p:cNvSpPr/>
          <p:nvPr/>
        </p:nvSpPr>
        <p:spPr>
          <a:xfrm>
            <a:off x="4643280" y="307188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Наблюдаю обесцвечивание раствора,  что говорит о наличии витамина С в лимо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1000080" y="5715000"/>
            <a:ext cx="757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53735"/>
                </a:solidFill>
                <a:latin typeface="Calibri"/>
              </a:rPr>
              <a:t>                                        </a:t>
            </a:r>
            <a:r>
              <a:rPr b="1" i="1" lang="ru-RU" sz="2000" spc="-1" strike="noStrike">
                <a:solidFill>
                  <a:srgbClr val="953735"/>
                </a:solidFill>
                <a:latin typeface="Calibri"/>
              </a:rPr>
              <a:t>в свежих овощах и фруктах содержится витамин С, при тепловой обработке он разрушает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4786200" y="407196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Обесцвечивание раств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4786200" y="4643280"/>
            <a:ext cx="30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Обесцвечивание раств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4714920" y="521496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Окраска раствора не изменяе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428760" y="214200"/>
            <a:ext cx="8501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Как сохранить витамины при приготовлении пищи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одержимое 3" descr="1334038280_news11111.jpg"/>
          <p:cNvPicPr/>
          <p:nvPr/>
        </p:nvPicPr>
        <p:blipFill>
          <a:blip r:embed="rId1"/>
          <a:stretch/>
        </p:blipFill>
        <p:spPr>
          <a:xfrm>
            <a:off x="1500120" y="2214720"/>
            <a:ext cx="612144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Calibri"/>
              </a:rPr>
              <a:t>Вещества, приводящие к разрушению витаминов и минералов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таминов А, группы В, кальция, цинка, калия, маг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 витаминов А, С, Е, селен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феин 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таминов В, РР, снижает содержание железа, калия, цинк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спири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витаминов группы В, С, А, кальция, кал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тибиотик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витаминов группы В, железа, кальция, маг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нотворные средств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витаминов А, Д, Е, В12, сильно снижают уровень кальц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1329906062_f2.jpg"/>
          <p:cNvPicPr/>
          <p:nvPr/>
        </p:nvPicPr>
        <p:blipFill>
          <a:blip r:embed="rId1"/>
          <a:stretch/>
        </p:blipFill>
        <p:spPr>
          <a:xfrm>
            <a:off x="6072120" y="3571920"/>
            <a:ext cx="3071880" cy="2786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Высказывания о витаминах:</a:t>
            </a:r>
            <a:br>
              <a:rPr sz="4400"/>
            </a:b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предрассудки или фак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тамины есть только в овощах и фрукт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м больше съешь витаминов, тем будешь крепче и здоров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иод инфекционных заболеваний нужно есть больше витамина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тамины нужно принимать тольк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имой и вес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статок витаминов может приве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серьезным заболевани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5" descr="загруженное.jpg"/>
          <p:cNvPicPr/>
          <p:nvPr/>
        </p:nvPicPr>
        <p:blipFill>
          <a:blip r:embed="rId2"/>
          <a:stretch/>
        </p:blipFill>
        <p:spPr>
          <a:xfrm>
            <a:off x="428760" y="1428840"/>
            <a:ext cx="371448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ПРАВИЛА питания и поведения человека, способствующие полному обеспечению организма витамин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Содержимое 3" descr="vitamini.gif"/>
          <p:cNvPicPr/>
          <p:nvPr/>
        </p:nvPicPr>
        <p:blipFill>
          <a:blip r:embed="rId1"/>
          <a:stretch/>
        </p:blipFill>
        <p:spPr>
          <a:xfrm>
            <a:off x="0" y="142920"/>
            <a:ext cx="2571840" cy="23209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4"/>
          <p:cNvSpPr/>
          <p:nvPr/>
        </p:nvSpPr>
        <p:spPr>
          <a:xfrm>
            <a:off x="428760" y="2000160"/>
            <a:ext cx="8143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1. Пища должна быть разнообразной, свежей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правильно приготовлен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933c"/>
                </a:solidFill>
                <a:latin typeface="Calibri"/>
              </a:rPr>
              <a:t>2. Больше включать в рацион свежие овощи и фрук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8ed5"/>
                </a:solidFill>
                <a:latin typeface="Calibri"/>
              </a:rPr>
              <a:t>3. Больше времени гулять на свежем воздухе, принимать солнеч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8ed5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558ed5"/>
                </a:solidFill>
                <a:latin typeface="Calibri"/>
              </a:rPr>
              <a:t>ван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4. Вести здоровый образ жизни, отказаться от курения, приема алкогол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умеренно употреблять чай и коф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Calibri"/>
              </a:rPr>
              <a:t>5. Принимать лекарственные препара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953735"/>
                </a:solidFill>
                <a:latin typeface="Calibri"/>
              </a:rPr>
              <a:t>только по рекомендации врач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6. Регулярно принимать готовые витами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препараты по совету врач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04a7b"/>
                </a:solidFill>
                <a:latin typeface="Calibri"/>
              </a:rPr>
              <a:t>7. Не злоупотреблять витамин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5" descr="ecb448b110.jpg"/>
          <p:cNvPicPr/>
          <p:nvPr/>
        </p:nvPicPr>
        <p:blipFill>
          <a:blip r:embed="rId2"/>
          <a:stretch/>
        </p:blipFill>
        <p:spPr>
          <a:xfrm>
            <a:off x="5524560" y="4000680"/>
            <a:ext cx="36194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параграф 38 «Витамины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я дополнительную литературу, подготовить сообщения о витаминах РР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ьзуемые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злова И.С., Щербакова Ю.В. Занимательная биология на уроках. – М: Глобус, 20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севич И.Н. и др. Биология. 6-11 классы. Урок в современной школе. - Волгоград: Учитель, 20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тографии, рисунки к презентации.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google.ru/search?q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тинки+витамины&amp;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3" descr="sdds-1.jpg"/>
          <p:cNvPicPr/>
          <p:nvPr/>
        </p:nvPicPr>
        <p:blipFill>
          <a:blip r:embed="rId1"/>
          <a:stretch/>
        </p:blipFill>
        <p:spPr>
          <a:xfrm>
            <a:off x="571680" y="1143000"/>
            <a:ext cx="8072280" cy="52149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libri"/>
              </a:rPr>
              <a:t>БУДЬТЕ ЗДОРОВЫ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920" y="2130120"/>
            <a:ext cx="5214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c0504d"/>
                </a:solidFill>
                <a:latin typeface="Calibri"/>
                <a:ea typeface="Aharoni"/>
              </a:rPr>
              <a:t>В</a:t>
            </a:r>
            <a:r>
              <a:rPr b="0" lang="ru-RU" sz="7200" spc="-1" strike="noStrike">
                <a:solidFill>
                  <a:srgbClr val="c0504d"/>
                </a:solidFill>
                <a:latin typeface="Calibri"/>
              </a:rPr>
              <a:t>ит</a:t>
            </a:r>
            <a:r>
              <a:rPr b="0" i="1" lang="ru-RU" sz="9600" spc="-1" strike="noStrike">
                <a:solidFill>
                  <a:srgbClr val="c0504d"/>
                </a:solidFill>
                <a:latin typeface="Calibri"/>
              </a:rPr>
              <a:t>А</a:t>
            </a:r>
            <a:r>
              <a:rPr b="0" lang="ru-RU" sz="7200" spc="-1" strike="noStrike">
                <a:solidFill>
                  <a:srgbClr val="c0504d"/>
                </a:solidFill>
                <a:latin typeface="Calibri"/>
              </a:rPr>
              <a:t>ми</a:t>
            </a:r>
            <a:r>
              <a:rPr b="0" i="1" lang="ru-RU" sz="9600" spc="-1" strike="noStrike">
                <a:solidFill>
                  <a:srgbClr val="c0504d"/>
                </a:solidFill>
                <a:latin typeface="Calibri"/>
              </a:rPr>
              <a:t>Н</a:t>
            </a:r>
            <a:r>
              <a:rPr b="0" lang="ru-RU" sz="7200" spc="-1" strike="noStrike">
                <a:solidFill>
                  <a:srgbClr val="c0504d"/>
                </a:solidFill>
                <a:latin typeface="Calibri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714400" y="4429080"/>
            <a:ext cx="61434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Презентацию подготовила Кубецкая Т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учитель биологии высше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428840" y="857160"/>
            <a:ext cx="678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ниципальное образовательное учреждение Кузнецовская основная ш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влово-Посадского района Москов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4357800" y="5715000"/>
            <a:ext cx="28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13-2014 учебный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5" descr="vitamin1.jpg"/>
          <p:cNvPicPr/>
          <p:nvPr/>
        </p:nvPicPr>
        <p:blipFill>
          <a:blip r:embed="rId1"/>
          <a:stretch/>
        </p:blipFill>
        <p:spPr>
          <a:xfrm>
            <a:off x="285840" y="1785960"/>
            <a:ext cx="35719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6" descr="house-question-1_21146425.jpg"/>
          <p:cNvPicPr/>
          <p:nvPr/>
        </p:nvPicPr>
        <p:blipFill>
          <a:blip r:embed="rId1"/>
          <a:stretch/>
        </p:blipFill>
        <p:spPr>
          <a:xfrm>
            <a:off x="3143160" y="1571760"/>
            <a:ext cx="285768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Высказывания о витаминах:</a:t>
            </a:r>
            <a:br>
              <a:rPr sz="4400"/>
            </a:b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предрассудки или фак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7120" y="171432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тамины есть только в овощах и фрукт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м больше съешь витаминов, тем будешь крепче и здоров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иод инфекционных заболеваний нужно есть больше витамина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тамины нужно принимать только зимой и вес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статок витаминов может привести к серьезным заболевани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яснить, какова роль витаминов в организме человека, в каких продуктах содержатся, какие заболевания развиваются при отсутствии витами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Из истории открытия витами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3357720" cy="41432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6"/>
          <p:cNvSpPr/>
          <p:nvPr/>
        </p:nvSpPr>
        <p:spPr>
          <a:xfrm>
            <a:off x="3929040" y="1357200"/>
            <a:ext cx="500076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чины заболеваний, связанных с неполноценным питанием, первым открыл русский   ученый – вра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колай Иванович Луни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881 году он произвел опыты над двумя группами мышей и сделал вывод, что в пище есть еще какое-то незаменимое вещество, необходимое для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Из истории открытия витами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200px-Casimir_Funk_01.jpg"/>
          <p:cNvPicPr/>
          <p:nvPr/>
        </p:nvPicPr>
        <p:blipFill>
          <a:blip r:embed="rId1"/>
          <a:stretch/>
        </p:blipFill>
        <p:spPr>
          <a:xfrm>
            <a:off x="357120" y="1643040"/>
            <a:ext cx="2928960" cy="4214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3857760" y="1714680"/>
            <a:ext cx="4857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12 году  польский ученый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зимир Функ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ложил назвать эти вещества  ВИТАМИН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от лат. «ВИТА» – жизнь, «АМИН» - содержащий азот), а болезни, вызванные их недостатками , - АВИТАМИНОЗ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ВИТАМИНЫ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это органическ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веществ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еобходимые д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образования ферментов и други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биологически активных вещест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Они способствуют протеканию процессов обме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вещест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Водорастворимые – В, 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Жирорастворимые – А,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D</a:t>
            </a: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, Е, 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4" descr="images (1).jpg"/>
          <p:cNvPicPr/>
          <p:nvPr/>
        </p:nvPicPr>
        <p:blipFill>
          <a:blip r:embed="rId1"/>
          <a:stretch/>
        </p:blipFill>
        <p:spPr>
          <a:xfrm>
            <a:off x="4286160" y="142920"/>
            <a:ext cx="4643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Заболе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"/>
          <p:cNvPicPr/>
          <p:nvPr/>
        </p:nvPicPr>
        <p:blipFill>
          <a:blip r:embed="rId1"/>
          <a:stretch/>
        </p:blipFill>
        <p:spPr>
          <a:xfrm>
            <a:off x="353880" y="1542960"/>
            <a:ext cx="83520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0:17:08Z</dcterms:created>
  <dc:creator>Катенок</dc:creator>
  <dc:description/>
  <dc:language>en-US</dc:language>
  <cp:lastModifiedBy>Neo</cp:lastModifiedBy>
  <dcterms:modified xsi:type="dcterms:W3CDTF">2014-01-19T01:45:57Z</dcterms:modified>
  <cp:revision>81</cp:revision>
  <dc:subject/>
  <dc:title>Презентация PowerPoint</dc:title>
</cp:coreProperties>
</file>