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163-7480-46A1-BF90-C5F243E5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ABD-54F2-4B03-A2BA-C953FC4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EF7-8901-4F0B-ADA5-9BA68165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A15-932D-4528-9454-F7F0DF16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E99-F1EB-43D8-9724-A9033B7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CAE-EEA2-4669-85D2-9986825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4D7-8589-4587-9CE9-4D18410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952-BDB0-4F9F-85D0-7399821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AE3-FC30-45C3-B63D-98C72DC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3D0-7430-4F50-AB15-3AC8C4D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271-9147-441C-8819-775D183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C38-8590-4CBB-98DF-59296FE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A96-9E68-45C5-BDDB-96372D438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CharlesRichter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468360" y="1197000"/>
            <a:ext cx="849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млетряс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393372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преподаватель-организатор ОБЖ Панина Татья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987640" y="5950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вка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рения силы землетрясения используются две шкалы: одна для измерения его интенсивности и другая для измерения магнитуды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у́да землетрясе́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еличина, характеризующая энергию, выделившуюся при землетрясении в виде сейсмических волн. Первоначальная шкала магнитуды была предложена американским сейсмологом Чарльзом Рихтером в 1935 году, поэтому в обиходе значение магнитуды ошибочн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алой Рих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harlesRich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73920" y="3429000"/>
            <a:ext cx="2170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05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землетря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епень сотрясения грунта на поверхности Земли, ощущаемого в различных точках зоны воздействия землетрясения. Величина интенсивности определяется на основании оценки фактических разрушений, воздействия на предметы, здания и почву, последствий для люд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используется 12-балльная шкала интенсивности Медведева-Шпонхойера-Карника (МSК-64). Согласно этой шкале, принята следующая градация интенсивности землетрясений: I-III балла - слабые, IV-V - ощутимые, VI-VII - сильные (разрушаются ветхие постройки), VIII - разрушительные (частично разрушаются прочные здания, падают фабричные трубы), IХ - опустошительные (разрушается большинство зданий), Х - уничтожающие (разрушаются мосты, возникают оползни и обвалы), ХI - катастрофические (разрушаются все сооружения, изменяется ландшафт), ХII - губительные катастрофы (вызывают изменения рельефа местности на обширной территор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0" y="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ствие землетряс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ые геологические я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унами, сейши, наво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ирование и гибель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реждение и разрушение 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8z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8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0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85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5z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179280" y="0"/>
            <a:ext cx="8713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вестники землетряс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538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вестниками землетрясения являю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скрение проводов линий электропередач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поведения животных (беспокойство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спышки в виде рассеянного света, голубоватое свечение внутренней поверхности дом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щущение запаха газа в тех районах, где его раньше не был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атмосферного давления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179280" y="0"/>
            <a:ext cx="8713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упредительные 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зопасности в сейсмоопасных район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6" name="Picture 7" descr="6z"/>
          <p:cNvPicPr/>
          <p:nvPr/>
        </p:nvPicPr>
        <p:blipFill>
          <a:blip r:embed="rId2"/>
          <a:stretch/>
        </p:blipFill>
        <p:spPr>
          <a:xfrm>
            <a:off x="468360" y="1211400"/>
            <a:ext cx="8172360" cy="5646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подготовиться к землетряс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ранее продумайте план действий во время землетрясения при нахождении дома, на работе, в кино, театре, на транспорте и на улиц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члены семьи должны знать, что делать во время землетрясения и быть обучены правилам оказания первой медицинской помощ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 в удобном месте документы, деньги, карманный фонарик и запасные батарей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ейте дома запас питьевой воды и консервов в расчете на несколько дн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берите кровати от окон и наружных стен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ите шкафы, полки и стеллажи в квартирах, а с верхних полок и антресолей снимите тяжелые предме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асные вещества (ядохимикаты, легковоспламеняющиеся жидкости) не храните дом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жильцы должны знать, как в случае необходимости быстро отключить электричество, газ и в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действовать во время землетряс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щутив колебания здания, увидев качание светильников, падение предметов, услышав нарастающий гул и звон бьющегося стекла, не поддавайтесь панике (от момента, когда Вы почувствовали первые толчки до опасных для здания колебаний у вас есть 15 - 20 секунд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ы живете на нижних этажах: не теряя времени быстро выйдите из здания, взяв (только заранее подготовленные!) документы, деньги и предметы первой необходим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идая помещение, спускайтесь по лестнице, а не на лиф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казавшись на улице отойдите подальше от зданий, деревьев, линий электропередач и т.п. (на открытое пространство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в стороне от нависающих балконов, карнизов, парапетов, опасайтесь оборванных провод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7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14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нуждены остаться в помещени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о встаньте в безопасном месте: у внутренней стены, в углу, во внутреннем стенном проеме или у несущей опор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z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землетряс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15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озможно, спрячьтесь под стол или кровать с прочными ножками - он защитит вас от падающих предметов и обломков, безопасным местом считается также глубокая чугунная ван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16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подальше от окон и тяжелой мебели, для защиты головы от падающих предметов подойдут толстые книги, сковорода или кастр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11253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действовать после землетряс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кажите первую медицинскую помощь нуждающимс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льзуйтесь открытым огнем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дходите к явно поврежденным зданиям, не входите в них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удьте готовы к сильным повторным толчкам, так как наиболее опасны первые 2 - 3 часа после землетрясе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ходите в здания без крайней нужд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ыдумывайте и не передавайте никаких слухов о возможных повторных толчках. Пользуйтесь официальными сведени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1258920" y="0"/>
            <a:ext cx="6337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а по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л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емлетряс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12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 оказались в зава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окойно оцените обстановку, по возможности окажите себе медицинскую помощ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крепить объем, в котором вы оказались с помощью камней или прочного дерев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становить связь с людьми, находящимися вне завала (голосом, стуком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мните, что зажигать огонь нельзя, воду из бачка унитаза можно пить, а трубы и батареи можно использовать для подачи сигнал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кономьте силы, человек может обходиться без пищи более полумесяц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13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МНИТЕ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спасатели работают без перерыва, пока не найдут всех пострадавш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с обязательно найду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новы безопасности жизнедеятельности» - учебник для учащихся 7 классов общеобразовательных  учреждений / С.Н. Вангородский, М.И. Кузнецов, В.В. Марков, В.Н. Латчук – М: Дроф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Латчук В. Н., Марков В.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­ности жизнедеятельности. 7 класс: методическое по­собие. — М.: Дрофа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В.Н. Латчук, В.В. Марк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П. Фролов «Основы безопасности жизнедеятельности» Дидактические материалы - М.: Дроф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2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79280" y="1197000"/>
            <a:ext cx="8964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оссии зоны повышенной сейсмической опасности (от 6 баллов и выше, с периодом повторяемости 500 лет) занимают около 40% от общей площади, в том числе 9% территории относится к 8-9 балльным зонам. В сейсмически активных зонах проживает более 20 млн.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324000" y="0"/>
            <a:ext cx="8496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млетрясения в Ро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разрушительным оказалось Нефтегорское землетрясение на Сахалине, имевшее магнитуду 7,7 и интенсивность 8-9 баллов. Город нефтяников - Нефтегорск был практически полностью разрушен, погиб 1841 житель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3z"/>
          <p:cNvPicPr/>
          <p:nvPr/>
        </p:nvPicPr>
        <p:blipFill>
          <a:blip r:embed="rId2"/>
          <a:stretch/>
        </p:blipFill>
        <p:spPr>
          <a:xfrm>
            <a:off x="1547640" y="1609560"/>
            <a:ext cx="759636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4z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0"/>
            <a:ext cx="91440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млетряс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подземные толчки и колебания земной поверхности, возникающие в результате смещения и разрывов в земной коре или верхней части мантии Земли и передающиеся на большие расстояния в виде упругих колебаний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землетряс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ычно бывает сдвиг в скальных породах земной коры, разлом, вдоль которого один скальный массив с огромной силой трется об друго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некоторых землетряс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жиданно стало и строительство крупных водохранилищ в зонах тектонических разломов, когда под весом воды одна из плит начинает с большим усилием воздействовать на другую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9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0z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900000" y="0"/>
            <a:ext cx="7344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дель землетрясения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Файл:Kinemetrics seismograph.jpg"/>
          <p:cNvPicPr/>
          <p:nvPr/>
        </p:nvPicPr>
        <p:blipFill>
          <a:blip r:embed="rId2"/>
          <a:stretch/>
        </p:blipFill>
        <p:spPr>
          <a:xfrm>
            <a:off x="8269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йсмогра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чувствительный прибор, который улавливает и регистрирует подземные толчки, отмечает их силу, направление и продолж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39:06Z</dcterms:created>
  <dc:creator>GEG</dc:creator>
  <dc:description/>
  <dc:language>en-US</dc:language>
  <cp:lastModifiedBy>Админ</cp:lastModifiedBy>
  <dcterms:modified xsi:type="dcterms:W3CDTF">2013-12-25T15:07:06Z</dcterms:modified>
  <cp:revision>6</cp:revision>
  <dc:subject/>
  <dc:title>Слайд 1</dc:title>
</cp:coreProperties>
</file>