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C255-860A-4D18-80AD-770CA3D8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BE98-D402-4CE7-B6F3-BFF61F6B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508A-618C-4F2F-BB54-20780F6B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5154-CB33-452A-A851-EE2FA976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A5C4-2536-4EE4-BA2E-5DAA3799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2914-0A39-4E99-89AF-C5E462A2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999-56AB-4273-87B4-B5EBECC4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295F-14A9-479C-850B-20CC980D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A885-AE1F-456B-B822-9ABE4362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7CF7-436A-4EF2-9EA6-7E619FAF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EA44-2C32-4A84-8D55-91CC462A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D268-DB7B-444F-81D2-9577D7C9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6BB1-B603-4EA8-A74C-C5D7628B36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60;&#1072;&#1081;&#1083;:CharlesRichter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468360" y="1197000"/>
            <a:ext cx="849636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емлетряс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788000" y="3933720"/>
            <a:ext cx="43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преподаватель-организатор ОБЖ Панина Татьян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2987640" y="59500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имировка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0" y="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измерения силы землетрясения используются две шкалы: одна для измерения его интенсивности и другая для измерения магнитуды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гниту́да землетрясе́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еличина, характеризующая энергию, выделившуюся при землетрясении в виде сейсмических волн. Первоначальная шкала магнитуды была предложена американским сейсмологом Чарльзом Рихтером в 1935 году, поэтому в обиходе значение магнитуды ошибочно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калой Рихт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CharlesRichte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73920" y="3429000"/>
            <a:ext cx="21700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9050"/>
                            </p:stCondLst>
                            <p:childTnLst>
                              <p:par>
                                <p:cTn id="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нсивность землетряс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тепень сотрясения грунта на поверхности Земли, ощущаемого в различных точках зоны воздействия землетрясения. Величина интенсивности определяется на основании оценки фактических разрушений, воздействия на предметы, здания и почву, последствий для люде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ссии используется 12-балльная шкала интенсивности Медведева-Шпонхойера-Карника (МSК-64). Согласно этой шкале, принята следующая градация интенсивности землетрясений: I-III балла - слабые, IV-V - ощутимые, VI-VII - сильные (разрушаются ветхие постройки), VIII - разрушительные (частично разрушаются прочные здания, падают фабричные трубы), IХ - опустошительные (разрушается большинство зданий), Х - уничтожающие (разрушаются мосты, возникают оползни и обвалы), ХI - катастрофические (разрушаются все сооружения, изменяется ландшафт), ХII - губительные катастрофы (вызывают изменения рельефа местности на обширной территор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0" y="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следствие землетряс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асные геологические я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унами, сейши, навод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жа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вмирование и гибель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реждение и разрушение з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8z"/>
          <p:cNvPicPr/>
          <p:nvPr/>
        </p:nvPicPr>
        <p:blipFill>
          <a:blip r:embed="rId2"/>
          <a:stretch/>
        </p:blipFill>
        <p:spPr>
          <a:xfrm>
            <a:off x="4572000" y="3699000"/>
            <a:ext cx="4572000" cy="3159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85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300"/>
                            </p:stCondLst>
                            <p:childTnLst>
                              <p:par>
                                <p:cTn id="1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100"/>
                            </p:stCondLst>
                            <p:childTnLst>
                              <p:par>
                                <p:cTn id="1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850"/>
                            </p:stCondLst>
                            <p:childTnLst>
                              <p:par>
                                <p:cTn id="1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750"/>
                            </p:stCondLst>
                            <p:childTnLst>
                              <p:par>
                                <p:cTn id="1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5z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  <p:sp>
        <p:nvSpPr>
          <p:cNvPr id="79" name="WordArt 5"/>
          <p:cNvSpPr txBox="1"/>
          <p:nvPr/>
        </p:nvSpPr>
        <p:spPr>
          <a:xfrm>
            <a:off x="179280" y="0"/>
            <a:ext cx="871380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двестники землетряс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0" y="0"/>
            <a:ext cx="91440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538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едвестниками землетрясения являются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искрение проводов линий электропередачи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езкое изменение поведения животных (беспокойство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спышки в виде рассеянного света, голубоватое свечение внутренней поверхности домов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щущение запаха газа в тех районах, где его раньше не было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езкое изменение атмосферного давления.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5"/>
          <p:cNvSpPr txBox="1"/>
          <p:nvPr/>
        </p:nvSpPr>
        <p:spPr>
          <a:xfrm>
            <a:off x="179280" y="0"/>
            <a:ext cx="87138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дупредительные мер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езопасности в сейсмоопасных района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6" name="Picture 7" descr="6z"/>
          <p:cNvPicPr/>
          <p:nvPr/>
        </p:nvPicPr>
        <p:blipFill>
          <a:blip r:embed="rId2"/>
          <a:stretch/>
        </p:blipFill>
        <p:spPr>
          <a:xfrm>
            <a:off x="468360" y="1211400"/>
            <a:ext cx="8172360" cy="5646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к подготовиться к землетрясению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ранее продумайте план действий во время землетрясения при нахождении дома, на работе, в кино, театре, на транспорте и на улиц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се члены семьи должны знать, что делать во время землетрясения и быть обучены правилам оказания первой медицинской помощи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ержите в удобном месте документы, деньги, карманный фонарик и запасные батарейк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мейте дома запас питьевой воды и консервов в расчете на несколько дней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берите кровати от окон и наружных стен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крепите шкафы, полки и стеллажи в квартирах, а с верхних полок и антресолей снимите тяжелые предметы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пасные вещества (ядохимикаты, легковоспламеняющиеся жидкости) не храните дома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се жильцы должны знать, как в случае необходимости быстро отключить электричество, газ и воду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0" y="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к действовать во время землетрясени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щутив колебания здания, увидев качание светильников, падение предметов, услышав нарастающий гул и звон бьющегося стекла, не поддавайтесь панике (от момента, когда Вы почувствовали первые толчки до опасных для здания колебаний у вас есть 15 - 20 секунд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если вы живете на нижних этажах: не теряя времени быстро выйдите из здания, взяв (только заранее подготовленные!) документы, деньги и предметы первой необходим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кидая помещение, спускайтесь по лестнице, а не на лифт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казавшись на улице отойдите подальше от зданий, деревьев, линий электропередач и т.п. (на открытое пространство)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ержитесь в стороне от нависающих балконов, карнизов, парапетов, опасайтесь оборванных проводов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7z"/>
          <p:cNvPicPr/>
          <p:nvPr/>
        </p:nvPicPr>
        <p:blipFill>
          <a:blip r:embed="rId1"/>
          <a:stretch/>
        </p:blipFill>
        <p:spPr>
          <a:xfrm>
            <a:off x="0" y="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14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 вынуждены остаться в помещени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ыстро встаньте в безопасном месте: у внутренней стены, в углу, во внутреннем стенном проеме или у несущей опор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1z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  <p:sp>
        <p:nvSpPr>
          <p:cNvPr id="47" name="WordArt 7"/>
          <p:cNvSpPr txBox="1"/>
          <p:nvPr/>
        </p:nvSpPr>
        <p:spPr>
          <a:xfrm>
            <a:off x="0" y="0"/>
            <a:ext cx="9144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з истории землетряс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15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если возможно, спрячьтесь под стол или кровать с прочными ножками - он защитит вас от падающих предметов и обломков, безопасным местом считается также глубокая чугунная ванн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16z"/>
          <p:cNvPicPr/>
          <p:nvPr/>
        </p:nvPicPr>
        <p:blipFill>
          <a:blip r:embed="rId1"/>
          <a:stretch/>
        </p:blipFill>
        <p:spPr>
          <a:xfrm>
            <a:off x="0" y="0"/>
            <a:ext cx="9144000" cy="63183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ержитесь подальше от окон и тяжелой мебели, для защиты головы от падающих предметов подойдут толстые книги, сковорода или кастрю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0" y="112536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к действовать после землетрясения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кажите первую медицинскую помощь нуждающимся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е пользуйтесь открытым огнем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е подходите к явно поврежденным зданиям, не входите в них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будьте готовы к сильным повторным толчкам, так как наиболее опасны первые 2 - 3 часа после землетрясения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е входите в здания без крайней нужды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е выдумывайте и не передавайте никаких слухов о возможных повторных толчках. Пользуйтесь официальными сведениям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1258920" y="0"/>
            <a:ext cx="6337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авила повед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сл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емлетряс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12z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319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0" y="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сли вы оказались в завал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покойно оцените обстановку, по возможности окажите себе медицинскую помощь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старайтесь укрепить объем, в котором вы оказались с помощью камней или прочного дерева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старайтесь установить связь с людьми, находящимися вне завала (голосом, стуком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омните, что зажигать огонь нельзя, воду из бачка унитаза можно пить, а трубы и батареи можно использовать для подачи сигнал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кономьте силы, человек может обходиться без пищи более полумесяца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13z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319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0" y="0"/>
            <a:ext cx="91440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МНИТЕ,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спасатели работают без перерыва, пока не найдут всех пострадавши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ас обязательно найдут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77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8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500"/>
                            </p:stCondLst>
                            <p:childTnLst>
                              <p:par>
                                <p:cTn id="2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7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7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7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4"/>
          <p:cNvSpPr/>
          <p:nvPr/>
        </p:nvSpPr>
        <p:spPr>
          <a:xfrm>
            <a:off x="0" y="404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сновы безопасности жизнедеятельности» - учебник для учащихся 7 классов общеобразовательных  учреждений / С.Н. Вангородский, М.И. Кузнецов, В.В. Марков, В.Н. Латчук – М: Дрофа,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. Латчук В. Н., Марков В. 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безопас­ности жизнедеятельности. 7 класс: методическое по­собие. — М.: Дрофа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.В.Н. Латчук, В.В. Марков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.П. Фролов «Основы безопасности жизнедеятельности» Дидактические материалы - М.: Дрофа,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2z"/>
          <p:cNvPicPr/>
          <p:nvPr/>
        </p:nvPicPr>
        <p:blipFill>
          <a:blip r:embed="rId1"/>
          <a:stretch/>
        </p:blipFill>
        <p:spPr>
          <a:xfrm>
            <a:off x="0" y="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179280" y="1197000"/>
            <a:ext cx="896472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России зоны повышенной сейсмической опасности (от 6 баллов и выше, с периодом повторяемости 500 лет) занимают около 40% от общей площади, в том числе 9% территории относится к 8-9 балльным зонам. В сейсмически активных зонах проживает более 20 млн.челове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324000" y="0"/>
            <a:ext cx="84960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емлетрясения в Росс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разрушительным оказалось Нефтегорское землетрясение на Сахалине, имевшее магнитуду 7,7 и интенсивность 8-9 баллов. Город нефтяников - Нефтегорск был практически полностью разрушен, погиб 1841 житель 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3z"/>
          <p:cNvPicPr/>
          <p:nvPr/>
        </p:nvPicPr>
        <p:blipFill>
          <a:blip r:embed="rId2"/>
          <a:stretch/>
        </p:blipFill>
        <p:spPr>
          <a:xfrm>
            <a:off x="1547640" y="1609560"/>
            <a:ext cx="7596360" cy="5248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4z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0" y="0"/>
            <a:ext cx="9144000" cy="74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емлетрясе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подземные толчки и колебания земной поверхности, возникающие в результате смещения и разрывов в земной коре или верхней части мантии Земли и передающиеся на большие расстояния в виде упругих колебаний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чиной землетряс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ычно бывает сдвиг в скальных породах земной коры, разлом, вдоль которого один скальный массив с огромной силой трется об другой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чиной некоторых землетряс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ожиданно стало и строительство крупных водохранилищ в зонах тектонических разломов, когда под весом воды одна из плит начинает с большим усилием воздействовать на другую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950"/>
                            </p:stCondLst>
                            <p:childTnLst>
                              <p:par>
                                <p:cTn id="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10z"/>
          <p:cNvPicPr/>
          <p:nvPr/>
        </p:nvPicPr>
        <p:blipFill>
          <a:blip r:embed="rId1"/>
          <a:stretch/>
        </p:blipFill>
        <p:spPr>
          <a:xfrm>
            <a:off x="0" y="542880"/>
            <a:ext cx="9144000" cy="6315120"/>
          </a:xfrm>
          <a:prstGeom prst="rect">
            <a:avLst/>
          </a:prstGeom>
          <a:ln w="0">
            <a:noFill/>
          </a:ln>
        </p:spPr>
      </p:pic>
      <p:sp>
        <p:nvSpPr>
          <p:cNvPr id="62" name="WordArt 5"/>
          <p:cNvSpPr txBox="1"/>
          <p:nvPr/>
        </p:nvSpPr>
        <p:spPr>
          <a:xfrm>
            <a:off x="900000" y="0"/>
            <a:ext cx="734400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одель землетрясения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Файл:Kinemetrics seismograph.jpg"/>
          <p:cNvPicPr/>
          <p:nvPr/>
        </p:nvPicPr>
        <p:blipFill>
          <a:blip r:embed="rId2"/>
          <a:stretch/>
        </p:blipFill>
        <p:spPr>
          <a:xfrm>
            <a:off x="82692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ейсмогра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чувствительный прибор, который улавливает и регистрирует подземные толчки, отмечает их силу, направление и продолжи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5:39:06Z</dcterms:created>
  <dc:creator>GEG</dc:creator>
  <dc:description/>
  <dc:language>en-US</dc:language>
  <cp:lastModifiedBy>Админ</cp:lastModifiedBy>
  <dcterms:modified xsi:type="dcterms:W3CDTF">2013-12-25T15:07:06Z</dcterms:modified>
  <cp:revision>6</cp:revision>
  <dc:subject/>
  <dc:title>Слайд 1</dc:title>
</cp:coreProperties>
</file>