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288-7DFE-42F4-A7E7-3A05CC0C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638-B99A-4A04-AE5D-7D54AE80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598-6991-4ED1-9D4F-BEEF5F52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33F-73C4-42E4-9F8C-48723FF9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6577-8B2E-4D32-87D2-B08DF2B7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3B04-B160-4695-938E-ADF7357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0CC4-29BD-418F-A87F-24115D7E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925-380C-470B-B09A-F5146D6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143-5D8E-4D86-9EA2-F86F5DC1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EBEB-B3A5-42F3-8408-A6A6CF1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FEE2-5C5F-4C6A-AFD5-7325964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E5B-F14D-4FD8-AC3F-D6648815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0358-6544-49D3-872F-16C4696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6CF-D7FB-4E49-AD7D-2DCF40A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584B-7833-4D9B-920D-CB8976C7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4A1-E1B9-4874-B3B7-7167133B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AAD-6C94-4DE5-B754-C2C7283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7A2C-7BA0-425B-B1C6-88787AF1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E5FA-462A-4DE2-838C-7B8A85AC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52E1-B9A0-4222-990B-EB2F600A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491E-82C5-47CF-9B04-C00D8745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EF81-EC57-4727-BEE5-938DCCD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4FD-988A-48DF-93BC-3757455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7277-AB93-4B24-B897-4906C666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E732-7AE5-4BC5-8C53-B06AF85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B572-D245-47BB-90A7-B73CB91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7AAE7-BD19-4FDA-91DE-496D56E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B085-08D6-4B0C-A557-1FF6CF22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4C0F-600E-4937-A446-C3482930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9DD6-C360-4E9C-9CD8-4EFE29A7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476A-E8F0-47CE-9AED-A365DEC0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0FBD-0AEE-42FC-9B35-399A6ADF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D2E4-D50D-4E5D-922B-51D92B1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27B-E83E-4659-B791-13A8FBE8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B746-1183-4D81-9B22-3F697983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E926-C451-449A-B18A-D473282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E8A8-4FDD-46EC-953B-5F44F29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19D0-E9D0-4258-81CA-1FA781E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E7BD-A7D2-4BA2-9CEA-0A5362A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48F9-9131-4FAE-9157-59A1F7DF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A748A-4C6D-436E-8EC0-EED20DA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23AD-29E5-43E9-B7D9-20A34E09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47AB-03DC-4547-8518-ACCC8BAB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1ED4-A40B-4975-8476-ECECEFFD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956-1223-4D0A-B71D-A78EDAE9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E1A30-0013-4DA4-8051-2F47612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D72B-EF68-4816-AE95-BD884EF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8F10-3525-4DC2-BB58-6958EDEB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4E15-1C63-4C4A-AF70-662898DA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6A375-EC15-4CC5-9403-A03D26E4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326E-5CAF-4BAB-A4E7-5F7C0DBF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5DFD-B23A-48A2-9D4F-210030A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3B62-999F-45D1-96EA-ADBFAA7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D3AB-C9F7-48FD-A0F9-E5D66567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2907-4353-4434-A3A8-B32FCAF7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94C-C149-453E-89DC-309234D4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B6D8-0925-49B4-BA08-36B2A7F0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7589-282A-4B2F-8500-40B02BEB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B05A8-C126-49EA-805F-03598F4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0772-FEEF-4BC6-93A1-E7D6305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E369B-5BCE-4F2A-9A19-EF4E8B26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563B-C171-427A-9639-9984E2A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0CC0A-9F4F-4FC3-9A8B-0E6D320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861D-D7C0-4A49-8205-B6B0141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37D6-8948-491C-833F-6FDA4D7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30338-15C0-4FB5-A252-7D90995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414-DBCD-40CD-9099-E072F348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92A59-03A8-4336-81A1-9C3DAAD0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1B96-247C-4A4D-A313-516DC028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DA64-0C16-41E1-AE43-3DACB7A4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1ED8-33A7-4CF4-A52E-DF173FC3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700A8-0CC5-4225-9A7A-B150AA4E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88D70-2400-4585-8DA9-1F1BABF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36862-A052-4E28-8EFF-1D21D276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04537-5549-44DB-80C5-85219C57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5EA5-F4D7-4909-82F9-6B9AED2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E10F-9ADA-4D25-950E-0A1529A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802-C0A8-4873-BD8B-3C9B744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55A5E-DEB1-4181-A7E4-845A2B5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B5845-C652-4F86-A9C2-9C100E0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030F-3270-4318-B54E-DB12DD9F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43899-F523-4DC1-B38B-EEBF7AF0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DF3B-FC8D-47CD-A70E-2D153FAF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8C1-1216-4458-B5FD-4A39A43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6B0-DCC8-473E-86C1-6BA8D0888997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C3F-B25B-4984-B528-C72D19823575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DC5-4BA3-4C40-92DA-F02DA6B750E4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10BA-B466-4BDC-ACC9-EEDE0530B84B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B791-D0AB-48E9-8677-ADDDCA132581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9121-FD51-4C4F-BEB3-94D0F0E8CC09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A4E5-9CB6-489F-A7AC-7C44D4E5D726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2214720"/>
            <a:ext cx="740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43466"/>
                </a:solidFill>
                <a:latin typeface="Corbel"/>
              </a:rPr>
              <a:t>Консультация для родителей</a:t>
            </a:r>
            <a:br>
              <a:rPr sz="4300"/>
            </a:br>
            <a:r>
              <a:rPr b="0" i="1" lang="ru-RU" sz="4300" spc="-1" strike="noStrike">
                <a:solidFill>
                  <a:srgbClr val="543466"/>
                </a:solidFill>
                <a:latin typeface="Corbel"/>
              </a:rPr>
              <a:t>«Звуковой разбор слова»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478584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Выполнила </a:t>
            </a:r>
            <a:br>
              <a:rPr sz="2600"/>
            </a:b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логопед Блохина Светлана Вячеслав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286000" y="42876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сад комбинированного вида №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льше детям даётся графическое изображение слов, к которым дети должны придумать свои слов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има, небо, река, репа, лип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         лиса, лето, мята и т.д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3000240" y="2857680"/>
            <a:ext cx="720720" cy="72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3786120" y="285768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5143680" y="2857680"/>
            <a:ext cx="720720" cy="72072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5929200" y="285768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3000240" y="2286000"/>
            <a:ext cx="150048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5143680" y="228600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devochka"/>
          <p:cNvPicPr/>
          <p:nvPr/>
        </p:nvPicPr>
        <p:blipFill>
          <a:blip r:embed="rId1"/>
          <a:stretch/>
        </p:blipFill>
        <p:spPr>
          <a:xfrm>
            <a:off x="5400720" y="3546360"/>
            <a:ext cx="3743280" cy="3311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7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Фонетический разбор слова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71438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сан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] – 2 слог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с] – согласный, глухой, тверд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а] – гласный, ударн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н] – согласный, звонкий, тверды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к'] – согласный, глухой, мягки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и] – гласный, безударны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_____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5 букв, 5 зву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Обучая детей звуковому анализу </a:t>
            </a:r>
            <a:br>
              <a:rPr sz="3200"/>
            </a:br>
            <a:r>
              <a:rPr b="0" lang="ru-RU" sz="3200" spc="-1" strike="noStrike">
                <a:solidFill>
                  <a:srgbClr val="543466"/>
                </a:solidFill>
                <a:latin typeface="Corbel"/>
              </a:rPr>
              <a:t>следует помнить:</a:t>
            </a: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ша речь состоит из предлож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ложения состоят из с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 состоят из звук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вук – это то, что мы произносим и слыши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вук на письме обозначается букв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уква – это то, что мы видим и пише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5" descr="%25D0%25B7%25D0%25B2%25D1%2583%25D0%25BA%25D0%25BE-%25D0%25B1%25D1%2583%25D0%25BA%25D0%25B2%25D0%25B5%25D0%25BD%25D0%25BD%25D0%25BD%25D1%258B%25D0%25B9+%25D1%2580%25D0%25B0%25D0%25B7%25D0%25B1%25D0%25BE%25D1%2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43466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356760"/>
            <a:ext cx="749952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блема подготовки к школе детей с речевыми нарушениями сегодня актуальна. Дети с нарушениями речи имеют трудности в звукопроизношении, фонематическом восприятии, выраженное отставание в формировании словарного запаса, грамматического строя и связной ре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. Н. Гвоздев отмечает, что «хотя ребёнок замечает разницу в отдельных звуках, но разложение слов на звуки им самостоятельно не производится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действительно, самостоятельно выделить последний согласный звук в слове, несколько гласных одновременно, установить позицию заданного звука и т.д. вряд ли доступно дошкольни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очень важно, чтоб эта помощь была квалифицированной, целостной, поэтапн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500040"/>
            <a:ext cx="749952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обходимой ступенью в овладении грамотой является формирование звукового анализа слова. При обучении звуковому анализу следует соблюдать строгую последовательность в предъявлении форм звукового анализа. Согласно  программе Филичевой, Чиркиной, обучение детей звуковому анализу предполагает следующие этап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Этап первый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деление звука из сло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лова произносятся протяжно – выделяется названый зву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3" descr="k3_2_2"/>
          <p:cNvPicPr/>
          <p:nvPr/>
        </p:nvPicPr>
        <p:blipFill>
          <a:blip r:embed="rId1"/>
          <a:srcRect l="11176" t="11310" r="13800" b="18937"/>
          <a:stretch/>
        </p:blipFill>
        <p:spPr>
          <a:xfrm>
            <a:off x="1571760" y="3429000"/>
            <a:ext cx="3200400" cy="2519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5" descr="ananas"/>
          <p:cNvPicPr/>
          <p:nvPr/>
        </p:nvPicPr>
        <p:blipFill>
          <a:blip r:embed="rId2"/>
          <a:srcRect l="11001" t="3750" r="11991" b="23750"/>
          <a:stretch/>
        </p:blipFill>
        <p:spPr>
          <a:xfrm>
            <a:off x="5429160" y="1928880"/>
            <a:ext cx="3000600" cy="4143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7" descr="10472_400"/>
          <p:cNvPicPr/>
          <p:nvPr/>
        </p:nvPicPr>
        <p:blipFill>
          <a:blip r:embed="rId3"/>
          <a:srcRect l="3751" t="4479" r="2504" b="14926"/>
          <a:stretch/>
        </p:blipFill>
        <p:spPr>
          <a:xfrm>
            <a:off x="1357200" y="285840"/>
            <a:ext cx="3500640" cy="251928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11" descr=""/>
          <p:cNvPicPr/>
          <p:nvPr/>
        </p:nvPicPr>
        <p:blipFill>
          <a:blip r:embed="rId4"/>
          <a:stretch/>
        </p:blipFill>
        <p:spPr>
          <a:xfrm>
            <a:off x="5205240" y="-152280"/>
            <a:ext cx="3305520" cy="194472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2"/>
          <p:cNvSpPr/>
          <p:nvPr/>
        </p:nvSpPr>
        <p:spPr>
          <a:xfrm>
            <a:off x="2500200" y="5929200"/>
            <a:ext cx="571680" cy="57168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2643120" y="2928960"/>
            <a:ext cx="571680" cy="57132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"/>
          <p:cNvSpPr/>
          <p:nvPr/>
        </p:nvSpPr>
        <p:spPr>
          <a:xfrm>
            <a:off x="6715080" y="6072120"/>
            <a:ext cx="571680" cy="571680"/>
          </a:xfrm>
          <a:prstGeom prst="rect">
            <a:avLst/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Этап второй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втором этапе учимся определять место звука в слове (начало слова, середина слова,  конец слова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9" descr="897137429"/>
          <p:cNvPicPr/>
          <p:nvPr/>
        </p:nvPicPr>
        <p:blipFill>
          <a:blip r:embed="rId1"/>
          <a:stretch/>
        </p:blipFill>
        <p:spPr>
          <a:xfrm>
            <a:off x="5214960" y="2714760"/>
            <a:ext cx="3541680" cy="2519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mouse_c57bl-6j_600"/>
          <p:cNvPicPr/>
          <p:nvPr/>
        </p:nvPicPr>
        <p:blipFill>
          <a:blip r:embed="rId2"/>
          <a:stretch/>
        </p:blipFill>
        <p:spPr>
          <a:xfrm>
            <a:off x="1285920" y="0"/>
            <a:ext cx="3927600" cy="25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begemot_1"/>
          <p:cNvPicPr/>
          <p:nvPr/>
        </p:nvPicPr>
        <p:blipFill>
          <a:blip r:embed="rId3"/>
          <a:srcRect l="0" t="9200" r="3154" b="32075"/>
          <a:stretch/>
        </p:blipFill>
        <p:spPr>
          <a:xfrm>
            <a:off x="1500120" y="3429000"/>
            <a:ext cx="3237120" cy="287964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8" descr=""/>
          <p:cNvPicPr/>
          <p:nvPr/>
        </p:nvPicPr>
        <p:blipFill>
          <a:blip r:embed="rId4"/>
          <a:stretch/>
        </p:blipFill>
        <p:spPr>
          <a:xfrm>
            <a:off x="6119640" y="60480"/>
            <a:ext cx="2590920" cy="19443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9"/>
          <p:cNvSpPr/>
          <p:nvPr/>
        </p:nvSpPr>
        <p:spPr>
          <a:xfrm>
            <a:off x="200016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250020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1"/>
          <p:cNvSpPr/>
          <p:nvPr/>
        </p:nvSpPr>
        <p:spPr>
          <a:xfrm>
            <a:off x="3000240" y="271476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2"/>
          <p:cNvSpPr/>
          <p:nvPr/>
        </p:nvSpPr>
        <p:spPr>
          <a:xfrm>
            <a:off x="328608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3"/>
          <p:cNvSpPr/>
          <p:nvPr/>
        </p:nvSpPr>
        <p:spPr>
          <a:xfrm>
            <a:off x="278604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4"/>
          <p:cNvSpPr/>
          <p:nvPr/>
        </p:nvSpPr>
        <p:spPr>
          <a:xfrm>
            <a:off x="2286000" y="607212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5"/>
          <p:cNvSpPr/>
          <p:nvPr/>
        </p:nvSpPr>
        <p:spPr>
          <a:xfrm>
            <a:off x="714384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6"/>
          <p:cNvSpPr/>
          <p:nvPr/>
        </p:nvSpPr>
        <p:spPr>
          <a:xfrm>
            <a:off x="614376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7"/>
          <p:cNvSpPr/>
          <p:nvPr/>
        </p:nvSpPr>
        <p:spPr>
          <a:xfrm>
            <a:off x="6643800" y="55008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18"/>
          <p:cNvSpPr/>
          <p:nvPr/>
        </p:nvSpPr>
        <p:spPr>
          <a:xfrm>
            <a:off x="2071800" y="278604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9"/>
          <p:cNvSpPr/>
          <p:nvPr/>
        </p:nvSpPr>
        <p:spPr>
          <a:xfrm>
            <a:off x="6715080" y="557208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20"/>
          <p:cNvSpPr/>
          <p:nvPr/>
        </p:nvSpPr>
        <p:spPr>
          <a:xfrm>
            <a:off x="2857680" y="6143760"/>
            <a:ext cx="360360" cy="360360"/>
          </a:xfrm>
          <a:prstGeom prst="ellipse">
            <a:avLst/>
          </a:prstGeom>
          <a:solidFill>
            <a:srgbClr val="253d75"/>
          </a:solidFill>
          <a:ln w="25560">
            <a:solidFill>
              <a:srgbClr val="253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3466"/>
                </a:solidFill>
                <a:latin typeface="Corbel"/>
              </a:rPr>
              <a:t>Третий этап</a:t>
            </a:r>
            <a:endParaRPr b="0" lang="en-US" sz="40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третьем этапе вводятся фишки для выполнения звукового анализа: красные фишки  обозначают гласные звуки, синие — твердые согласные, зеленые — мягкие согласные. Детям даётся графическое изображение звукового состава слова. Затем предлагаютс картинки, к которым они должны составить звуковой анализ слова (изображенного картинкой) с помощью фишек (символов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mg088"/>
          <p:cNvPicPr/>
          <p:nvPr/>
        </p:nvPicPr>
        <p:blipFill>
          <a:blip r:embed="rId1"/>
          <a:srcRect l="0" t="49877" r="1520" b="4351"/>
          <a:stretch/>
        </p:blipFill>
        <p:spPr>
          <a:xfrm>
            <a:off x="2500200" y="285840"/>
            <a:ext cx="4864320" cy="287964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643120" y="4572000"/>
            <a:ext cx="720720" cy="720720"/>
          </a:xfrm>
          <a:prstGeom prst="rect">
            <a:avLst/>
          </a:prstGeom>
          <a:solidFill>
            <a:srgbClr val="00206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3500280" y="457200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4357800" y="4572000"/>
            <a:ext cx="720720" cy="72072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9"/>
          <p:cNvSpPr/>
          <p:nvPr/>
        </p:nvSpPr>
        <p:spPr>
          <a:xfrm>
            <a:off x="5715000" y="4572000"/>
            <a:ext cx="720720" cy="72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0"/>
          <p:cNvSpPr/>
          <p:nvPr/>
        </p:nvSpPr>
        <p:spPr>
          <a:xfrm>
            <a:off x="6572160" y="4572000"/>
            <a:ext cx="720720" cy="720720"/>
          </a:xfrm>
          <a:prstGeom prst="rect">
            <a:avLst/>
          </a:prstGeom>
          <a:solidFill>
            <a:srgbClr val="ee17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1"/>
          <p:cNvSpPr/>
          <p:nvPr/>
        </p:nvSpPr>
        <p:spPr>
          <a:xfrm>
            <a:off x="3071880" y="371484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2"/>
          <p:cNvSpPr/>
          <p:nvPr/>
        </p:nvSpPr>
        <p:spPr>
          <a:xfrm>
            <a:off x="5715000" y="3714840"/>
            <a:ext cx="1500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7:22:06Z</dcterms:created>
  <dc:creator>1</dc:creator>
  <dc:description/>
  <dc:language>en-US</dc:language>
  <cp:lastModifiedBy>1</cp:lastModifiedBy>
  <dcterms:modified xsi:type="dcterms:W3CDTF">2013-12-08T14:02:46Z</dcterms:modified>
  <cp:revision>11</cp:revision>
  <dc:subject/>
  <dc:title>Слайд 1</dc:title>
</cp:coreProperties>
</file>