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7DE-BA6F-465C-AAEB-C1FFBE5C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1AC-1886-4471-B11A-9C473E6C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728-C47E-4270-8597-459F6E79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197-7B3A-40E0-9115-C466F85B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E3BC-ED9F-4314-821B-3F704EBA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6C57-3E5C-4606-96B4-369EB2C0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EB4C-B8E9-45EE-ADD9-F4949FCF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4D2E-90CD-40C2-9D3C-9FA9568C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31BE-CDA3-4981-B2D4-56460DF8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682D-65B9-4379-B752-02369284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DB90-7FEB-4372-9877-702F7460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945-AE0C-4469-B178-3F34EFDE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F3AB-9BB4-4C57-B05D-B889FD96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0AED-DA3C-4AFE-BC06-4B072E00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0348-DD92-4C76-A55A-AAD5787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B3C1-D8CE-4437-945B-A0FABBBB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4D80-4E10-4FA5-A1A1-0B2BA81D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22C64-187D-4641-A2D3-01CCE741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FEDE-F8EF-45C9-86F6-839A3037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33914-9BBF-4325-8F56-EC14319E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5D53-0A1C-4710-BD50-A4389F00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0972-8271-4F80-BC07-81449509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9BB-D9E8-4A76-9FF6-C1BE4332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7736-684F-492F-A291-4381D547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3268-3F75-4A69-9DCE-68134DC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E1D8-37E1-497B-80F1-D16945F4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62FD-2BB8-446C-AAE4-C1DCD66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7FC8-C5F7-4E12-B443-C06DAB2A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E4B01-AB2C-41F8-8989-DE12221B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33AE-52B2-465D-A9C0-8A9BF57A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2C8B-2235-45B8-B0AC-23CCB9A5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F9B4-F808-4991-A3ED-67D2EEED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0BE6E-4878-4FC1-98A3-BF6303C6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585-ECED-467A-8A24-DF85DFA3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B851-3D87-406A-921A-E3127491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634F-CEAE-499D-A4DE-D197377B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E59A-93CE-4E64-82E5-1FA7D6B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1D644-CF23-48FA-9D36-8DCE6992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0BEBC-7837-4748-8272-07D2D535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E79C-6DFA-4BA3-940B-79C8327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45F4-52EB-47BB-93E3-4B3F7666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E644-BC71-411C-B034-8F2E95EB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57B20-361B-4E63-AEE4-683C0DA5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3A41-38C0-4C8D-A9BB-14806B2A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3B7-ECE0-4CAE-80DC-66C637CB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464E-A96F-4154-B332-996696C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82CDC-04B8-458F-9370-13DA96D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F38E1-449F-4945-8D1E-90F93A8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105FA-6945-40AF-A876-7A938DEB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4BC26-B275-4949-872B-58357D55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77A3-AFFC-4387-AB59-CC86C2D1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1D47B-1231-4FD0-A57D-105A900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E55BD-5FE1-41CE-B6CF-A8422115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126C-D947-4CDC-9DE6-18E19898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31AEB-C99A-4E65-8054-7FC7E055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490-9C79-4C15-99CB-C45F4C5E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A37C6-740C-45CE-AFF5-5AF69C5B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207B0-04F0-4D51-9EBD-8A398C10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A2CB-D5BF-4D7E-BA8C-5E8DA918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83536-5A56-4600-8055-7665517E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2379-76E0-4D40-BF36-94C9464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5CB86-9B23-46E4-B1D0-394E0947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6BFCA-4DC2-4D73-A0B2-CC6E006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F2A9-7697-48C6-B26E-7A23666D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15BDA-6EC7-439D-9E42-2554B63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1E3C-EEA5-40E1-ABB0-84BE23D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CAC-3600-4312-8B46-78DDD54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65411-10B4-485E-8558-AF5A83D8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6C593-258B-4AD9-85F1-41211C17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0F520-39F3-4C40-BBC8-5A006982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4297A-9452-4664-948B-AA5B8C89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28F2D-2855-4193-82F8-5FD0B35D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6F989-2100-417A-BEB3-984132DF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BCB5-709C-4C91-890B-1E2F761D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EAD53-5425-49E3-9E30-B7E4EB06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237D1-29BF-4FE3-A65A-355C865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2CA11-D37E-4355-B103-1124CCF5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DC1-1FB7-4981-83B4-09D17F23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7CCE4-CD61-41EF-BED7-9EDFAAC7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35F25-A64C-461C-BD99-3D79991F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64EC4-B144-473F-B482-077A1821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BD88-1964-4DE6-B857-2C752B30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DAB72-7C12-4617-ABAD-D1ECAC50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2DD-57AE-48B6-977A-476AFB49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AECE-A1B3-4710-895E-6E79CDA3FAEC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C79A-9B58-4B91-81D2-C3A98A0C124F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A467-794D-4BCC-B68E-DB53A2651BAF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10EB-0BB5-4B8E-AF98-7D2441462EC8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5870-3E1F-4893-878F-4DC2F13751D0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0EE-6663-4BA7-89E7-BBDD369B76E8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3C41-5C44-42FC-8F72-5D8F21047153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2214720"/>
            <a:ext cx="7407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43466"/>
                </a:solidFill>
                <a:latin typeface="Corbel"/>
              </a:rPr>
              <a:t>Консультация для родителей</a:t>
            </a:r>
            <a:br>
              <a:rPr sz="4300"/>
            </a:br>
            <a:r>
              <a:rPr b="0" i="1" lang="ru-RU" sz="4300" spc="-1" strike="noStrike">
                <a:solidFill>
                  <a:srgbClr val="543466"/>
                </a:solidFill>
                <a:latin typeface="Corbel"/>
              </a:rPr>
              <a:t>«Звуковой разбор слова»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4785840"/>
            <a:ext cx="7407000" cy="1785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Выполнила </a:t>
            </a:r>
            <a:br>
              <a:rPr sz="2600"/>
            </a:b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логопед Блохина Светлана Вячеслав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286000" y="428760"/>
            <a:ext cx="56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ое учрежде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сад комбинированного вида №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льше детям даётся графическое изображение слов, к которым дети должны придумать свои слов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има, небо, река, репа, лип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         лиса, лето, мята и т.д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3000240" y="2857680"/>
            <a:ext cx="720720" cy="720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3786120" y="2857680"/>
            <a:ext cx="720720" cy="720720"/>
          </a:xfrm>
          <a:prstGeom prst="rect">
            <a:avLst/>
          </a:prstGeom>
          <a:solidFill>
            <a:srgbClr val="ee17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5143680" y="2857680"/>
            <a:ext cx="720720" cy="72072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5929200" y="2857680"/>
            <a:ext cx="720720" cy="720720"/>
          </a:xfrm>
          <a:prstGeom prst="rect">
            <a:avLst/>
          </a:prstGeom>
          <a:solidFill>
            <a:srgbClr val="ee17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3000240" y="2286000"/>
            <a:ext cx="150048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5143680" y="2286000"/>
            <a:ext cx="15001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devochka"/>
          <p:cNvPicPr/>
          <p:nvPr/>
        </p:nvPicPr>
        <p:blipFill>
          <a:blip r:embed="rId1"/>
          <a:stretch/>
        </p:blipFill>
        <p:spPr>
          <a:xfrm>
            <a:off x="5400720" y="3546360"/>
            <a:ext cx="3743280" cy="33116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8627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3466"/>
                </a:solidFill>
                <a:latin typeface="Corbel"/>
              </a:rPr>
              <a:t>Фонетический разбор слов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4240" y="1213920"/>
            <a:ext cx="714384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н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сан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] – 2 слог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с] – согласный, глухой, тверды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а] – гласный, ударны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н] – согласный, звонкий, тверды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к'] – согласный, глухой, мягки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и] – гласный, безударны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________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5 букв, 5 зву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3466"/>
                </a:solidFill>
                <a:latin typeface="Corbel"/>
              </a:rPr>
              <a:t>Обучая детей звуковому анализу </a:t>
            </a:r>
            <a:br>
              <a:rPr sz="3200"/>
            </a:br>
            <a:r>
              <a:rPr b="0" lang="ru-RU" sz="3200" spc="-1" strike="noStrike">
                <a:solidFill>
                  <a:srgbClr val="543466"/>
                </a:solidFill>
                <a:latin typeface="Corbel"/>
              </a:rPr>
              <a:t>следует помнить: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ша речь состоит из предлож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ложения состоят из сл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 состоят из звук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вук – это то, что мы произносим и слыши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вук на письме обозначается букв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уква – это то, что мы видим и пиш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5" descr="%25D0%25B7%25D0%25B2%25D1%2583%25D0%25BA%25D0%25BE-%25D0%25B1%25D1%2583%25D0%25BA%25D0%25B2%25D0%25B5%25D0%25BD%25D0%25BD%25D0%25BD%25D1%258B%25D0%25B9+%25D1%2580%25D0%25B0%25D0%25B7%25D0%25B1%25D0%25BE%25D1%2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43466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69666e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356760"/>
            <a:ext cx="749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блема подготовки к школе детей с речевыми нарушениями сегодня актуальна. Дети с нарушениями речи имеют трудности в звукопроизношении, фонематическом восприятии, выраженное отставание в формировании словарного запаса, грамматического строя и связной реч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. Н. Гвоздев отмечает, что «хотя ребёнок замечает разницу в отдельных звуках, но разложение слов на звуки им самостоятельно не производится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действительно, самостоятельно выделить последний согласный звук в слове, несколько гласных одновременно, установить позицию заданного звука и т.д. вряд ли доступно дошкольник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очень важно, чтоб эта помощь была квалифицированной, целостной, поэтапн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обходимой ступенью в овладении грамотой является формирование звукового анализа слова. При обучении звуковому анализу следует соблюдать строгую последовательность в предъявлении форм звукового анализа. Согласно  программе Филичевой, Чиркиной, обучение детей звуковому анализу предполагает следующие этап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3466"/>
                </a:solidFill>
                <a:latin typeface="Corbel"/>
              </a:rPr>
              <a:t>Этап первый</a:t>
            </a:r>
            <a:endParaRPr b="0" lang="en-US" sz="40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деление звука из сло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лова произносятся протяжно – выделяется названый зву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3" descr="k3_2_2"/>
          <p:cNvPicPr/>
          <p:nvPr/>
        </p:nvPicPr>
        <p:blipFill>
          <a:blip r:embed="rId1"/>
          <a:srcRect l="11176" t="11310" r="13800" b="18937"/>
          <a:stretch/>
        </p:blipFill>
        <p:spPr>
          <a:xfrm>
            <a:off x="1571760" y="3429000"/>
            <a:ext cx="3200400" cy="2519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ananas"/>
          <p:cNvPicPr/>
          <p:nvPr/>
        </p:nvPicPr>
        <p:blipFill>
          <a:blip r:embed="rId2"/>
          <a:srcRect l="11001" t="3750" r="11991" b="23750"/>
          <a:stretch/>
        </p:blipFill>
        <p:spPr>
          <a:xfrm>
            <a:off x="5429160" y="1928880"/>
            <a:ext cx="3000600" cy="4143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10472_400"/>
          <p:cNvPicPr/>
          <p:nvPr/>
        </p:nvPicPr>
        <p:blipFill>
          <a:blip r:embed="rId3"/>
          <a:srcRect l="3751" t="4479" r="2504" b="14926"/>
          <a:stretch/>
        </p:blipFill>
        <p:spPr>
          <a:xfrm>
            <a:off x="1357200" y="285840"/>
            <a:ext cx="3500640" cy="251928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11" descr=""/>
          <p:cNvPicPr/>
          <p:nvPr/>
        </p:nvPicPr>
        <p:blipFill>
          <a:blip r:embed="rId4"/>
          <a:stretch/>
        </p:blipFill>
        <p:spPr>
          <a:xfrm>
            <a:off x="5205240" y="-152280"/>
            <a:ext cx="3305520" cy="194472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2"/>
          <p:cNvSpPr/>
          <p:nvPr/>
        </p:nvSpPr>
        <p:spPr>
          <a:xfrm>
            <a:off x="2500200" y="5929200"/>
            <a:ext cx="571680" cy="571680"/>
          </a:xfrm>
          <a:prstGeom prst="rect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2643120" y="2928960"/>
            <a:ext cx="571680" cy="571320"/>
          </a:xfrm>
          <a:prstGeom prst="rect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4"/>
          <p:cNvSpPr/>
          <p:nvPr/>
        </p:nvSpPr>
        <p:spPr>
          <a:xfrm>
            <a:off x="6715080" y="6072120"/>
            <a:ext cx="571680" cy="571680"/>
          </a:xfrm>
          <a:prstGeom prst="rect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3466"/>
                </a:solidFill>
                <a:latin typeface="Corbel"/>
              </a:rPr>
              <a:t>Этап второй</a:t>
            </a:r>
            <a:endParaRPr b="0" lang="en-US" sz="40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втором этапе учимся определять место звука в слове (начало слова, середина слова,  конец слова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9" descr="897137429"/>
          <p:cNvPicPr/>
          <p:nvPr/>
        </p:nvPicPr>
        <p:blipFill>
          <a:blip r:embed="rId1"/>
          <a:stretch/>
        </p:blipFill>
        <p:spPr>
          <a:xfrm>
            <a:off x="5214960" y="2714760"/>
            <a:ext cx="3541680" cy="2519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1" descr="mouse_c57bl-6j_600"/>
          <p:cNvPicPr/>
          <p:nvPr/>
        </p:nvPicPr>
        <p:blipFill>
          <a:blip r:embed="rId2"/>
          <a:stretch/>
        </p:blipFill>
        <p:spPr>
          <a:xfrm>
            <a:off x="1285920" y="0"/>
            <a:ext cx="3927600" cy="251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begemot_1"/>
          <p:cNvPicPr/>
          <p:nvPr/>
        </p:nvPicPr>
        <p:blipFill>
          <a:blip r:embed="rId3"/>
          <a:srcRect l="0" t="9200" r="3154" b="32075"/>
          <a:stretch/>
        </p:blipFill>
        <p:spPr>
          <a:xfrm>
            <a:off x="1500120" y="3429000"/>
            <a:ext cx="3237120" cy="287964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8" descr=""/>
          <p:cNvPicPr/>
          <p:nvPr/>
        </p:nvPicPr>
        <p:blipFill>
          <a:blip r:embed="rId4"/>
          <a:stretch/>
        </p:blipFill>
        <p:spPr>
          <a:xfrm>
            <a:off x="6119640" y="60480"/>
            <a:ext cx="2590920" cy="194436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9"/>
          <p:cNvSpPr/>
          <p:nvPr/>
        </p:nvSpPr>
        <p:spPr>
          <a:xfrm>
            <a:off x="2000160" y="271476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0"/>
          <p:cNvSpPr/>
          <p:nvPr/>
        </p:nvSpPr>
        <p:spPr>
          <a:xfrm>
            <a:off x="2500200" y="271476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1"/>
          <p:cNvSpPr/>
          <p:nvPr/>
        </p:nvSpPr>
        <p:spPr>
          <a:xfrm>
            <a:off x="3000240" y="271476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2"/>
          <p:cNvSpPr/>
          <p:nvPr/>
        </p:nvSpPr>
        <p:spPr>
          <a:xfrm>
            <a:off x="3286080" y="607212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3"/>
          <p:cNvSpPr/>
          <p:nvPr/>
        </p:nvSpPr>
        <p:spPr>
          <a:xfrm>
            <a:off x="2786040" y="607212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4"/>
          <p:cNvSpPr/>
          <p:nvPr/>
        </p:nvSpPr>
        <p:spPr>
          <a:xfrm>
            <a:off x="2286000" y="607212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5"/>
          <p:cNvSpPr/>
          <p:nvPr/>
        </p:nvSpPr>
        <p:spPr>
          <a:xfrm>
            <a:off x="7143840" y="55008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6"/>
          <p:cNvSpPr/>
          <p:nvPr/>
        </p:nvSpPr>
        <p:spPr>
          <a:xfrm>
            <a:off x="6143760" y="55008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7"/>
          <p:cNvSpPr/>
          <p:nvPr/>
        </p:nvSpPr>
        <p:spPr>
          <a:xfrm>
            <a:off x="6643800" y="55008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18"/>
          <p:cNvSpPr/>
          <p:nvPr/>
        </p:nvSpPr>
        <p:spPr>
          <a:xfrm>
            <a:off x="2071800" y="2786040"/>
            <a:ext cx="360360" cy="360360"/>
          </a:xfrm>
          <a:prstGeom prst="ellipse">
            <a:avLst/>
          </a:prstGeom>
          <a:solidFill>
            <a:srgbClr val="253d75"/>
          </a:solidFill>
          <a:ln w="25560">
            <a:solidFill>
              <a:srgbClr val="253d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19"/>
          <p:cNvSpPr/>
          <p:nvPr/>
        </p:nvSpPr>
        <p:spPr>
          <a:xfrm>
            <a:off x="6715080" y="5572080"/>
            <a:ext cx="360360" cy="360360"/>
          </a:xfrm>
          <a:prstGeom prst="ellipse">
            <a:avLst/>
          </a:prstGeom>
          <a:solidFill>
            <a:srgbClr val="253d75"/>
          </a:solidFill>
          <a:ln w="25560">
            <a:solidFill>
              <a:srgbClr val="253d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20"/>
          <p:cNvSpPr/>
          <p:nvPr/>
        </p:nvSpPr>
        <p:spPr>
          <a:xfrm>
            <a:off x="2857680" y="6143760"/>
            <a:ext cx="360360" cy="360360"/>
          </a:xfrm>
          <a:prstGeom prst="ellipse">
            <a:avLst/>
          </a:prstGeom>
          <a:solidFill>
            <a:srgbClr val="253d75"/>
          </a:solidFill>
          <a:ln w="25560">
            <a:solidFill>
              <a:srgbClr val="253d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3466"/>
                </a:solidFill>
                <a:latin typeface="Corbel"/>
              </a:rPr>
              <a:t>Третий этап</a:t>
            </a:r>
            <a:endParaRPr b="0" lang="en-US" sz="40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третьем этапе вводятся фишки для выполнения звукового анализа: красные фишки  обозначают гласные звуки, синие — твердые согласные, зеленые — мягкие согласные. Детям даётся графическое изображение звукового состава слова. Затем предлагаютс картинки, к которым они должны составить звуковой анализ слова (изображенного картинкой) с помощью фишек (символов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mg088"/>
          <p:cNvPicPr/>
          <p:nvPr/>
        </p:nvPicPr>
        <p:blipFill>
          <a:blip r:embed="rId1"/>
          <a:srcRect l="0" t="49877" r="1520" b="4351"/>
          <a:stretch/>
        </p:blipFill>
        <p:spPr>
          <a:xfrm>
            <a:off x="2500200" y="285840"/>
            <a:ext cx="4864320" cy="287964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643120" y="4572000"/>
            <a:ext cx="720720" cy="720720"/>
          </a:xfrm>
          <a:prstGeom prst="rect">
            <a:avLst/>
          </a:prstGeom>
          <a:solidFill>
            <a:srgbClr val="002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3500280" y="4572000"/>
            <a:ext cx="720720" cy="720720"/>
          </a:xfrm>
          <a:prstGeom prst="rect">
            <a:avLst/>
          </a:prstGeom>
          <a:solidFill>
            <a:srgbClr val="ee17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4357800" y="4572000"/>
            <a:ext cx="720720" cy="72072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5715000" y="4572000"/>
            <a:ext cx="720720" cy="720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0"/>
          <p:cNvSpPr/>
          <p:nvPr/>
        </p:nvSpPr>
        <p:spPr>
          <a:xfrm>
            <a:off x="6572160" y="4572000"/>
            <a:ext cx="720720" cy="720720"/>
          </a:xfrm>
          <a:prstGeom prst="rect">
            <a:avLst/>
          </a:prstGeom>
          <a:solidFill>
            <a:srgbClr val="ee17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1"/>
          <p:cNvSpPr/>
          <p:nvPr/>
        </p:nvSpPr>
        <p:spPr>
          <a:xfrm>
            <a:off x="3071880" y="3714840"/>
            <a:ext cx="15001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12"/>
          <p:cNvSpPr/>
          <p:nvPr/>
        </p:nvSpPr>
        <p:spPr>
          <a:xfrm>
            <a:off x="5715000" y="3714840"/>
            <a:ext cx="15001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07:22:06Z</dcterms:created>
  <dc:creator>1</dc:creator>
  <dc:description/>
  <dc:language>en-US</dc:language>
  <cp:lastModifiedBy>1</cp:lastModifiedBy>
  <dcterms:modified xsi:type="dcterms:W3CDTF">2013-12-08T14:02:46Z</dcterms:modified>
  <cp:revision>11</cp:revision>
  <dc:subject/>
  <dc:title>Слайд 1</dc:title>
</cp:coreProperties>
</file>