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5EC-E974-4433-9609-002AE094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2967-C2E3-408B-B5AB-2E689467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03F-D7D5-459E-BB72-1AD94AF0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B4C-4ACE-4F44-B041-73CF2357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314-0C43-4747-98B4-7A2A1AC7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3B37-1F10-4D2A-BDC6-1374E864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E1A-A239-4EF7-BD3A-5EFE4A20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BEAB-D476-4344-BCDE-41A7182F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2DC-BC1E-42C2-976F-5A8C072E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47E6-94C8-469E-AC72-98591F00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C84-92B8-488B-A183-C85B7F18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25C0-32C4-45D1-94BF-3CF86899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3B74-F89F-44DE-BD05-3E91551D4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9"/>
          <p:cNvSpPr txBox="1"/>
          <p:nvPr/>
        </p:nvSpPr>
        <p:spPr>
          <a:xfrm>
            <a:off x="785880" y="1714680"/>
            <a:ext cx="720072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Чудо -  вол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889320" y="492912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ов Серг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low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Администратор\Мои документы\Мои рисунки\звук и свет\0_39e65_6129d90b_-2-L.jpg"/>
          <p:cNvPicPr/>
          <p:nvPr/>
        </p:nvPicPr>
        <p:blipFill>
          <a:blip r:embed="rId2"/>
          <a:stretch/>
        </p:blipFill>
        <p:spPr>
          <a:xfrm>
            <a:off x="571680" y="285840"/>
            <a:ext cx="7951680" cy="6473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90010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DejaVu LGC Sans Mono"/>
              </a:rPr>
              <a:t>Где ещё встречаютс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DejaVu LGC Sans Mono"/>
              </a:rPr>
              <a:t>волны?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DejaVu LGC Sans Mono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7549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7"/>
          <p:cNvSpPr/>
          <p:nvPr/>
        </p:nvSpPr>
        <p:spPr>
          <a:xfrm>
            <a:off x="285840" y="3143160"/>
            <a:ext cx="8643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мертон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- 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нем. Kammerton), источник звука, представляющий собой изогнутый и закрепленный посредине металлический стержень, концы которого могут свободно колебаться укрепленную на ящичке, у которого нет одной стенки. Если специальным резиновым молоточком ударить по стержню камертона, то он будет издавать звук, называемый музыкальным т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Камертон"/>
          <p:cNvPicPr/>
          <p:nvPr/>
        </p:nvPicPr>
        <p:blipFill>
          <a:blip r:embed="rId1"/>
          <a:stretch/>
        </p:blipFill>
        <p:spPr>
          <a:xfrm>
            <a:off x="500040" y="428760"/>
            <a:ext cx="2495520" cy="25318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tfl.gif"/>
          <p:cNvPicPr/>
          <p:nvPr/>
        </p:nvPicPr>
        <p:blipFill>
          <a:blip r:embed="rId2"/>
          <a:stretch/>
        </p:blipFill>
        <p:spPr>
          <a:xfrm>
            <a:off x="3357720" y="500040"/>
            <a:ext cx="5072040" cy="25718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3143160" y="5643720"/>
            <a:ext cx="55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мертон – изобретен в 18 веке для настройки музыкальных инстру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:\Documents and Settings\Администратор\Рабочий стол\урок чудо-волны\13393_1234964987_full.jpg"/>
          <p:cNvPicPr/>
          <p:nvPr/>
        </p:nvPicPr>
        <p:blipFill>
          <a:blip r:embed="rId1"/>
          <a:stretch/>
        </p:blipFill>
        <p:spPr>
          <a:xfrm>
            <a:off x="0" y="-34920"/>
            <a:ext cx="5572080" cy="68929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5572080" y="357120"/>
            <a:ext cx="3429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ет тоже представляет собой колебания, но не частиц окружающей среды, а специальных частиц, несущ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ет – фотонов. Поэтому свет проходит через пустоту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чем именно в пустоте он достигает самой большой скорости 300 000 км/ч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Администратор\Рабочий стол\урок чудо-волны\pic.jpg"/>
          <p:cNvPicPr/>
          <p:nvPr/>
        </p:nvPicPr>
        <p:blipFill>
          <a:blip r:embed="rId1"/>
          <a:stretch/>
        </p:blipFill>
        <p:spPr>
          <a:xfrm>
            <a:off x="214200" y="831960"/>
            <a:ext cx="5500800" cy="4849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правление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F:\Мои рисунки\Заставки\Земля.Природа.Здания\13 2.jpg"/>
          <p:cNvPicPr/>
          <p:nvPr/>
        </p:nvPicPr>
        <p:blipFill>
          <a:blip r:embed="rId2"/>
          <a:stretch/>
        </p:blipFill>
        <p:spPr>
          <a:xfrm>
            <a:off x="4286160" y="2786040"/>
            <a:ext cx="4681800" cy="38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Администратор\Рабочий стол\урок чудо-волны\picture.jpg"/>
          <p:cNvPicPr/>
          <p:nvPr/>
        </p:nvPicPr>
        <p:blipFill>
          <a:blip r:embed="rId1"/>
          <a:stretch/>
        </p:blipFill>
        <p:spPr>
          <a:xfrm>
            <a:off x="0" y="1440"/>
            <a:ext cx="5429160" cy="5427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Администратор\Рабочий стол\урок чудо-волны\shar1.jpg"/>
          <p:cNvPicPr/>
          <p:nvPr/>
        </p:nvPicPr>
        <p:blipFill>
          <a:blip r:embed="rId2"/>
          <a:stretch/>
        </p:blipFill>
        <p:spPr>
          <a:xfrm>
            <a:off x="5000760" y="1405080"/>
            <a:ext cx="4038480" cy="53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" descr=""/>
          <p:cNvPicPr/>
          <p:nvPr/>
        </p:nvPicPr>
        <p:blipFill>
          <a:blip r:embed="rId1"/>
          <a:stretch/>
        </p:blipFill>
        <p:spPr>
          <a:xfrm>
            <a:off x="571680" y="1434960"/>
            <a:ext cx="8072280" cy="51231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642960" y="50004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Times New Roman"/>
              </a:rPr>
              <a:t>Преломление свет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86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285840" y="4979880"/>
            <a:ext cx="84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гда мы наблюдаем радуг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05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0" y="557208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ем выше точка зрения, тем радуга полнее — с горы или самолёта можно увидеть и целу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кружнос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51"/>
          <p:cNvSpPr/>
          <p:nvPr/>
        </p:nvSpPr>
        <p:spPr>
          <a:xfrm>
            <a:off x="6367320" y="21420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дуга с самол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19:32:01Z</dcterms:created>
  <dc:creator>Яковлев Виктор Гаврилович</dc:creator>
  <dc:description/>
  <dc:language>en-US</dc:language>
  <cp:lastModifiedBy>Админ</cp:lastModifiedBy>
  <dcterms:modified xsi:type="dcterms:W3CDTF">2014-01-30T03:19:04Z</dcterms:modified>
  <cp:revision>167</cp:revision>
  <dc:subject/>
  <dc:title>Звуковые волны</dc:title>
</cp:coreProperties>
</file>