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653-6791-4FBA-8C98-09DEA34C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FD2-233B-466C-A4A9-B7AB0EC6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F1D-87A8-4003-A985-2DF477DB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397-B196-47FC-8A6C-50A00DDF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482-48DA-433B-8506-F15DFFF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19D-99E8-4FFD-9369-60E5E8D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1B3-54B2-437F-B0F2-A249879E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5FE-710D-48E7-9CFA-7D04727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35A-F8A7-4A4E-9439-6083F05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55A-9662-4CC2-BBB3-A781CA6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188-A66E-4608-BDCA-FD08DED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D60-3BA9-45F0-9017-9E309E9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9B13-0F68-487D-B9E9-070EF3F0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785880" y="1714680"/>
            <a:ext cx="7200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удо -  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889320" y="492912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ов Серг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Администратор\Мои документы\Мои рисунки\звук и свет\0_39e65_6129d90b_-2-L.jpg"/>
          <p:cNvPicPr/>
          <p:nvPr/>
        </p:nvPicPr>
        <p:blipFill>
          <a:blip r:embed="rId2"/>
          <a:stretch/>
        </p:blipFill>
        <p:spPr>
          <a:xfrm>
            <a:off x="571680" y="285840"/>
            <a:ext cx="7951680" cy="647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90010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ejaVu LGC Sans Mono"/>
              </a:rPr>
              <a:t>Где ещё встречаютс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ejaVu LGC Sans Mono"/>
              </a:rPr>
              <a:t>волны?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DejaVu LGC Sans Mono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549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7"/>
          <p:cNvSpPr/>
          <p:nvPr/>
        </p:nvSpPr>
        <p:spPr>
          <a:xfrm>
            <a:off x="285840" y="3143160"/>
            <a:ext cx="8643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-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ем. Kammerton), источник звука, представляющий собой изогнутый и закрепленный посредине металлический стержень, концы которого могут свободно колебаться укрепленную на ящичке, у которого нет одной стенки. Если специальным резиновым молоточком ударить по стержню камертона, то он будет издавать звук, называемый музыкальным т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Камертон"/>
          <p:cNvPicPr/>
          <p:nvPr/>
        </p:nvPicPr>
        <p:blipFill>
          <a:blip r:embed="rId1"/>
          <a:stretch/>
        </p:blipFill>
        <p:spPr>
          <a:xfrm>
            <a:off x="500040" y="428760"/>
            <a:ext cx="2495520" cy="2531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tfl.gif"/>
          <p:cNvPicPr/>
          <p:nvPr/>
        </p:nvPicPr>
        <p:blipFill>
          <a:blip r:embed="rId2"/>
          <a:stretch/>
        </p:blipFill>
        <p:spPr>
          <a:xfrm>
            <a:off x="3357720" y="500040"/>
            <a:ext cx="5072040" cy="2571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3143160" y="564372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–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Documents and Settings\Администратор\Рабочий стол\урок чудо-волны\13393_1234964987_full.jpg"/>
          <p:cNvPicPr/>
          <p:nvPr/>
        </p:nvPicPr>
        <p:blipFill>
          <a:blip r:embed="rId1"/>
          <a:stretch/>
        </p:blipFill>
        <p:spPr>
          <a:xfrm>
            <a:off x="0" y="-34920"/>
            <a:ext cx="5572080" cy="6892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5572080" y="35712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т тоже представляет собой колебания, но не частиц окружающей среды, а специальных частиц, несу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т – фотонов. Поэтому свет проходит через пустот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чем именно в пустоте он достигает самой большой скорости 300 000 км/ч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урок чудо-волны\pic.jpg"/>
          <p:cNvPicPr/>
          <p:nvPr/>
        </p:nvPicPr>
        <p:blipFill>
          <a:blip r:embed="rId1"/>
          <a:stretch/>
        </p:blipFill>
        <p:spPr>
          <a:xfrm>
            <a:off x="214200" y="831960"/>
            <a:ext cx="5500800" cy="4849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авление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F:\Мои рисунки\Заставки\Земля.Природа.Здания\13 2.jpg"/>
          <p:cNvPicPr/>
          <p:nvPr/>
        </p:nvPicPr>
        <p:blipFill>
          <a:blip r:embed="rId2"/>
          <a:stretch/>
        </p:blipFill>
        <p:spPr>
          <a:xfrm>
            <a:off x="4286160" y="2786040"/>
            <a:ext cx="4681800" cy="38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Рабочий стол\урок чудо-волны\picture.jpg"/>
          <p:cNvPicPr/>
          <p:nvPr/>
        </p:nvPicPr>
        <p:blipFill>
          <a:blip r:embed="rId1"/>
          <a:stretch/>
        </p:blipFill>
        <p:spPr>
          <a:xfrm>
            <a:off x="0" y="1440"/>
            <a:ext cx="5429160" cy="542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Администратор\Рабочий стол\урок чудо-волны\shar1.jpg"/>
          <p:cNvPicPr/>
          <p:nvPr/>
        </p:nvPicPr>
        <p:blipFill>
          <a:blip r:embed="rId2"/>
          <a:stretch/>
        </p:blipFill>
        <p:spPr>
          <a:xfrm>
            <a:off x="5000760" y="1405080"/>
            <a:ext cx="403848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571680" y="1434960"/>
            <a:ext cx="8072280" cy="5123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642960" y="5000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</a:rPr>
              <a:t>Преломление све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85840" y="4979880"/>
            <a:ext cx="84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гда мы наблюдаем рад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0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0" y="557208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м выше точка зрения, тем радуга полнее — с горы или самолёта можно увидеть и целу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51"/>
          <p:cNvSpPr/>
          <p:nvPr/>
        </p:nvSpPr>
        <p:spPr>
          <a:xfrm>
            <a:off x="6367320" y="214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дуга с само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9:32:01Z</dcterms:created>
  <dc:creator>Яковлев Виктор Гаврилович</dc:creator>
  <dc:description/>
  <dc:language>en-US</dc:language>
  <cp:lastModifiedBy>Админ</cp:lastModifiedBy>
  <dcterms:modified xsi:type="dcterms:W3CDTF">2014-01-30T03:19:04Z</dcterms:modified>
  <cp:revision>167</cp:revision>
  <dc:subject/>
  <dc:title>Звуковые волны</dc:title>
</cp:coreProperties>
</file>