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5BB-1495-4A2E-BFE2-54A53159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DA3-6A37-46C4-8C5C-300FFC6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C7F-3959-4605-BF38-FBDD207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B43-8A2A-497F-BDA1-E0E61B5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6E8-0FB9-4539-BDE3-3A902DC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2A1-48FE-4E90-B506-924E7DEC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0C0-898D-4312-B351-6EF4310A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A26-D632-4AB5-A4A6-9B04CF1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423-90E9-4A2B-A9A2-3F1A9B8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E10-C4FE-43DB-8742-8CA03A8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38F-76C8-40E5-8C09-6153AD3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0C4-2D3C-4730-B399-8F4BBEFE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CE16-533C-4EBB-8252-7DD5E803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557360"/>
            <a:ext cx="8207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Разновидности объект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и их классифика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двух множеств, связанных отношением «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является разновидность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», одно является подмножеством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492280"/>
            <a:ext cx="5545080" cy="396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87640" y="3503520"/>
            <a:ext cx="2916000" cy="191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6360" y="263700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Множество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357720"/>
            <a:ext cx="2159280" cy="19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3651120"/>
            <a:ext cx="14414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хему отношения «является разновидностью» называют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хемой разновидност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схеме разновидностей 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997360"/>
            <a:ext cx="4319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Домашнее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589720"/>
            <a:ext cx="3097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Ездовая 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95280" y="3645000"/>
            <a:ext cx="143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364500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Подмножество объектов, имеющих общие признаки, называе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классом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519360" cy="32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19303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Деление множества объектов на классы называе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классификацией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492360"/>
            <a:ext cx="46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Признаки, по которым один класс отличается от другого, называю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основанием классификации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63640" y="54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 Antiqua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73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man Old Style"/>
              </a:rPr>
              <a:t>Есте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773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man Old Style"/>
              </a:rPr>
              <a:t>Искус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68360" y="1125360"/>
            <a:ext cx="1656000" cy="7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125360"/>
            <a:ext cx="1512720" cy="7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492280"/>
            <a:ext cx="30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честве ее основания взят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ущественны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признаки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50133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мером является классификация живых существ, предложенная Карлом Линнеем (1735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2421000"/>
            <a:ext cx="324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честв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е основания взят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существенны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признак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50133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мером является деление множества звезд на небе на созвездия, проводившиеся по признакам, которые к самим звездам не имели никакого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907920"/>
            <a:ext cx="432144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ъекты ОС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997360"/>
            <a:ext cx="2376360" cy="287964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79640"/>
              <a:gd name="textAreaBottom" fmla="*/ 2763720 h 2879640"/>
            </a:gdLst>
            <a:ahLst/>
            <a:rect l="textAreaLeft" t="textAreaTop" r="textAreaRight" b="textAreaBottom"/>
            <a:pathLst>
              <a:path w="21600" h="26174">
                <a:moveTo>
                  <a:pt x="3600" y="0"/>
                </a:moveTo>
                <a:arcTo wR="3600" hR="3600" stAng="16200000" swAng="-5400000"/>
                <a:lnTo>
                  <a:pt x="0" y="22574"/>
                </a:lnTo>
                <a:arcTo wR="3600" hR="3600" stAng="10800000" swAng="-5400000"/>
                <a:lnTo>
                  <a:pt x="18000" y="26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Спе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бъекты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бочий 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нель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й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те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ру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2924280"/>
            <a:ext cx="2376360" cy="287964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79640"/>
              <a:gd name="textAreaBottom" fmla="*/ 2763720 h 2879640"/>
            </a:gdLst>
            <a:ahLst/>
            <a:rect l="textAreaLeft" t="textAreaTop" r="textAreaRight" b="textAreaBottom"/>
            <a:pathLst>
              <a:path w="21600" h="26174">
                <a:moveTo>
                  <a:pt x="3600" y="0"/>
                </a:moveTo>
                <a:arcTo wR="3600" hR="3600" stAng="16200000" swAng="-5400000"/>
                <a:lnTo>
                  <a:pt x="0" y="22574"/>
                </a:lnTo>
                <a:arcTo wR="3600" hR="3600" stAng="10800000" swAng="-5400000"/>
                <a:lnTo>
                  <a:pt x="18000" y="26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2.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бъек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ай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рлы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997360"/>
            <a:ext cx="2519640" cy="287964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2879640"/>
              <a:gd name="textAreaBottom" fmla="*/ 2756880 h 2879640"/>
            </a:gdLst>
            <a:ahLst/>
            <a:rect l="textAreaLeft" t="textAreaTop" r="textAreaRight" b="textAreaBottom"/>
            <a:pathLst>
              <a:path w="21600" h="24686">
                <a:moveTo>
                  <a:pt x="3600" y="0"/>
                </a:moveTo>
                <a:arcTo wR="3600" hR="3600" stAng="16200000" swAng="-5400000"/>
                <a:lnTo>
                  <a:pt x="0" y="21086"/>
                </a:lnTo>
                <a:arcTo wR="3600" hR="3600" stAng="10800000" swAng="-5400000"/>
                <a:lnTo>
                  <a:pt x="18000" y="2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3. Объекты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яз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с внеш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у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ы Пан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569280" y="1465920"/>
            <a:ext cx="1656000" cy="126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916920" y="1465920"/>
            <a:ext cx="1656000" cy="126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987560"/>
            <a:ext cx="86508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каждого из указанных подмножеств назовите множество, с которым оно связано отношением «является разновидностью» (назовите общее имя, отвечающее на вопрос «Что это такое?»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) местоим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) запят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) параллел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) рату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) бас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) капилля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878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в списке шесть пар множеств, между которыми существуют отношения «является разновидностью» . Определите в каждой такой паре имя подмножества. Назовите для него хотя бы одно дополнитель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ни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нз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б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д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оч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5:59:58Z</dcterms:created>
  <dc:creator>Pragma</dc:creator>
  <dc:description/>
  <dc:language>en-US</dc:language>
  <cp:lastModifiedBy>User</cp:lastModifiedBy>
  <dcterms:modified xsi:type="dcterms:W3CDTF">2013-10-08T06:24:08Z</dcterms:modified>
  <cp:revision>3</cp:revision>
  <dc:subject/>
  <dc:title>Слайд 1</dc:title>
</cp:coreProperties>
</file>