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578-9AF6-4C10-A3BD-6F020147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D1A-F3AE-4ACF-AA28-8FA15236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EA0-F853-4197-B270-ED7DC584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52E-1F17-49D5-8C6B-8228B838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350-06FD-493F-AB08-036878C0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33F-A9B8-4D98-9B37-CFAF7B09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88B-FD0E-440C-8EFE-8606CC00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C88-1F58-407B-A970-AFB6008D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2DE-939D-46A0-B9EF-D653AACA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CC4-CCB9-4A4A-8A8B-02320D29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BF2-168A-447E-98DA-E59E28C6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E2D-AB04-4C7B-B1B0-9B30062F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6F7B-47AA-452C-8D78-A390021E3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557360"/>
            <a:ext cx="82072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Bookman Old Style"/>
              </a:rPr>
              <a:t>Разновидности объект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Bookman Old Style"/>
              </a:rPr>
              <a:t>и их классификац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62064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 двух множеств, связанных отношением «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является разновидность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», одно является подмножеством друг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2492280"/>
            <a:ext cx="5545080" cy="3961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87640" y="3503520"/>
            <a:ext cx="2916000" cy="191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16360" y="2637000"/>
            <a:ext cx="29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Множество ц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3357720"/>
            <a:ext cx="2159280" cy="194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35640" y="3651120"/>
            <a:ext cx="14414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хему отношения «является разновидностью» называют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схемой разновидносте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схеме разновидностей имя подмножества всегда располагается ниже имени включающего е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2997360"/>
            <a:ext cx="431964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Домашнее живо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4437000"/>
            <a:ext cx="194472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Ко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4437000"/>
            <a:ext cx="194472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Со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4437000"/>
            <a:ext cx="194472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Ко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589720"/>
            <a:ext cx="309708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Ездовая со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95280" y="3645000"/>
            <a:ext cx="1439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3645000"/>
            <a:ext cx="1368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501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33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Подмножество объектов, имеющих общие признаки, называется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классом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35640" y="3141720"/>
            <a:ext cx="3519360" cy="327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193032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Деление множества объектов на классы называется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классификацией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492360"/>
            <a:ext cx="468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Признаки, по которым один класс отличается от другого, называются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основанием классификации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63640" y="549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Book Antiqua"/>
              </a:rPr>
              <a:t>Класс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773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ookman Old Style"/>
              </a:rPr>
              <a:t>Естеств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177336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ookman Old Style"/>
              </a:rPr>
              <a:t>Искусств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268360" y="1125360"/>
            <a:ext cx="1656000" cy="7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1125360"/>
            <a:ext cx="1512720" cy="7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2492280"/>
            <a:ext cx="302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ачестве ее основания взяты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существенны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признаки объ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501336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мером является классификация живых существ, предложенная Карлом Линнеем (1735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2421000"/>
            <a:ext cx="3240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ачестве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е основания взяты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несущественны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признаки объ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6000" y="5013360"/>
            <a:ext cx="46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мером является деление множества звезд на небе на созвездия, проводившиеся по признакам, которые к самим звездам не имели никакого от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11280" y="907920"/>
            <a:ext cx="4321440" cy="100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ъекты ОС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2997360"/>
            <a:ext cx="2376360" cy="287964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79640"/>
              <a:gd name="textAreaBottom" fmla="*/ 2763720 h 2879640"/>
            </a:gdLst>
            <a:ahLst/>
            <a:rect l="textAreaLeft" t="textAreaTop" r="textAreaRight" b="textAreaBottom"/>
            <a:pathLst>
              <a:path w="21600" h="26174">
                <a:moveTo>
                  <a:pt x="3600" y="0"/>
                </a:moveTo>
                <a:arcTo wR="3600" hR="3600" stAng="16200000" swAng="-5400000"/>
                <a:lnTo>
                  <a:pt x="0" y="22574"/>
                </a:lnTo>
                <a:arcTo wR="3600" hR="3600" stAng="10800000" swAng="-5400000"/>
                <a:lnTo>
                  <a:pt x="18000" y="261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Специ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объекты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бочий ст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нель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й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р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етев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кру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2924280"/>
            <a:ext cx="2376360" cy="287964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79640"/>
              <a:gd name="textAreaBottom" fmla="*/ 2763720 h 2879640"/>
            </a:gdLst>
            <a:ahLst/>
            <a:rect l="textAreaLeft" t="textAreaTop" r="textAreaRight" b="textAreaBottom"/>
            <a:pathLst>
              <a:path w="21600" h="26174">
                <a:moveTo>
                  <a:pt x="3600" y="0"/>
                </a:moveTo>
                <a:arcTo wR="3600" hR="3600" stAng="16200000" swAng="-5400000"/>
                <a:lnTo>
                  <a:pt x="0" y="22574"/>
                </a:lnTo>
                <a:arcTo wR="3600" hR="3600" stAng="10800000" swAng="-5400000"/>
                <a:lnTo>
                  <a:pt x="18000" y="261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2. Осно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объек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ай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Ярлы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2997360"/>
            <a:ext cx="2519640" cy="2879640"/>
          </a:xfrm>
          <a:custGeom>
            <a:avLst/>
            <a:gdLst>
              <a:gd name="textAreaLeft" fmla="*/ 122760 w 2519640"/>
              <a:gd name="textAreaRight" fmla="*/ 2396880 w 2519640"/>
              <a:gd name="textAreaTop" fmla="*/ 122760 h 2879640"/>
              <a:gd name="textAreaBottom" fmla="*/ 2756880 h 2879640"/>
            </a:gdLst>
            <a:ahLst/>
            <a:rect l="textAreaLeft" t="textAreaTop" r="textAreaRight" b="textAreaBottom"/>
            <a:pathLst>
              <a:path w="21600" h="24686">
                <a:moveTo>
                  <a:pt x="3600" y="0"/>
                </a:moveTo>
                <a:arcTo wR="3600" hR="3600" stAng="16200000" swAng="-5400000"/>
                <a:lnTo>
                  <a:pt x="0" y="21086"/>
                </a:lnTo>
                <a:arcTo wR="3600" hR="3600" stAng="10800000" swAng="-5400000"/>
                <a:lnTo>
                  <a:pt x="18000" y="246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3. Объекты,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вяз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с внешн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Times New Roman"/>
              </a:rPr>
              <a:t>устрой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и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ъекты Пан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6569280" y="1465920"/>
            <a:ext cx="1656000" cy="126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rot="16200000">
            <a:off x="916920" y="1465920"/>
            <a:ext cx="1656000" cy="126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1987560"/>
            <a:ext cx="865080" cy="86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Задан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каждого из указанных подмножеств назовите множество, с которым оно связано отношением «является разновидностью» (назовите общее имя, отвечающее на вопрос «Что это такое?»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) местоим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) запят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) параллелогра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) ратуш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) бас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) капилля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1d1ff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Задание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640" y="907560"/>
            <a:ext cx="8785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йдите в списке шесть пар множеств, между которыми существуют отношения «является разновидностью» . Определите в каждой такой паре имя подмножества. Назовите для него хотя бы одно дополнительное свой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ни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нз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ло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оит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еб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идк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равоч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5:59:58Z</dcterms:created>
  <dc:creator>Pragma</dc:creator>
  <dc:description/>
  <dc:language>en-US</dc:language>
  <cp:lastModifiedBy>User</cp:lastModifiedBy>
  <dcterms:modified xsi:type="dcterms:W3CDTF">2013-10-08T06:24:08Z</dcterms:modified>
  <cp:revision>3</cp:revision>
  <dc:subject/>
  <dc:title>Слайд 1</dc:title>
</cp:coreProperties>
</file>