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139-2661-4AFB-B21E-C1D4CD42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312-CEBD-45F6-9C23-D13FFA37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24F-1573-4696-B562-9357836A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1B7-B16F-479E-AE4B-1BB02CE3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6A3D-147A-44E7-919D-7ED05C4A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BA5-3EA2-476D-ACE7-D5D96CF0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EF38-7575-4DF3-929D-370CAA82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715A-900E-4C3A-B086-6F8B74CB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5B89-32AE-451B-BEF2-6C25468C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690A-D9E9-441F-9157-1F1CC10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F972-1094-4D13-B96D-33AF4BBA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489-D9E3-4C3D-8E12-D04C1958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E4E2-278F-4D4A-842B-630DF00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839F-3DA7-45E6-BB5E-575617F2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1F75-2FE0-48F4-8B65-F5CA3A23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0897-5CF5-491F-BE7E-99F24D4E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789-BA75-44DF-97A2-F8AF1E8C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552-C909-4DC7-81D8-8ABFABFC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A55-773C-44EB-9373-D6AB90E0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094-CD6C-47DE-96E5-285E0225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5D5-4A59-4C1F-85B8-0E705AC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548-FF6F-4E0E-9F86-7C9F929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BD4-435E-48CE-A8C0-4286F42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790-132E-4FBB-93FD-46EDED5A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F256-A2BE-4EA0-8B93-2A802BE3C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DB35-7F11-4CB7-A8F5-6A564CF6DC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44/735/44735354_pushkin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49.radikal.ru/i123/1004/62/58e0048df91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rota.ru/forum/images/75/75972.jpe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ihi.ru/pics/2011/10/17/233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kinolife.tv/gdefon/filmfotos/full/331474-filmfotos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ihi.ru/pics/2012/11/30/9517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 «Осень»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602136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иш Т.А., учитель русского языка и литературы ГБОУ СОШ № 891, г.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44735354_pushki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640872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 редкий солнца луч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bbcfbb1cddd6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2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 первые мороз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71147403_octoberfall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7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 отдалённые седой зимы угроз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osenq_v_pole_web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.Левитан «Золотая осень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457652"/>
          <p:cNvPicPr/>
          <p:nvPr/>
        </p:nvPicPr>
        <p:blipFill>
          <a:blip r:embed="rId1"/>
          <a:stretch/>
        </p:blipFill>
        <p:spPr>
          <a:xfrm>
            <a:off x="179280" y="1341360"/>
            <a:ext cx="87505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ловарная работ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тъезжие пол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земли, отдалённые от усадьб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зи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посев под зим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Армид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красавиц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щеславн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любящий славу, похваляющий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ими достоинства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мирение (смиренно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отсутствие гордост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товность подчиняться чужой вол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ен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покров чего-либо, кого-либо (под сен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ревье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нылая пора!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58e0048df91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чей очарованье!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9" descr="759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9700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риятна мне твоя прощальная крас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5" descr="23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47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Люблю я пышное природы увядань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331474_zelyonoe_-pole_-les_-xolmy_-osen_1920x1200_(ww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341360"/>
            <a:ext cx="88567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багрец и в золото одетые лес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95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их сенях ветра шум и свежее дыхань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6201836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32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 мглой волнистою покрыты небес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57938-w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16:35:21Z</dcterms:created>
  <dc:creator>User</dc:creator>
  <dc:description/>
  <dc:language>en-US</dc:language>
  <cp:lastModifiedBy>1</cp:lastModifiedBy>
  <dcterms:modified xsi:type="dcterms:W3CDTF">2014-01-31T11:34:48Z</dcterms:modified>
  <cp:revision>12</cp:revision>
  <dc:subject/>
  <dc:title>Александр Сергеевич Пушкин «Осень»  </dc:title>
</cp:coreProperties>
</file>