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966-F2B5-4F2D-AAC0-ACFFF95D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DB18-EC1D-4AD9-B98A-0FFCDCD5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DD8-8549-4B5E-89F8-946CB91F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6B30-C107-4ED0-8B46-6DD0E4EF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1316-1F6B-46C8-A6D7-7048E330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F00A-F2C8-4051-90F7-F1855A1B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E609-9536-4CE5-97D8-70E6D7BA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C732-8EC9-43C1-B532-E075D2D3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DD63-780A-4E31-90BE-71FDA07A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6861-4B48-42AA-8ED4-364E854F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D738-DBDA-4D2F-B034-94C45438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9C35-7CA1-4A3F-8D62-3733E6F3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57B5-98FB-486B-9AE3-5D9C614F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1AE7-7A97-46FB-95B1-47689F17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EE8A-5479-4D65-BE9A-B6D4AE10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B753-A583-40D6-9B9A-D9955059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8AA8-9EEE-44F2-921C-CDEB1D1F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CC4-DC20-4585-9A8B-884A4701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447-30CF-4D75-BB10-7D3A71DC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782-03C4-4731-AFFD-BD1DCD5D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62E-38C7-48E1-A6FD-52E1EA92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ACCC-430C-41E9-981E-77002097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222-5F57-48A1-9547-A68B2BA6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D2EE-C308-4E02-BE98-A74E5ED4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DDDC-C756-4090-B1B1-40947E3CA1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9AD7-4441-4C1C-902D-C8FD33CA422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0/44/735/44735354_pushkin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49.radikal.ru/i123/1004/62/58e0048df91b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irota.ru/forum/images/75/75972.jpe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ihi.ru/pics/2011/10/17/2335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kinolife.tv/gdefon/filmfotos/full/331474-filmfotos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tihi.ru/pics/2012/11/30/9517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 «Осень»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6021360"/>
            <a:ext cx="64008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иш Т.А., учитель русского языка и литературы ГБОУ СОШ № 891, г. Москв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6" descr="44735354_pushkin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628640"/>
            <a:ext cx="640872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И редкий солнца луч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bbcfbb1cddd6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525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И первые морозы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71147403_octoberfall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7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И отдалённые седой зимы угрозы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osenq_v_pole_web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.Левитан «Золотая осень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457652"/>
          <p:cNvPicPr/>
          <p:nvPr/>
        </p:nvPicPr>
        <p:blipFill>
          <a:blip r:embed="rId1"/>
          <a:stretch/>
        </p:blipFill>
        <p:spPr>
          <a:xfrm>
            <a:off x="179280" y="1341360"/>
            <a:ext cx="875052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ловарная работ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Отъезжие пол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земли, отдалённые от усадьб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ози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посев под зиму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Армид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красавиц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тщеславны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любящий славу, похваляющий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оими достоинствам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мирение (смиренно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отсутствие гордост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товность подчиняться чужой вол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ен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покров чего-либо, кого-либо (под сень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ревье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Унылая пора!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58e0048df91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34136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чей очарованье!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9" descr="759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97000"/>
            <a:ext cx="8785440" cy="554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риятна мне твоя прощальная крас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5" descr="23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268280"/>
            <a:ext cx="8785440" cy="547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Люблю я пышное природы увяданье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5" descr="331474_zelyonoe_-pole_-les_-xolmy_-osen_1920x1200_(ww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341360"/>
            <a:ext cx="885672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 багрец и в золото одетые лес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5" descr="95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34136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 их сенях ветра шум и свежее дыханье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6201836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532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И мглой волнистою покрыты небес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57938-w"/>
          <p:cNvPicPr/>
          <p:nvPr/>
        </p:nvPicPr>
        <p:blipFill>
          <a:blip r:embed="rId1"/>
          <a:stretch/>
        </p:blipFill>
        <p:spPr>
          <a:xfrm>
            <a:off x="179280" y="1197000"/>
            <a:ext cx="8785440" cy="554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5T16:35:21Z</dcterms:created>
  <dc:creator>User</dc:creator>
  <dc:description/>
  <dc:language>en-US</dc:language>
  <cp:lastModifiedBy>1</cp:lastModifiedBy>
  <dcterms:modified xsi:type="dcterms:W3CDTF">2014-01-31T11:34:48Z</dcterms:modified>
  <cp:revision>12</cp:revision>
  <dc:subject/>
  <dc:title>Александр Сергеевич Пушкин «Осень»  </dc:title>
</cp:coreProperties>
</file>