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93E-C65F-48D2-BE1A-259B0B45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718-4F5F-40DB-8D5C-C4E7568F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C25-E257-4AC9-AD86-EBB28DA1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176-9F2B-4616-BB16-DC5CB5E6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014-4BFE-4C72-BF6E-E938C22F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37E-89AF-4E67-8E94-665736DB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6D2-3F39-4A4C-9A48-95789A69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515-FEA2-4120-9D44-A98D513E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994-BFDF-4299-A190-255F1999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DF3-DCA2-4D98-B934-13CD233C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096-E518-4139-9570-BB1FC59E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F94-3E41-417D-A13A-CA068287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04FB-1A03-4D20-8E4A-6A48FF5F9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 и его формальное исполн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36720" y="1306440"/>
            <a:ext cx="52563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зыки программирования высокого уро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Ba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4170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5952960" cy="3305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0" r="0" b="27759"/>
          <a:stretch/>
        </p:blipFill>
        <p:spPr>
          <a:xfrm>
            <a:off x="5292720" y="2205000"/>
            <a:ext cx="3592440" cy="3745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14760" y="589752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анцузский физик-матем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8520" y="445608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званная в ч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за Паска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18325" t="6881" r="37311" b="27977"/>
          <a:stretch/>
        </p:blipFill>
        <p:spPr>
          <a:xfrm>
            <a:off x="1476360" y="1197000"/>
            <a:ext cx="6048360" cy="4994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16311" r="85837" b="52542"/>
          <a:stretch/>
        </p:blipFill>
        <p:spPr>
          <a:xfrm>
            <a:off x="250920" y="3429000"/>
            <a:ext cx="2622600" cy="3241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47084" r="85660" b="13708"/>
          <a:stretch/>
        </p:blipFill>
        <p:spPr>
          <a:xfrm>
            <a:off x="6615000" y="2781360"/>
            <a:ext cx="2529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8541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697200" cy="27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771640" y="1341360"/>
            <a:ext cx="3915000" cy="261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64720" y="598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40560" y="608796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0720" y="38955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раммы-транслято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ы-трансля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претатор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иля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339640" y="2133720"/>
            <a:ext cx="115236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2205000"/>
            <a:ext cx="158436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4.1, стр.105-112, составить блок-схему решения квадратного уравнения №4.1, стр.10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предназначенное для конкретного исполнителя точное описание последовательности действий, направленных на решение поставленной за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47493" t="5277" r="0" b="0"/>
          <a:stretch/>
        </p:blipFill>
        <p:spPr>
          <a:xfrm>
            <a:off x="5435640" y="1341360"/>
            <a:ext cx="29001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искретность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деление алгоритма на последовательность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горитмы кулинарных рецептов состоят из отдельных действий, которые обычно нумеруютс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зультативность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ие из исходных данных результата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горитм всегда приводит к результату, алгоритм покраски за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ссовость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применения алгоритма к большому количеству различных исходных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горитмы сложения, вычитания, умножения и 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етерминирова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пределённость)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полнитель должен выполнять команды алгоритма в строго определенной последова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горитм управления самолё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олнимость и понятность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должен содержать команды, входящие в систему команд исполнителя и записанные на понятном исполнителю язы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горитм включения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ок-сх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628640"/>
            <a:ext cx="3024360" cy="57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4200" y="1504800"/>
            <a:ext cx="455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ямоугольник с закругленными углами, применяется для обозначения начала или конца алгорит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34920" y="1916280"/>
            <a:ext cx="50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284640"/>
            <a:ext cx="3097080" cy="6476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35480" y="2944800"/>
            <a:ext cx="40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аллелограмм, предназначен для описания ввода или вывода данных, имеет один вход вверху и один выход вниз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0720" y="350028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013360"/>
            <a:ext cx="25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ов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9480" y="4529160"/>
            <a:ext cx="383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ямоугольник, применяется для описания линей­ной последовательности команд, имеет один вход вверху и один выход вниз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76720" y="5300640"/>
            <a:ext cx="790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ок-сх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060640"/>
            <a:ext cx="2160720" cy="792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41440" y="24922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2492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720" y="209556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5760" y="213372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79840" y="1700280"/>
            <a:ext cx="4052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мб, служит для обозначения условий в алгоритми­ческих структурах «ветвление» и «выбор», имеет один вход верху и два выхода (налево, если условие вы­полняется, и направо, если условие не выполняетс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24360" y="2565360"/>
            <a:ext cx="5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8720" y="4724280"/>
            <a:ext cx="2663640" cy="108108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4560" y="4673520"/>
            <a:ext cx="390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ямоугольник со срезанным углом, применяется для объявления переменных или ввода комментари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708360" y="522936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амма - алгоритм, записанный на «понятном» компьютеру языке програм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шинны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490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6:01:11Z</dcterms:created>
  <dc:creator>WiZaRd</dc:creator>
  <dc:description/>
  <dc:language>en-US</dc:language>
  <cp:lastModifiedBy>WiZaRd</cp:lastModifiedBy>
  <dcterms:modified xsi:type="dcterms:W3CDTF">2013-01-28T17:57:00Z</dcterms:modified>
  <cp:revision>2</cp:revision>
  <dc:subject/>
  <dc:title>Алгоритм и его формальное исполнение </dc:title>
</cp:coreProperties>
</file>