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4FC6-711F-417F-9B08-6E1C8A00DA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38AF-3E91-46CF-80C4-7DE1940922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A103-024F-4F54-B4B4-EFED68E0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7D9A-40AF-476E-BA8B-C4D14892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FC9-5A3D-4008-BB1B-ADFBB02E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C9B6-AD15-4D1A-8EA0-E48D3545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BFEF-686C-4475-A3DE-0E4A18EB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6BB-9347-4308-959D-9C5E2D6A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D7D8-C937-4494-B7ED-1ACE7D6A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9996-0137-4C4E-A652-DDDD5413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9B23-723C-429B-B5BC-45490677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EC54-FC78-4FB7-B4DB-DF20700F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186-A434-419E-9709-28D169D7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A1BD-DE8F-47EC-9812-24AC5902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439F-12A8-46FB-9158-0CD0D3E49260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http://i020.radikal.ru/1012/49/d41d130e64b8.jpg"/>
          <p:cNvPicPr/>
          <p:nvPr/>
        </p:nvPicPr>
        <p:blipFill>
          <a:blip r:embed="rId1"/>
          <a:srcRect l="0" t="12501" r="0" b="12501"/>
          <a:stretch/>
        </p:blipFill>
        <p:spPr>
          <a:xfrm>
            <a:off x="3635280" y="333360"/>
            <a:ext cx="5040360" cy="460836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50" name="Picture 7" descr="{B5C0749C-C7BB-408F-8962-A445721FD786}"/>
          <p:cNvPicPr/>
          <p:nvPr/>
        </p:nvPicPr>
        <p:blipFill>
          <a:blip r:embed="rId2"/>
          <a:srcRect l="6039" t="3345" r="5997" b="4997"/>
          <a:stretch/>
        </p:blipFill>
        <p:spPr>
          <a:xfrm>
            <a:off x="468360" y="820800"/>
            <a:ext cx="2590920" cy="37605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35280" y="5157360"/>
            <a:ext cx="6984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ambria"/>
              </a:rPr>
              <a:t>                       </a:t>
            </a:r>
            <a:r>
              <a:rPr b="0" i="1" lang="ru-RU" sz="2000" spc="-1" strike="noStrike">
                <a:solidFill>
                  <a:srgbClr val="800000"/>
                </a:solidFill>
                <a:latin typeface="Cambria"/>
              </a:rPr>
              <a:t>Лишь добро одно бессмертно. 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Cambria"/>
              </a:rPr>
              <a:t>                       Зло подолгу не живет. 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Cambria"/>
              </a:rPr>
              <a:t>                                                        Шота Руставел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                     </a:t>
            </a: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Елисей, не унывая,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                     </a:t>
            </a: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К ветру кинулся , взывая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                     </a:t>
            </a: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Ветер, ветер! Ты могуч,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8" name="Рисунок 4" descr="&amp;Scy;&amp;kcy;&amp;acy;&amp;zcy;&amp;kcy;&amp;acy; &amp;ocy; &amp;mcy;&amp;iocy;&amp;rcy;&amp;tcy;&amp;vcy;&amp;ocy;&amp;jcy; &amp;TScy;&amp;acy;&amp;rcy;&amp;iecy;&amp;vcy;&amp;ncy;&amp;iecy;"/>
          <p:cNvPicPr/>
          <p:nvPr/>
        </p:nvPicPr>
        <p:blipFill>
          <a:blip r:embed="rId1"/>
          <a:srcRect l="4541" t="0" r="4541" b="0"/>
          <a:stretch/>
        </p:blipFill>
        <p:spPr>
          <a:xfrm>
            <a:off x="826920" y="612720"/>
            <a:ext cx="7490160" cy="476100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440" y="5877000"/>
            <a:ext cx="5486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Перед ним, во мгле печальной,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            </a:t>
            </a: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Гроб качается хрустальный…  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1" name="Рисунок 4" descr="http://i036.radikal.ru/1202/d6/dae5c5f50a9c.jpg"/>
          <p:cNvPicPr/>
          <p:nvPr/>
        </p:nvPicPr>
        <p:blipFill>
          <a:blip r:embed="rId1"/>
          <a:stretch/>
        </p:blipFill>
        <p:spPr>
          <a:xfrm>
            <a:off x="900000" y="476280"/>
            <a:ext cx="7344000" cy="532908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16000" y="5727240"/>
            <a:ext cx="316836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68000" y="5805000"/>
            <a:ext cx="44643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          </a:t>
            </a: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В руки он её берёт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          </a:t>
            </a: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И на свет из тьмы несёт,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4" name="Рисунок 5" descr="&amp;Scy;&amp;kcy;&amp;acy;&amp;zcy;&amp;kcy;&amp;acy; &amp;ocy; &amp;mcy;&amp;iocy;&amp;rcy;&amp;tcy;&amp;vcy;&amp;ocy;&amp;jcy; &amp;TScy;&amp;acy;&amp;rcy;&amp;iecy;&amp;vcy;&amp;ncy;&amp;iecy;"/>
          <p:cNvPicPr/>
          <p:nvPr/>
        </p:nvPicPr>
        <p:blipFill>
          <a:blip r:embed="rId1"/>
          <a:stretch/>
        </p:blipFill>
        <p:spPr>
          <a:xfrm>
            <a:off x="2411280" y="333360"/>
            <a:ext cx="4321440" cy="518328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35280" y="5660640"/>
            <a:ext cx="54864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Cambria"/>
              </a:rPr>
              <a:t>И с невестою свое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Cambria"/>
              </a:rPr>
              <a:t>    </a:t>
            </a:r>
            <a:r>
              <a:rPr b="0" lang="ru-RU" sz="2800" spc="-1" strike="noStrike">
                <a:solidFill>
                  <a:srgbClr val="660033"/>
                </a:solidFill>
                <a:latin typeface="Cambria"/>
              </a:rPr>
              <a:t>Обвенчался Елисей</a:t>
            </a:r>
            <a:r>
              <a:rPr b="0" lang="ru-RU" sz="2800" spc="-1" strike="noStrike">
                <a:solidFill>
                  <a:srgbClr val="dd7e0e"/>
                </a:solidFill>
                <a:latin typeface="Cambri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7" name="Рисунок 4" descr="&amp;Scy;&amp;kcy;&amp;acy;&amp;zcy;&amp;kcy;&amp;acy; &amp;ocy; &amp;mcy;&amp;iocy;&amp;rcy;&amp;tcy;&amp;vcy;&amp;ocy;&amp;jcy; &amp;TScy;&amp;acy;&amp;rcy;&amp;iecy;&amp;vcy;&amp;ncy;&amp;iecy;"/>
          <p:cNvPicPr/>
          <p:nvPr/>
        </p:nvPicPr>
        <p:blipFill>
          <a:blip r:embed="rId1"/>
          <a:srcRect l="5743" t="0" r="5743" b="0"/>
          <a:stretch/>
        </p:blipFill>
        <p:spPr>
          <a:xfrm>
            <a:off x="1187280" y="612720"/>
            <a:ext cx="6697800" cy="504828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libri"/>
              </a:rPr>
              <a:t>«Зло» и «Добр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58920" y="1125360"/>
          <a:ext cx="6842160" cy="5196240"/>
        </p:xfrm>
        <a:graphic>
          <a:graphicData uri="http://schemas.openxmlformats.org/drawingml/2006/table">
            <a:tbl>
              <a:tblPr/>
              <a:tblGrid>
                <a:gridCol w="2281320"/>
                <a:gridCol w="2279520"/>
                <a:gridCol w="2281320"/>
              </a:tblGrid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d0d0d"/>
                          </a:solidFill>
                          <a:latin typeface="Cambria"/>
                        </a:rPr>
                        <a:t>Цар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mbria"/>
                        </a:rPr>
                        <a:t>Царе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Cambria"/>
                        </a:rPr>
                        <a:t>Внеш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mbria"/>
                        </a:rPr>
                        <a:t>выс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mbria"/>
                        </a:rPr>
                        <a:t>строй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mbria"/>
                        </a:rPr>
                        <a:t>б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Cambria"/>
                        </a:rPr>
                        <a:t>белол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Cambria"/>
                        </a:rPr>
                        <a:t>чернобр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22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Cambria"/>
                        </a:rPr>
                        <a:t>Поведение, характ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53280" rIns="53280" tIns="53280" bIns="532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горд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ломли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своенра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ревни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зл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Cambria"/>
                        </a:rPr>
                        <a:t>красавица-ду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Cambria"/>
                        </a:rPr>
                        <a:t>мил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Cambria"/>
                        </a:rPr>
                        <a:t>приветли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Cambria"/>
                        </a:rPr>
                        <a:t>Ц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d0d0d"/>
                          </a:solidFill>
                          <a:latin typeface="Cambria"/>
                        </a:rPr>
                        <a:t>чёр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Cambria"/>
                        </a:rPr>
                        <a:t>бел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Cambria"/>
                        </a:rPr>
                        <a:t>крас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Calibri"/>
              </a:rPr>
              <a:t>Если очень захоте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               </a:t>
            </a: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Если очень захотеть,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               </a:t>
            </a: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В сказке можно очутиться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               </a:t>
            </a: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У героев старых сказок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               </a:t>
            </a: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Можем мы всю жизнь учиться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               </a:t>
            </a: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Как прекрасно добрым быть,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               </a:t>
            </a: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Как со злом бороться надо,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               </a:t>
            </a: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Как в житейском море плыть,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               </a:t>
            </a:r>
            <a:r>
              <a:rPr b="0" lang="ru-RU" sz="3200" spc="-1" strike="noStrike">
                <a:solidFill>
                  <a:srgbClr val="660033"/>
                </a:solidFill>
                <a:latin typeface="Cambria"/>
              </a:rPr>
              <a:t>Чтоб в конце ждала награда!..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440" y="5366880"/>
            <a:ext cx="5486400" cy="11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Cambria"/>
              </a:rPr>
              <a:t>И царица у окн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Cambria"/>
              </a:rPr>
              <a:t>           </a:t>
            </a:r>
            <a:r>
              <a:rPr b="0" lang="ru-RU" sz="2800" spc="-1" strike="noStrike">
                <a:solidFill>
                  <a:srgbClr val="660033"/>
                </a:solidFill>
                <a:latin typeface="Cambria"/>
              </a:rPr>
              <a:t>Села ждать его одна…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" name="Рисунок 4" descr="&amp;Scy;&amp;kcy;&amp;acy;&amp;zcy;&amp;kcy;&amp;acy; &amp;ocy; &amp;mcy;&amp;iocy;&amp;rcy;&amp;tcy;&amp;vcy;&amp;ocy;&amp;jcy; &amp;TScy;&amp;acy;&amp;rcy;&amp;iecy;&amp;vcy;&amp;ncy;&amp;iecy;"/>
          <p:cNvPicPr/>
          <p:nvPr/>
        </p:nvPicPr>
        <p:blipFill>
          <a:blip r:embed="rId1"/>
          <a:srcRect l="0" t="24261" r="0" b="24261"/>
          <a:stretch/>
        </p:blipFill>
        <p:spPr>
          <a:xfrm>
            <a:off x="1332000" y="476280"/>
            <a:ext cx="6696000" cy="489744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440" y="5589720"/>
            <a:ext cx="5486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Cambria"/>
              </a:rPr>
              <a:t>         </a:t>
            </a:r>
            <a:r>
              <a:rPr b="0" lang="ru-RU" sz="2800" spc="-1" strike="noStrike">
                <a:solidFill>
                  <a:srgbClr val="660033"/>
                </a:solidFill>
                <a:latin typeface="Cambria"/>
              </a:rPr>
              <a:t>Правду молвить, молодиц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Cambria"/>
              </a:rPr>
              <a:t>         </a:t>
            </a:r>
            <a:r>
              <a:rPr b="0" lang="ru-RU" sz="2800" spc="-1" strike="noStrike">
                <a:solidFill>
                  <a:srgbClr val="660033"/>
                </a:solidFill>
                <a:latin typeface="Cambria"/>
              </a:rPr>
              <a:t>Уж и впрямь была царица: </a:t>
            </a:r>
            <a:r>
              <a:rPr b="0" lang="ru-RU" sz="2800" spc="-1" strike="noStrike">
                <a:solidFill>
                  <a:srgbClr val="dd7e0e"/>
                </a:solidFill>
                <a:latin typeface="Cambri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7" name="Рисунок 4" descr="&amp;Scy;&amp;kcy;&amp;acy;&amp;zcy;&amp;kcy;&amp;acy; &amp;ocy; &amp;mcy;&amp;iocy;&amp;rcy;&amp;tcy;&amp;vcy;&amp;ocy;&amp;jcy; &amp;TScy;&amp;acy;&amp;rcy;&amp;iecy;&amp;vcy;&amp;ncy;&amp;iecy;"/>
          <p:cNvPicPr/>
          <p:nvPr/>
        </p:nvPicPr>
        <p:blipFill>
          <a:blip r:embed="rId1"/>
          <a:srcRect l="0" t="24636" r="0" b="24636"/>
          <a:stretch/>
        </p:blipFill>
        <p:spPr>
          <a:xfrm>
            <a:off x="1116000" y="612720"/>
            <a:ext cx="6840720" cy="483228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8000" y="5444640"/>
            <a:ext cx="54864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            </a:t>
            </a: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Вот Чернавка в лес пошл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            </a:t>
            </a: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И в такую даль свела,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            </a:t>
            </a: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Что царевна догадалась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,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0" name="Рисунок 4" descr="&amp;Scy;&amp;kcy;&amp;acy;&amp;zcy;&amp;kcy;&amp;acy; &amp;ocy; &amp;mcy;&amp;iocy;&amp;rcy;&amp;tcy;&amp;vcy;&amp;ocy;&amp;jcy; &amp;TScy;&amp;acy;&amp;rcy;&amp;iecy;&amp;vcy;&amp;ncy;&amp;iecy;"/>
          <p:cNvPicPr/>
          <p:nvPr/>
        </p:nvPicPr>
        <p:blipFill>
          <a:blip r:embed="rId1"/>
          <a:srcRect l="0" t="25016" r="0" b="25016"/>
          <a:stretch/>
        </p:blipFill>
        <p:spPr>
          <a:xfrm>
            <a:off x="1258920" y="549360"/>
            <a:ext cx="6769080" cy="482436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63640" y="5589360"/>
            <a:ext cx="561672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                           </a:t>
            </a: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Но невеста молода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                           </a:t>
            </a: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До зари в лесу блуждая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                           </a:t>
            </a: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Между тем всё шла да шла…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3" name="Рисунок 4" descr="&amp;Scy;&amp;kcy;&amp;acy;&amp;zcy;&amp;kcy;&amp;acy; &amp;ocy; &amp;mcy;&amp;iocy;&amp;rcy;&amp;tcy;&amp;vcy;&amp;ocy;&amp;jcy; &amp;TScy;&amp;acy;&amp;rcy;&amp;iecy;&amp;vcy;&amp;ncy;&amp;iecy;"/>
          <p:cNvPicPr/>
          <p:nvPr/>
        </p:nvPicPr>
        <p:blipFill>
          <a:blip r:embed="rId1"/>
          <a:srcRect l="0" t="24325" r="0" b="24325"/>
          <a:stretch/>
        </p:blipFill>
        <p:spPr>
          <a:xfrm>
            <a:off x="1258920" y="620640"/>
            <a:ext cx="6626160" cy="475308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95640" y="5013360"/>
            <a:ext cx="50832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              </a:t>
            </a: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И невеста  к ним сошл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              </a:t>
            </a: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Честь хозяям отдал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              </a:t>
            </a: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В пояс  низко поклонилась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6" name="Picture 2" descr="&amp;Scy;&amp;kcy;&amp;acy;&amp;zcy;&amp;kcy;&amp;acy; &amp;ocy; &amp;mcy;&amp;iocy;&amp;rcy;&amp;tcy;&amp;vcy;&amp;ocy;&amp;jcy; &amp;TScy;&amp;acy;&amp;rcy;&amp;iecy;&amp;vcy;&amp;ncy;&amp;iecy;"/>
          <p:cNvPicPr/>
          <p:nvPr/>
        </p:nvPicPr>
        <p:blipFill>
          <a:blip r:embed="rId1"/>
          <a:srcRect l="0" t="24829" r="0" b="2482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         </a:t>
            </a: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И к царевне наливное,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Молодое, золотое,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           </a:t>
            </a:r>
            <a:r>
              <a:rPr b="0" lang="ru-RU" sz="2400" spc="-1" strike="noStrike">
                <a:solidFill>
                  <a:srgbClr val="660033"/>
                </a:solidFill>
                <a:latin typeface="Cambria"/>
              </a:rPr>
              <a:t>Прямо яблочко летит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9" name="Рисунок 4" descr="&amp;Scy;&amp;kcy;&amp;acy;&amp;zcy;&amp;kcy;&amp;acy; &amp;ocy; &amp;mcy;&amp;iocy;&amp;rcy;&amp;tcy;&amp;vcy;&amp;ocy;&amp;jcy; &amp;TScy;&amp;acy;&amp;rcy;&amp;iecy;&amp;vcy;&amp;ncy;&amp;iecy;"/>
          <p:cNvPicPr/>
          <p:nvPr/>
        </p:nvPicPr>
        <p:blipFill>
          <a:blip r:embed="rId1"/>
          <a:srcRect l="0" t="24788" r="0" b="24788"/>
          <a:stretch/>
        </p:blipFill>
        <p:spPr>
          <a:xfrm>
            <a:off x="971640" y="476280"/>
            <a:ext cx="7345440" cy="496728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35280" y="5589360"/>
            <a:ext cx="54864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                           </a:t>
            </a: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Братья в ту пору домой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                           </a:t>
            </a: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Возвращалися толпой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                           </a:t>
            </a: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С молодецкого разбоя..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2" name="Рисунок 4" descr="&amp;Scy;&amp;kcy;&amp;acy;&amp;zcy;&amp;kcy;&amp;acy; &amp;ocy; &amp;mcy;&amp;iocy;&amp;rcy;&amp;tcy;&amp;vcy;&amp;ocy;&amp;jcy; &amp;TScy;&amp;acy;&amp;rcy;&amp;iecy;&amp;vcy;&amp;ncy;&amp;iecy;"/>
          <p:cNvPicPr/>
          <p:nvPr/>
        </p:nvPicPr>
        <p:blipFill>
          <a:blip r:embed="rId1"/>
          <a:srcRect l="0" t="24700" r="0" b="24700"/>
          <a:stretch/>
        </p:blipFill>
        <p:spPr>
          <a:xfrm>
            <a:off x="1042920" y="612720"/>
            <a:ext cx="7129440" cy="476100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640" y="5516640"/>
            <a:ext cx="54864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                     </a:t>
            </a: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Перед мёртвою царевной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                     </a:t>
            </a: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Братья в горести душевной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                     </a:t>
            </a:r>
            <a:r>
              <a:rPr b="0" lang="ru-RU" sz="2000" spc="-1" strike="noStrike">
                <a:solidFill>
                  <a:srgbClr val="660033"/>
                </a:solidFill>
                <a:latin typeface="Cambria"/>
              </a:rPr>
              <a:t>Все поникли головой…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5" name="Рисунок 4" descr="&amp;Scy;&amp;kcy;&amp;acy;&amp;zcy;&amp;kcy;&amp;acy; &amp;ocy; &amp;mcy;&amp;iocy;&amp;rcy;&amp;tcy;&amp;vcy;&amp;ocy;&amp;jcy; &amp;TScy;&amp;acy;&amp;rcy;&amp;iecy;&amp;vcy;&amp;ncy;&amp;iecy;"/>
          <p:cNvPicPr/>
          <p:nvPr/>
        </p:nvPicPr>
        <p:blipFill>
          <a:blip r:embed="rId1"/>
          <a:srcRect l="5790" t="0" r="5790" b="0"/>
          <a:stretch/>
        </p:blipFill>
        <p:spPr>
          <a:xfrm>
            <a:off x="1042920" y="476280"/>
            <a:ext cx="7058160" cy="489744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1:09:16Z</dcterms:created>
  <dc:creator>анатолий</dc:creator>
  <dc:description/>
  <dc:language>en-US</dc:language>
  <cp:lastModifiedBy>анатолий</cp:lastModifiedBy>
  <dcterms:modified xsi:type="dcterms:W3CDTF">2012-10-08T12:19:35Z</dcterms:modified>
  <cp:revision>58</cp:revision>
  <dc:subject/>
  <dc:title>Слайд 1</dc:title>
</cp:coreProperties>
</file>