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F45B-5B57-4AFE-84BA-3AB169D2F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2F7E-1B9D-4A01-897C-17B662135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017-1505-4D74-B09F-96E03CDC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7DD-2EDB-47A9-9F49-31EAC562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635-C2DB-415B-AC34-FE57D42E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441-9F1B-4747-8B25-362BA242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477-05AE-4FA1-8170-4CE2396D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5C4-6FF1-41DD-B387-77FB9078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1FE-35CA-457B-9FEC-5F25ECC5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4A0-FC3D-49AD-BB42-6A3A9624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FED-0F7C-41EA-B056-5AA0C6A9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F30-BAA1-4503-A015-A58D647F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3D7-A245-4A54-A3C4-1021462B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6CE-5C1B-473B-B3F2-721E109E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A2CE-7563-41E4-8E90-5E872E979796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http://i020.radikal.ru/1012/49/d41d130e64b8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3635280" y="333360"/>
            <a:ext cx="5040360" cy="46083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50" name="Picture 7" descr="{B5C0749C-C7BB-408F-8962-A445721FD786}"/>
          <p:cNvPicPr/>
          <p:nvPr/>
        </p:nvPicPr>
        <p:blipFill>
          <a:blip r:embed="rId2"/>
          <a:srcRect l="6039" t="3345" r="5997" b="4997"/>
          <a:stretch/>
        </p:blipFill>
        <p:spPr>
          <a:xfrm>
            <a:off x="468360" y="820800"/>
            <a:ext cx="2590920" cy="37605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5280" y="5157360"/>
            <a:ext cx="6984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ambria"/>
              </a:rPr>
              <a:t>        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Cambria"/>
              </a:rPr>
              <a:t>Лишь добро одно бессмертно. 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Cambria"/>
              </a:rPr>
              <a:t>                       Зло подолгу не живет. 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Cambria"/>
              </a:rPr>
              <a:t>                                                        Шота Руставел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Елисей, не унывая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К ветру кинулся , взывая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Ветер, ветер! Ты могуч,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8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4541" t="0" r="4541" b="0"/>
          <a:stretch/>
        </p:blipFill>
        <p:spPr>
          <a:xfrm>
            <a:off x="826920" y="612720"/>
            <a:ext cx="7490160" cy="47610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440" y="5877000"/>
            <a:ext cx="5486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Перед ним, во мгле печальной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Гроб качается хрустальный…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1" name="Рисунок 4" descr="http://i036.radikal.ru/1202/d6/dae5c5f50a9c.jpg"/>
          <p:cNvPicPr/>
          <p:nvPr/>
        </p:nvPicPr>
        <p:blipFill>
          <a:blip r:embed="rId1"/>
          <a:stretch/>
        </p:blipFill>
        <p:spPr>
          <a:xfrm>
            <a:off x="900000" y="476280"/>
            <a:ext cx="7344000" cy="53290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16000" y="5727240"/>
            <a:ext cx="31683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68000" y="5805000"/>
            <a:ext cx="4464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В руки он её берёт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И на свет из тьмы несёт,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4" name="Рисунок 5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tretch/>
        </p:blipFill>
        <p:spPr>
          <a:xfrm>
            <a:off x="2411280" y="333360"/>
            <a:ext cx="4321440" cy="51832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35280" y="5660640"/>
            <a:ext cx="54864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И с невестою свое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Обвенчался Елисей</a:t>
            </a:r>
            <a:r>
              <a:rPr b="0" lang="ru-RU" sz="2800" spc="-1" strike="noStrike">
                <a:solidFill>
                  <a:srgbClr val="dd7e0e"/>
                </a:solidFill>
                <a:latin typeface="Cambr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7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5743" t="0" r="5743" b="0"/>
          <a:stretch/>
        </p:blipFill>
        <p:spPr>
          <a:xfrm>
            <a:off x="1187280" y="612720"/>
            <a:ext cx="6697800" cy="50482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«Зло» и «Добр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58920" y="1125360"/>
          <a:ext cx="6842160" cy="5196240"/>
        </p:xfrm>
        <a:graphic>
          <a:graphicData uri="http://schemas.openxmlformats.org/drawingml/2006/table">
            <a:tbl>
              <a:tblPr/>
              <a:tblGrid>
                <a:gridCol w="2281320"/>
                <a:gridCol w="2279520"/>
                <a:gridCol w="228132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Цар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mbria"/>
                        </a:rPr>
                        <a:t>Цар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Cambria"/>
                        </a:rPr>
                        <a:t>Внеш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выс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строй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б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бело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чернобр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22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Cambria"/>
                        </a:rPr>
                        <a:t>Поведение, харак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53280" rIns="53280" tIns="53280" bIns="532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гор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ломл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своенра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ревн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з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красавица-д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ми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приветли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Cambria"/>
                        </a:rPr>
                        <a:t>Ц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чё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Calibri"/>
              </a:rPr>
              <a:t>Если очень захоте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Если очень захоте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В сказке можно очутиться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У героев старых сказок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Можем мы всю жизнь учиться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Как прекрасно добрым бы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Как со злом бороться надо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Как в житейском море плы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Чтоб в конце ждала награда!..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6880"/>
            <a:ext cx="548640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И царица у окн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           </a:t>
            </a: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Села ждать его одна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261" r="0" b="24261"/>
          <a:stretch/>
        </p:blipFill>
        <p:spPr>
          <a:xfrm>
            <a:off x="1332000" y="476280"/>
            <a:ext cx="6696000" cy="48974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440" y="5589720"/>
            <a:ext cx="5486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         </a:t>
            </a: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Правду молвить, молодиц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         </a:t>
            </a: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Уж и впрямь была царица: </a:t>
            </a:r>
            <a:r>
              <a:rPr b="0" lang="ru-RU" sz="2800" spc="-1" strike="noStrike">
                <a:solidFill>
                  <a:srgbClr val="dd7e0e"/>
                </a:solidFill>
                <a:latin typeface="Cambr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636" r="0" b="24636"/>
          <a:stretch/>
        </p:blipFill>
        <p:spPr>
          <a:xfrm>
            <a:off x="1116000" y="612720"/>
            <a:ext cx="6840720" cy="48322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8000" y="5444640"/>
            <a:ext cx="5486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Вот Чернавка в лес пошл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И в такую даль свела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Что царевна догадалась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5016" r="0" b="25016"/>
          <a:stretch/>
        </p:blipFill>
        <p:spPr>
          <a:xfrm>
            <a:off x="1258920" y="549360"/>
            <a:ext cx="6769080" cy="48243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640" y="5589360"/>
            <a:ext cx="5616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Но невеста молода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До зари в лесу блужд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Между тем всё шла да шла…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3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325" r="0" b="24325"/>
          <a:stretch/>
        </p:blipFill>
        <p:spPr>
          <a:xfrm>
            <a:off x="1258920" y="620640"/>
            <a:ext cx="6626160" cy="47530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95640" y="5013360"/>
            <a:ext cx="50832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И невеста  к ним сош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Честь хозяям отд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В пояс  низко поклонилась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6" name="Picture 2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829" r="0" b="2482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И к царевне наливное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Молодое, золотое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Прямо яблочко летит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9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788" r="0" b="24788"/>
          <a:stretch/>
        </p:blipFill>
        <p:spPr>
          <a:xfrm>
            <a:off x="971640" y="476280"/>
            <a:ext cx="7345440" cy="49672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5280" y="5589360"/>
            <a:ext cx="5486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Братья в ту пору домо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Возвращалися толпо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С молодецкого разбоя..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2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700" r="0" b="24700"/>
          <a:stretch/>
        </p:blipFill>
        <p:spPr>
          <a:xfrm>
            <a:off x="1042920" y="612720"/>
            <a:ext cx="7129440" cy="47610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640" y="5516640"/>
            <a:ext cx="54864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Перед мёртвою царевно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Братья в горести душевной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Все поникли головой…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5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5790" t="0" r="5790" b="0"/>
          <a:stretch/>
        </p:blipFill>
        <p:spPr>
          <a:xfrm>
            <a:off x="1042920" y="476280"/>
            <a:ext cx="7058160" cy="48974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1:09:16Z</dcterms:created>
  <dc:creator>анатолий</dc:creator>
  <dc:description/>
  <dc:language>en-US</dc:language>
  <cp:lastModifiedBy>анатолий</cp:lastModifiedBy>
  <dcterms:modified xsi:type="dcterms:W3CDTF">2012-10-08T12:19:35Z</dcterms:modified>
  <cp:revision>58</cp:revision>
  <dc:subject/>
  <dc:title>Слайд 1</dc:title>
</cp:coreProperties>
</file>