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B1A-629A-4E80-A81C-6B515B27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C34-D707-4A45-8514-B9CCDA1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8F5-15D7-4BFA-9853-6C3302A4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50C-760E-4B3F-AD39-AF14E5C8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FAC-A5C3-4624-BD43-ECDAD4D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CEF-F197-4A27-9E4F-7FF725C0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76F-8D2D-47FF-BF89-9510C3A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F48-C45F-4155-950E-6D5A5622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B30-3F33-40FD-82C3-8D49F64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F80-737D-4FE3-B745-7F927DD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4AB-8799-4F49-9AEC-610B81DB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03C-B3A0-4070-AA36-F1FA2C0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710-96FC-49AD-8B86-167A49672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1773360"/>
            <a:ext cx="8654760" cy="2543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i45.beon.ru/84/97/1619784/16/51339416/0631fc0f33bb.jpeg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oboxote.ru/wp-content/uploads/2012/03/0238.jpg"/>
          <p:cNvPicPr/>
          <p:nvPr/>
        </p:nvPicPr>
        <p:blipFill>
          <a:blip r:embed="rId3"/>
          <a:stretch/>
        </p:blipFill>
        <p:spPr>
          <a:xfrm>
            <a:off x="6372360" y="4508640"/>
            <a:ext cx="2463840" cy="21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sibalp.com/Bases_Altay/resort17.jpg"/>
          <p:cNvPicPr/>
          <p:nvPr/>
        </p:nvPicPr>
        <p:blipFill>
          <a:blip r:embed="rId4"/>
          <a:stretch/>
        </p:blipFill>
        <p:spPr>
          <a:xfrm>
            <a:off x="3395520" y="4508640"/>
            <a:ext cx="2786040" cy="20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2krota.ru/uploads/posts/2011-08/thumbs/1313074338_wallpapers_specially_for_jo-jo-48.jpg"/>
          <p:cNvPicPr/>
          <p:nvPr/>
        </p:nvPicPr>
        <p:blipFill>
          <a:blip r:embed="rId5"/>
          <a:srcRect l="2520" t="0" r="8025" b="5251"/>
          <a:stretch/>
        </p:blipFill>
        <p:spPr>
          <a:xfrm>
            <a:off x="142920" y="4508640"/>
            <a:ext cx="320508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nfosmi.net/images/resized/images/stories/articles/2013/proisshestviya/08-2013/09/medved_2_480_270.jpg"/>
          <p:cNvPicPr/>
          <p:nvPr/>
        </p:nvPicPr>
        <p:blipFill>
          <a:blip r:embed="rId6"/>
          <a:stretch/>
        </p:blipFill>
        <p:spPr>
          <a:xfrm>
            <a:off x="5867280" y="260280"/>
            <a:ext cx="3060720" cy="172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http://newkaliningrad-st.cdn.ngenix.net/forum/uploads/profile/photo-136075.jpg?_r=1360058413"/>
          <p:cNvPicPr/>
          <p:nvPr/>
        </p:nvPicPr>
        <p:blipFill>
          <a:blip r:embed="rId7"/>
          <a:stretch/>
        </p:blipFill>
        <p:spPr>
          <a:xfrm>
            <a:off x="2987640" y="189000"/>
            <a:ext cx="2432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50920" y="549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Животный мир Краснодарского края весьма разнообразен, благодаря мягкому климату и щедрому растите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yunet.ru/sites/default/files/imagecache/gallery_assist-default-preview-800/gallery_assist/2/gallery_assist178/altay-233.jpg"/>
          <p:cNvPicPr/>
          <p:nvPr/>
        </p:nvPicPr>
        <p:blipFill>
          <a:blip r:embed="rId1"/>
          <a:stretch/>
        </p:blipFill>
        <p:spPr>
          <a:xfrm>
            <a:off x="4932360" y="3645000"/>
            <a:ext cx="4091040" cy="307188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pic>
        <p:nvPicPr>
          <p:cNvPr id="50" name="Picture 4" descr="http://img1.liveinternet.ru/images/attach/c/0/63/190/63190654_77c70aadad72.jpg"/>
          <p:cNvPicPr/>
          <p:nvPr/>
        </p:nvPicPr>
        <p:blipFill>
          <a:blip r:embed="rId2"/>
          <a:stretch/>
        </p:blipFill>
        <p:spPr>
          <a:xfrm>
            <a:off x="0" y="1700280"/>
            <a:ext cx="4873680" cy="32637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79280" y="11592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реди животных можно встретить как хищников большого размера, так и мелких грызунов и пау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ata.photo.sibnet.ru/upload/imggreat/124842160869.jpg"/>
          <p:cNvPicPr/>
          <p:nvPr/>
        </p:nvPicPr>
        <p:blipFill>
          <a:blip r:embed="rId1"/>
          <a:srcRect l="0" t="4490" r="0" b="4191"/>
          <a:stretch/>
        </p:blipFill>
        <p:spPr>
          <a:xfrm>
            <a:off x="250920" y="1197000"/>
            <a:ext cx="4176720" cy="284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yugopolis.ru/data/mediadb/2383/0000/0738/73872.jpg"/>
          <p:cNvPicPr/>
          <p:nvPr/>
        </p:nvPicPr>
        <p:blipFill>
          <a:blip r:embed="rId2"/>
          <a:stretch/>
        </p:blipFill>
        <p:spPr>
          <a:xfrm>
            <a:off x="4427640" y="1197000"/>
            <a:ext cx="4225680" cy="281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img12.nnm.ru/0/3/b/6/d/03b6d85b98d742852230163191ba07d4_full.jpg"/>
          <p:cNvPicPr/>
          <p:nvPr/>
        </p:nvPicPr>
        <p:blipFill>
          <a:blip r:embed="rId3"/>
          <a:stretch/>
        </p:blipFill>
        <p:spPr>
          <a:xfrm>
            <a:off x="2627280" y="3789360"/>
            <a:ext cx="3529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833 0.21435 C 0.50798 0.20208 0.50868 0.18981 0.50711 0.17777 C 0.5059 0.16852 0.50104 0.16064 0.49756 0.15254 C 0.48993 0.13449 0.48177 0.11759 0.47378 0.1 C 0.46163 0.07338 0.45329 0.04375 0.44288 0.01597 C 0.42881 -0.02153 0.41371 -0.05834 0.39878 -0.09514 C 0.396 -0.10209 0.39253 -0.10857 0.39045 -0.11574 C 0.38524 -0.13311 0.38159 -0.15139 0.375 -0.16806 C 0.35798 -0.21111 0.34566 -0.25695 0.32847 -0.3 C 0.31875 -0.32431 0.31093 -0.35047 0.29878 -0.37292 C 0.27986 -0.40787 0.25868 -0.44422 0.24288 -0.48241 C 0.22222 -0.53172 0.20486 -0.5838 0.18454 -0.63334 C 0.18159 -0.64051 0.18072 -0.63843 0.17743 -0.64445 C 0.17222 -0.65371 0.1684 -0.66551 0.16302 -0.67454 C 0.15173 -0.69306 0.17066 -0.65232 0.15468 -0.68565 C 0.15052 -0.69445 0.14895 -0.70278 0.14409 -0.71111 C 0.14149 -0.72477 0.14513 -0.70996 0.13576 -0.72848 C 0.1309 -0.7382 0.12777 -0.74908 0.12256 -0.75857 C 0.11822 -0.76644 0.11336 -0.77408 0.10954 -0.78241 C 0.10625 -0.78936 0.10468 -0.79422 0.09878 -0.79676 C 0.08125 -0.7919 0.05954 -0.7551 0.04739 -0.73797 C 0.04375 -0.73264 0.03941 -0.72778 0.03576 -0.72223 C 0.03263 -0.71736 0.03072 -0.71111 0.02743 -0.70625 C 0.00954 -0.67986 0.0177 -0.70139 0.00121 -0.66968 C -0.01563 -0.63727 -0.03004 -0.60301 -0.04757 -0.5713 C -0.0632 -0.54306 -0.0507 -0.5676 -0.06789 -0.54121 C -0.0823 -0.51922 -0.09549 -0.49306 -0.10487 -0.46667 C -0.10643 -0.46204 -0.10678 -0.45695 -0.10834 -0.45232 C -0.12049 -0.41505 -0.13855 -0.38102 -0.15365 -0.34584 C -0.16007 -0.33102 -0.16563 -0.31528 -0.17153 -0.3 C -0.17796 -0.28334 -0.1875 -0.26875 -0.19428 -0.25232 C -0.19896 -0.24074 -0.20226 -0.22778 -0.20834 -0.21736 C -0.2323 -0.17732 -0.2533 -0.13473 -0.27744 -0.09514 C -0.30816 -0.04468 -0.34306 0.00254 -0.37257 0.05416 C -0.38369 0.07361 -0.39184 0.09537 -0.40365 0.11435 C -0.40973 0.13842 -0.425 0.15902 -0.43577 0.17939 C -0.4382 0.18935 -0.4441 0.19652 -0.44879 0.20486 C -0.44983 0.20671 -0.45365 0.20578 -0.45365 0.2081 C -0.45365 0.21041 -0.45035 0.20694 -0.44879 0.20648 C -0.42309 0.17801 -0.39514 0.15277 -0.36789 0.12708 C -0.36077 0.12037 -0.35191 0.11736 -0.34532 0.10972 C -0.33282 0.09514 -0.31823 0.08472 -0.30591 0.0699 C -0.29601 0.0581 -0.28629 0.04467 -0.27622 0.03333 C -0.26858 0.02477 -0.25938 0.01898 -0.25244 0.00972 C -0.23907 -0.00811 -0.22553 -0.02408 -0.21198 -0.04121 C -0.19948 -0.05741 -0.18959 -0.07801 -0.17744 -0.09514 C -0.16164 -0.11783 -0.14428 -0.13936 -0.12744 -0.16019 C -0.11563 -0.17477 -0.10539 -0.19121 -0.09289 -0.20463 C -0.05695 -0.24329 -0.01789 -0.27686 0.02013 -0.31111 C 0.04687 -0.33542 0.02621 -0.32199 0.05329 -0.34283 C 0.07534 -0.35973 0.09687 -0.37686 0.11909 -0.39352 C 0.12343 -0.39676 0.12691 -0.40232 0.1309 -0.40625 C 0.15208 -0.42732 0.17378 -0.44723 0.19513 -0.46806 C 0.21197 -0.48449 0.22552 -0.5051 0.24288 -0.52084 C 0.2625 -0.53797 0.28211 -0.55533 0.30121 -0.57292 C 0.30711 -0.57824 0.31319 -0.58773 0.32013 -0.5919 C 0.32413 -0.59422 0.33211 -0.59838 0.33211 -0.59838 C 0.33975 -0.60811 0.35225 -0.6125 0.3618 -0.61736 C 0.3717 -0.62246 0.38159 -0.62547 0.39166 -0.6301 C 0.40069 -0.63426 0.41197 -0.63241 0.42135 -0.63473 C 0.52343 -0.63056 0.53333 -0.67917 0.53923 -0.61135 C 0.53854 -0.58843 0.54305 -0.5669 0.5309 -0.5507 C 0.52222 -0.52269 0.50763 -0.49699 0.49635 -0.4713 C 0.4868 -0.44954 0.47795 -0.42662 0.46909 -0.40463 C 0.46423 -0.39236 0.45711 -0.38218 0.45121 -0.3713 C 0.43472 -0.34074 0.41961 -0.30926 0.40243 -0.27917 C 0.38767 -0.25324 0.37864 -0.22871 0.36666 -0.2 C 0.33941 -0.13449 0.35468 -0.1757 0.33333 -0.13635 C 0.31475 -0.10186 0.29947 -0.06574 0.28211 -0.0301 C 0.26892 -0.00324 0.25694 0.02384 0.24288 0.0493 C 0.22968 0.07314 0.21961 0.1 0.20347 0.12083 C 0.19618 0.13009 0.18906 0.13958 0.1809 0.14768 C 0.17777 0.15092 0.1743 0.1537 0.17135 0.15717 C 0.16927 0.15972 0.1677 0.16296 0.16545 0.16527 C 0.16093 0.17037 0.15121 0.17939 0.15121 0.17939 C 0.146 0.17893 0.11388 0.17893 0.10121 0.17314 C 0.07291 0.16041 0.05312 0.13611 0.0309 0.11111 C 0.02447 0.1037 0.01718 0.09768 0.01076 0.09051 C -0.00816 0.06921 -0.02657 0.04722 -0.04532 0.02546 C -0.05434 0.01481 -0.06233 0.00208 -0.07257 -0.00625 C -0.11025 -0.03681 -0.14341 -0.07246 -0.17744 -0.10949 C -0.21216 -0.14723 -0.21719 -0.14584 -0.25487 -0.2 C -0.26511 -0.21482 -0.27761 -0.22755 -0.28577 -0.24468 C -0.29514 -0.26366 -0.30209 -0.28334 -0.31077 -0.30301 C -0.31372 -0.31806 -0.31546 -0.33148 -0.32032 -0.34584 C -0.32414 -0.37917 -0.32744 -0.4125 -0.33091 -0.44584 C -0.33056 -0.48287 -0.33056 -0.51991 -0.32987 -0.55695 C -0.32969 -0.57037 -0.32535 -0.57986 -0.32171 -0.5919 C -0.31337 -0.61945 -0.30851 -0.64584 -0.28455 -0.65232 C -0.2408 -0.65139 -0.20296 -0.65186 -0.16077 -0.64584 C -0.14688 -0.64028 -0.13577 -0.6382 -0.12153 -0.63635 C -0.10851 -0.63311 -0.09532 -0.63102 -0.08212 -0.62848 C -0.07327 -0.61945 -0.05921 -0.62014 -0.04879 -0.61135 C -0.03473 -0.59885 -0.0224 -0.58426 -0.01077 -0.56806 C -0.00556 -0.56088 -0.00244 -0.54908 0.00243 -0.54121 C 0.00503 -0.5294 0.00277 -0.53773 0.0118 -0.51736 C 0.01527 -0.50348 0.01909 -0.49051 0.02135 -0.47616 C 0.02031 -0.26644 0.02517 -0.28311 0.0118 -0.16019 C 0.01059 -0.13473 0.00729 -0.10903 0.00347 -0.08403 C 0.00295 -0.05556 3.05556E-006 -0.02801 3.05556E-006 1.48148E-006 E"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95280" y="260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Я хочу рассказать про енотовидную собаку, которая родом с Дальнего Востока, но прижилась в Краснода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итает собака в лесах - как в смешанных так и лиственных, но  любит холмистую мес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http://www.cherno-morie.ru/images/content/vse-o-more/enotovidnaya-sobaka.jpg"/>
          <p:cNvPicPr/>
          <p:nvPr/>
        </p:nvPicPr>
        <p:blipFill>
          <a:blip r:embed="rId1"/>
          <a:stretch/>
        </p:blipFill>
        <p:spPr>
          <a:xfrm>
            <a:off x="2411280" y="1700280"/>
            <a:ext cx="3961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6 C 0.00173 -0.0118 0.00416 -0.02361 0.00711 -0.03495 C 0.00764 -0.03703 0.00781 -0.03911 0.00833 -0.0412 C 0.00902 -0.04444 0.01076 -0.05092 0.01076 -0.05092 C 0.01146 -0.08148 0.01284 -0.11226 0.01302 -0.14282 C 0.01319 -0.17152 0.01336 -0.20023 0.01198 -0.2287 C 0.0118 -0.23356 0.00833 -0.24282 0.00833 -0.24282 C 0.00729 -0.26111 0.00711 -0.27939 1.66667E-006 -0.29536 C -0.00278 -0.31342 0.00104 -0.29374 -0.00469 -0.30948 C -0.00729 -0.31643 -0.00868 -0.32499 -0.01198 -0.33171 C -0.02118 -0.35046 -0.01042 -0.3243 -0.01789 -0.3412 C -0.0224 -0.35138 -0.02483 -0.36296 -0.03091 -0.37152 C -0.03334 -0.38448 -0.03004 -0.37106 -0.03698 -0.38425 C -0.03768 -0.38564 -0.03716 -0.38773 -0.03802 -0.38888 C -0.04532 -0.39861 -0.05625 -0.39907 -0.06545 -0.40323 C -0.08264 -0.41111 -0.09983 -0.41597 -0.11789 -0.41759 C -0.14775 -0.43032 -0.19289 -0.4199 -0.21667 -0.41898 C -0.22309 -0.41666 -0.23073 -0.41481 -0.23698 -0.41111 C -0.24618 -0.40578 -0.25365 -0.39791 -0.26198 -0.3905 C -0.26702 -0.37962 -0.26059 -0.39143 -0.2691 -0.38263 C -0.27361 -0.378 -0.27778 -0.37036 -0.28212 -0.36504 C -0.28629 -0.35995 -0.2941 -0.3493 -0.2941 -0.3493 C -0.29705 -0.34073 -0.30348 -0.32708 -0.30834 -0.3206 C -0.31354 -0.30323 -0.31979 -0.28657 -0.32622 -0.2699 C -0.32882 -0.25462 -0.33386 -0.24212 -0.33698 -0.22708 C -0.34028 -0.21157 -0.34098 -0.19351 -0.34289 -0.17777 C -0.34254 -0.1618 -0.34306 -0.14583 -0.34167 -0.13009 C -0.34098 -0.1206 -0.33368 -0.10323 -0.33091 -0.09374 C -0.32396 -0.06944 -0.31702 -0.04536 -0.30834 -0.02222 C -0.30539 -0.00323 -0.30973 -0.02361 -0.30365 -0.00948 C -0.30226 -0.00601 -0.30243 -0.00185 -0.30122 0.00163 C -0.29844 0.0095 -0.29549 0.01852 -0.29167 0.02547 C -0.28907 0.03889 -0.29254 0.02501 -0.28698 0.03658 C -0.28507 0.04052 -0.2842 0.04514 -0.28212 0.04908 C -0.28021 0.05278 -0.27813 0.05649 -0.27622 0.06019 C -0.27379 0.07269 -0.27691 0.06089 -0.27032 0.07292 C -0.26563 0.08149 -0.26042 0.09352 -0.25712 0.10325 C -0.254 0.11227 -0.25313 0.122 -0.24879 0.1301 C -0.24289 0.15325 -0.23143 0.17524 -0.22136 0.19514 C -0.21528 0.20718 -0.21233 0.21991 -0.20591 0.23172 C -0.204 0.24121 -0.2 0.24561 -0.19636 0.25394 C -0.19202 0.26389 -0.18872 0.27547 -0.18455 0.28565 C -0.18264 0.29052 -0.18056 0.29514 -0.17865 0.30001 C -0.17691 0.30417 -0.17379 0.31274 -0.17379 0.31274 C -0.17136 0.32802 -0.17466 0.31436 -0.1691 0.32547 C -0.16667 0.33033 -0.16684 0.33612 -0.16424 0.34121 C -0.16111 0.35348 -0.15434 0.372 -0.14757 0.38102 C -0.14445 0.38982 -0.14219 0.39561 -0.13577 0.40001 C -0.12969 0.41158 -0.10782 0.41042 -0.1 0.41112 C -0.05695 0.42315 -0.08907 0.41575 -0.00243 0.41436 C 0.01093 0.41297 0.02361 0.40973 0.03698 0.40788 C 0.04566 0.40672 0.06302 0.40464 0.06302 0.40464 C 0.09062 0.397 0.11927 0.39237 0.14739 0.38889 C 0.17326 0.38102 0.19896 0.37339 0.225 0.36505 C 0.2401 0.36019 0.23541 0.36413 0.25 0.35718 C 0.26232 0.35139 0.2783 0.34514 0.29045 0.33658 C 0.30711 0.32477 0.29288 0.33102 0.30833 0.32547 C 0.32708 0.30996 0.34375 0.29121 0.36198 0.27454 C 0.36597 0.27084 0.36753 0.26413 0.37135 0.26019 C 0.37725 0.25394 0.38507 0.25001 0.39045 0.24283 C 0.39323 0.23913 0.39583 0.23519 0.39878 0.23172 C 0.41111 0.21806 0.42274 0.20718 0.43455 0.19352 C 0.44184 0.18496 0.45086 0.17871 0.45711 0.16829 C 0.47083 0.14468 0.48177 0.11829 0.49409 0.09352 C 0.49427 0.09144 0.49461 0.08936 0.49531 0.08727 C 0.49618 0.0845 0.49809 0.08241 0.49878 0.0794 C 0.50069 0.07061 0.50034 0.06135 0.50104 0.05232 C 0.50034 0.0169 0.50034 -0.01851 0.49878 -0.05393 C 0.49861 -0.05648 0.49201 -0.06458 0.49166 -0.06504 C 0.48593 -0.07361 0.47951 -0.08055 0.47378 -0.08888 C 0.46927 -0.0956 0.46649 -0.10323 0.46198 -0.10948 C 0.4592 -0.12083 0.46163 -0.11319 0.45 -0.1287 C 0.4434 -0.13749 0.43923 -0.14907 0.43194 -0.15717 C 0.42795 -0.16203 0.42899 -0.15948 0.42378 -0.16342 C 0.40434 -0.17847 0.38715 -0.18935 0.36423 -0.19374 C 0.35034 -0.20277 0.33663 -0.20578 0.32135 -0.20786 C 0.28507 -0.21782 0.23993 -0.20948 0.20347 -0.19536 C 0.19652 -0.19259 0.19166 -0.18634 0.18437 -0.18425 C 0.17552 -0.17685 0.18073 -0.18078 0.16892 -0.17314 C 0.1651 -0.17036 0.16267 -0.16388 0.15833 -0.16203 C 0.15711 -0.16157 0.1559 -0.16087 0.15468 -0.16041 C 0.14948 -0.15323 0.14392 -0.14884 0.13802 -0.14282 C 0.13298 -0.13773 0.12916 -0.13148 0.12378 -0.12708 C 0.11979 -0.11944 0.11562 -0.11365 0.10955 -0.10948 C 0.10677 -0.0993 0.11041 -0.11087 0.10468 -0.09999 C 0.09722 -0.08634 0.08906 -0.07361 0.08073 -0.06041 C 0.07934 -0.05185 0.07031 -0.03819 0.07031 -0.03819 C 0.06632 -0.02198 0.05607 -0.00925 0.04878 0.00464 C 0.04757 0.00417 0.04531 0.00487 0.04531 0.00325 C 0.04323 -0.03425 0.04444 -0.07198 0.04288 -0.10948 C 0.04271 -0.11504 0.03854 -0.11874 0.03698 -0.12384 C 0.03246 -0.13796 0.02708 -0.14189 0.01909 -0.15092 C 0.00416 -0.16736 -0.01164 -0.18865 -0.03091 -0.19536 C -0.03785 -0.20115 -0.04566 -0.20439 -0.05365 -0.20648 C -0.06042 -0.20601 -0.06736 -0.20717 -0.07379 -0.20486 C -0.08282 -0.20138 -0.09775 -0.17615 -0.10365 -0.16666 C -0.10452 -0.16111 -0.10625 -0.15601 -0.10834 -0.15092 C -0.10973 -0.14745 -0.11302 -0.1412 -0.11302 -0.1412 C -0.11459 -0.13263 -0.11684 -0.12777 -0.11789 -0.11898 C -0.11754 -0.10532 -0.12136 -0.07245 -0.11302 -0.05555 C -0.11077 -0.0456 -0.10434 -0.03425 -0.09879 -0.02708 C -0.09601 -0.0162 -0.1 -0.0287 -0.09289 -0.01759 C -0.09167 -0.01573 -0.0915 -0.01319 -0.09045 -0.01111 C -0.08473 0.00093 -0.08646 -0.00185 -0.07969 0.00464 C -0.07466 0.01552 -0.06268 0.02616 -0.05469 0.03334 C -0.05018 0.03727 -0.04549 0.04098 -0.04167 0.04607 C -0.03924 0.04931 -0.03733 0.05302 -0.03455 0.05556 C -0.02483 0.06505 -0.01389 0.07246 -0.00365 0.08102 C 0.01007 0.0926 0.02586 0.09885 0.03923 0.11112 C 0.04132 0.11297 0.04323 0.11505 0.04531 0.11737 C 0.04652 0.11876 0.04739 0.12084 0.04878 0.12223 C 0.05937 0.13311 0.07031 0.1426 0.08073 0.15394 C 0.08507 0.15857 0.08975 0.16204 0.09392 0.16667 C 0.09705 0.17014 0.10243 0.17778 0.10243 0.17778 C 0.10086 0.20741 0.10277 0.19769 0.09392 0.21436 C 0.09166 0.22315 0.09409 0.21552 0.08802 0.22547 C 0.08333 0.23264 0.08836 0.22802 0.08194 0.23658 C 0.07534 0.24561 0.06753 0.25163 0.05937 0.2588 C 0.0533 0.26436 0.04913 0.26899 0.04166 0.2713 C 0.02795 0.28056 0.01284 0.28496 -0.00243 0.28727 C -0.01476 0.28612 -0.02709 0.28589 -0.03924 0.28403 C -0.04931 0.28264 -0.0566 0.27153 -0.06545 0.26667 C -0.08837 0.22987 -0.05157 0.28797 -0.07969 0.24769 C -0.0915 0.23079 -0.09896 0.20741 -0.10365 0.18565 C -0.104 0.18149 -0.10382 0.17709 -0.10469 0.17292 C -0.10625 0.16482 -0.11077 0.14908 -0.11077 0.14908 C -0.11285 0.13172 -0.11789 0.11575 -0.12032 0.09839 C -0.1224 0.08427 -0.1224 0.06945 -0.12518 0.05556 C -0.12587 0.04075 -0.12848 0.02732 -0.12969 0.01274 C -0.13039 -0.04791 -0.13386 -0.11087 -0.12969 -0.17152 C -0.12865 -0.18819 -0.09393 -0.22777 -0.08924 -0.23333 C -0.06111 -0.26689 -0.02292 -0.28587 0.01423 -0.2905 C 0.05243 -0.28842 0.09062 -0.28819 0.12847 -0.28425 C 0.16944 -0.28009 0.17743 -0.27129 0.21649 -0.25555 C 0.26562 -0.23587 0.31441 -0.22013 0.36302 -0.19837 C 0.3868 -0.18773 0.41215 -0.18356 0.43455 -0.16828 C 0.43524 -0.16666 0.43593 -0.16481 0.43698 -0.16342 C 0.43836 -0.16157 0.44062 -0.16087 0.44166 -0.15879 C 0.4434 -0.15555 0.44305 -0.15138 0.44409 -0.14768 C 0.44791 -0.11712 0.44896 -0.10833 0.44635 -0.06828 C 0.44514 -0.05046 0.43628 -0.03356 0.42968 -0.01898 C 0.4158 0.01112 0.40225 0.04098 0.3809 0.06343 C 0.37361 0.07107 0.36562 0.07778 0.35833 0.08565 C 0.35538 0.08889 0.3533 0.09399 0.35 0.09677 C 0.34566 0.10047 0.34027 0.10163 0.33576 0.10464 C 0.30364 0.12616 0.27083 0.14514 0.23559 0.15718 C 0.21649 0.16389 0.19809 0.17431 0.17864 0.1794 C 0.15955 0.1845 0.13958 0.18311 0.12031 0.18565 C 0.08732 0.18403 0.05434 0.1838 0.02135 0.18102 C 0.00034 0.17917 -0.02101 0.16459 -0.03924 0.1507 C -0.06667 0.12987 -0.09045 0.1088 -0.10469 0.06991 C -0.10799 0.04306 -0.11129 0.03681 -0.10712 0.00163 C -0.10556 -0.01087 -0.08768 -0.04374 -0.08212 -0.05393 C -0.06771 -0.08101 -0.05209 -0.11111 -0.03212 -0.13171 C -0.02292 -0.14143 -0.01216 -0.14837 -0.00243 -0.15717 C 0.08906 -0.2405 0.19045 -0.28518 0.30121 -0.2905 C 0.38836 -0.28448 0.35382 -0.30486 0.38455 -0.2699 C 0.38923 -0.25902 0.39149 -0.24814 0.39514 -0.23657 C 0.39618 -0.20833 0.39791 -0.1868 0.39409 -0.15717 C 0.39166 -0.13865 0.37951 -0.12222 0.37257 -0.10786 C 0.34965 -0.05995 0.31666 0.00927 0.27743 0.03797 C 0.26823 0.04468 0.24861 0.05626 0.2368 0.06343 C 0.22448 0.07084 0.20069 0.07292 0.18698 0.07454 C 0.14687 0.08542 0.09809 0.0963 0.06302 0.06505 C 0.06041 0.0595 0.05885 0.05394 0.05711 0.04769 C 0.05798 -0.00671 0.05521 -0.00972 0.06302 -0.04444 C 0.0592 -0.04629 0.06076 -0.04606 0.05833 -0.04606 E">
                                      <p:cBhvr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08000" y="2602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итается всем подряд, как и волки – падалью, птицей, насекомыми, различными рептилиями и грызунами. Зиму енотовидная собака обычно спит, правда если зима теплая, то может и не уходить в спя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copypast.ru/uploads/posts/thumbs/1323377222_18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1158840"/>
            <a:ext cx="69264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7:20:14Z</dcterms:created>
  <dc:creator>Работа</dc:creator>
  <dc:description/>
  <dc:language>en-US</dc:language>
  <cp:lastModifiedBy>Admin</cp:lastModifiedBy>
  <dcterms:modified xsi:type="dcterms:W3CDTF">2014-01-14T16:44:06Z</dcterms:modified>
  <cp:revision>7</cp:revision>
  <dc:subject/>
  <dc:title>Слайд 1</dc:title>
</cp:coreProperties>
</file>