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25C-0363-42E5-AB6A-1A1E2AEE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DAA-29C0-41C9-ACD5-AB4AAE9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28A-3EB7-47E6-A710-FDC2395E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42A-84CE-4A94-A4AC-2848C758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A46B-2BE5-4F6D-8EEE-7048534F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466A-DA81-445C-B319-C2AAB918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7FCD-35FD-4009-994E-AB9E230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B72F-0A5B-4061-A663-5E3AD375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AFD8-C11E-435E-A550-EA51E71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E0A-1C7E-49DA-80ED-1AF21AF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36CE-B287-4DB9-A926-3556E1F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4BE-1D18-4D29-BCC9-B64B8EA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A05C-CE39-4B22-8A47-48E9C10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24B-6404-4426-9932-E844E7E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9133-4D97-4DAF-9677-0F89E59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EA1-DC9B-497D-B8EB-7601B0C7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A72F-37ED-49D2-8529-5EA3D910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747-28AF-4893-883D-C4910DE9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E6A-7D6C-4E0F-B1A0-F1532A2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B23-DECA-4107-8901-1AB0A22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EAA-5ED8-4951-8BB2-3647ACE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0B8-38F4-4746-BB04-E037343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B98-8E98-4916-8771-72DCA96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55F-CE5F-4BCE-B96E-DF546AA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ABEE-E1B8-44BC-85D4-3A80CC75E1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86E-651D-4038-8CCE-383B1A760C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ДЕРНЫЕ ХАРАКТЕРИСТИКИ ДЕТЕЙ НА РАЗНЫХ ВОЗРАСТНЫХ ЭТАПАХ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н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5280" y="1484280"/>
            <a:ext cx="2879640" cy="1152720"/>
            <a:chOff x="395280" y="1484280"/>
            <a:chExt cx="2879640" cy="1152720"/>
          </a:xfrm>
        </p:grpSpPr>
        <p:sp>
          <p:nvSpPr>
            <p:cNvPr id="100" name=""/>
            <p:cNvSpPr/>
            <p:nvPr/>
          </p:nvSpPr>
          <p:spPr>
            <a:xfrm>
              <a:off x="395280" y="1484280"/>
              <a:ext cx="2879640" cy="11527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191628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492360" y="2276640"/>
            <a:ext cx="41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натомо-физиологических особенностей людей, на основе которых человеческие существа определяются как мужчины или женщ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19280" y="2852640"/>
            <a:ext cx="1081080" cy="4005360"/>
            <a:chOff x="1619280" y="2852640"/>
            <a:chExt cx="1081080" cy="4005360"/>
          </a:xfrm>
        </p:grpSpPr>
        <p:sp>
          <p:nvSpPr>
            <p:cNvPr id="104" name=""/>
            <p:cNvSpPr/>
            <p:nvPr/>
          </p:nvSpPr>
          <p:spPr>
            <a:xfrm>
              <a:off x="1619280" y="2924280"/>
              <a:ext cx="1081080" cy="3933720"/>
            </a:xfrm>
            <a:prstGeom prst="downArrow">
              <a:avLst>
                <a:gd name="adj1" fmla="val 50000"/>
                <a:gd name="adj2" fmla="val 909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268920" y="4563000"/>
              <a:ext cx="378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к основа социальных различ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45780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9640" y="1484280"/>
            <a:ext cx="2879640" cy="1152720"/>
            <a:chOff x="539640" y="1484280"/>
            <a:chExt cx="2879640" cy="1152720"/>
          </a:xfrm>
        </p:grpSpPr>
        <p:sp>
          <p:nvSpPr>
            <p:cNvPr id="108" name=""/>
            <p:cNvSpPr/>
            <p:nvPr/>
          </p:nvSpPr>
          <p:spPr>
            <a:xfrm>
              <a:off x="539640" y="1484280"/>
              <a:ext cx="2879640" cy="115272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16000" y="191772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генд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76360" y="2637000"/>
            <a:ext cx="4103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руируемая обществом социальная модель поведения как  женщин так и мужчин, определяющая их положение и роль в обществе и его институтах (семье, политической структуре, экономике, культуре и образовании,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1685880" cy="2357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66735" b="0"/>
          <a:stretch/>
        </p:blipFill>
        <p:spPr>
          <a:xfrm rot="1100400">
            <a:off x="7164000" y="1341360"/>
            <a:ext cx="115740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20836800">
            <a:off x="5508360" y="3860280"/>
            <a:ext cx="15080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645600">
            <a:off x="6948000" y="3500280"/>
            <a:ext cx="1573200" cy="235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692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Соци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8715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116000" y="2421000"/>
            <a:ext cx="1655640" cy="1081080"/>
            <a:chOff x="1116000" y="2421000"/>
            <a:chExt cx="1655640" cy="1081080"/>
          </a:xfrm>
        </p:grpSpPr>
        <p:sp>
          <p:nvSpPr>
            <p:cNvPr id="118" name=""/>
            <p:cNvSpPr/>
            <p:nvPr/>
          </p:nvSpPr>
          <p:spPr>
            <a:xfrm>
              <a:off x="1116000" y="2421000"/>
              <a:ext cx="165564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2920" y="26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ор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708360" y="1268280"/>
            <a:ext cx="1655640" cy="1081080"/>
            <a:chOff x="3708360" y="1268280"/>
            <a:chExt cx="1655640" cy="1081080"/>
          </a:xfrm>
        </p:grpSpPr>
        <p:sp>
          <p:nvSpPr>
            <p:cNvPr id="121" name=""/>
            <p:cNvSpPr/>
            <p:nvPr/>
          </p:nvSpPr>
          <p:spPr>
            <a:xfrm>
              <a:off x="3708360" y="1268280"/>
              <a:ext cx="165564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1280" y="1557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012000" y="2349360"/>
            <a:ext cx="1871640" cy="1081080"/>
            <a:chOff x="6012000" y="2349360"/>
            <a:chExt cx="1871640" cy="1081080"/>
          </a:xfrm>
        </p:grpSpPr>
        <p:sp>
          <p:nvSpPr>
            <p:cNvPr id="124" name=""/>
            <p:cNvSpPr/>
            <p:nvPr/>
          </p:nvSpPr>
          <p:spPr>
            <a:xfrm>
              <a:off x="6012000" y="2349360"/>
              <a:ext cx="1656000" cy="10810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640" y="249372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одели пове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985680" cy="237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5400000">
            <a:off x="4391640" y="1737360"/>
            <a:ext cx="360360" cy="6480000"/>
          </a:xfrm>
          <a:custGeom>
            <a:avLst/>
            <a:gdLst>
              <a:gd name="textAreaLeft" fmla="*/ 0 w 360360"/>
              <a:gd name="textAreaRight" fmla="*/ 129960 w 360360"/>
              <a:gd name="textAreaTop" fmla="*/ 168840 h 6480000"/>
              <a:gd name="textAreaBottom" fmla="*/ 631116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22936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Формирование представления о мужественности и женственности, стремление соответствовать социальным ожид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836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Гендерное развитие инди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8360" y="1557360"/>
            <a:ext cx="3744720" cy="1008000"/>
            <a:chOff x="468360" y="1557360"/>
            <a:chExt cx="3744720" cy="1008000"/>
          </a:xfrm>
        </p:grpSpPr>
        <p:sp>
          <p:nvSpPr>
            <p:cNvPr id="131" name=""/>
            <p:cNvSpPr/>
            <p:nvPr/>
          </p:nvSpPr>
          <p:spPr>
            <a:xfrm>
              <a:off x="468360" y="1557360"/>
              <a:ext cx="3744720" cy="10080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8360" y="1629720"/>
              <a:ext cx="367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ериод раннего дет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ецифические для своего пола модели поведен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714240" cy="1038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2492280"/>
            <a:ext cx="410364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подростковый возра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рмирование половой идент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ослого человек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72396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843280" y="3716280"/>
            <a:ext cx="666720" cy="17715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4788000" y="3575160"/>
            <a:ext cx="4356000" cy="1942920"/>
            <a:chOff x="4788000" y="3575160"/>
            <a:chExt cx="4356000" cy="1942920"/>
          </a:xfrm>
        </p:grpSpPr>
        <p:sp>
          <p:nvSpPr>
            <p:cNvPr id="139" name=""/>
            <p:cNvSpPr/>
            <p:nvPr/>
          </p:nvSpPr>
          <p:spPr>
            <a:xfrm>
              <a:off x="4788000" y="3688560"/>
              <a:ext cx="4356000" cy="18295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8000" y="3575160"/>
              <a:ext cx="43560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Старший юнош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возрас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Стремление соответствовать социальным ожиданиям, связанным с различной степенью значимости профессиональной деятельности и карьеры для мужчин и женщин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443640" y="5181480"/>
            <a:ext cx="78120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308720" y="5157720"/>
            <a:ext cx="139248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и гендерных п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Л.Э. Семеново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26920" y="1773360"/>
            <a:ext cx="3600720" cy="4751280"/>
            <a:chOff x="826920" y="1773360"/>
            <a:chExt cx="3600720" cy="4751280"/>
          </a:xfrm>
        </p:grpSpPr>
        <p:sp>
          <p:nvSpPr>
            <p:cNvPr id="145" name=""/>
            <p:cNvSpPr/>
            <p:nvPr/>
          </p:nvSpPr>
          <p:spPr>
            <a:xfrm>
              <a:off x="826920" y="1773360"/>
              <a:ext cx="3600720" cy="4751280"/>
            </a:xfrm>
            <a:custGeom>
              <a:avLst/>
              <a:gdLst>
                <a:gd name="textAreaLeft" fmla="*/ 175680 w 3600720"/>
                <a:gd name="textAreaRight" fmla="*/ 3425040 w 3600720"/>
                <a:gd name="textAreaTop" fmla="*/ 175680 h 4751280"/>
                <a:gd name="textAreaBottom" fmla="*/ 4575600 h 4751280"/>
              </a:gdLst>
              <a:ahLst/>
              <a:rect l="textAreaLeft" t="textAreaTop" r="textAreaRight" b="textAreaBottom"/>
              <a:pathLst>
                <a:path w="21600" h="28501">
                  <a:moveTo>
                    <a:pt x="3600" y="0"/>
                  </a:moveTo>
                  <a:arcTo wR="3600" hR="3600" stAng="16200000" swAng="-5400000"/>
                  <a:lnTo>
                    <a:pt x="0" y="24901"/>
                  </a:lnTo>
                  <a:arcTo wR="3600" hR="3600" stAng="10800000" swAng="-5400000"/>
                  <a:lnTo>
                    <a:pt x="18000" y="285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000" y="1989000"/>
              <a:ext cx="3527640" cy="42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кулинные д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нят авторитет и независимость поведения, ориентированы на высокие индивидуальные достижения, часто не терпят возражений, отстаивают свое мнение любыми доступными для них способами. Им присущ авторитарный характер взаимоотношений со сверстника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500720" y="1773360"/>
            <a:ext cx="4247640" cy="4824360"/>
            <a:chOff x="4500720" y="1773360"/>
            <a:chExt cx="4247640" cy="4824360"/>
          </a:xfrm>
        </p:grpSpPr>
        <p:sp>
          <p:nvSpPr>
            <p:cNvPr id="148" name=""/>
            <p:cNvSpPr/>
            <p:nvPr/>
          </p:nvSpPr>
          <p:spPr>
            <a:xfrm>
              <a:off x="4500720" y="1773360"/>
              <a:ext cx="4247640" cy="4824360"/>
            </a:xfrm>
            <a:custGeom>
              <a:avLst/>
              <a:gdLst>
                <a:gd name="textAreaLeft" fmla="*/ 207360 w 4247640"/>
                <a:gd name="textAreaRight" fmla="*/ 4040280 w 4247640"/>
                <a:gd name="textAreaTop" fmla="*/ 207360 h 4824360"/>
                <a:gd name="textAreaBottom" fmla="*/ 4617000 h 4824360"/>
              </a:gdLst>
              <a:ahLst/>
              <a:rect l="textAreaLeft" t="textAreaTop" r="textAreaRight" b="textAreaBottom"/>
              <a:pathLst>
                <a:path w="21600" h="24532">
                  <a:moveTo>
                    <a:pt x="3600" y="0"/>
                  </a:moveTo>
                  <a:arcTo wR="3600" hR="3600" stAng="16200000" swAng="-5400000"/>
                  <a:lnTo>
                    <a:pt x="0" y="20932"/>
                  </a:lnTo>
                  <a:arcTo wR="3600" hR="3600" stAng="10800000" swAng="-5400000"/>
                  <a:lnTo>
                    <a:pt x="18000" y="24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0720" y="1916280"/>
              <a:ext cx="4246200" cy="45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Феминные д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нимают эмоционально-экспрессивный стиль поведения, связанный с зависимым, подчиненным поведением, осторожностью, отказом от собственной инициативы и самостоятельности, ориентированностью на других. В совместной деятельности они являются ведомыми, их инициатива минимальна. Поведение характеризуется социальной ограниченностью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1920" y="857160"/>
            <a:ext cx="85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гендерных по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 Л.Э. Семеново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6920" y="1844640"/>
            <a:ext cx="3241800" cy="4252320"/>
            <a:chOff x="826920" y="1844640"/>
            <a:chExt cx="3241800" cy="4252320"/>
          </a:xfrm>
        </p:grpSpPr>
        <p:sp>
          <p:nvSpPr>
            <p:cNvPr id="152" name=""/>
            <p:cNvSpPr/>
            <p:nvPr/>
          </p:nvSpPr>
          <p:spPr>
            <a:xfrm>
              <a:off x="826920" y="1844640"/>
              <a:ext cx="3168720" cy="4248360"/>
            </a:xfrm>
            <a:custGeom>
              <a:avLst/>
              <a:gdLst>
                <a:gd name="textAreaLeft" fmla="*/ 154440 w 3168720"/>
                <a:gd name="textAreaRight" fmla="*/ 3014280 w 3168720"/>
                <a:gd name="textAreaTop" fmla="*/ 154440 h 4248360"/>
                <a:gd name="textAreaBottom" fmla="*/ 4093920 h 4248360"/>
              </a:gdLst>
              <a:ahLst/>
              <a:rect l="textAreaLeft" t="textAreaTop" r="textAreaRight" b="textAreaBottom"/>
              <a:pathLst>
                <a:path w="21600" h="28959">
                  <a:moveTo>
                    <a:pt x="3600" y="0"/>
                  </a:moveTo>
                  <a:arcTo wR="3600" hR="3600" stAng="16200000" swAng="-5400000"/>
                  <a:lnTo>
                    <a:pt x="0" y="25359"/>
                  </a:lnTo>
                  <a:arcTo wR="3600" hR="3600" stAng="10800000" swAng="-5400000"/>
                  <a:lnTo>
                    <a:pt x="18000" y="28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0000" y="1989000"/>
              <a:ext cx="3168720" cy="41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ндрогинные дети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тносительно свободны от жесткой половой типизации, признают за собой право на осознание различного рода деятельности без привязанности к традиционным нормам, для них характерна направленность на реальное осмысление ситуации, самостоятельное преодоление трудносте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43280" y="1916280"/>
            <a:ext cx="3168720" cy="4248000"/>
            <a:chOff x="4643280" y="1916280"/>
            <a:chExt cx="3168720" cy="4248000"/>
          </a:xfrm>
        </p:grpSpPr>
        <p:sp>
          <p:nvSpPr>
            <p:cNvPr id="155" name=""/>
            <p:cNvSpPr/>
            <p:nvPr/>
          </p:nvSpPr>
          <p:spPr>
            <a:xfrm>
              <a:off x="4643280" y="1916280"/>
              <a:ext cx="3168720" cy="4248000"/>
            </a:xfrm>
            <a:custGeom>
              <a:avLst/>
              <a:gdLst>
                <a:gd name="textAreaLeft" fmla="*/ 154440 w 3168720"/>
                <a:gd name="textAreaRight" fmla="*/ 3014280 w 3168720"/>
                <a:gd name="textAreaTop" fmla="*/ 154440 h 4248000"/>
                <a:gd name="textAreaBottom" fmla="*/ 4093560 h 4248000"/>
              </a:gdLst>
              <a:ahLst/>
              <a:rect l="textAreaLeft" t="textAreaTop" r="textAreaRight" b="textAreaBottom"/>
              <a:pathLst>
                <a:path w="21600" h="28956">
                  <a:moveTo>
                    <a:pt x="3600" y="0"/>
                  </a:moveTo>
                  <a:arcTo wR="3600" hR="3600" stAng="16200000" swAng="-5400000"/>
                  <a:lnTo>
                    <a:pt x="0" y="25356"/>
                  </a:lnTo>
                  <a:arcTo wR="3600" hR="3600" stAng="10800000" swAng="-5400000"/>
                  <a:lnTo>
                    <a:pt x="18000" y="28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6360" y="2266920"/>
              <a:ext cx="2951280" cy="35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Недифференцированные де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вергают как мужской, так и женский стиль поведения, характеризуются отсутствием каких-либо полоролевых ориентиров, а также эмоциональным отвержением всех видов деятельност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8:15:11Z</dcterms:created>
  <dc:creator>Angel</dc:creator>
  <dc:description/>
  <dc:language>en-US</dc:language>
  <cp:lastModifiedBy>Angel</cp:lastModifiedBy>
  <dcterms:modified xsi:type="dcterms:W3CDTF">2009-01-10T11:20:14Z</dcterms:modified>
  <cp:revision>5</cp:revision>
  <dc:subject/>
  <dc:title>Слайд 1</dc:title>
</cp:coreProperties>
</file>