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gif" ContentType="image/gif"/>
  <Override PartName="/ppt/media/image13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647B-0302-460D-9B86-C12DA0F5B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3BBF-3882-4E92-B9E2-BFFD2742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1E68-4713-4A9C-BD44-612E67C6B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FCF7-12A4-4D8C-8BBF-ADFB3A9F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613A-2811-43C7-956A-0CD6E568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E0A7-3712-4A9E-AC78-46E6C6C7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6724-1492-49FE-8D49-5C57B4D0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1A77-3EB1-4ED9-B49F-28A92427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02CA-8871-4578-B46D-0E310FD6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D16E4-B6D0-488A-B18E-221C2D96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2E2C-05A9-4D1F-80B3-DD2E6FA7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F031-B6A4-46A8-B37C-42E00BF7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E6C3-B12F-4A9C-8E2F-F476F5FC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755D-556E-49FE-B7E8-45040205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1E74-F7EE-4A0E-96F1-1F2890DD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EB6B-00B5-431C-B292-7FCDEA48F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2288-9F34-4A14-A2D8-F0D3F640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674A-7CBD-488B-AD25-B77B38C0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5B22-64D8-4E2A-92CF-917848CF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A353-B18C-47A9-A8E9-A07E1B68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0DED-E746-4B7E-8D6E-F16FAFD6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F6A6-709D-4D0E-846A-3EBB2B59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0525-E708-41D3-9B40-4D93DB4C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8A4F-006E-4B5D-92AF-8D2EA8A8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BE7A-CB2C-4F48-8197-2B1ECC552A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873A-18C3-4EC5-A8C5-0733EB0B9C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ЕНДЕРНЫЕ ХАРАКТЕРИСТИКИ ДЕТЕЙ НА РАЗНЫХ ВОЗРАСТНЫХ ЭТАПАХ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онят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95280" y="1484280"/>
            <a:ext cx="2879640" cy="1152720"/>
            <a:chOff x="395280" y="1484280"/>
            <a:chExt cx="2879640" cy="1152720"/>
          </a:xfrm>
        </p:grpSpPr>
        <p:sp>
          <p:nvSpPr>
            <p:cNvPr id="100" name=""/>
            <p:cNvSpPr/>
            <p:nvPr/>
          </p:nvSpPr>
          <p:spPr>
            <a:xfrm>
              <a:off x="395280" y="1484280"/>
              <a:ext cx="2879640" cy="115272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5640" y="191628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ПО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3492360" y="2276640"/>
            <a:ext cx="410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анатомо-физиологических особенностей людей, на основе которых человеческие существа определяются как мужчины или женщин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619280" y="2852640"/>
            <a:ext cx="1081080" cy="4005360"/>
            <a:chOff x="1619280" y="2852640"/>
            <a:chExt cx="1081080" cy="4005360"/>
          </a:xfrm>
        </p:grpSpPr>
        <p:sp>
          <p:nvSpPr>
            <p:cNvPr id="104" name=""/>
            <p:cNvSpPr/>
            <p:nvPr/>
          </p:nvSpPr>
          <p:spPr>
            <a:xfrm>
              <a:off x="1619280" y="2924280"/>
              <a:ext cx="1081080" cy="3933720"/>
            </a:xfrm>
            <a:prstGeom prst="downArrow">
              <a:avLst>
                <a:gd name="adj1" fmla="val 50000"/>
                <a:gd name="adj2" fmla="val 909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6200000">
              <a:off x="268920" y="4563000"/>
              <a:ext cx="378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ак основа социальных различ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64000" y="4005360"/>
            <a:ext cx="3457800" cy="2421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539640" y="1484280"/>
            <a:ext cx="2879640" cy="1152720"/>
            <a:chOff x="539640" y="1484280"/>
            <a:chExt cx="2879640" cy="1152720"/>
          </a:xfrm>
        </p:grpSpPr>
        <p:sp>
          <p:nvSpPr>
            <p:cNvPr id="108" name=""/>
            <p:cNvSpPr/>
            <p:nvPr/>
          </p:nvSpPr>
          <p:spPr>
            <a:xfrm>
              <a:off x="539640" y="1484280"/>
              <a:ext cx="2879640" cy="115272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16000" y="1917720"/>
              <a:ext cx="20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Arial"/>
                </a:rPr>
                <a:t>генде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476360" y="2637000"/>
            <a:ext cx="4103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струируемая обществом социальная модель поведения как  женщин так и мужчин, определяющая их положение и роль в обществе и его институтах (семье, политической структуре, экономике, культуре и образовании, и д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580000" y="1700280"/>
            <a:ext cx="1685880" cy="2357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rcRect l="0" t="0" r="66735" b="0"/>
          <a:stretch/>
        </p:blipFill>
        <p:spPr>
          <a:xfrm rot="1100400">
            <a:off x="7164000" y="1341360"/>
            <a:ext cx="1157400" cy="244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 rot="20836800">
            <a:off x="5508360" y="3860280"/>
            <a:ext cx="1508040" cy="2060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 rot="645600">
            <a:off x="6948000" y="3500280"/>
            <a:ext cx="1573200" cy="2359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9640" y="69228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"/>
              </a:rPr>
              <a:t>Социализ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00720" y="2565360"/>
            <a:ext cx="871560" cy="244800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1116000" y="2421000"/>
            <a:ext cx="1655640" cy="1081080"/>
            <a:chOff x="1116000" y="2421000"/>
            <a:chExt cx="1655640" cy="1081080"/>
          </a:xfrm>
        </p:grpSpPr>
        <p:sp>
          <p:nvSpPr>
            <p:cNvPr id="118" name=""/>
            <p:cNvSpPr/>
            <p:nvPr/>
          </p:nvSpPr>
          <p:spPr>
            <a:xfrm>
              <a:off x="1116000" y="2421000"/>
              <a:ext cx="1655640" cy="108108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02920" y="263700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норм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708360" y="1268280"/>
            <a:ext cx="1655640" cy="1081080"/>
            <a:chOff x="3708360" y="1268280"/>
            <a:chExt cx="1655640" cy="1081080"/>
          </a:xfrm>
        </p:grpSpPr>
        <p:sp>
          <p:nvSpPr>
            <p:cNvPr id="121" name=""/>
            <p:cNvSpPr/>
            <p:nvPr/>
          </p:nvSpPr>
          <p:spPr>
            <a:xfrm>
              <a:off x="3708360" y="1268280"/>
              <a:ext cx="1655640" cy="108108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51280" y="155736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рави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012000" y="2349360"/>
            <a:ext cx="1871640" cy="1081080"/>
            <a:chOff x="6012000" y="2349360"/>
            <a:chExt cx="1871640" cy="1081080"/>
          </a:xfrm>
        </p:grpSpPr>
        <p:sp>
          <p:nvSpPr>
            <p:cNvPr id="124" name=""/>
            <p:cNvSpPr/>
            <p:nvPr/>
          </p:nvSpPr>
          <p:spPr>
            <a:xfrm>
              <a:off x="6012000" y="2349360"/>
              <a:ext cx="1656000" cy="108108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83640" y="2493720"/>
              <a:ext cx="180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Модели повед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203640" y="2565360"/>
            <a:ext cx="985680" cy="2376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rot="5400000">
            <a:off x="4391640" y="1737360"/>
            <a:ext cx="360360" cy="6480000"/>
          </a:xfrm>
          <a:custGeom>
            <a:avLst/>
            <a:gdLst>
              <a:gd name="textAreaLeft" fmla="*/ 0 w 360360"/>
              <a:gd name="textAreaRight" fmla="*/ 129960 w 360360"/>
              <a:gd name="textAreaTop" fmla="*/ 168840 h 6480000"/>
              <a:gd name="textAreaBottom" fmla="*/ 6311160 h 648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5229360"/>
            <a:ext cx="845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Формирование представления о мужественности и женственности, стремление соответствовать социальным ожидан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50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4360" y="83664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Гендерное развитие индив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68360" y="1557360"/>
            <a:ext cx="3744720" cy="1008000"/>
            <a:chOff x="468360" y="1557360"/>
            <a:chExt cx="3744720" cy="1008000"/>
          </a:xfrm>
        </p:grpSpPr>
        <p:sp>
          <p:nvSpPr>
            <p:cNvPr id="131" name=""/>
            <p:cNvSpPr/>
            <p:nvPr/>
          </p:nvSpPr>
          <p:spPr>
            <a:xfrm>
              <a:off x="468360" y="1557360"/>
              <a:ext cx="3744720" cy="10080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68360" y="1629720"/>
              <a:ext cx="367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период раннего дет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специфические для своего пола модели поведени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835280" y="2637000"/>
            <a:ext cx="714240" cy="1038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76720" y="2492280"/>
            <a:ext cx="4103640" cy="1224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подростковый возрас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формирование половой идент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зрослого человека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635280" y="3789360"/>
            <a:ext cx="723960" cy="1724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2843280" y="3716280"/>
            <a:ext cx="666720" cy="17715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4788000" y="3575160"/>
            <a:ext cx="4356000" cy="1942920"/>
            <a:chOff x="4788000" y="3575160"/>
            <a:chExt cx="4356000" cy="1942920"/>
          </a:xfrm>
        </p:grpSpPr>
        <p:sp>
          <p:nvSpPr>
            <p:cNvPr id="139" name=""/>
            <p:cNvSpPr/>
            <p:nvPr/>
          </p:nvSpPr>
          <p:spPr>
            <a:xfrm>
              <a:off x="4788000" y="3688560"/>
              <a:ext cx="4356000" cy="18295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88000" y="3575160"/>
              <a:ext cx="43560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Старший юношеск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возраст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Стремление соответствовать социальным ожиданиям, связанным с различной степенью значимости профессиональной деятельности и карьеры для мужчин и женщин 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6443640" y="5181480"/>
            <a:ext cx="781200" cy="16765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7308720" y="5157720"/>
            <a:ext cx="1392480" cy="1557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39640" y="83664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арактеристики гендерных пол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о Л.Э. Семеновой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826920" y="1773360"/>
            <a:ext cx="3600720" cy="4751280"/>
            <a:chOff x="826920" y="1773360"/>
            <a:chExt cx="3600720" cy="4751280"/>
          </a:xfrm>
        </p:grpSpPr>
        <p:sp>
          <p:nvSpPr>
            <p:cNvPr id="145" name=""/>
            <p:cNvSpPr/>
            <p:nvPr/>
          </p:nvSpPr>
          <p:spPr>
            <a:xfrm>
              <a:off x="826920" y="1773360"/>
              <a:ext cx="3600720" cy="4751280"/>
            </a:xfrm>
            <a:custGeom>
              <a:avLst/>
              <a:gdLst>
                <a:gd name="textAreaLeft" fmla="*/ 175680 w 3600720"/>
                <a:gd name="textAreaRight" fmla="*/ 3425040 w 3600720"/>
                <a:gd name="textAreaTop" fmla="*/ 175680 h 4751280"/>
                <a:gd name="textAreaBottom" fmla="*/ 4575600 h 4751280"/>
              </a:gdLst>
              <a:ahLst/>
              <a:rect l="textAreaLeft" t="textAreaTop" r="textAreaRight" b="textAreaBottom"/>
              <a:pathLst>
                <a:path w="21600" h="28501">
                  <a:moveTo>
                    <a:pt x="3600" y="0"/>
                  </a:moveTo>
                  <a:arcTo wR="3600" hR="3600" stAng="16200000" swAng="-5400000"/>
                  <a:lnTo>
                    <a:pt x="0" y="24901"/>
                  </a:lnTo>
                  <a:arcTo wR="3600" hR="3600" stAng="10800000" swAng="-5400000"/>
                  <a:lnTo>
                    <a:pt x="18000" y="285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00000" y="1989000"/>
              <a:ext cx="3527640" cy="42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Маскулинные де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ценят авторитет и независимость поведения, ориентированы на высокие индивидуальные достижения, часто не терпят возражений, отстаивают свое мнение любыми доступными для них способами. Им присущ авторитарный характер взаимоотношений со сверстниками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500720" y="1773360"/>
            <a:ext cx="4247640" cy="4824360"/>
            <a:chOff x="4500720" y="1773360"/>
            <a:chExt cx="4247640" cy="4824360"/>
          </a:xfrm>
        </p:grpSpPr>
        <p:sp>
          <p:nvSpPr>
            <p:cNvPr id="148" name=""/>
            <p:cNvSpPr/>
            <p:nvPr/>
          </p:nvSpPr>
          <p:spPr>
            <a:xfrm>
              <a:off x="4500720" y="1773360"/>
              <a:ext cx="4247640" cy="4824360"/>
            </a:xfrm>
            <a:custGeom>
              <a:avLst/>
              <a:gdLst>
                <a:gd name="textAreaLeft" fmla="*/ 207360 w 4247640"/>
                <a:gd name="textAreaRight" fmla="*/ 4040280 w 4247640"/>
                <a:gd name="textAreaTop" fmla="*/ 207360 h 4824360"/>
                <a:gd name="textAreaBottom" fmla="*/ 4617000 h 4824360"/>
              </a:gdLst>
              <a:ahLst/>
              <a:rect l="textAreaLeft" t="textAreaTop" r="textAreaRight" b="textAreaBottom"/>
              <a:pathLst>
                <a:path w="21600" h="24532">
                  <a:moveTo>
                    <a:pt x="3600" y="0"/>
                  </a:moveTo>
                  <a:arcTo wR="3600" hR="3600" stAng="16200000" swAng="-5400000"/>
                  <a:lnTo>
                    <a:pt x="0" y="20932"/>
                  </a:lnTo>
                  <a:arcTo wR="3600" hR="3600" stAng="10800000" swAng="-5400000"/>
                  <a:lnTo>
                    <a:pt x="18000" y="245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00720" y="1916280"/>
              <a:ext cx="4246200" cy="45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Arial"/>
                </a:rPr>
                <a:t>Феминные де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ринимают эмоционально-экспрессивный стиль поведения, связанный с зависимым, подчиненным поведением, осторожностью, отказом от собственной инициативы и самостоятельности, ориентированностью на других. В совместной деятельности они являются ведомыми, их инициатива минимальна. Поведение характеризуется социальной ограниченностью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91920" y="857160"/>
            <a:ext cx="851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арактеристики гендерных пол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о Л.Э. Семеновой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826920" y="1844640"/>
            <a:ext cx="3241800" cy="4252320"/>
            <a:chOff x="826920" y="1844640"/>
            <a:chExt cx="3241800" cy="4252320"/>
          </a:xfrm>
        </p:grpSpPr>
        <p:sp>
          <p:nvSpPr>
            <p:cNvPr id="152" name=""/>
            <p:cNvSpPr/>
            <p:nvPr/>
          </p:nvSpPr>
          <p:spPr>
            <a:xfrm>
              <a:off x="826920" y="1844640"/>
              <a:ext cx="3168720" cy="4248360"/>
            </a:xfrm>
            <a:custGeom>
              <a:avLst/>
              <a:gdLst>
                <a:gd name="textAreaLeft" fmla="*/ 154440 w 3168720"/>
                <a:gd name="textAreaRight" fmla="*/ 3014280 w 3168720"/>
                <a:gd name="textAreaTop" fmla="*/ 154440 h 4248360"/>
                <a:gd name="textAreaBottom" fmla="*/ 4093920 h 4248360"/>
              </a:gdLst>
              <a:ahLst/>
              <a:rect l="textAreaLeft" t="textAreaTop" r="textAreaRight" b="textAreaBottom"/>
              <a:pathLst>
                <a:path w="21600" h="28959">
                  <a:moveTo>
                    <a:pt x="3600" y="0"/>
                  </a:moveTo>
                  <a:arcTo wR="3600" hR="3600" stAng="16200000" swAng="-5400000"/>
                  <a:lnTo>
                    <a:pt x="0" y="25359"/>
                  </a:lnTo>
                  <a:arcTo wR="3600" hR="3600" stAng="10800000" swAng="-5400000"/>
                  <a:lnTo>
                    <a:pt x="18000" y="289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00000" y="1989000"/>
              <a:ext cx="3168720" cy="41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Андрогинные дети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тносительно свободны от жесткой половой типизации, признают за собой право на осознание различного рода деятельности без привязанности к традиционным нормам, для них характерна направленность на реальное осмысление ситуации, самостоятельное преодоление трудностей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643280" y="1916280"/>
            <a:ext cx="3168720" cy="4248000"/>
            <a:chOff x="4643280" y="1916280"/>
            <a:chExt cx="3168720" cy="4248000"/>
          </a:xfrm>
        </p:grpSpPr>
        <p:sp>
          <p:nvSpPr>
            <p:cNvPr id="155" name=""/>
            <p:cNvSpPr/>
            <p:nvPr/>
          </p:nvSpPr>
          <p:spPr>
            <a:xfrm>
              <a:off x="4643280" y="1916280"/>
              <a:ext cx="3168720" cy="4248000"/>
            </a:xfrm>
            <a:custGeom>
              <a:avLst/>
              <a:gdLst>
                <a:gd name="textAreaLeft" fmla="*/ 154440 w 3168720"/>
                <a:gd name="textAreaRight" fmla="*/ 3014280 w 3168720"/>
                <a:gd name="textAreaTop" fmla="*/ 154440 h 4248000"/>
                <a:gd name="textAreaBottom" fmla="*/ 4093560 h 4248000"/>
              </a:gdLst>
              <a:ahLst/>
              <a:rect l="textAreaLeft" t="textAreaTop" r="textAreaRight" b="textAreaBottom"/>
              <a:pathLst>
                <a:path w="21600" h="28956">
                  <a:moveTo>
                    <a:pt x="3600" y="0"/>
                  </a:moveTo>
                  <a:arcTo wR="3600" hR="3600" stAng="16200000" swAng="-5400000"/>
                  <a:lnTo>
                    <a:pt x="0" y="25356"/>
                  </a:lnTo>
                  <a:arcTo wR="3600" hR="3600" stAng="10800000" swAng="-5400000"/>
                  <a:lnTo>
                    <a:pt x="18000" y="289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16360" y="2266920"/>
              <a:ext cx="2951280" cy="358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Недифференцированные дет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твергают как мужской, так и женский стиль поведения, характеризуются отсутствием каких-либо полоролевых ориентиров, а также эмоциональным отвержением всех видов деятельности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8:15:11Z</dcterms:created>
  <dc:creator>Angel</dc:creator>
  <dc:description/>
  <dc:language>en-US</dc:language>
  <cp:lastModifiedBy>Angel</cp:lastModifiedBy>
  <dcterms:modified xsi:type="dcterms:W3CDTF">2009-01-10T11:20:14Z</dcterms:modified>
  <cp:revision>5</cp:revision>
  <dc:subject/>
  <dc:title>Слайд 1</dc:title>
</cp:coreProperties>
</file>