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C36-7B4F-4DD2-A842-96A0E656B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C9A-33D4-4091-BAE1-C7D3A1D7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67C-AD84-4C56-A41E-EF2535A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5F0-E84F-4F0B-87EB-3C260294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640-D093-41F3-B89E-A205B1C8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F3D-F1BF-40D2-BF3C-FC000ABD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5CA-89C6-459B-8949-A7EB332E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E5E-B8F0-45CD-83EC-4783AB8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675-F559-400C-A235-C272C23A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834-D061-460B-ABCC-1C9A8BC4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36C-EC04-426A-AE48-9348FB5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E03-B898-4661-A0F6-0A6F440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F33-B2B8-4E7F-8265-2578B2D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5FD-3FCE-45B5-86C1-7F4189763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Измерение длины отрез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7621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мерение длины отрезка основано на сравнении его с отрезком, длина которого принимается за единицу (единичный отрезок).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1337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лина отрезка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это положительное число, показывающее, сколько раз единичный отрезок и его части укладываются в данном отрез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58128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отрезка удовлетворяет следующим свойств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1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ы равных отрезков рав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2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суммы отрезков равна сумме их дли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114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а) 6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144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лежит на прямой между точкам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длину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: 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,5 с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,5 см; 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,1 д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,6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м; в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2,3 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,8 м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4,7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114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18,1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876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а) 9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и 6 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8380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отрезке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линой 15 м отмечена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длины отрезков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: а) отрезок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 3 м длиннее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отрезок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 два раза длиннее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длины отрезков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носятся как 2: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876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10 м и 5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6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и 9 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умма двух отрезков равна 6 см, а их разность – 2 см. Найдите сами отрез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809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 см и 2 см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6 с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295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АС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6 см.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9546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76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8,5 с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95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прямой последовательно отложены три отрезка: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ак, что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 см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С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 см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 см. Найдите расстояние между серединами отрезков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876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 + b – c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295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бщей частью двух отрезков длины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является отрезок длины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длину отрезка, покрываемого обоими данными отрезк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876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4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см, 8 см и 16 с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914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прямой от одной точки в одном направлении отложены три отрезка, сумма которых равна 28 см; конец первого отрезка служит серединой второго, а конец второго - серединой третьего. Найдите длины этих отрез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648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В любом месте между вторым и третьим дом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9144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доль прямой улицы по одну сторону от нее стоят четыре дома. В каком месте улицы нужно установить газетный киоск, чтобы сумма расстояний от него до всех домов была наименьш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19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такое длина отрез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352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лина отрезка – это положительное число, показывающее, сколько раз единичный отрезок и его части укладываются в данном отрез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им свойствам удовлетворяет длина отрез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76720"/>
            <a:ext cx="87631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отрезка удовлетворяет следующим свойств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1.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ы равных отрезков рав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2.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суммы отрезков равна сумме их дл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огда появился метр как единая единица измерения длин отрезк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21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В конц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XVIII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19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ему равен мет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276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Одна сорокамиллионная часть парижского меридиа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Где хранится эталон метра из платин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276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Во французском государственном архив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19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 2,6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14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ему равна длина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, есл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OE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– единичный отрез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594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572000" y="4191120"/>
            <a:ext cx="1600200" cy="736560"/>
            <a:chOff x="4572000" y="4191120"/>
            <a:chExt cx="1600200" cy="736560"/>
          </a:xfrm>
        </p:grpSpPr>
        <p:sp>
          <p:nvSpPr>
            <p:cNvPr id="72" name=""/>
            <p:cNvSpPr/>
            <p:nvPr/>
          </p:nvSpPr>
          <p:spPr>
            <a:xfrm>
              <a:off x="4572000" y="41911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       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5257800" y="4191120"/>
            <a:ext cx="419040" cy="73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57800" y="419112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ему равна длина отрезка: 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г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д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е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166080" cy="121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4267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267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5,2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42670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) 6,5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4952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г) 1,2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д) 2,5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) 1,3 см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9907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огут ли точк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инадлежать одной прямой, есл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= 2 с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 с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 с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09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9-04-23T04:17:56Z</dcterms:modified>
  <cp:revision>21</cp:revision>
  <dc:subject/>
  <dc:title>Основные геометрические фигуры</dc:title>
</cp:coreProperties>
</file>