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C110-9AE6-4033-9B05-066D687123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DD1-D067-4D2A-9609-044E316A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D2A-F965-4A7C-B63B-3F75540C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49D-EB69-419B-BBA9-F6BB105F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243-35B8-4872-A891-F8C9810B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530-0F12-41BC-8343-1D117310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EDB-2100-4985-905B-BA79C8B1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93A-F522-4D6B-AF40-8E129FE8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7EA-7993-45B6-AE37-0B13ACA9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FA9-CFE4-4491-A5D7-EC0F8A4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13B-EE7C-49D2-85F9-B07279F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55A-4AA7-4F9B-A70D-D929E5E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B2A-CCEB-49FD-A7C4-A0FC7D9E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437D-50B7-41FF-96F9-48F22C06B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Измерение длины отрез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7621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змерение длины отрезка основано на сравнении его с отрезком, длина которого принимается за единицу (единичный отрезок).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1337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лина отрезка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это положительное число, показывающее, сколько раз единичный отрезок и его части укладываются в данном отрез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58128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а отрезка удовлетворяет следующим свойств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1.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ы равных отрезков рав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2.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а суммы отрезков равна сумме их дли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114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а) 6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144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лежит на прямой между точкам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длину отрез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если: а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,5 с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В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,5 см; б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,1 д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В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,6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м; в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12,3 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В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,8 м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114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4,7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114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18,1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876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а) 9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и 6 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83808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отрезке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линой 15 м отмечена 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длины отрезков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если: а) отрезок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 3 м длиннее отрез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отрезок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 два раза длиннее отрез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длины отрезков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относятся как 2: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4876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10 м и 5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5562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6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и 9 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умма двух отрезков равна 6 см, а их разность – 2 см. Найдите сами отрез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8098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 см и 2 см.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6 с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295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АС =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6 см.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9546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76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8,5 с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952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прямой последовательно отложены три отрезка: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ак, что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 =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 см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С =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5 см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=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 см. Найдите расстояние между серединами отрезков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876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 + b – c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2952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бщей частью двух отрезков длины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является отрезок длины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длину отрезка, покрываемого обоими данными отрезк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876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4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см, 8 см и 16 с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9144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прямой от одной точки в одном направлении отложены три отрезка, сумма которых равна 28 см; конец первого отрезка служит серединой второго, а конец второго - серединой третьего. Найдите длины этих отрезк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648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В любом месте между вторым и третьим дом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91440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доль прямой улицы по одну сторону от нее стоят четыре дома. В каком месте улицы нужно установить газетный киоск, чтобы сумма расстояний от него до всех домов была наименьш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19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то такое длина отрез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352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Д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лина отрезка – это положительное число, показывающее, сколько раз единичный отрезок и его части укладываются в данном отрез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им свойствам удовлетворяет длина отрез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276720"/>
            <a:ext cx="87631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а отрезка удовлетворяет следующим свойства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1.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ы равных отрезков рав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ойство 2.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ина суммы отрезков равна сумме их дли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огда появился метр как единая единица измерения длин отрезков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21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В конц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XVIII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е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219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Чему равен мет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276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Одна сорокамиллионная часть парижского меридиа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Где хранится эталон метра из платин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2767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Во французском государственном архив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19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а) 2,6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14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Чему равна длина отрез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, есл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OE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– единичный отрез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594480" cy="10540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572000" y="4191120"/>
            <a:ext cx="1600200" cy="736560"/>
            <a:chOff x="4572000" y="4191120"/>
            <a:chExt cx="1600200" cy="736560"/>
          </a:xfrm>
        </p:grpSpPr>
        <p:sp>
          <p:nvSpPr>
            <p:cNvPr id="72" name=""/>
            <p:cNvSpPr/>
            <p:nvPr/>
          </p:nvSpPr>
          <p:spPr>
            <a:xfrm>
              <a:off x="4572000" y="41911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б)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        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5257800" y="4191120"/>
            <a:ext cx="419040" cy="73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257800" y="4191120"/>
                      <a:ext cx="4190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Чему равна длина отрезка: а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г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д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е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6166080" cy="1212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4267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а)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267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5,2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42670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) 6,5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4952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г) 1,2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д) 2,5 см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495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е) 1,3 см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9907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огут ли точк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инадлежать одной прямой, есл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= 2 с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3 см,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АС =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4 с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809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9-04-23T04:17:56Z</dcterms:modified>
  <cp:revision>21</cp:revision>
  <dc:subject/>
  <dc:title>Основные геометрические фигуры</dc:title>
</cp:coreProperties>
</file>