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5.wmf" ContentType="image/x-wmf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0B33-0551-40B4-8C88-BC5BB426D6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B0F-CA70-48CD-BCD3-0C5D139F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7D1-44A7-4643-889E-ADA42E16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CDE-4E72-4E5A-9278-FB6502B9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FB6-F641-4B7B-9332-A17A0D30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BB0-E2D5-4D7F-8B4D-3BBBC251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5B6-2652-4BC9-BC4F-6A6BDE66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164-3BBD-4225-B35E-67E80C16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FFE-EF0C-419C-A6BF-AF512D07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1A0-1F98-4D28-8B0A-E60B9CAB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69F-7758-4A87-A8C0-D91CFEA4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588-2585-4976-BF45-FE2EED1E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3B1-2F6D-428A-A406-90B4A08C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7189-1000-44BB-A2AE-375183491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Измерение уг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5335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диницу измер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гл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чн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нимаетс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ющ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у сто восьмидесятую часть развернутого угла. Считают, что величина этого угла равна одному градусу, обозначают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9810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Г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адусная величина угл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, сколько раз угол в один градус и его части укладываются в этом уг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8195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мерения величин углов применяют различные инструменты, простейшим из которых является известный вам транспорти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39006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85800"/>
            <a:ext cx="845820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жит внутри угла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градусную величину угла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C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B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C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B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C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4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B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105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) 1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5105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) 137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5105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) 179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14400" y="2209680"/>
          <a:ext cx="36828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368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581280" y="2209680"/>
          <a:ext cx="3682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209680"/>
                    <a:ext cx="368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914400" y="3048120"/>
          <a:ext cx="368280" cy="35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048120"/>
                    <a:ext cx="3682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581280" y="3048120"/>
          <a:ext cx="36828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3048120"/>
                    <a:ext cx="3682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914400" y="3886200"/>
          <a:ext cx="36828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3886200"/>
                    <a:ext cx="368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657600" y="3809880"/>
          <a:ext cx="368280" cy="3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3809880"/>
                    <a:ext cx="368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685800"/>
            <a:ext cx="84582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жит внутри угла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ого 6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лы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гол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3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е угла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гол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ва раза больше угла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градусные меры углов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ятся как 2: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257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) 4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1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5257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) 4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2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867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) 2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и 3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9144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угол образуют биссектрисы вертикальных углов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514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5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9144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ему равен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ванны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ссектри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м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межных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ов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9718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9144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й угол равен 3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Чему равен смежный с ним  уго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2514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4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9144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смежных углов на 4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ньше другого. Найдите эти угл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3623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1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0666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межные углы, если один из них в два раза больше другог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666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8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562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3520" y="838080"/>
            <a:ext cx="8076960" cy="4243680"/>
            <a:chOff x="533520" y="838080"/>
            <a:chExt cx="8076960" cy="42436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124080" y="3657600"/>
              <a:ext cx="2981520" cy="14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533520" y="838080"/>
              <a:ext cx="8076960" cy="2552760"/>
              <a:chOff x="533520" y="838080"/>
              <a:chExt cx="8076960" cy="25527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533520" y="838080"/>
                <a:ext cx="8076960" cy="2288520"/>
                <a:chOff x="533520" y="838080"/>
                <a:chExt cx="8076960" cy="22885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838080"/>
                  <a:ext cx="80769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з точки, взятой на прямой в одной полуплоскости относительно нее, проведены два луча,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r>
                    <a:rPr b="0" lang="ru-RU" sz="3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о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составляет 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ямого угла. Найдите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3.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29" name=""/>
                <p:cNvGraphicFramePr/>
                <p:nvPr/>
              </p:nvGraphicFramePr>
              <p:xfrm>
                <a:off x="5410080" y="2133720"/>
                <a:ext cx="330480" cy="3175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30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5410080" y="2133720"/>
                          <a:ext cx="330480" cy="317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31" name=""/>
                <p:cNvGraphicFramePr/>
                <p:nvPr/>
              </p:nvGraphicFramePr>
              <p:xfrm>
                <a:off x="7238880" y="2133720"/>
                <a:ext cx="330480" cy="31752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132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7238880" y="2133720"/>
                          <a:ext cx="330480" cy="317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33" name=""/>
                <p:cNvGraphicFramePr/>
                <p:nvPr/>
              </p:nvGraphicFramePr>
              <p:xfrm>
                <a:off x="7696080" y="2666880"/>
                <a:ext cx="330480" cy="31752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134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7696080" y="2666880"/>
                          <a:ext cx="330480" cy="317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35" name=""/>
              <p:cNvGraphicFramePr/>
              <p:nvPr/>
            </p:nvGraphicFramePr>
            <p:xfrm>
              <a:off x="2819520" y="2438280"/>
              <a:ext cx="291960" cy="9525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36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819520" y="2438280"/>
                        <a:ext cx="291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9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562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52280" y="838080"/>
            <a:ext cx="8839440" cy="5024520"/>
            <a:chOff x="152280" y="838080"/>
            <a:chExt cx="8839440" cy="5024520"/>
          </a:xfrm>
        </p:grpSpPr>
        <p:grpSp>
          <p:nvGrpSpPr>
            <p:cNvPr id="140" name=""/>
            <p:cNvGrpSpPr/>
            <p:nvPr/>
          </p:nvGrpSpPr>
          <p:grpSpPr>
            <a:xfrm>
              <a:off x="152280" y="838080"/>
              <a:ext cx="8839440" cy="3018600"/>
              <a:chOff x="152280" y="838080"/>
              <a:chExt cx="8839440" cy="3018600"/>
            </a:xfrm>
          </p:grpSpPr>
          <p:sp>
            <p:nvSpPr>
              <p:cNvPr id="141" name=""/>
              <p:cNvSpPr/>
              <p:nvPr/>
            </p:nvSpPr>
            <p:spPr>
              <a:xfrm>
                <a:off x="152280" y="838080"/>
                <a:ext cx="8839440" cy="30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а прямой дана точка, из которой в одной полуплоскости относительно данной прямой проведены два луча. Величина одного из углов, образованных при этом, равна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ямого угла, величина другого составляет половину первого угла. Найдите величину третьего угла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2" name=""/>
              <p:cNvGraphicFramePr/>
              <p:nvPr/>
            </p:nvGraphicFramePr>
            <p:xfrm>
              <a:off x="5867280" y="2209680"/>
              <a:ext cx="254160" cy="838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867280" y="2209680"/>
                        <a:ext cx="254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4038480" y="4038480"/>
              <a:ext cx="1698840" cy="182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295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глов, которые получаются при пересечении двух прямых, равен 3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ему равны остальные углы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35053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Астроляб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5'3" descr=""/>
          <p:cNvPicPr/>
          <p:nvPr/>
        </p:nvPicPr>
        <p:blipFill>
          <a:blip r:embed="rId1"/>
          <a:stretch/>
        </p:blipFill>
        <p:spPr>
          <a:xfrm>
            <a:off x="0" y="838080"/>
            <a:ext cx="5553000" cy="6019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762120"/>
            <a:ext cx="350532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первых угломерных инструментов была астролябия, изобретенная Гиппархом (180-125 гг. до н. э.) и усовершенствованная немецким ученым Региомонтаном (1436-1476). Она состояла из тяжелого медного диска - лимба, который подвешивался за кольцо так, чтобы он висел вертикально и лин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имала горизонтальное положение. По краю лимба наносилась шкала, разделенная на градусы. Кроме этого, на лимбе имелась полос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мая алидадой, которая могла вращаться вокруг центра лимба и имела на концах поперечные пластинки с отверстиями, называемыми диоптр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295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ли сумма трех углов, образовавшихся при пересечении двух прямых, быть равной 15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38862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5238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трех углов, образованных при пересечении двух прямых, равна 30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эти углы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3809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12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5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1523880"/>
            <a:ext cx="9144000" cy="1739880"/>
            <a:chOff x="0" y="1523880"/>
            <a:chExt cx="9144000" cy="1739880"/>
          </a:xfrm>
        </p:grpSpPr>
        <p:sp>
          <p:nvSpPr>
            <p:cNvPr id="156" name=""/>
            <p:cNvSpPr/>
            <p:nvPr/>
          </p:nvSpPr>
          <p:spPr>
            <a:xfrm>
              <a:off x="0" y="1523880"/>
              <a:ext cx="9144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щей частью двух углов, величины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является угол, величины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Найдите угол, покрываемый обоими данными углами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7543800" y="1752480"/>
            <a:ext cx="266760" cy="33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43800" y="1752480"/>
                      <a:ext cx="26676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8381880" y="1752480"/>
            <a:ext cx="317520" cy="33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1880" y="1752480"/>
                      <a:ext cx="31752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5410080" y="2286000"/>
            <a:ext cx="216000" cy="33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10080" y="2286000"/>
                      <a:ext cx="2160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3" name=""/>
          <p:cNvGrpSpPr/>
          <p:nvPr/>
        </p:nvGrpSpPr>
        <p:grpSpPr>
          <a:xfrm>
            <a:off x="990720" y="3809880"/>
            <a:ext cx="4952880" cy="642600"/>
            <a:chOff x="990720" y="3809880"/>
            <a:chExt cx="4952880" cy="642600"/>
          </a:xfrm>
        </p:grpSpPr>
        <p:sp>
          <p:nvSpPr>
            <p:cNvPr id="164" name=""/>
            <p:cNvSpPr/>
            <p:nvPr/>
          </p:nvSpPr>
          <p:spPr>
            <a:xfrm>
              <a:off x="990720" y="3809880"/>
              <a:ext cx="495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2514600" y="4038480"/>
            <a:ext cx="1536840" cy="35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14600" y="4038480"/>
                      <a:ext cx="153684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4479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о имеет восемь спиц. Чему равен угол между соседними спицам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5053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45</a:t>
            </a:r>
            <a:r>
              <a:rPr b="0" lang="en-US" sz="36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762120"/>
            <a:ext cx="80769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лько градусов повернется минутная стрелка за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0 мин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0 ми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) 45 ми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105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) 12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) 6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) 13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523880"/>
            <a:ext cx="8305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лько градусов повернется часовая стрелка за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 ч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5 мин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029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) 6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74040" y="50292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) 7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762120"/>
            <a:ext cx="87631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ен угол между минутной и часовой стрелками на часах 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3 ч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6 ч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ч 30 ми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5105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) 9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03000" y="510552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) 18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02480" y="510552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) 10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вадран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5'4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173480" cy="61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9720" y="76212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 инструментом для измерения углов был квадрант, представляющий собой одну четвертую часть астроляби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нт имел то преимущество перед астролябией, что его можно было сделать значительно больших размеров и тем самым увеличить точность измерения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Теодоли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5'5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946680" cy="594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86200" y="762120"/>
            <a:ext cx="525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совершенным угловым инструментом, применяющимся в настоящее время для выполнения геодезических работ, является теодолит, состоящий из двух лимбов, расположенных в вертикальной и горизонтальной плоскостях, что позволяет измерять вертикальные и горизонтальные углы одновременно. На вертикальном лимбе имеется зрительная труба, с помощью которой алидады вертикального и гориз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ьного лимбов наводятся на объект наблюдения. Точность измерения углов при этом составляет доли минут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762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инимается за единицу измерения величины угла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146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диницу измерени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угло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инимается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ющи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у сто восьмидесятую часть развернутого угл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762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: а) градус; б) минута; в) секунд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2514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) 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 восьмидеся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ь развернутого угл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3733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шес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ь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радуса;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4419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шес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ь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нут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762120"/>
            <a:ext cx="85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казывает градусная величина угла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51460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усная величина угла показывает, сколько раз угол в один градус и его части укладываются в этом угл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762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свойствам удовлетворяет градусная величина угла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209680"/>
            <a:ext cx="8839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усная величина угла удовлетворяет следующим свойства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ойство 1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усные величины равных углов рав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ойство 2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усная величина суммы углов равна сумме их градусных величи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900600" cy="2932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914400"/>
            <a:ext cx="58672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исунке найдите величины угл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638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6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563868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9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63868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13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5638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3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5638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) 7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5638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) 4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*</cp:lastModifiedBy>
  <dcterms:modified xsi:type="dcterms:W3CDTF">2009-11-17T18:09:15Z</dcterms:modified>
  <cp:revision>25</cp:revision>
  <dc:subject/>
  <dc:title>Основные геометрические фигуры</dc:title>
</cp:coreProperties>
</file>