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5.wmf" ContentType="image/x-wmf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2B8E-B949-4C48-98C9-D21DCFA98F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1DD9-E672-40FE-9C1A-09752C47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D3F0-A823-4566-995B-DD5A0D73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F9D-FD02-43FF-9CA3-80F69985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A133-6C7B-4D8C-A00A-49B872C0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E0AA-94EF-4F8A-8FF4-278DFC14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AF54-0797-4DEF-ABF5-1EFD973F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E686-5F79-4013-80C5-7F7C3811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9477-0D7B-4B5B-A2AF-C05F0ADC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680-B214-4CF2-9117-C804C4E5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9E4-AD31-450E-A0DF-2FCF0F9A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9041-C10E-4695-BF23-AAF9B10C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3E8-26CE-4CCE-A595-C630BE23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8927-C33A-40ED-8D43-C524674F8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Измерение угл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53352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диницу измер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гл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чн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нимаетс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авл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ющ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у сто восьмидесятую часть развернутого угла. Считают, что величина этого угла равна одному градусу, обозначают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9810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Г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адусная величина угла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, сколько раз угол в один градус и его части укладываются в этом уг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8195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змерения величин углов применяют различные инструменты, простейшим из которых является известный вам транспорти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39006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685800"/>
            <a:ext cx="8458200" cy="36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жит внутри угла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градусную величину угла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C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5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B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5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C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5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B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2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C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4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B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5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1055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) 11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5105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) 137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5105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) 179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14400" y="2209680"/>
          <a:ext cx="368280" cy="3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09680"/>
                    <a:ext cx="3682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581280" y="2209680"/>
          <a:ext cx="36828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209680"/>
                    <a:ext cx="3682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914400" y="3048120"/>
          <a:ext cx="368280" cy="35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048120"/>
                    <a:ext cx="3682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581280" y="3048120"/>
          <a:ext cx="368280" cy="35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3048120"/>
                    <a:ext cx="3682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914400" y="3886200"/>
          <a:ext cx="368280" cy="355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3886200"/>
                    <a:ext cx="3682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657600" y="3809880"/>
          <a:ext cx="368280" cy="355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57600" y="3809880"/>
                    <a:ext cx="3682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685800"/>
            <a:ext cx="84582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жит внутри угла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вного 6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углы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гол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3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ьше угла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гол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ва раза больше угла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градусные меры углов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носятся как 2:3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52578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) 45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 15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52578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) 4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2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867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) 2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и 3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9144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угол образуют биссектрисы вертикальных углов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2514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5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9144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Чему равен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ванны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ссектри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м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межных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ов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29718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6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9144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й угол равен 3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Чему равен смежный с ним  угол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2514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42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6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9144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смежных углов на 45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ньше другого. Найдите эти угл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23623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7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12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7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0666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смежные углы, если один из них в два раза больше другог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2666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8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5562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3520" y="838080"/>
            <a:ext cx="8076960" cy="4243680"/>
            <a:chOff x="533520" y="838080"/>
            <a:chExt cx="8076960" cy="42436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124080" y="3657600"/>
              <a:ext cx="2981520" cy="14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"/>
            <p:cNvGrpSpPr/>
            <p:nvPr/>
          </p:nvGrpSpPr>
          <p:grpSpPr>
            <a:xfrm>
              <a:off x="533520" y="838080"/>
              <a:ext cx="8076960" cy="2552760"/>
              <a:chOff x="533520" y="838080"/>
              <a:chExt cx="8076960" cy="255276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533520" y="838080"/>
                <a:ext cx="8076960" cy="2288520"/>
                <a:chOff x="533520" y="838080"/>
                <a:chExt cx="8076960" cy="22885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838080"/>
                  <a:ext cx="80769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з точки, взятой на прямой в одной полуплоскости относительно нее, проведены два луча, 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=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r>
                    <a:rPr b="0" lang="ru-RU" sz="3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о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, 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составляет  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рямого угла. Найдите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3.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29" name=""/>
                <p:cNvGraphicFramePr/>
                <p:nvPr/>
              </p:nvGraphicFramePr>
              <p:xfrm>
                <a:off x="5410080" y="2133720"/>
                <a:ext cx="330480" cy="31752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130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5410080" y="2133720"/>
                          <a:ext cx="330480" cy="317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31" name=""/>
                <p:cNvGraphicFramePr/>
                <p:nvPr/>
              </p:nvGraphicFramePr>
              <p:xfrm>
                <a:off x="7238880" y="2133720"/>
                <a:ext cx="330480" cy="31752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132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7238880" y="2133720"/>
                          <a:ext cx="330480" cy="317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33" name=""/>
                <p:cNvGraphicFramePr/>
                <p:nvPr/>
              </p:nvGraphicFramePr>
              <p:xfrm>
                <a:off x="7696080" y="2666880"/>
                <a:ext cx="330480" cy="317520"/>
              </p:xfrm>
              <a:graphic>
                <a:graphicData uri="http://schemas.openxmlformats.org/presentationml/2006/ole">
                  <p:oleObj r:id="rId6" spid="">
                    <p:embed/>
                    <p:pic>
                      <p:nvPicPr>
                        <p:cNvPr id="134" name="" descr=""/>
                        <p:cNvPicPr/>
                        <p:nvPr/>
                      </p:nvPicPr>
                      <p:blipFill>
                        <a:blip r:embed="rId7"/>
                        <a:stretch/>
                      </p:blipFill>
                      <p:spPr>
                        <a:xfrm>
                          <a:off x="7696080" y="2666880"/>
                          <a:ext cx="330480" cy="317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35" name=""/>
              <p:cNvGraphicFramePr/>
              <p:nvPr/>
            </p:nvGraphicFramePr>
            <p:xfrm>
              <a:off x="2819520" y="2438280"/>
              <a:ext cx="291960" cy="9525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136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2819520" y="2438280"/>
                        <a:ext cx="291960" cy="95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9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562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99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52280" y="838080"/>
            <a:ext cx="8839440" cy="5024520"/>
            <a:chOff x="152280" y="838080"/>
            <a:chExt cx="8839440" cy="5024520"/>
          </a:xfrm>
        </p:grpSpPr>
        <p:grpSp>
          <p:nvGrpSpPr>
            <p:cNvPr id="140" name=""/>
            <p:cNvGrpSpPr/>
            <p:nvPr/>
          </p:nvGrpSpPr>
          <p:grpSpPr>
            <a:xfrm>
              <a:off x="152280" y="838080"/>
              <a:ext cx="8839440" cy="3018600"/>
              <a:chOff x="152280" y="838080"/>
              <a:chExt cx="8839440" cy="3018600"/>
            </a:xfrm>
          </p:grpSpPr>
          <p:sp>
            <p:nvSpPr>
              <p:cNvPr id="141" name=""/>
              <p:cNvSpPr/>
              <p:nvPr/>
            </p:nvSpPr>
            <p:spPr>
              <a:xfrm>
                <a:off x="152280" y="838080"/>
                <a:ext cx="8839440" cy="30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На прямой дана точка, из которой в одной полуплоскости относительно данной прямой проведены два луча. Величина одного из углов, образованных при этом, равна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ямого угла, величина другого составляет половину первого угла. Найдите величину третьего угла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42" name=""/>
              <p:cNvGraphicFramePr/>
              <p:nvPr/>
            </p:nvGraphicFramePr>
            <p:xfrm>
              <a:off x="5867280" y="2209680"/>
              <a:ext cx="254160" cy="838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4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867280" y="2209680"/>
                        <a:ext cx="254160" cy="83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4038480" y="4038480"/>
              <a:ext cx="1698840" cy="182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2952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глов, которые получаются при пересечении двух прямых, равен 3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ему равны остальные углы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35053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Астроляб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5'3" descr=""/>
          <p:cNvPicPr/>
          <p:nvPr/>
        </p:nvPicPr>
        <p:blipFill>
          <a:blip r:embed="rId1"/>
          <a:stretch/>
        </p:blipFill>
        <p:spPr>
          <a:xfrm>
            <a:off x="0" y="838080"/>
            <a:ext cx="5553000" cy="6019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86400" y="762120"/>
            <a:ext cx="350532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первых угломерных инструментов была астролябия, изобретенная Гиппархом (180-125 гг. до н. э.) и усовершенствованная немецким ученым Региомонтаном (1436-1476). Она состояла из тяжелого медного диска - лимба, который подвешивался за кольцо так, чтобы он висел вертикально и лини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имала горизонтальное положение. По краю лимба наносилась шкала, разделенная на градусы. Кроме этого, на лимбе имелась полоса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зываемая алидадой, которая могла вращаться вокруг центра лимба и имела на концах поперечные пластинки с отверстиями, называемыми диоптр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2952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ли сумма трех углов, образовавшихся при пересечении двух прямых, быть равной 15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388620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52388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трех углов, образованных при пересечении двух прямых, равна 30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эти углы.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3809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12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5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3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0" y="1523880"/>
            <a:ext cx="9144000" cy="1739880"/>
            <a:chOff x="0" y="1523880"/>
            <a:chExt cx="9144000" cy="1739880"/>
          </a:xfrm>
        </p:grpSpPr>
        <p:sp>
          <p:nvSpPr>
            <p:cNvPr id="156" name=""/>
            <p:cNvSpPr/>
            <p:nvPr/>
          </p:nvSpPr>
          <p:spPr>
            <a:xfrm>
              <a:off x="0" y="1523880"/>
              <a:ext cx="9144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щей частью двух углов, величины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 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является угол, величины 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Найдите угол, покрываемый обоими данными углами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7543800" y="1752480"/>
            <a:ext cx="266760" cy="330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43800" y="1752480"/>
                      <a:ext cx="26676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8381880" y="1752480"/>
            <a:ext cx="317520" cy="330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1880" y="1752480"/>
                      <a:ext cx="31752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"/>
            <p:cNvGraphicFramePr/>
            <p:nvPr/>
          </p:nvGraphicFramePr>
          <p:xfrm>
            <a:off x="5410080" y="2286000"/>
            <a:ext cx="216000" cy="330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10080" y="2286000"/>
                      <a:ext cx="21600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3" name=""/>
          <p:cNvGrpSpPr/>
          <p:nvPr/>
        </p:nvGrpSpPr>
        <p:grpSpPr>
          <a:xfrm>
            <a:off x="990720" y="3809880"/>
            <a:ext cx="4952880" cy="642600"/>
            <a:chOff x="990720" y="3809880"/>
            <a:chExt cx="4952880" cy="642600"/>
          </a:xfrm>
        </p:grpSpPr>
        <p:sp>
          <p:nvSpPr>
            <p:cNvPr id="164" name=""/>
            <p:cNvSpPr/>
            <p:nvPr/>
          </p:nvSpPr>
          <p:spPr>
            <a:xfrm>
              <a:off x="990720" y="3809880"/>
              <a:ext cx="495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2514600" y="4038480"/>
            <a:ext cx="1536840" cy="355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14600" y="4038480"/>
                      <a:ext cx="153684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4479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со имеет восемь спиц. Чему равен угол между соседними спицам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35053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45</a:t>
            </a:r>
            <a:r>
              <a:rPr b="0" lang="en-US" sz="36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762120"/>
            <a:ext cx="80769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колько градусов повернется минутная стрелка за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0 мин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10 ми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) 45 ми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1055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) 12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) 6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) 13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6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523880"/>
            <a:ext cx="83059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колько градусов повернется часовая стрелка за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 ч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15 мин?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50292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) 6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74040" y="502920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) 7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7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762120"/>
            <a:ext cx="87631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равен угол между минутной и часовой стрелками на часах в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3 ч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6 ч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 ч 30 ми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5105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) 9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03000" y="510552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) 18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02480" y="5105520"/>
            <a:ext cx="159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) 10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Квадран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5'4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173480" cy="6172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19720" y="76212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 инструментом для измерения углов был квадрант, представляющий собой одну четвертую часть астроляби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нт имел то преимущество перед астролябией, что его можно было сделать значительно больших размеров и тем самым увеличить точность измерения уг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Теодоли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5'5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3946680" cy="5943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86200" y="762120"/>
            <a:ext cx="525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совершенным угловым инструментом, применяющимся в настоящее время для выполнения геодезических работ, является теодолит, состоящий из двух лимбов, расположенных в вертикальной и горизонтальной плоскостях, что позволяет измерять вертикальные и горизонтальные углы одновременно. На вертикальном лимбе имеется зрительная труба, с помощью которой алидады вертикального и гориз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ьного лимбов наводятся на объект наблюдения. Точность измерения углов при этом составляет доли минуты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762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ринимается за единицу измерения величины угла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5146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диницу измерени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углов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инимается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авл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ющи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у сто восьмидесятую часть развернутого угл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762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: а) градус; б) минута; в) секунд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2514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) 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 восьмидесят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ь развернутого угл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3733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шест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ь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градуса;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44197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шест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ь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инут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3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762120"/>
            <a:ext cx="85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казывает градусная величина угла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51460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усная величина угла показывает, сколько раз угол в один градус и его части укладываются в этом угл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762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 свойствам удовлетворяет градусная величина угла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209680"/>
            <a:ext cx="8839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усная величина угла удовлетворяет следующим свойствам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войство 1.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усные величины равных углов рав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войство 2.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усная величина суммы углов равна сумме их градусных величин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900600" cy="2932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3520" y="914400"/>
            <a:ext cx="58672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исунке найдите величины углов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5638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6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563868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) 9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5638680"/>
            <a:ext cx="16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) 13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5638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3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5638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) 7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91520" y="5638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) 4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5:51:18Z</dcterms:created>
  <dc:creator>*</dc:creator>
  <dc:description/>
  <dc:language>en-US</dc:language>
  <cp:lastModifiedBy>*</cp:lastModifiedBy>
  <dcterms:modified xsi:type="dcterms:W3CDTF">2009-11-17T18:09:15Z</dcterms:modified>
  <cp:revision>25</cp:revision>
  <dc:subject/>
  <dc:title>Основные геометрические фигуры</dc:title>
</cp:coreProperties>
</file>