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3B3-183E-4955-92C6-6D7EEA37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F5C-C969-4AC4-8993-62C2BFED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A738-0108-4DE0-A9A1-B06F690F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A28-2969-4B72-BDDB-A8FC667C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383-422D-407C-A175-577AB2A4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32EA-56D6-47FB-9E39-8368710D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E9B1-848C-40CE-8802-968F2570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601-35C6-43CF-8B65-AD246697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CAB-315F-4611-B0D3-A532D736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440-2509-4B70-AB8D-49256971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F1F8-50A6-4D2F-B38C-590F5277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1F6-F6A1-441A-B6F8-DBDB6762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F8A1-E924-4EF5-860D-FC05E47E8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 урока: «Как питается расте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 урока: сформировать у учащихся представление о процессе фотосин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питается раст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е кормит … и для этого ему нужны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растения зелёные, водяные растения зелёного цвета, кузнечик зелён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43657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948360" y="37893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556000" y="41497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716360" y="443700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397044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лорофи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хлорос» - зелё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филлон» - л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700360" y="2276640"/>
            <a:ext cx="6048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полни в тетр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тения зелёные, так как в них ест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лорофилл образуется только н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елёные растения тянутся к свету: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79640" y="2997360"/>
            <a:ext cx="453708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/З параграф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тог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летках листьев есть вещество зелёного цвета хлорофи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лёный цвет растений – цвет жизни на Земле, так как с помощью хлорофилла растение улавливает свет Сол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лавливая свет, растения образуют органические вещества, которыми питаются все живые организмы на нашей план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Орг. момент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Проверка Д/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и, что это за животно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2832480"/>
            <a:ext cx="856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убы приспособлены к питанию твердыми растительными кор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цы сильно развиты (по одной паре в каждой челюсти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ут в течение всей жизни живот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266364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303640" cy="230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411280" y="765000"/>
            <a:ext cx="2521080" cy="230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50920" y="3933720"/>
            <a:ext cx="2592360" cy="2192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627280" y="3068640"/>
            <a:ext cx="2519280" cy="233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624720" y="2421000"/>
            <a:ext cx="2519280" cy="216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076720" y="4365720"/>
            <a:ext cx="2570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убы расположены в несколько ряд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имеют форму острых конусов, или плоских треугольных пласти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гут быть одно- или многовершинными, с гладкой или зазубренной режущей кромк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274680"/>
            <a:ext cx="4392720" cy="3225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580000" y="206064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30020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ычу заглатывают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бо предварительно удушенной или убитой я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024360" cy="280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419640" y="333360"/>
            <a:ext cx="2736720" cy="2808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2881080" cy="266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067280" y="3573360"/>
            <a:ext cx="3097080" cy="3284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372360" y="1628640"/>
            <a:ext cx="2520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нем развит мощны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рытый твердой хитиновой теркой, или раду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4186440" cy="2879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3456000" cy="2951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2808360" cy="2519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132000" y="2997360"/>
            <a:ext cx="2808360" cy="2447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940360" y="3573360"/>
            <a:ext cx="295272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07:48:40Z</dcterms:created>
  <dc:creator>User</dc:creator>
  <dc:description/>
  <dc:language>en-US</dc:language>
  <cp:lastModifiedBy>User</cp:lastModifiedBy>
  <dcterms:modified xsi:type="dcterms:W3CDTF">2014-01-31T08:01:19Z</dcterms:modified>
  <cp:revision>3</cp:revision>
  <dc:subject/>
  <dc:title>Как питается растение</dc:title>
</cp:coreProperties>
</file>