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6.png" ContentType="image/png"/>
  <Override PartName="/ppt/media/image7.png" ContentType="image/png"/>
  <Override PartName="/ppt/media/image14.jpeg" ContentType="image/jpeg"/>
  <Override PartName="/ppt/media/image8.png" ContentType="image/png"/>
  <Override PartName="/ppt/media/image9.png" ContentType="image/png"/>
  <Override PartName="/ppt/media/image11.gif" ContentType="image/gif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D4C1-DD01-4805-AEFF-895A977DE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C3BA-6B67-4FD6-814B-B54FD7C8E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BAD3-871B-4997-A7A9-5B83FCDD9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3658-351D-4671-85E0-FBA793676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5DF0-09D5-4431-AE2E-2FEF915A6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9D4C-331E-42A9-AEC3-2D49695BD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1278-CAF2-4FBC-AED3-2B08B0F03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436A-669B-4F21-B4A9-9039CBAD8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3011-3800-4191-80E2-199508B99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4814-021B-4535-BE3F-8978EDAF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5283-807C-40F4-8EA8-006027C6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8BF7-DF58-4B78-8EDD-2C510542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3912F-DB67-41F4-A602-AC485B9711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к питаются парази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л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формировать у учащихся представление о паразитах, их разновидности, образе жизни, внешних призна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12000" y="4365720"/>
            <a:ext cx="2376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 ты понимаешь смысл этого стихотвор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 микроскопом он откр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на блох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вет блоху кусающая мош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блошке той – блошинка – крош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блошинку же вонзает зуб серди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лошиночка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жонатан Свифт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732720" y="1125360"/>
            <a:ext cx="188424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тоги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рганизм хозяина служит средой обитания для паразита. Ослабляя своих хозяев, паразиты ускоряют их гибель и уменьшают их числ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292720" y="4005360"/>
            <a:ext cx="269388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/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раграф 20 прочита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ание на стр. 101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готовиться к итоговой рабо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раграф 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940360" y="4076640"/>
            <a:ext cx="23749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АРАЗИТ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от греч. parasitos — нахлебник, тунеядец)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рганизмы, питающиеся за счет других организмов (называемых хозяевами) и большей частью наносящие им вред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стения - парази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од бесхлорофилльных трав семейства норичниковых. 5-7 видов, преимущественно в умеренном поясе Евразии. Паразитируют на корнях деревьев и кустарников — лещины, тополя, ольхи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651640" y="2133720"/>
            <a:ext cx="295272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УТОВЫЕ  ГРИБЫ (трутовиковые), группа базидиальных грибов порядка афиллофоровых. Плодовые тела мясистые, кожистые или деревянистые, часто копытообразной формы. Ок. 600 видов, обитают на древесине, разрушая ее; вызывают гибель деревье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аймленный трутов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утовик зим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утовик серно-желт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ский трутов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рибы - парази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2951280" cy="244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796000" y="1268280"/>
            <a:ext cx="2859120" cy="2448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68360" y="3860640"/>
            <a:ext cx="2808360" cy="2551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5796000" y="3789360"/>
            <a:ext cx="2859120" cy="25509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3132000" y="2565360"/>
            <a:ext cx="2808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ерви - парази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2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ЧЕНОЧНАЯ ДВУУСТКА (печеночный сосальщик), паразитический плоский червь класса сосальщ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995640" y="1413000"/>
            <a:ext cx="489744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актерии - парази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рмибактерия сибиреязвенная палочка (Bacillus anthracis) вызывает инфекционное заболевание животных — Сибирскую язв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508720" y="3357720"/>
            <a:ext cx="295092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Жизненный цикл детской острицы – паразита человека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ызывает энтеробио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124000" y="2781360"/>
            <a:ext cx="532764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40384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ужны ли паразиты на Земл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чем паразитам нужны органы прикрепл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полни таблиц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755640" y="4653000"/>
          <a:ext cx="7931160" cy="1473120"/>
        </p:xfrm>
        <a:graphic>
          <a:graphicData uri="http://schemas.openxmlformats.org/drawingml/2006/table">
            <a:tbl>
              <a:tblPr/>
              <a:tblGrid>
                <a:gridCol w="3529080"/>
                <a:gridCol w="440208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я парази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наки парази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156360" y="765000"/>
            <a:ext cx="21607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4T07:24:42Z</dcterms:created>
  <dc:creator>User</dc:creator>
  <dc:description/>
  <dc:language>en-US</dc:language>
  <cp:lastModifiedBy>User</cp:lastModifiedBy>
  <dcterms:modified xsi:type="dcterms:W3CDTF">2009-04-24T07:58:19Z</dcterms:modified>
  <cp:revision>2</cp:revision>
  <dc:subject/>
  <dc:title>Слайд 1</dc:title>
</cp:coreProperties>
</file>