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7.png" ContentType="image/png"/>
  <Override PartName="/ppt/media/image12.png" ContentType="image/png"/>
  <Override PartName="/ppt/media/image9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D6C-ED02-4DBE-B391-BD4FF933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F47-4244-4251-AB92-A6548902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6E2EC-8F7D-479C-BD37-43B63441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09730-FD14-4919-86AD-4A129006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36AF5-2FA8-4C20-8F6C-9CD01F4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B3A08-F290-4C8B-9437-782729E1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C8A5B-F794-4F4E-A61F-F237293D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C5B79-6FA5-43EB-A533-350A794D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1C2D6-3904-43B4-B1BA-DECF153B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74671-E9FB-4145-834D-B5C97739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CB433-F920-4508-9FD7-DBC6BEF0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82D85-FD18-4BFC-AD19-34F7F018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E00-B196-44B0-957D-B089D107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06721-39EF-4AC6-A841-A6093E01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9C6CF-D28A-41F9-B299-9AEA119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A5916-E198-4D30-9D64-D6D22DE4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FD45C-55C1-47AA-95FD-23A185A4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958D3-341A-4FFF-B04B-BDA7BE99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A5694-D68C-4580-8C4D-734D9E2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23BBB-5798-4EED-985A-C5DBD551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036D8-BFAB-4D26-962B-5DFBD680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553CC-8F2D-4CAD-A057-AEF731A8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95D02-5B65-4861-8B93-BD4ED036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8DE-660C-4842-AADA-DDBE40BC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88984-0EA3-420C-9744-49BF5CED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5130-007D-40DA-ABC0-1A90510E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B869-7E78-4DDF-90FC-6FD4C0B9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30EB-903B-4609-975F-DB22F8ED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D96B-53A2-4041-8A62-9DF4CDB2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100B-8A83-4A03-9160-3EA5922F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9FDB-08A2-4AB9-BA53-741E0739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D5E9-9DF4-4629-A634-A6A2276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5A9-F1EB-45EA-8A02-D95A77C4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F8A1-3B4D-42AE-B316-B42A7179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C2C7-74C5-467F-B8FF-808E17C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7A4F-8566-4689-8839-DEEC0A0A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B21E-1BFD-4048-B3D0-FF5E3D8F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5A5D-879F-4133-A028-A5512441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61D9-DC9D-4D22-BC43-8CA51AD7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8DE3-1DC4-4006-84DF-F17EF305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36AC-DBFF-43CE-AD0A-B546BBB9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9DD0-C5CE-470A-BE78-DC8CEBA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C193-F5E1-4AD6-A5D3-DFBC71AC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B3F-25A9-4365-A591-F9F95B55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4621-34A2-4F2F-B497-DD19832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AD29-8C01-4064-9F83-E48D7AEB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EA9D-1527-4FD4-99B0-7B199EDC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0C20-3F88-42CB-8147-B9DE0826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FCE4-9E13-4F19-8B2F-082C3183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3D4C-F674-4A31-9DB2-6A08D33A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207CA-7A00-4882-B3AE-AFDF1718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DE18-18FF-43E1-A436-1FFA49B9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C068-F443-4D6C-B565-3A18D5C4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74DB-09DD-4D4C-91E5-99655B6C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6F6-9C88-4942-80F4-3D58148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2B09-2FB7-4DB8-A423-C8200111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D812-EECE-41C0-B9EC-8D0A2A61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7317-9167-4B92-8172-D0495FB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2D0B-2512-444A-A3EF-36FB191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A6DE-952D-4318-9525-A54BC3EB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9663-E800-4E07-A32F-4F311F00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FB84B-D193-49E0-BFA4-4E8E4E4F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DEDEB-8E7F-4050-9237-814C22DB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5F0C-EBF4-4533-9857-83E7E1E4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58F6A-5C58-40F3-B74A-B8DEAB84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19E-2C53-4AC1-B4A0-F81681ED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AB21-A681-4F4D-8DF2-CAB9DDCE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9CB6-8DFB-4340-B87E-228A9669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4D5EF-712A-4A86-BCAE-29B3D317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1307-F547-488B-8040-D6DE4805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78E3F-243E-42FB-9887-59301D3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DD1A-9A4E-4AEC-835D-D63C3083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99F5-A5B2-4383-9BCB-9891234F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A57DF-8CC9-417C-8B0A-3F38CEA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7813-A8F2-4CCA-87F1-CD96593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B938-AB56-4A0B-97D0-6A61EAE5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583-2472-478A-859B-C95B610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E8C58-1673-4083-B855-D220541F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E82AC-CD53-4720-AD28-E55189D6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6871E-6D87-4CAF-A995-ABAFB41B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D94EA-D1BC-437D-9FB2-77BA65ED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B0B2-F650-48E5-A705-8BFC1C0B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E7A15-40C2-417B-93A8-B520B61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5F60E-9BF5-4174-B470-9998AE87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783E-7CFD-421C-91FD-747D9410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E49E7-D6AE-45E4-9A3A-07858D22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EDF57-F85E-4C70-970E-47E94F0A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9BE-2D77-493D-A012-382040A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F87A-CE71-41C9-927A-C6DFB4D9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2C57-A6AA-4D51-A9E8-759F6F42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A3D0C-60BB-48D7-ABF0-8BF58B00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249A-AF19-431F-B677-5E4373D9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0DFCA-06AF-434F-AF09-924FFF4F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F3ECC-2178-46E7-9342-3F8F6BB5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75439-C9A6-42BB-8CA4-ADA7891D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AAF35-EB46-466C-BE29-5645F96C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FD45-F7EF-4006-92B1-0EBB7631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2D94C-EDEE-41AB-87A9-8B6B4A1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9FE-6152-4E8D-B819-71C5C87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98400-A52E-4680-8195-A320D2F0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6CD3C-7DFF-44BB-87FE-66E1AFC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42F2C-137F-4420-A703-FCB6C62F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D83A-C4EB-497F-B069-FEF21AC4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4199F-6BFF-4677-A2E9-B4090BC6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F18D2-694E-4562-8F49-7D2C2220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EAFBD-7ED4-4051-A5C5-DF4A761A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DB5AF-6F04-47B2-92A0-36E97238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A278A-FB98-426D-A6CF-860461F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C9301-2429-40FE-B342-BCC7BDDD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DB5-A4C4-41FE-8297-DE7B79CF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38179-F4F8-4F71-8479-2BAEF2A0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62987-AD16-4AF0-882B-97086D78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3C92-2AAA-498E-A123-79F98E74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8D551-EFD7-4A4A-B74D-16670DB6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7AF0F-00F1-4902-B469-5D6C2FAC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62184-B89A-4F15-BE85-B5BEF719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2BA3E-8EC8-48F7-B3B1-A82853D1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DA825-3B76-4FE3-A7F2-881F4D0A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646AB-BDC4-462C-B532-8FCB9E9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33529-370F-4D7A-BDD9-FBF89409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2AAC-56CE-4BA3-9AFA-51F8FC5085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C13F-5A9A-4FD2-B474-7D67D17854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91D5-E1A5-4339-9B90-964B1CDFDD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DC51-247F-4A56-AEF9-023E942B5B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061C-716B-4C76-9BC2-D73EC9DCC6B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7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8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8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9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2870-2D9A-465C-A874-065F3915B0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6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6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8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8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9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D02-7091-45B9-B1C3-17391158E0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F92F-8676-467D-A2A5-DB770243A7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8D99-AE7C-4002-BEE5-E21F4A99BC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F535-CFCA-48C1-89D4-186F5DD50E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1. 01. 10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итаются разные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6443640" y="4797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3924360" y="907920"/>
            <a:ext cx="3384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1771560" cy="16556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2916360" cy="26650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Цели урока: 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сформировать у учащихся представление о процессе пищеварения у различных животных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2987640" y="3832200"/>
            <a:ext cx="3467160" cy="30258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0" y="4554360"/>
            <a:ext cx="3132000" cy="23036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6372360" y="1916280"/>
            <a:ext cx="2771640" cy="2708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6"/>
          <a:stretch/>
        </p:blipFill>
        <p:spPr>
          <a:xfrm>
            <a:off x="6372360" y="4308480"/>
            <a:ext cx="277164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Ход урока:                      1. Оргмомент.</a:t>
            </a:r>
            <a:br>
              <a:rPr sz="2400"/>
            </a:b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                             2. Изучение нового материала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ступительное слово уч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так, сегодня на уроке мы будем говорить о пище, питании, пищеварении как у человека, так и живот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17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амостоятельная работа учащихся по группа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: сформировать у учащихся представление о процессе пищеварения, органах пищеварения различных животных; продолжить работу по развитию умений и навыков работы с книгой, анализировать прочитанное, выделить главное в тексте, сделать 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959280" cy="40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суждение вопросов по группа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ыступление учащихся по вопроса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суждение ответов товарищ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суждение рис. 66 на стр. 8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то же объединяет всех этих животных, таких разных внешне и добывающих пищу каждое «по своему»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5976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ловек и животные получают с пищей готовые органические вещества, которые усваиваются организмом. Непереварившиеся остатки из организма удаляю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тательные вещества расходуются на движение и рост орган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м больше двигается животное или человек, тем больше ему нужно пищ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708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 Подведение итогов уро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Д\З параграф 17, выполнить упражнение на стр. 8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ающие могут подготовить сообщение «Как правильно чистить зубы», «Как правильно питаться»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321080" cy="403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9:39:21Z</dcterms:created>
  <dc:creator>User</dc:creator>
  <dc:description/>
  <dc:language>en-US</dc:language>
  <cp:lastModifiedBy>User</cp:lastModifiedBy>
  <dcterms:modified xsi:type="dcterms:W3CDTF">2014-01-31T07:50:36Z</dcterms:modified>
  <cp:revision>7</cp:revision>
  <dc:subject/>
  <dc:title>27. 02. 08</dc:title>
</cp:coreProperties>
</file>