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7.png" ContentType="image/png"/>
  <Override PartName="/ppt/media/image12.png" ContentType="image/png"/>
  <Override PartName="/ppt/media/image9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1FC-F1AE-45C6-BE04-2017918C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874-C18E-4980-A82D-70550572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3D195-A3E8-4132-BF96-AA0DFDAA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D65D6-3F97-4F9A-9F26-48EB6CCB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395DF-FE1E-443D-AA12-2C4420B4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0B2B1-A1CB-4851-99E8-4519ACE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B27FC-11EB-4577-A9C1-5F6CB80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A7FCE-8E5A-4635-99BA-2FE8C66A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20A3C-39CE-446C-83A2-69E575B2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34F62-850D-4410-B029-1E653062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5E902-59D9-4E66-BDED-EC7B919F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19B5C-C06B-44F8-A7F6-E88FDCFB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967-F5CB-4354-9EBF-3A0E76D2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F7FE0-CF51-4581-9F0F-08315089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4B61B-0AA6-4B69-B62D-B879E96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ACE93-5AC0-4889-BBD3-47C77C6A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7B68C-B2C2-4F3C-90EF-3869586E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50F2F-7A19-49ED-ABF0-17FFF0C7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24724-3BE2-45D5-B150-D7070A27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23F10-257A-4A83-881E-51244F3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EF065-02EA-40E7-9653-94707C4D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D57E1-D5A7-4AF0-92AC-DEBCE9A9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9F114-A6FC-4D96-9702-802D973E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DE7-46B9-49AA-9A15-183FEEFB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96727-BF55-4466-AC8B-C373EBF2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79BA-A2AE-40F3-AF0A-C76F83D0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F734-36DA-4871-AC13-665B6BB5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03FE-FF5A-41D2-B258-57AB8818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9165-1AB9-49B5-B91C-AF96C953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B203-1CAA-4CCD-8329-A5BBF40E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5C84-BAB9-463B-AD97-6CED528B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D4E0-4F72-4A53-8B1F-5A535A70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B4D-AEE8-4CB0-A390-10FA7AB9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1D3C-213E-4DEE-B967-93645486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7550-9DC9-48B9-810F-5E46D09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80F6-7702-4821-81FA-C5276075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2C50-9533-4376-94E4-09CD9551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5BFC-44CA-455E-B741-2834CEE2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F71B-1EB6-42CC-BBA3-4E7947A6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7EC7-0F5A-4FC0-ADA4-6F844C29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AF8D-8F5C-4F75-9BCD-9037C8D0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A3BF-3781-4293-8793-47129AB3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83E4-C4E8-4110-8EB2-0CEA28AC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A13-BBD4-4999-9B8F-5F55670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FF75-2EB3-46CD-95CA-61F41E3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E954-A245-41CC-91CC-4AD4052A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3A3B-457C-45F1-8FF2-59CD6A3E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1401B-295E-45CB-9D24-D31CD3F5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982DA-6FEE-4F9C-8307-24103A19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11E6-842D-4EE3-89FD-8FCB0A89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C16B-BFE1-492F-AD01-27646D8C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60E5-08E4-493C-9748-8E72342A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EEE8-6F06-4207-9625-572878E0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72940-8A3C-418D-88C5-FFCD4B0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FE8-9D62-4414-B316-BB5DE632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52D63-E82D-49F2-BC31-92B00DCA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0CE8C-608F-4CCC-B7CC-752C9D30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E08E-CC0B-49F1-BE6F-3CD6102A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9E4A-AF76-4132-8FF9-C09D89A3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FBB3-C155-45EF-848E-A2BE778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08E0-F838-4FBA-8C40-894EC1E7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469A-3A1F-4906-8A97-99F62744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6937-E226-4101-B986-F4093473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751A-C446-4D17-B90F-70BA9191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67BD6-9C47-4509-B981-54664418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8CF-BE75-4FCA-997D-451C9EAE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1D053-8A39-4D3A-AAE8-2B2E96D3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026AD-726D-4A9A-940A-E0845117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7488-0303-4803-BF29-C854A010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8919-1EE0-4506-BD1E-19361522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5CB18-AA7A-4746-A8CB-4AEE692D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5A88F-9129-4484-BCA8-0AAD9826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9E02-6169-4986-8229-01822C9B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82246-6CDF-4432-B0BD-C4E6F37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6039A-969D-4DBD-B6D3-0D95C4DE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3217-7396-42EF-9A96-F6E1F337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E0D-732B-40E8-9B33-7585EC96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4EA84-2BE7-488F-B6CD-2AF1CD63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481B9-A0A3-40DE-9838-CA72BC99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2C583-577B-477A-A064-DC48585F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A47BD-1831-4E0F-8DF9-8AA554F5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8F5A5-CC4F-4B2C-A3B0-5FC46519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371BA-73DC-4A5E-A937-9F85D8EE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8AB4-4E09-4BD1-BA20-E65A8C29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A680-FEF6-4465-BFF6-8A6C7EC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5ED3-20F3-46CA-B47D-ADF032F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467D2-AD80-4299-834E-3BC91CD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8AD-6EB5-417E-9954-1A3D9F0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C40E4-3717-4EA2-80F7-FC538CEC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83A9D-87E1-45C1-B350-852A910C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AD0D0-E044-4997-847C-E99B4B50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E4A92-AE7E-4807-ABDE-43A69F4F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43993-7AEC-4AD9-9896-7C9E8154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62A5D-DBA4-4A1C-92E4-19B0C90F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8FA99-33F5-4A43-92B6-BA2157E5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9E262-197A-416E-9A81-072C2074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7D32-342D-4373-9F31-63B20B1E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AD002-A128-4C9A-BE15-3DEE9F01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3E4-DB14-49BA-876A-CAAB5332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13EB-288F-45BB-9BB7-C6532FE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FCB01-4AB5-41C7-BAF7-57E030E4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B00C-9198-4E59-B1B1-D214AA06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F50BF-A576-4E11-A37D-800050F7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C33F-DB6D-4742-800A-B3740749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1ADA-770F-491D-8433-7E030201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22ED7-1877-4606-B3D0-99D68728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FCF0E-EF3D-43B4-A515-CFA83308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FED6-BC96-4AB4-89EF-47309B73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BBF77-5EEE-4B99-AFCE-C23723DF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21E-9256-4AF2-BB41-E22D31C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0E4C4-371C-4D14-88AB-5A8BB5CA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ECDC4-8FB7-4333-9FEA-9987E21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5F95D-877A-4513-A044-495DDAC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82EFA-2EB1-471C-946B-8B5AFD80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EC0C5-1EA8-4408-A0FC-D4657F0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50868-1F1C-4E0C-A8B8-B0FA3088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59C15-C3C5-4617-BEEB-EAA1864C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EAD0A-99F9-4050-A809-86921665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68A03-9642-47E8-8315-3B21564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3074C-5E30-4536-B4C3-F55CC962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EB4A-2137-47CB-A2CF-074EC03B4A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2A3A-0644-40C4-8D98-6522096789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1F07-2847-4250-8AA2-07597530DE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FA2E-AB3D-4E47-B560-03C54136FC7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1CE2-02EC-4DD6-BE26-E740CB74D6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7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8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8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9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12EB-6ED0-4C5B-9B77-2A6AAB89BD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6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6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8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8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9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5819-7D9D-45E0-B58F-E314A5FA38D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01DB-7B81-4C3A-B06D-78629DDD80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F8B3-35AB-418D-91D0-D28B9561A5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FA5-9C66-4571-A079-116F781D86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21. 01. 10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итаются разные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6443640" y="4797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3924360" y="907920"/>
            <a:ext cx="3384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1771560" cy="16556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2916360" cy="26650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Цели урока: 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сформировать у учащихся представление о процессе пищеварения у различных животных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2987640" y="3832200"/>
            <a:ext cx="3467160" cy="30258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0" y="4554360"/>
            <a:ext cx="3132000" cy="23036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6372360" y="1916280"/>
            <a:ext cx="2771640" cy="2708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6"/>
          <a:stretch/>
        </p:blipFill>
        <p:spPr>
          <a:xfrm>
            <a:off x="6372360" y="4308480"/>
            <a:ext cx="277164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Ход урока:                      1. Оргмомент.</a:t>
            </a:r>
            <a:br>
              <a:rPr sz="2400"/>
            </a:b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                             2. Изучение нового материала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ступительное слово уч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так, сегодня на уроке мы будем говорить о пище, питании, пищеварении как у человека, так и живот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17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амостоятельная работа учащихся по группа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: сформировать у учащихся представление о процессе пищеварения, органах пищеварения различных животных; продолжить работу по развитию умений и навыков работы с книгой, анализировать прочитанное, выделить главное в тексте, сделать 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959280" cy="40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суждение вопросов по группа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ыступление учащихся по вопроса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суждение ответов товарищ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суждение рис. 66 на стр. 8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то же объединяет всех этих животных, таких разных внешне и добывающих пищу каждое «по своему»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5976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ловек и животные получают с пищей готовые органические вещества, которые усваиваются организмом. Непереварившиеся остатки из организма удаляю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тательные вещества расходуются на движение и рост орган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м больше двигается животное или человек, тем больше ему нужно пищ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708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 Подведение итогов уро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Д\З параграф 17, выполнить упражнение на стр. 8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ающие могут подготовить сообщение «Как правильно чистить зубы», «Как правильно питаться»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321080" cy="403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9:39:21Z</dcterms:created>
  <dc:creator>User</dc:creator>
  <dc:description/>
  <dc:language>en-US</dc:language>
  <cp:lastModifiedBy>User</cp:lastModifiedBy>
  <dcterms:modified xsi:type="dcterms:W3CDTF">2014-01-31T07:50:36Z</dcterms:modified>
  <cp:revision>7</cp:revision>
  <dc:subject/>
  <dc:title>27. 02. 08</dc:title>
</cp:coreProperties>
</file>