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09A6D-F06A-4154-97E0-575D8B8D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9708F-644D-4CFE-8DD4-48128E6C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A1A412-AE1A-4A37-8CA9-96367D74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8381BE-006A-43AD-AD6E-11AE5B8A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42FD77-7714-4E32-B59E-5594AFFB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C92B60-25B7-468E-BF3D-45A79BFE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07D943-1FA1-452F-923B-33C3A510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6581E5-F676-4647-B99E-EF2618AD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F7624B-2489-4BEB-A855-D0F269FC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B3430D-294E-4E69-AFEA-08455F89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FAE75E-C9D8-4BF5-A4E1-EA1B8EF0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DF9F2-C601-42B1-A0E6-8E236548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28EC6-1A67-497B-8DBE-900656B6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DBF76-F3BB-4D71-95BC-B7E3E6D4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4D813-2D6C-4774-98F9-0FB8883A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BAE0C-BB12-40F8-B598-B43998F5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98502-125D-49EC-BD53-A0400767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AD679-0E63-42CE-BDEC-1883B161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3B146-1E3B-4555-9ACD-758DD528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47BE6-BF68-43B3-9A10-17084CB3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61C09-FDBD-4CB9-925A-140E5DA9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AF96E-0751-4511-B626-BA69D34E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7DE16-4AFE-4775-A93A-B7D00B4F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FAAE0-1468-4D82-91C4-39D01778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06745-40DB-4D57-B5F3-F61CED3C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0954-95A0-491D-8C93-4B4A9C84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6896-6B84-4247-8B9E-3E3BB8A5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30D6-CBB6-4AF5-9173-6C67E6E1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D83B-7086-4838-9B7A-E039DF16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A5CF-E617-47FB-8AB3-D11866AF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B363-CACE-44FB-BF4D-68A564A2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E835-7EAB-4F3C-8424-17B89CCE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928ED-F6AD-4338-95D1-49C5ACBD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7156-CB7D-454E-832D-EB534A41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0EB4-5081-41E3-9E00-A25A67A1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1A7B-5FAB-4EB2-85E3-4C67D9E9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B175-E26F-4CBA-BFCA-73B56725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24F8-CAFB-43B0-8D51-ACCBC020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4B8FC-B3C8-4E3D-A645-231E6BEB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BC8A9-E2AE-4C97-954D-24527D65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74969-52FB-4769-827A-BCFC4479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2453F-9D27-4766-B8CB-CC64BE89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E1100-66D9-4FBF-A712-3669B222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9822C-A257-43BC-B460-E6775165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B52D5-0A05-4901-9411-13B1FC8E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450D2-4202-4C75-B589-8A03E2BD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DC5B7-ACE4-4885-82FE-0B570921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8D6AA-E871-4948-96FF-FB0F8275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11939-7AE3-467B-BE1B-82942882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986E9-1858-414F-947D-E0D5DB6E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FE89E-ED77-4880-B7A0-C6C86D80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66FCA-C3AB-485E-8986-9EEAA38B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35AFD-03C8-425E-B092-C62FD7F1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EF1A0-EDAB-4010-BA08-4A0B8732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7F039-B492-4172-A99A-D9987E81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3896E-8A2F-4D39-92FE-4AD68F7F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CECB3-3D66-4409-A101-7EA539E9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6CA64-D0DB-4543-869B-BA63CAAF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1B35A-0404-4465-A69B-A69DDFEA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C5E9A-97EF-4047-8CE9-E0700C78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28A50-20B4-4663-8F4D-85E7951D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CC4E8-E474-4DA5-AABA-85C9780D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50A9A-782E-4D7A-A21D-16DD997E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50203-3EF9-4D38-8935-48697E16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10FEE-A6C9-467F-BC30-FDC3BBC4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36055-67AF-4A24-87CD-665471C9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B9C18-B7C7-42E0-952B-35AE0C43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B4F4F-D511-4B88-AC27-6A4AF89D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032E1-95BD-4FDC-BB41-0CC85BD6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1178B-C77A-4925-A0C1-B3955DDE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4D05B-09BB-47EB-835C-E02AF4B4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7C7DF-8702-456D-880E-EB82DFB6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36A9D-340F-4A0B-986E-84DF61B3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77A43-9AC3-484B-9423-21E81E3A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636D5-3001-42F7-9723-1A63047A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7E237-438A-460D-9DD1-EB60FD14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366D-F940-4F05-AF04-67E2D478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D521C-2877-4167-AB3D-2E0C14F9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D3328-D0A6-4064-B101-64C25167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67037-689A-4B0B-80BB-0226E771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803D8-3C94-4255-A613-A5240067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0E305-D4B4-4151-B15D-06827BA6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2DDD0-765A-49B3-8E4F-E2C11FD2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A2AD1-0192-4789-86D4-067111EB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48D39-8503-4844-8E6F-01ED90AB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609DD-18AC-4544-9CD2-1E8D0893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ECE3A-F676-4D9D-BC9D-B324816E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8D9C4-635D-40F1-8774-C3EB20B9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A5D72-BAA5-4CA9-8CD7-1862EAD2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DFD7D-8D12-4902-91E6-DBBD5254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4E5ED-CCCB-4547-ADB7-86B91C04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35CA5-B3CB-4085-8CDC-83874FFB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3055C-2E59-466E-B5A0-0F49DA6F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BD2B7-74E5-4D5D-A7BC-2DD56DA1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C48E4-454C-46B6-8954-9AA285E0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CFC35-9108-486E-8080-0F210BDA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8370E-B42A-4228-BCF9-96D7FDDC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05832-2C94-4300-BA3D-10B27783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B2385-5322-417B-924E-CDB364AF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021E5-DFC1-41F5-8953-1EEF2A14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E0520-8027-4D35-9138-13136B3F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B4669-005B-487F-98A8-F7CCABD2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891AD-19F0-4D4F-8A66-D4FFB1E7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2142B-4643-4F8B-9DEC-B7A128D0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D994B-D960-4758-B171-BE6F3A63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01A2C-57C4-4630-806F-F3ED09B8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1BA33-E829-4437-8F12-D47C117E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B6F0D-FDB0-44C6-AEC0-8DA49BD1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A9F72-6F1A-4BB2-B3EE-ED54C71F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FF26F-52EC-4355-B97A-D32FAC3D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DA30B-6446-4847-AE78-5A41B359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6C761-28EE-4B49-A949-E277DC3A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E034F-C7CB-4F14-810F-5DBA2D4B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98728-CEA0-4375-81DC-8DAF5EE8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8AB9E-B9C8-4825-914E-56BC39D9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F74A8-12FE-4D1D-94FE-02E676D2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16111-8E5A-4E04-8F53-2231A93D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448E34-C5D9-4752-9A33-34027230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D04DEB-2947-456C-B219-B053FFDB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EE238D-4564-42AD-954F-151D85B0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471F-DE5C-4BE8-AD17-CE5048D9EE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2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CBBB-5A6A-4019-BE34-EA88B6DB1B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5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p:txBody>
                </p:sp>
              </p:grpSp>
              <p:sp>
                <p:nvSpPr>
                  <p:cNvPr id="6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  <p:pic>
              <p:nvPicPr>
                <p:cNvPr id="6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9121-DDF4-4DA9-A298-9B3D0259FCC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840F-F125-4989-992B-D18632D4B74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F7D5-265F-47EA-9B74-9F35C0631B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3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C8EA-5A03-4B33-8170-AFAA3E1E65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9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BB76-39E7-4AD5-AABE-7125D178E9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4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4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4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4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4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4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34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p:txBody>
                </p:sp>
              </p:grpSp>
              <p:sp>
                <p:nvSpPr>
                  <p:cNvPr id="35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35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35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35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35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35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  <p:pic>
              <p:nvPicPr>
                <p:cNvPr id="35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6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F740-63E2-4F15-9EF7-B9B86FFEA4B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2F98-70F9-4F72-A19E-39CDF5312F2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7388-67ED-47AE-B587-6CDF65A268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5292720" cy="29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dee2a"/>
                </a:solidFill>
                <a:latin typeface="Garamond"/>
              </a:rPr>
              <a:t>КАК СОХРАНИТЬ УЛЫБКУ КРАСИВОЙ</a:t>
            </a:r>
            <a:endParaRPr b="1" lang="en-US" sz="5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581" name="Picture 6" descr="f316"/>
          <p:cNvPicPr/>
          <p:nvPr/>
        </p:nvPicPr>
        <p:blipFill>
          <a:blip r:embed="rId1"/>
          <a:stretch/>
        </p:blipFill>
        <p:spPr>
          <a:xfrm>
            <a:off x="826920" y="2924280"/>
            <a:ext cx="4869000" cy="2908080"/>
          </a:xfrm>
          <a:prstGeom prst="rect">
            <a:avLst/>
          </a:prstGeom>
          <a:ln w="0">
            <a:noFill/>
          </a:ln>
        </p:spPr>
      </p:pic>
      <p:sp>
        <p:nvSpPr>
          <p:cNvPr id="582" name="TextBox 5"/>
          <p:cNvSpPr/>
          <p:nvPr/>
        </p:nvSpPr>
        <p:spPr>
          <a:xfrm>
            <a:off x="5143680" y="4071960"/>
            <a:ext cx="40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ыполнил: Колосок Антон  ученик3 А клас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АУ «СОШ№15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читель Пономарёва А.Г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9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Цель исследова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троение зуб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то вредно для зуб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ак нужно ухаживать за зубам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5" name="Picture 5" descr="f243"/>
          <p:cNvPicPr/>
          <p:nvPr/>
        </p:nvPicPr>
        <p:blipFill>
          <a:blip r:embed="rId1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f256"/>
          <p:cNvPicPr/>
          <p:nvPr/>
        </p:nvPicPr>
        <p:blipFill>
          <a:blip r:embed="rId2"/>
          <a:stretch/>
        </p:blipFill>
        <p:spPr>
          <a:xfrm>
            <a:off x="6588000" y="378936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90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700"/>
                            </p:stCondLst>
                            <p:childTnLst>
                              <p:par>
                                <p:cTn id="3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роение зуба.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5903640" cy="49690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то вредно для зубов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Грызт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рехи и семеч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ть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чень холодную и очень горячею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ищ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ть вредную для зубов пищу (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ладко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Picture 6" descr="248"/>
          <p:cNvPicPr/>
          <p:nvPr/>
        </p:nvPicPr>
        <p:blipFill>
          <a:blip r:embed="rId1"/>
          <a:stretch/>
        </p:blipFill>
        <p:spPr>
          <a:xfrm>
            <a:off x="6897600" y="4729320"/>
            <a:ext cx="2246400" cy="2128680"/>
          </a:xfrm>
          <a:prstGeom prst="rect">
            <a:avLst/>
          </a:prstGeom>
          <a:ln w="0">
            <a:noFill/>
          </a:ln>
        </p:spPr>
      </p:pic>
      <p:sp>
        <p:nvSpPr>
          <p:cNvPr id="592" name="AutoShape 8"/>
          <p:cNvSpPr/>
          <p:nvPr/>
        </p:nvSpPr>
        <p:spPr>
          <a:xfrm>
            <a:off x="3708360" y="4365720"/>
            <a:ext cx="3024360" cy="1511280"/>
          </a:xfrm>
          <a:prstGeom prst="rightArrowCallout">
            <a:avLst>
              <a:gd name="adj1" fmla="val 25002"/>
              <a:gd name="adj2" fmla="val 25000"/>
              <a:gd name="adj3" fmla="val 33353"/>
              <a:gd name="adj4" fmla="val 6666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3851280" y="4508640"/>
            <a:ext cx="16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т что бывает если не следить за зубами 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9000"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5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к надо ухаживать за зубам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f715"/>
                </a:solidFill>
                <a:latin typeface="Tahoma"/>
              </a:rPr>
              <a:t>Как поел, почисти зуб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f715"/>
                </a:solidFill>
                <a:latin typeface="Tahoma"/>
              </a:rPr>
              <a:t>Делай так два раза в сут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f715"/>
                </a:solidFill>
                <a:latin typeface="Tahoma"/>
              </a:rPr>
              <a:t>Предпочти конфетам фрукт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f715"/>
                </a:solidFill>
                <a:latin typeface="Tahoma"/>
              </a:rPr>
              <a:t>Очень важные проду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f715"/>
                </a:solidFill>
                <a:latin typeface="Tahoma"/>
              </a:rPr>
              <a:t>Помни правило тако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f715"/>
                </a:solidFill>
                <a:latin typeface="Tahoma"/>
              </a:rPr>
              <a:t>К стоматологу идё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f715"/>
                </a:solidFill>
                <a:latin typeface="Tahoma"/>
              </a:rPr>
              <a:t>В год два раза на приё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f715"/>
                </a:solidFill>
                <a:latin typeface="Tahoma"/>
              </a:rPr>
              <a:t>И тогда улыбки св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f715"/>
                </a:solidFill>
                <a:latin typeface="Tahoma"/>
              </a:rPr>
              <a:t>Сохранишь на много ле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6" name="Picture 4" descr="f222"/>
          <p:cNvPicPr/>
          <p:nvPr/>
        </p:nvPicPr>
        <p:blipFill>
          <a:blip r:embed="rId1"/>
          <a:stretch/>
        </p:blipFill>
        <p:spPr>
          <a:xfrm>
            <a:off x="5796000" y="1413000"/>
            <a:ext cx="3016080" cy="40384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000" autoRev="1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02)"/>
                                      </p:to>
                                    </p:set>
                                    <p:set>
                                      <p:cBhvr>
                                        <p:cTn id="100" dur="1000" autoRev="1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02)"/>
                                      </p:to>
                                    </p:set>
                                    <p:set>
                                      <p:cBhvr>
                                        <p:cTn id="101" dur="1000" autoRev="1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800"/>
                            </p:stCondLst>
                            <p:childTnLst>
                              <p:par>
                                <p:cTn id="1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800"/>
                            </p:stCondLst>
                            <p:childTnLst>
                              <p:par>
                                <p:cTn id="1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480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680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880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80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2800"/>
                            </p:stCondLst>
                            <p:childTnLst>
                              <p:par>
                                <p:cTn id="1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4800"/>
                            </p:stCondLst>
                            <p:childTnLst>
                              <p:par>
                                <p:cTn id="1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680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5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07:10:06Z</dcterms:created>
  <dc:creator>Константин</dc:creator>
  <dc:description/>
  <dc:language>en-US</dc:language>
  <cp:lastModifiedBy>Пономарёва</cp:lastModifiedBy>
  <dcterms:modified xsi:type="dcterms:W3CDTF">2014-01-28T15:16:59Z</dcterms:modified>
  <cp:revision>15</cp:revision>
  <dc:subject/>
  <dc:title>КАК СОХРАНИТЬ УЛЫБКУ ЗДОРОВОЙ ?</dc:title>
</cp:coreProperties>
</file>