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FF480-A592-49AC-9132-A64EF6D8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7302E-751C-49E3-8A3D-F58C9027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38E83A-DEFA-4FC8-A363-527C905F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B79FDA-54C3-4AEB-AB79-A16C2A23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15AB1B-ECA6-4D1F-8C88-16662C1C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AFF610-A9AA-4014-B002-CFB524CD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A27240-99B6-45B6-BE04-39B09553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4077A7-49A5-4E28-9AE7-E654DE18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F64837-60E7-4A43-942D-DE42680C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AFBC41-0B1D-498D-9B50-A820B005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801CC2-426E-497C-A1FB-832BC8B6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F0B24-5AB6-4054-9E5A-D754E2FB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7F08D-B55A-4DE5-A42E-D47CE851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9ABB5-4B0C-44FB-957A-E1FCFD02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0AE8C-164A-4C34-8E27-BE406C60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04130-E2D0-49BC-9247-156392CD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544A7-D46B-4A7B-858D-597045A3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DB58C-B09D-4F56-BB8F-11C1E829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44C74-F987-47FD-851B-A5855718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48D4A-66A7-4F2B-B6D3-49A7AB1F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CE754-35E1-4240-972D-E1419270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0E273-3EC9-4B8C-B447-819AC489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4EF7C-40CC-4322-A099-BA15901B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9BA18-75E1-491D-B31E-FCAB54E9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BE21D-D378-47F0-9D4A-B5767BD5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A17A-ADE5-49FD-855A-BE1DF61D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AAD8-81F3-4385-BF8A-51E7BAC5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E944-DE2D-4300-8022-0CE3F366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BBC4-17EE-454E-A7BF-CA7D9D55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8640-BF11-4C11-A78B-C862545F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DE50-CA01-48AC-B550-25FF06E9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5465-A891-4652-8C83-3F7BDEE9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8966-9CAE-4A17-A879-CE1483F5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C824-9E75-4E9F-84E1-F18ACB72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5992-019E-4749-8D82-70EC8A4F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8033-F440-402B-A47B-A9C29066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6240-60CE-4EFE-A8C7-23BA93F0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70AB-7CFC-453B-A4C6-ECC498A5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23F84-1A33-4CBD-9F9F-621A97C8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D204A-EFCB-4523-9217-08A3D84F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32DBA-265C-40A2-8ADD-8341A0FE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E63CB-CDC6-49E0-B757-407A1ECE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5B59E-C4EF-4922-B979-E5BF7B8C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89E3F-B888-476B-97CC-C1576D52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23FE6-B97C-457F-A24D-E350A709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81B8C-348D-4D29-AE80-44E50720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3C3CB-9AB1-4B77-9892-2AE68C4A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A0705-ABAE-489B-821A-F46899F0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F81EC-4147-45BD-B588-F2CF9ADA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8D1E9-6E47-4FE5-93E2-151E8E37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2B443-C5BF-4D07-A70E-6421D2E6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2374D-2661-4539-A47A-767EBAE3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E5495-F6B8-4147-A15C-34FDBA9D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A3380-D855-4F65-ABA5-04E2FF46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A3A40-DAE0-4582-9034-D1A2A1C7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5BB04-4EFF-402F-BFEB-CF6BCAD7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A0030-7592-4210-B6FD-2DADC5D0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4AFD4-BB49-4B28-B438-47EF1F41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EF607-485C-4689-9CBF-747A29A0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3B9ED-8FA2-4030-9E60-686EC941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9CA49-A80F-4F61-8734-896934E4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CADF7-9BD6-4237-9D8D-90DCB09E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F1944-6B0C-43FF-BE30-F6EFA956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B9BFB-963E-443E-95AD-D4EC2BB1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64AA1-AD46-431A-9758-77ECFEC5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E16E7-4D0A-46D8-AFBA-DFD0D981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A479A-9BD4-4BAB-B36C-34758CB9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39D6D-80E8-4145-A1FA-6FF2253B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56957-38A9-4B6A-9FBE-AFB0C7D4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B8FE1-967B-4517-97B8-F136AD78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F2A86-3EDD-44CF-A3B9-B03B8825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321C0-E80F-48D2-BACD-77D7E357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F7F11-4C7B-4DFA-ADE2-0EBBBE48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13A2F-646D-4FEF-8D2B-178E36BD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BF0F2-C6BD-4FC1-B92E-64CEBCAB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47DA2-17E3-4E54-8E12-08BF398C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FB412-4FCA-493B-B697-674D25AE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22EED-3C0C-4D90-9B18-6C658423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E5FC0-58DC-4459-AF9D-85421E45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E564B-4B17-4358-AC44-6E2725B2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637A3-CF0B-466D-88B3-745F821B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0D450-ACDC-453B-A243-9818199B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3C3CC-AB99-4C1F-9B1B-A529FE1D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9274D-EBA1-43CD-925B-EC9AE045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C4752-3126-4440-8051-5CF94B35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CC545-EFA8-47C4-BD4C-40B8DEFB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7674D-A8C8-4BE3-B0F7-15E9504D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2DDD4-2D73-4928-A18F-9CB4B0E7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BA99D-D5C5-4973-8AE2-B7BF293F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61143-51AC-4FA6-A2A5-7181E4E2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B3AD5-DD1D-409F-86B2-C937BC64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F7676-E7A5-48E0-8B8D-941A909C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F3EEB-373C-4DE7-AC6C-BC6D2360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EF92C-D45F-4867-8C8D-8AA7C6DE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BFF31-2C81-4402-BDE5-DD31A10D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A0775-BE3D-493D-814F-0D97C91A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45114-4F3A-4017-9054-59CC5A19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742F8-CCB3-45B2-8C78-16150CBC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00FDE-F30A-4F85-96BA-B80BA74B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E8BCD-E64C-443A-A707-E1AFC5B1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96B73-C211-4B39-9A69-5B1CEC26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1BFEE-C9C4-430E-B556-3B24DE3D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62D4A-3FD4-464E-8E8C-05460FAE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FD0B3-28A5-4C6C-A3DB-D22DF88C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1A09C-5F0A-4C43-BBEA-13003519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55469-C545-4226-A207-5606628C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C1F77-9A7A-47AA-BB87-5244AA2C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15B9C-404B-4392-BCF7-09020AB6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45022-06CF-45CF-9BA5-693AE588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36845-3D3D-4B74-8F24-8E1C2E66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C476F-4B1D-43E4-96EF-44CC26BD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FCBC1-7ADA-4F68-BA48-7F117E06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3D1A1-3D54-4AF0-9AC1-8DB2972D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9626D-7C2A-4BEC-A69C-CE6A05F9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1A791-86A3-4E6E-9CA6-E8057FF4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79257-17D5-4BF1-A1BF-9B6ECB99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9D212-B736-4FD9-AFAF-B5E3848A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026C83-A2B4-48B8-A2B0-5DCCFB29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5B0FAF-5C60-45C6-AA7F-289F453E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139A5B-6025-4BC8-8498-94064E54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98B0-C702-49CC-A4BD-A0436B6512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2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73CB-CD4B-4133-8D73-3533C6557CD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5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p:txBody>
                </p:sp>
              </p:grpSp>
              <p:sp>
                <p:nvSpPr>
                  <p:cNvPr id="6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6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  <p:pic>
              <p:nvPicPr>
                <p:cNvPr id="6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5359-CAFD-4442-B569-FBD5036A415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0CED-2CC6-494B-8780-B5CFD5859D5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9A68-4073-44FA-8C2A-B8A0485C31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3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E341-DFE9-4A7A-958A-51AA00243B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9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97A5-344A-4754-9877-EF35A220A5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4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4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4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4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4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4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p:txBody>
                </p:sp>
                <p:sp>
                  <p:nvSpPr>
                    <p:cNvPr id="34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p:txBody>
                </p:sp>
              </p:grpSp>
              <p:sp>
                <p:nvSpPr>
                  <p:cNvPr id="35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35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35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35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35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35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Garamond"/>
                    </a:endParaRPr>
                  </a:p>
                </p:txBody>
              </p:sp>
            </p:grpSp>
            <p:pic>
              <p:nvPicPr>
                <p:cNvPr id="35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6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134A-ED85-4379-869B-5F7F78FA2B9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8984-BEE7-43EE-AE14-E72C72CAAF8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8D07-4EF8-43D4-9C96-5E4801224C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5292720" cy="29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dee2a"/>
                </a:solidFill>
                <a:latin typeface="Garamond"/>
              </a:rPr>
              <a:t>КАК СОХРАНИТЬ УЛЫБКУ КРАСИВОЙ</a:t>
            </a:r>
            <a:endParaRPr b="1" lang="en-US" sz="5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581" name="Picture 6" descr="f316"/>
          <p:cNvPicPr/>
          <p:nvPr/>
        </p:nvPicPr>
        <p:blipFill>
          <a:blip r:embed="rId1"/>
          <a:stretch/>
        </p:blipFill>
        <p:spPr>
          <a:xfrm>
            <a:off x="826920" y="2924280"/>
            <a:ext cx="4869000" cy="2908080"/>
          </a:xfrm>
          <a:prstGeom prst="rect">
            <a:avLst/>
          </a:prstGeom>
          <a:ln w="0">
            <a:noFill/>
          </a:ln>
        </p:spPr>
      </p:pic>
      <p:sp>
        <p:nvSpPr>
          <p:cNvPr id="582" name="TextBox 5"/>
          <p:cNvSpPr/>
          <p:nvPr/>
        </p:nvSpPr>
        <p:spPr>
          <a:xfrm>
            <a:off x="5143680" y="4071960"/>
            <a:ext cx="40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ыполнил: Колосок Антон  ученик3 А клас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АУ «СОШ№15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читель Пономарёва А.Г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9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Цель исследова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троение зуб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то вредно для зуб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ак нужно ухаживать за зубам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5" name="Picture 5" descr="f243"/>
          <p:cNvPicPr/>
          <p:nvPr/>
        </p:nvPicPr>
        <p:blipFill>
          <a:blip r:embed="rId1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f256"/>
          <p:cNvPicPr/>
          <p:nvPr/>
        </p:nvPicPr>
        <p:blipFill>
          <a:blip r:embed="rId2"/>
          <a:stretch/>
        </p:blipFill>
        <p:spPr>
          <a:xfrm>
            <a:off x="6588000" y="378936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90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700"/>
                            </p:stCondLst>
                            <p:childTnLst>
                              <p:par>
                                <p:cTn id="3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роение зуба.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5903640" cy="49690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то вредно для зубов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Грызт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рехи и семеч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ть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чень холодную и очень горячею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ищ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ть вредную для зубов пищу (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ладко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Picture 6" descr="248"/>
          <p:cNvPicPr/>
          <p:nvPr/>
        </p:nvPicPr>
        <p:blipFill>
          <a:blip r:embed="rId1"/>
          <a:stretch/>
        </p:blipFill>
        <p:spPr>
          <a:xfrm>
            <a:off x="6897600" y="4729320"/>
            <a:ext cx="2246400" cy="2128680"/>
          </a:xfrm>
          <a:prstGeom prst="rect">
            <a:avLst/>
          </a:prstGeom>
          <a:ln w="0">
            <a:noFill/>
          </a:ln>
        </p:spPr>
      </p:pic>
      <p:sp>
        <p:nvSpPr>
          <p:cNvPr id="592" name="AutoShape 8"/>
          <p:cNvSpPr/>
          <p:nvPr/>
        </p:nvSpPr>
        <p:spPr>
          <a:xfrm>
            <a:off x="3708360" y="4365720"/>
            <a:ext cx="3024360" cy="1511280"/>
          </a:xfrm>
          <a:prstGeom prst="rightArrowCallout">
            <a:avLst>
              <a:gd name="adj1" fmla="val 25002"/>
              <a:gd name="adj2" fmla="val 25000"/>
              <a:gd name="adj3" fmla="val 33353"/>
              <a:gd name="adj4" fmla="val 6666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3851280" y="4508640"/>
            <a:ext cx="16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т что бывает если не следить за зубами 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9000"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5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к надо ухаживать за зубам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f715"/>
                </a:solidFill>
                <a:latin typeface="Tahoma"/>
              </a:rPr>
              <a:t>Как поел, почисти зуб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f715"/>
                </a:solidFill>
                <a:latin typeface="Tahoma"/>
              </a:rPr>
              <a:t>Делай так два раза в сут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f715"/>
                </a:solidFill>
                <a:latin typeface="Tahoma"/>
              </a:rPr>
              <a:t>Предпочти конфетам фрукт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f715"/>
                </a:solidFill>
                <a:latin typeface="Tahoma"/>
              </a:rPr>
              <a:t>Очень важные проду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f715"/>
                </a:solidFill>
                <a:latin typeface="Tahoma"/>
              </a:rPr>
              <a:t>Помни правило тако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f715"/>
                </a:solidFill>
                <a:latin typeface="Tahoma"/>
              </a:rPr>
              <a:t>К стоматологу идё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f715"/>
                </a:solidFill>
                <a:latin typeface="Tahoma"/>
              </a:rPr>
              <a:t>В год два раза на приё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f715"/>
                </a:solidFill>
                <a:latin typeface="Tahoma"/>
              </a:rPr>
              <a:t>И тогда улыбки св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f715"/>
                </a:solidFill>
                <a:latin typeface="Tahoma"/>
              </a:rPr>
              <a:t>Сохранишь на много ле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6" name="Picture 4" descr="f222"/>
          <p:cNvPicPr/>
          <p:nvPr/>
        </p:nvPicPr>
        <p:blipFill>
          <a:blip r:embed="rId1"/>
          <a:stretch/>
        </p:blipFill>
        <p:spPr>
          <a:xfrm>
            <a:off x="5796000" y="1413000"/>
            <a:ext cx="3016080" cy="40384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000" autoRev="1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02)"/>
                                      </p:to>
                                    </p:set>
                                    <p:set>
                                      <p:cBhvr>
                                        <p:cTn id="100" dur="1000" autoRev="1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02)"/>
                                      </p:to>
                                    </p:set>
                                    <p:set>
                                      <p:cBhvr>
                                        <p:cTn id="101" dur="1000" autoRev="1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800"/>
                            </p:stCondLst>
                            <p:childTnLst>
                              <p:par>
                                <p:cTn id="1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800"/>
                            </p:stCondLst>
                            <p:childTnLst>
                              <p:par>
                                <p:cTn id="1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480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680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880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80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2800"/>
                            </p:stCondLst>
                            <p:childTnLst>
                              <p:par>
                                <p:cTn id="1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4800"/>
                            </p:stCondLst>
                            <p:childTnLst>
                              <p:par>
                                <p:cTn id="1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680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5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07:10:06Z</dcterms:created>
  <dc:creator>Константин</dc:creator>
  <dc:description/>
  <dc:language>en-US</dc:language>
  <cp:lastModifiedBy>Пономарёва</cp:lastModifiedBy>
  <dcterms:modified xsi:type="dcterms:W3CDTF">2014-01-28T15:16:59Z</dcterms:modified>
  <cp:revision>15</cp:revision>
  <dc:subject/>
  <dc:title>КАК СОХРАНИТЬ УЛЫБКУ ЗДОРОВОЙ ?</dc:title>
</cp:coreProperties>
</file>