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6.gif" ContentType="image/gif"/>
  <Override PartName="/ppt/media/image9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E9E-BCC6-4A37-9E60-977DA8CB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DA6-409A-4D00-B727-9BDC192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728-B677-47BC-9C4A-AA1DAC75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F80-1761-44FC-AD7F-0029A79A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B52-756A-4E82-9AB6-8A4452A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7C5-4095-4529-B262-A474602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823A-D01E-44AB-8C55-B0BDCBC9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B545-2C85-42B0-86EF-84955EB8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C360-CF54-458C-B699-7741D2C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DA15-5700-4E33-9339-62FBD74B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328A-17CA-49E8-BC33-781FABE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F6D-2990-4B57-AD7E-B79ECE0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EB05-39E5-4F72-A04C-6300F03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A93F-A319-4C4D-9C3F-EFB4611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E60-D9D2-46AB-8C06-33AA70F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29C7-5CEE-4091-8BC0-998F7E65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5718-533F-44FC-8831-1060C0A2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4CC-2C42-409F-9D3B-DBCC471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977-2A62-4194-A79E-9EEE76A9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155-4BA3-491F-A5E7-FB6D8DF1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74E-F624-4F6D-969B-C833679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EF5-0D37-4BA5-BA5C-8863D64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6A0-1ABC-4CE4-9971-9BAC01D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28E-BBE4-4F2A-8732-2395D29A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BD4-A07E-42EC-AB57-09C0B2B07E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5D4-BF4E-4D55-AE81-CA021510B8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блемы взаимодействия классного руководителя и учителей-предме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19880" y="40356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Эмоциональный характер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266840"/>
            <a:ext cx="1871640" cy="2533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заимные симпатии и антипатии, наличие дружеских отношений между учител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1483200"/>
            <a:ext cx="230508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005c"/>
                </a:solidFill>
                <a:latin typeface="Arial"/>
              </a:rPr>
              <a:t>эмоциональное отношение к выполнению обязанностей классного руковод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570200" y="261720"/>
            <a:ext cx="685800" cy="2124000"/>
          </a:xfrm>
          <a:custGeom>
            <a:avLst/>
            <a:gdLst>
              <a:gd name="textAreaLeft" fmla="*/ 91800 w 685800"/>
              <a:gd name="textAreaRight" fmla="*/ 594000 w 685800"/>
              <a:gd name="textAreaTop" fmla="*/ 371520 h 2124000"/>
              <a:gd name="textAreaBottom" fmla="*/ 154008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5880800">
            <a:off x="4786200" y="2638080"/>
            <a:ext cx="685800" cy="2124000"/>
          </a:xfrm>
          <a:custGeom>
            <a:avLst/>
            <a:gdLst>
              <a:gd name="textAreaLeft" fmla="*/ 91800 w 685800"/>
              <a:gd name="textAreaRight" fmla="*/ 594000 w 685800"/>
              <a:gd name="textAreaTop" fmla="*/ 371520 h 2124000"/>
              <a:gd name="textAreaBottom" fmla="*/ 1540080 h 21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4221000"/>
            <a:ext cx="6408720" cy="144720"/>
          </a:xfrm>
          <a:prstGeom prst="rect">
            <a:avLst/>
          </a:prstGeom>
          <a:solidFill>
            <a:srgbClr val="8c0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664000" y="4257720"/>
            <a:ext cx="1008000" cy="503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92360" y="4481640"/>
            <a:ext cx="3960720" cy="2376360"/>
            <a:chOff x="1692360" y="4481640"/>
            <a:chExt cx="3960720" cy="2376360"/>
          </a:xfrm>
        </p:grpSpPr>
        <p:sp>
          <p:nvSpPr>
            <p:cNvPr id="137" name=""/>
            <p:cNvSpPr/>
            <p:nvPr/>
          </p:nvSpPr>
          <p:spPr>
            <a:xfrm>
              <a:off x="1692360" y="4481640"/>
              <a:ext cx="3960720" cy="2376360"/>
            </a:xfrm>
            <a:prstGeom prst="irregularSeal2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84360" y="5273640"/>
              <a:ext cx="244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Эмоциональная отрешенность, отсутствие симпат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435640" y="4194000"/>
            <a:ext cx="4176720" cy="2664000"/>
          </a:xfrm>
          <a:prstGeom prst="irregularSeal2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515772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трицательное отношение к кл рук-ву, нежелание работ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300000" y="4004280"/>
            <a:ext cx="1511280" cy="503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2628000">
            <a:off x="6175080" y="-69480"/>
            <a:ext cx="128520" cy="8075520"/>
          </a:xfrm>
          <a:prstGeom prst="rect">
            <a:avLst/>
          </a:prstGeom>
          <a:solidFill>
            <a:srgbClr val="e4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640" y="619560"/>
            <a:ext cx="42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Положительные момен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126684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индивидуальных особенностей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ддержания постоянной связи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ение возможности неформального общения с учени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2520" y="6091920"/>
            <a:ext cx="35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егативные момен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2000" y="4455000"/>
            <a:ext cx="271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упрощенное» отношение к предмету у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99440" y="62064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44240" y="4035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Сработ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97992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пень регулярности в обмене информацией, характеристика форм взаимодействия классных руководителей и учителей предме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90920" y="2163600"/>
          <a:ext cx="6553080" cy="469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63600"/>
                    <a:ext cx="65530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1362240" cy="253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11640" y="3284640"/>
            <a:ext cx="2736720" cy="398880"/>
          </a:xfrm>
          <a:prstGeom prst="rect">
            <a:avLst/>
          </a:prstGeom>
          <a:solidFill>
            <a:srgbClr val="c58bf9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3716280"/>
            <a:ext cx="165600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Соци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3716280"/>
            <a:ext cx="2411280" cy="916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716280"/>
            <a:ext cx="1728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Гражданск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652640"/>
            <a:ext cx="6948360" cy="91692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ойчивая в сложных социально-экономических обстоятельствах и меняющейся политической реальности современного российского общ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2205000"/>
            <a:ext cx="230328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565360"/>
            <a:ext cx="230364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0360" y="2205000"/>
            <a:ext cx="2303640" cy="5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5640" y="5516640"/>
            <a:ext cx="6948000" cy="520560"/>
            <a:chOff x="2195640" y="5516640"/>
            <a:chExt cx="6948000" cy="520560"/>
          </a:xfrm>
        </p:grpSpPr>
        <p:sp>
          <p:nvSpPr>
            <p:cNvPr id="162" name=""/>
            <p:cNvSpPr/>
            <p:nvPr/>
          </p:nvSpPr>
          <p:spPr>
            <a:xfrm>
              <a:off x="2195640" y="5516640"/>
              <a:ext cx="236988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67320" y="5516640"/>
              <a:ext cx="2452680" cy="52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развит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8560" y="5516640"/>
              <a:ext cx="2125080" cy="520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4005c"/>
                  </a:solidFill>
                  <a:latin typeface="Arial"/>
                </a:rPr>
                <a:t>обуч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95640" y="6021360"/>
            <a:ext cx="6948360" cy="83664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6165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1362240" cy="2533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3284640"/>
            <a:ext cx="2736720" cy="398880"/>
          </a:xfrm>
          <a:prstGeom prst="rect">
            <a:avLst/>
          </a:prstGeom>
          <a:solidFill>
            <a:srgbClr val="c58bf9"/>
          </a:solidFill>
          <a:ln w="9360">
            <a:solidFill>
              <a:srgbClr val="c58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4076640"/>
            <a:ext cx="165564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Соци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3933720"/>
            <a:ext cx="1584360" cy="1191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4076640"/>
            <a:ext cx="1728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Гражданск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5527440"/>
            <a:ext cx="6948360" cy="91692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устойчивая в сложных социально-экономических обстоятельствах и меняющейся политической реальности современного российского общ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77080" y="148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68360" y="476280"/>
            <a:ext cx="64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Взаимодействие классного руководителя с учителями-предме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62864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классный руководитель выполняет роль организатора и координатора педагогической работы с учащимися и коллекти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005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возможности оценки продуктивности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84360" y="4149720"/>
          <a:ext cx="3989520" cy="217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4149720"/>
                    <a:ext cx="39895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16360" y="404640"/>
            <a:ext cx="53290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ставляющие взаимодействия  «классный руководитель – учителя-предметни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43280" y="1916280"/>
            <a:ext cx="2663640" cy="2016000"/>
            <a:chOff x="2843280" y="1916280"/>
            <a:chExt cx="2663640" cy="2016000"/>
          </a:xfrm>
        </p:grpSpPr>
        <p:sp>
          <p:nvSpPr>
            <p:cNvPr id="102" name=""/>
            <p:cNvSpPr/>
            <p:nvPr/>
          </p:nvSpPr>
          <p:spPr>
            <a:xfrm>
              <a:off x="2843280" y="1916280"/>
              <a:ext cx="2663640" cy="20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9280" y="249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ганизация взаимодействи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924360" y="3141720"/>
            <a:ext cx="2663640" cy="2016000"/>
            <a:chOff x="3924360" y="3141720"/>
            <a:chExt cx="2663640" cy="2016000"/>
          </a:xfrm>
        </p:grpSpPr>
        <p:sp>
          <p:nvSpPr>
            <p:cNvPr id="105" name=""/>
            <p:cNvSpPr/>
            <p:nvPr/>
          </p:nvSpPr>
          <p:spPr>
            <a:xfrm>
              <a:off x="3924360" y="3141720"/>
              <a:ext cx="2663640" cy="2016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0000" y="3718080"/>
              <a:ext cx="22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моциональный характер взаимодейств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92720" y="1916280"/>
            <a:ext cx="2663640" cy="2016000"/>
            <a:chOff x="5292720" y="1916280"/>
            <a:chExt cx="2663640" cy="2016000"/>
          </a:xfrm>
        </p:grpSpPr>
        <p:sp>
          <p:nvSpPr>
            <p:cNvPr id="108" name=""/>
            <p:cNvSpPr/>
            <p:nvPr/>
          </p:nvSpPr>
          <p:spPr>
            <a:xfrm>
              <a:off x="5292720" y="1916280"/>
              <a:ext cx="2663640" cy="201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80000" y="2708280"/>
              <a:ext cx="223200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аботанно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5400000">
            <a:off x="4824000" y="1088640"/>
            <a:ext cx="1008360" cy="208764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522000 h 2087640"/>
              <a:gd name="textAreaBottom" fmla="*/ 1566000 h 20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750920" y="4257360"/>
            <a:ext cx="1008000" cy="20876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22000 h 2087640"/>
              <a:gd name="textAreaBottom" fmla="*/ 1566000 h 20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5877000"/>
            <a:ext cx="596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шность взаимодейств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0680" y="220428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Организация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2921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устных или письменных договоренностей между классными руководителями и учителями-предме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сность прав и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00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зрачность взаимных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бщие проблемы для всех класс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5640" y="1699920"/>
            <a:ext cx="62373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ая учебная мотивация (нежелание учи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ий уровень усвоения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 дисципл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27280" y="5805360"/>
            <a:ext cx="6077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>
                    <a:alphaModFix amt="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здание единых требований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211640" y="4797360"/>
            <a:ext cx="3241800" cy="792360"/>
            <a:chOff x="4211640" y="4797360"/>
            <a:chExt cx="3241800" cy="792360"/>
          </a:xfrm>
        </p:grpSpPr>
        <p:sp>
          <p:nvSpPr>
            <p:cNvPr id="120" name=""/>
            <p:cNvSpPr/>
            <p:nvPr/>
          </p:nvSpPr>
          <p:spPr>
            <a:xfrm>
              <a:off x="4211640" y="4797360"/>
              <a:ext cx="3241800" cy="792360"/>
            </a:xfrm>
            <a:prstGeom prst="downArrowCallout">
              <a:avLst>
                <a:gd name="adj1" fmla="val 102292"/>
                <a:gd name="adj2" fmla="val 102283"/>
                <a:gd name="adj3" fmla="val 16667"/>
                <a:gd name="adj4" fmla="val 6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8690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особ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2" name=""/>
          <p:cNvGraphicFramePr/>
          <p:nvPr/>
        </p:nvGraphicFramePr>
        <p:xfrm>
          <a:off x="0" y="1628640"/>
          <a:ext cx="3995640" cy="2749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8640"/>
                    <a:ext cx="39956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сновные вопросы взаимодейств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внеурочных мероприятий (классных часов, экскурсий и т.д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жидания классных руководителей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м единого воспитательного пространства (поддержкой воспитательной рабо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адекватной информации об успехах и неудача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ка неуспеваемости (ранее информирование о возможных «2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44:34Z</dcterms:created>
  <dc:creator>Angel</dc:creator>
  <dc:description/>
  <dc:language>en-US</dc:language>
  <cp:lastModifiedBy>Angel</cp:lastModifiedBy>
  <dcterms:modified xsi:type="dcterms:W3CDTF">2009-03-25T17:22:42Z</dcterms:modified>
  <cp:revision>3</cp:revision>
  <dc:subject/>
  <dc:title>Слайд 1</dc:title>
</cp:coreProperties>
</file>