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6.gif" ContentType="image/gif"/>
  <Override PartName="/ppt/media/image9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FFC-852A-4F54-BBDD-271D8C4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3B7-9A4A-4CB7-83DC-AE58F70C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BC8-E91A-4624-8117-8B10F6EB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436-0204-47EF-877F-B340BA71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C74F-1E7C-4D21-B559-8BFACFC8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5CF3-175B-4AD6-BE86-04B7A8C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267-0B44-4681-A26E-1A91F124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5944-CE86-446F-9989-91DF6EA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F4BD-AB33-4FE6-9932-A24AC65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E32-5BEB-4218-8546-CCFC0F4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21BC-C06B-453D-92C3-9D2F74A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C91-0C63-4BA0-A7BA-E05B965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F40-1F17-4D83-9C1A-2AC694E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97CC-F657-40F1-A3D9-70982E2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51C9-7FE6-41EA-965B-6229B54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C641-C189-430B-B96A-87EADCB4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8CF-B345-4549-8686-7063CD37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E9B-E573-4504-80CF-7E2F0359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D0C-0D15-4E41-B9C9-D79AEC0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4DC-4246-4EEC-B26E-5D8436F8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429-80C8-4CBC-95C2-0D69F08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1CE-9B44-43B4-9239-14FAA05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4E6-132A-4555-BBE3-4EC29EED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04A-5B5A-480E-AF72-D2DF1700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45D-68D1-48B5-A871-1FF739BD5B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AAB-9CD9-4D28-8AC1-6CFAE46564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блемы взаимодействия классного руководителя и учителей-предме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19880" y="40356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Эмоциональный характер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266840"/>
            <a:ext cx="1871640" cy="2533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заимные симпатии и антипатии, наличие дружеских отношений между учител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1483200"/>
            <a:ext cx="230508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эмоциональное отношение к выполнению обязанностей классного руковод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570200" y="261720"/>
            <a:ext cx="685800" cy="2124000"/>
          </a:xfrm>
          <a:custGeom>
            <a:avLst/>
            <a:gdLst>
              <a:gd name="textAreaLeft" fmla="*/ 91800 w 685800"/>
              <a:gd name="textAreaRight" fmla="*/ 594000 w 685800"/>
              <a:gd name="textAreaTop" fmla="*/ 371520 h 2124000"/>
              <a:gd name="textAreaBottom" fmla="*/ 154008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5880800">
            <a:off x="4786200" y="2638080"/>
            <a:ext cx="685800" cy="2124000"/>
          </a:xfrm>
          <a:custGeom>
            <a:avLst/>
            <a:gdLst>
              <a:gd name="textAreaLeft" fmla="*/ 91800 w 685800"/>
              <a:gd name="textAreaRight" fmla="*/ 594000 w 685800"/>
              <a:gd name="textAreaTop" fmla="*/ 371520 h 2124000"/>
              <a:gd name="textAreaBottom" fmla="*/ 154008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4221000"/>
            <a:ext cx="6408720" cy="144720"/>
          </a:xfrm>
          <a:prstGeom prst="rect">
            <a:avLst/>
          </a:prstGeom>
          <a:solidFill>
            <a:srgbClr val="8c0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664000" y="4257720"/>
            <a:ext cx="1008000" cy="503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92360" y="4481640"/>
            <a:ext cx="3960720" cy="2376360"/>
            <a:chOff x="1692360" y="4481640"/>
            <a:chExt cx="3960720" cy="2376360"/>
          </a:xfrm>
        </p:grpSpPr>
        <p:sp>
          <p:nvSpPr>
            <p:cNvPr id="137" name=""/>
            <p:cNvSpPr/>
            <p:nvPr/>
          </p:nvSpPr>
          <p:spPr>
            <a:xfrm>
              <a:off x="1692360" y="4481640"/>
              <a:ext cx="3960720" cy="2376360"/>
            </a:xfrm>
            <a:prstGeom prst="irregularSeal2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4360" y="5273640"/>
              <a:ext cx="244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Эмоциональная отрешенность, отсутствие симпат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435640" y="4194000"/>
            <a:ext cx="4176720" cy="2664000"/>
          </a:xfrm>
          <a:prstGeom prst="irregularSeal2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5157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трицательное отношение к кл рук-ву, нежелание работ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300000" y="4004280"/>
            <a:ext cx="1511280" cy="503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2628000">
            <a:off x="6175080" y="-69480"/>
            <a:ext cx="128520" cy="8075520"/>
          </a:xfrm>
          <a:prstGeom prst="rect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640" y="619560"/>
            <a:ext cx="42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Положительные момен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126684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индивидуальных особенностей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ддержания постоянной связи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ение возможности неформального общения с учени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2520" y="6091920"/>
            <a:ext cx="35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егативные момен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455000"/>
            <a:ext cx="271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упрощенное» отношение к предмету у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99440" y="62064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44240" y="4035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Сработ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97992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пень регулярности в обмене информацией, характеристика форм взаимодействия классных руководителей и учителей предме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90920" y="2163600"/>
          <a:ext cx="6553080" cy="469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63600"/>
                    <a:ext cx="65530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1362240" cy="253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11640" y="3284640"/>
            <a:ext cx="2736720" cy="398880"/>
          </a:xfrm>
          <a:prstGeom prst="rect">
            <a:avLst/>
          </a:prstGeom>
          <a:solidFill>
            <a:srgbClr val="c58bf9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3716280"/>
            <a:ext cx="165600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Соци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3716280"/>
            <a:ext cx="241128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716280"/>
            <a:ext cx="1728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Гражданск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652640"/>
            <a:ext cx="6948360" cy="91692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ойчивая в сложных социально-экономических обстоятельствах и меняющейся политической реальности современного российского общ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2205000"/>
            <a:ext cx="230328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565360"/>
            <a:ext cx="230364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0360" y="2205000"/>
            <a:ext cx="230364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5640" y="5516640"/>
            <a:ext cx="6948000" cy="520560"/>
            <a:chOff x="2195640" y="5516640"/>
            <a:chExt cx="6948000" cy="520560"/>
          </a:xfrm>
        </p:grpSpPr>
        <p:sp>
          <p:nvSpPr>
            <p:cNvPr id="162" name=""/>
            <p:cNvSpPr/>
            <p:nvPr/>
          </p:nvSpPr>
          <p:spPr>
            <a:xfrm>
              <a:off x="2195640" y="5516640"/>
              <a:ext cx="236988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7320" y="5516640"/>
              <a:ext cx="2452680" cy="52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развит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8560" y="5516640"/>
              <a:ext cx="2125080" cy="520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005c"/>
                  </a:solidFill>
                  <a:latin typeface="Arial"/>
                </a:rPr>
                <a:t>обуч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95640" y="6021360"/>
            <a:ext cx="6948360" cy="836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6165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1362240" cy="253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3284640"/>
            <a:ext cx="2736720" cy="398880"/>
          </a:xfrm>
          <a:prstGeom prst="rect">
            <a:avLst/>
          </a:prstGeom>
          <a:solidFill>
            <a:srgbClr val="c58bf9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076640"/>
            <a:ext cx="165564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Соци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3933720"/>
            <a:ext cx="1584360" cy="119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4076640"/>
            <a:ext cx="1728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Гражданск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5527440"/>
            <a:ext cx="6948360" cy="91692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ойчивая в сложных социально-экономических обстоятельствах и меняющейся политической реальности современного российского общ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68360" y="47628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Взаимодействие классного руководителя с учителями-предме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62864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лассный руководитель выполняет роль организатора и координатора педагогической работы с учащимися и коллекти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005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зможности оценки продуктивности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84360" y="4149720"/>
          <a:ext cx="3989520" cy="217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4149720"/>
                    <a:ext cx="39895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16360" y="404640"/>
            <a:ext cx="5329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ставляющие взаимодействия  «классный руководитель – учителя-предметни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43280" y="1916280"/>
            <a:ext cx="2663640" cy="2016000"/>
            <a:chOff x="2843280" y="1916280"/>
            <a:chExt cx="2663640" cy="2016000"/>
          </a:xfrm>
        </p:grpSpPr>
        <p:sp>
          <p:nvSpPr>
            <p:cNvPr id="102" name=""/>
            <p:cNvSpPr/>
            <p:nvPr/>
          </p:nvSpPr>
          <p:spPr>
            <a:xfrm>
              <a:off x="2843280" y="1916280"/>
              <a:ext cx="2663640" cy="20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9280" y="249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ганизация взаимодействи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924360" y="3141720"/>
            <a:ext cx="2663640" cy="2016000"/>
            <a:chOff x="3924360" y="3141720"/>
            <a:chExt cx="2663640" cy="2016000"/>
          </a:xfrm>
        </p:grpSpPr>
        <p:sp>
          <p:nvSpPr>
            <p:cNvPr id="105" name=""/>
            <p:cNvSpPr/>
            <p:nvPr/>
          </p:nvSpPr>
          <p:spPr>
            <a:xfrm>
              <a:off x="3924360" y="3141720"/>
              <a:ext cx="2663640" cy="2016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0000" y="3718080"/>
              <a:ext cx="22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моциональный характер взаимодейств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92720" y="1916280"/>
            <a:ext cx="2663640" cy="2016000"/>
            <a:chOff x="5292720" y="1916280"/>
            <a:chExt cx="2663640" cy="2016000"/>
          </a:xfrm>
        </p:grpSpPr>
        <p:sp>
          <p:nvSpPr>
            <p:cNvPr id="108" name=""/>
            <p:cNvSpPr/>
            <p:nvPr/>
          </p:nvSpPr>
          <p:spPr>
            <a:xfrm>
              <a:off x="5292720" y="1916280"/>
              <a:ext cx="2663640" cy="201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80000" y="2708280"/>
              <a:ext cx="223200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аботан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5400000">
            <a:off x="4824000" y="1088640"/>
            <a:ext cx="1008360" cy="208764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522000 h 2087640"/>
              <a:gd name="textAreaBottom" fmla="*/ 1566000 h 20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750920" y="4257360"/>
            <a:ext cx="1008000" cy="2087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22000 h 2087640"/>
              <a:gd name="textAreaBottom" fmla="*/ 1566000 h 20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5877000"/>
            <a:ext cx="596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шность взаимодейств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0680" y="220428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Организация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2921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устных или письменных договоренностей между классными руководителями и учителями-предме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сность прав и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зрачность взаимных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бщие проблемы для всех класс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5640" y="1699920"/>
            <a:ext cx="62373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ая учебная мотивация (нежелание учи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ий уровень усвоения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 дисципл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27280" y="5805360"/>
            <a:ext cx="607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>
                    <a:alphaModFix amt="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здание единых требований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211640" y="4797360"/>
            <a:ext cx="3241800" cy="792360"/>
            <a:chOff x="4211640" y="4797360"/>
            <a:chExt cx="3241800" cy="792360"/>
          </a:xfrm>
        </p:grpSpPr>
        <p:sp>
          <p:nvSpPr>
            <p:cNvPr id="120" name=""/>
            <p:cNvSpPr/>
            <p:nvPr/>
          </p:nvSpPr>
          <p:spPr>
            <a:xfrm>
              <a:off x="4211640" y="4797360"/>
              <a:ext cx="3241800" cy="792360"/>
            </a:xfrm>
            <a:prstGeom prst="downArrowCallout">
              <a:avLst>
                <a:gd name="adj1" fmla="val 102292"/>
                <a:gd name="adj2" fmla="val 102283"/>
                <a:gd name="adj3" fmla="val 16667"/>
                <a:gd name="adj4" fmla="val 6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869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особ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"/>
          <p:cNvGraphicFramePr/>
          <p:nvPr/>
        </p:nvGraphicFramePr>
        <p:xfrm>
          <a:off x="0" y="1628640"/>
          <a:ext cx="3995640" cy="274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8640"/>
                    <a:ext cx="39956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 взаимодейств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внеурочных мероприятий (классных часов, экскурсий и т.д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жидания классных руководителей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м единого воспитательного пространства (поддержкой воспитательной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адекватной информации об успехах и неудача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ка неуспеваемости (ранее информирование о возможных «2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44:34Z</dcterms:created>
  <dc:creator>Angel</dc:creator>
  <dc:description/>
  <dc:language>en-US</dc:language>
  <cp:lastModifiedBy>Angel</cp:lastModifiedBy>
  <dcterms:modified xsi:type="dcterms:W3CDTF">2009-03-25T17:22:42Z</dcterms:modified>
  <cp:revision>3</cp:revision>
  <dc:subject/>
  <dc:title>Слайд 1</dc:title>
</cp:coreProperties>
</file>